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94840" y="4419360"/>
            <a:ext cx="6434280" cy="5327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304560" y="380520"/>
            <a:ext cx="5105160" cy="382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5486400" y="380520"/>
            <a:ext cx="1371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373A45-A8B1-4CAF-9686-B5CA49AC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04920" y="38088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294840" y="4419360"/>
            <a:ext cx="6434280" cy="5327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as on a computer on my home network without a VP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04920" y="38088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94840" y="4419360"/>
            <a:ext cx="6434280" cy="5327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with the VPN started. VPN server at UCL-CS is at 128.16.10.24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B75-2E78-423F-A201-F6E833C9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892-8046-4735-A1A1-FACE11CE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CF0-4201-4879-8C74-0DA341F1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C5A-4005-4673-84D8-45C18895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6AB-B49E-417F-904D-95AB8E9E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2BA-4FBD-48DE-A2EF-7DB83A22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F0C-199B-4319-8A29-46E92D8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A46-05B7-4CD3-9C83-2C937906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1F3-7A0D-4A3B-8CC4-7723BCD0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3B4-0971-4307-B8A6-7E4350DD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E47-95A4-4D80-A030-95E6D69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E01-6336-4219-A567-52E14CF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1" marL="568440" indent="-192240">
              <a:spcBef>
                <a:spcPts val="700"/>
              </a:spcBef>
              <a:buClr>
                <a:srgbClr val="542a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2" marL="944640" indent="-185760">
              <a:spcBef>
                <a:spcPts val="700"/>
              </a:spcBef>
              <a:buClr>
                <a:srgbClr val="542a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3" marL="1333440" indent="-198360">
              <a:spcBef>
                <a:spcPts val="700"/>
              </a:spcBef>
              <a:buClr>
                <a:srgbClr val="542a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4" marL="1719360" indent="-195480">
              <a:spcBef>
                <a:spcPts val="700"/>
              </a:spcBef>
              <a:buClr>
                <a:srgbClr val="542a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5" marL="1719360" indent="-195480">
              <a:spcBef>
                <a:spcPts val="700"/>
              </a:spcBef>
              <a:buClr>
                <a:srgbClr val="542a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6" marL="1719360" indent="-195480">
              <a:spcBef>
                <a:spcPts val="700"/>
              </a:spcBef>
              <a:buClr>
                <a:srgbClr val="542a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2a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3D7-8F59-401C-B391-36E8B946F98F}" type="datetime">
              <a:rPr b="0" lang="en-US" sz="1400" spc="-1" strike="noStrike">
                <a:solidFill>
                  <a:srgbClr val="542a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1722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2a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a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2a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A57-2742-4387-AEFD-8A5BF4B7D3E6}" type="slidenum">
              <a:rPr b="0" lang="en-US" sz="1400" spc="-1" strike="noStrike">
                <a:solidFill>
                  <a:srgbClr val="542a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20705400">
            <a:off x="228600" y="152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ckground Materia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.Knight@cs.ucl.ac.uk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Internet Layer (Background Material)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Graham Knight (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G.Knight@cs.ucl.ac.uk</a:t>
            </a:r>
            <a:r>
              <a:rPr b="0" lang="en-US" sz="2800" spc="-1" strike="noStrike" u="sng">
                <a:solidFill>
                  <a:srgbClr val="542a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Host routing tabl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C:\&gt;route prin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Interface Lis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1 ........................... MS TCP Loopback interface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2 ...00 13 20 31 e0 de ...... Intel(R) PRO/100 VE Network Connection - Packe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Scheduler Minipor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3 ...00 10 dc af 92 a7 ...... Bluetooth LAN Access Server Driver - Packet Sche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duler Minipor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Active Routes: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Network Destination        Netmask          Gateway       Interface  Metric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.0.0.0          0.0.0.0     192.168.0.50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27.0.0.0        255.0.0.0        127.0.0.1       127.0.0.1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92.168.0.0    255.255.255.0      192.168.0.3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92.168.0.3  255.255.255.255        127.0.0.1       127.0.0.1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92.168.0.255  255.255.255.255      192.168.0.3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24.0.0.0        240.0.0.0      192.168.0.3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55.255.255.255  255.255.255.255      192.168.0.3     192.168.0.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55.255.255.255  255.255.255.255      192.168.0.3               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Default Gateway:      192.168.0.5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Persistent Routes: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None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F67-7A40-468D-9C42-3F1DD30FE4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5EF5D-36FD-44F9-A5E4-99F1C73E1D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oute to UCL-C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C:\&gt;tracert -d sonic.cs.ucl.ac.uk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Tracing route to sonic.cs.ucl.ac.uk [128.16.6.16]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over a maximum of 30 hops: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     *        *        *     Request timed out.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2    13 ms    11 ms    11 ms  217.47.45.146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3    13 ms    11 ms    11 ms  217.47.45.13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4    13 ms    11 ms    12 ms  217.47.45.51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5    12 ms    11 ms    11 ms  194.72.4.37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6    13 ms    12 ms    11 ms  62.6.204.73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7    12 ms    11 ms    11 ms  194.74.65.117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8    14 ms    12 ms    13 ms  193.62.157.129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9    13 ms    11 ms    13 ms  146.97.35.237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0    14 ms    13 ms    12 ms  146.97.33.33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1    13 ms    13 ms    13 ms  146.97.35.6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2    15 ms    13 ms    14 ms  146.97.40.34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3    14 ms    13 ms    13 ms  194.83.101.6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4    13 ms    13 ms    13 ms  128.40.20.61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5    12 ms    13 ms    11 ms  128.40.20.2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6    14 ms    13 ms    13 ms  128.40.15.4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17    13 ms    13 ms    13 ms  128.16.6.16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  <a:p>
            <a:pPr marL="15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Courier New"/>
              </a:rPr>
              <a:t>Trace complete.</a:t>
            </a:r>
            <a:endParaRPr b="0" lang="en-US" sz="16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FD2-C1B4-4638-9381-2CE021119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E4EB5-01C7-472A-AED0-5BA41CE10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Host Routing tabl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C:\&gt;route prin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Interface Lis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1 ........................... MS TCP Loopback interface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2 ...00 13 20 31 e0 de ...... Intel(R) PRO/100 VE Network Connection - Packe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Scheduler Minipor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3 ...00 10 dc af 92 a7 ...... Bluetooth LAN Access Server Driver - Packet Scheduler Miniport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x20005 ...00 53 45 00 00 00 ...... WAN (PPP/SLIP) Interface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Active Routes: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Network Destination        Netmask          Gateway       Interface  Metric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0.0.0.0          0.0.0.0     192.168.0.50     192.168.0.3       2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27.0.0.0        255.0.0.0        127.0.0.1       127.0.0.1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28.16.0.0      255.255.0.0     128.16.113.3    128.16.113.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28.16.10.244  255.255.255.255     192.168.0.50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28.16.113.3  255.255.255.255        127.0.0.1       127.0.0.1       5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28.16.255.255  255.255.255.255     128.16.113.3    128.16.113.3       5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92.168.0.0    255.255.255.0      192.168.0.3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92.168.0.3  255.255.255.255        127.0.0.1       127.0.0.1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92.168.0.255  255.255.255.255      192.168.0.3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24.0.0.0        240.0.0.0      192.168.0.3     192.168.0.3       2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24.0.0.0        240.0.0.0     128.16.113.3    128.16.113.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55.255.255.255  255.255.255.255     128.16.113.3    128.16.113.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55.255.255.255  255.255.255.255      192.168.0.3     192.168.0.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55.255.255.255  255.255.255.255      192.168.0.3               3       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Default Gateway:      192.168.0.50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Persistent Routes: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None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350-824C-4542-BC1E-E11FD1D716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7A34B-2B2A-4206-B811-F4F8A619B8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oute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C:\&gt;tracert -d sonic.cs.ucl.ac.uk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Tracing route to sonic.cs.ucl.ac.uk [128.16.6.16]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over a maximum of 30 hops: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    15 ms    13 ms    13 ms  128.16.113.1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    13 ms    13 ms    13 ms  128.16.6.16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Trace complete.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C:\&gt;tracert -d www.ucl.ac.uk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Tracing route to www.ucl.ac.uk [128.40.105.130]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over a maximum of 30 hops: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1     *        *        *     Request timed out.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2    13 ms    11 ms    11 ms  217.47.45.146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3    13 ms    13 ms    12 ms  217.47.45.13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4    12 ms    11 ms    11 ms  217.47.45.58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5    11 ms    11 ms    12 ms  194.72.4.33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6    12 ms    11 ms    11 ms  62.6.204.73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7    14 ms    11 ms    13 ms  194.74.65.133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8    13 ms    11 ms    13 ms  193.62.157.129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33cc"/>
                </a:solidFill>
                <a:latin typeface="Courier New"/>
              </a:rPr>
              <a:t>9    12 ms    12 ms    13 ms  146.97.35.237</a:t>
            </a: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  <a:p>
            <a:pPr marL="178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CC5-489C-48B6-996D-8BE3A23521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90965-E86B-4EBE-B9AA-DE4F5BE3E7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6019920"/>
            <a:ext cx="0" cy="152280"/>
          </a:xfrm>
          <a:prstGeom prst="line">
            <a:avLst/>
          </a:prstGeom>
          <a:ln w="9360">
            <a:solidFill>
              <a:srgbClr val="54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Network Map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2209680"/>
            <a:ext cx="3505320" cy="1737720"/>
            <a:chOff x="457200" y="2209680"/>
            <a:chExt cx="3505320" cy="1737720"/>
          </a:xfrm>
        </p:grpSpPr>
        <p:sp>
          <p:nvSpPr>
            <p:cNvPr id="59" name=""/>
            <p:cNvSpPr/>
            <p:nvPr/>
          </p:nvSpPr>
          <p:spPr>
            <a:xfrm>
              <a:off x="457200" y="3581280"/>
              <a:ext cx="144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192.168.0.3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3581280"/>
              <a:ext cx="144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192.168.0.50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209680"/>
              <a:ext cx="160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42a00"/>
                  </a:solidFill>
                  <a:latin typeface="Times New Roman"/>
                </a:rPr>
                <a:t>192.168.0.0/24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562720" y="2895480"/>
            <a:ext cx="160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2a00"/>
                </a:solidFill>
                <a:latin typeface="Times New Roman"/>
              </a:rPr>
              <a:t>217.47.45.146</a:t>
            </a:r>
            <a:endParaRPr b="0" lang="en-US" sz="1800" spc="-1" strike="noStrike">
              <a:solidFill>
                <a:srgbClr val="542a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08480" y="1399680"/>
            <a:ext cx="2688480" cy="1424520"/>
            <a:chOff x="3408480" y="1399680"/>
            <a:chExt cx="2688480" cy="1424520"/>
          </a:xfrm>
        </p:grpSpPr>
        <p:sp>
          <p:nvSpPr>
            <p:cNvPr id="64" name=""/>
            <p:cNvSpPr/>
            <p:nvPr/>
          </p:nvSpPr>
          <p:spPr>
            <a:xfrm rot="20329200">
              <a:off x="4038120" y="1676160"/>
              <a:ext cx="160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PPP + ATM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408480" y="1414080"/>
              <a:ext cx="2688480" cy="1410120"/>
              <a:chOff x="3408480" y="1414080"/>
              <a:chExt cx="2688480" cy="141012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3486600" y="1629000"/>
                <a:ext cx="2506680" cy="909000"/>
              </a:xfrm>
              <a:prstGeom prst="line">
                <a:avLst/>
              </a:prstGeom>
              <a:ln w="9360">
                <a:solidFill>
                  <a:srgbClr val="54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08480" y="2323080"/>
                <a:ext cx="181800" cy="501120"/>
              </a:xfrm>
              <a:prstGeom prst="line">
                <a:avLst/>
              </a:prstGeom>
              <a:ln w="9360">
                <a:solidFill>
                  <a:srgbClr val="54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15520" y="1414080"/>
                <a:ext cx="181440" cy="501120"/>
              </a:xfrm>
              <a:prstGeom prst="line">
                <a:avLst/>
              </a:prstGeom>
              <a:ln w="9360">
                <a:solidFill>
                  <a:srgbClr val="54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304920" y="6095880"/>
            <a:ext cx="144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2a00"/>
                </a:solidFill>
                <a:latin typeface="Times New Roman"/>
              </a:rPr>
              <a:t>128.16.6.16</a:t>
            </a:r>
            <a:endParaRPr b="0" lang="en-US" sz="1800" spc="-1" strike="noStrike">
              <a:solidFill>
                <a:srgbClr val="542a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743200" y="1676520"/>
            <a:ext cx="1219320" cy="1066680"/>
            <a:chOff x="2743200" y="1676520"/>
            <a:chExt cx="1219320" cy="1066680"/>
          </a:xfrm>
        </p:grpSpPr>
        <p:sp>
          <p:nvSpPr>
            <p:cNvPr id="71" name=""/>
            <p:cNvSpPr/>
            <p:nvPr/>
          </p:nvSpPr>
          <p:spPr>
            <a:xfrm>
              <a:off x="2743200" y="1676520"/>
              <a:ext cx="121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NAT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2057400"/>
              <a:ext cx="0" cy="685800"/>
            </a:xfrm>
            <a:prstGeom prst="line">
              <a:avLst/>
            </a:prstGeom>
            <a:ln w="9360">
              <a:solidFill>
                <a:srgbClr val="54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94960" y="5867280"/>
            <a:ext cx="150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2a00"/>
                </a:solidFill>
                <a:latin typeface="Times New Roman"/>
              </a:rPr>
              <a:t>128.16.10.244</a:t>
            </a:r>
            <a:endParaRPr b="0" lang="en-US" sz="1800" spc="-1" strike="noStrike">
              <a:solidFill>
                <a:srgbClr val="542a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46840" y="4495680"/>
            <a:ext cx="1500480" cy="1524240"/>
            <a:chOff x="1446840" y="4495680"/>
            <a:chExt cx="1500480" cy="1524240"/>
          </a:xfrm>
        </p:grpSpPr>
        <p:sp>
          <p:nvSpPr>
            <p:cNvPr id="75" name=""/>
            <p:cNvSpPr/>
            <p:nvPr/>
          </p:nvSpPr>
          <p:spPr>
            <a:xfrm>
              <a:off x="1446840" y="5562720"/>
              <a:ext cx="150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128.16.10.244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752480" y="4495680"/>
              <a:ext cx="723960" cy="1524240"/>
              <a:chOff x="1752480" y="4495680"/>
              <a:chExt cx="723960" cy="1524240"/>
            </a:xfrm>
          </p:grpSpPr>
          <p:sp>
            <p:nvSpPr>
              <p:cNvPr id="77" name="tower"/>
              <p:cNvSpPr/>
              <p:nvPr/>
            </p:nvSpPr>
            <p:spPr>
              <a:xfrm>
                <a:off x="1752480" y="4495680"/>
                <a:ext cx="723960" cy="1143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05120" y="5638680"/>
                <a:ext cx="0" cy="381240"/>
              </a:xfrm>
              <a:prstGeom prst="line">
                <a:avLst/>
              </a:prstGeom>
              <a:ln w="9360">
                <a:solidFill>
                  <a:srgbClr val="54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533520" y="1752480"/>
            <a:ext cx="8710200" cy="4800600"/>
            <a:chOff x="533520" y="1752480"/>
            <a:chExt cx="8710200" cy="4800600"/>
          </a:xfrm>
        </p:grpSpPr>
        <p:sp>
          <p:nvSpPr>
            <p:cNvPr id="80" name=""/>
            <p:cNvSpPr/>
            <p:nvPr/>
          </p:nvSpPr>
          <p:spPr>
            <a:xfrm>
              <a:off x="3568680" y="4495680"/>
              <a:ext cx="1917720" cy="1676520"/>
            </a:xfrm>
            <a:custGeom>
              <a:avLst/>
              <a:gdLst/>
              <a:ahLst/>
              <a:rect l="l" t="t" r="r" b="b"/>
              <a:pathLst>
                <a:path w="1208" h="1056">
                  <a:moveTo>
                    <a:pt x="1208" y="0"/>
                  </a:moveTo>
                  <a:cubicBezTo>
                    <a:pt x="1108" y="120"/>
                    <a:pt x="1008" y="240"/>
                    <a:pt x="920" y="288"/>
                  </a:cubicBezTo>
                  <a:cubicBezTo>
                    <a:pt x="832" y="336"/>
                    <a:pt x="824" y="248"/>
                    <a:pt x="680" y="288"/>
                  </a:cubicBezTo>
                  <a:cubicBezTo>
                    <a:pt x="536" y="328"/>
                    <a:pt x="112" y="424"/>
                    <a:pt x="56" y="528"/>
                  </a:cubicBezTo>
                  <a:cubicBezTo>
                    <a:pt x="0" y="632"/>
                    <a:pt x="328" y="824"/>
                    <a:pt x="344" y="912"/>
                  </a:cubicBezTo>
                  <a:cubicBezTo>
                    <a:pt x="360" y="1000"/>
                    <a:pt x="184" y="1032"/>
                    <a:pt x="152" y="1056"/>
                  </a:cubicBezTo>
                </a:path>
              </a:pathLst>
            </a:custGeom>
            <a:noFill/>
            <a:ln w="28440">
              <a:solidFill>
                <a:srgbClr val="54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3124080"/>
              <a:ext cx="144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DSLAM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1280" y="22860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0" y="432"/>
                  </a:moveTo>
                  <a:cubicBezTo>
                    <a:pt x="76" y="332"/>
                    <a:pt x="152" y="232"/>
                    <a:pt x="240" y="192"/>
                  </a:cubicBezTo>
                  <a:cubicBezTo>
                    <a:pt x="328" y="152"/>
                    <a:pt x="392" y="184"/>
                    <a:pt x="528" y="192"/>
                  </a:cubicBezTo>
                  <a:cubicBezTo>
                    <a:pt x="664" y="200"/>
                    <a:pt x="920" y="264"/>
                    <a:pt x="1056" y="240"/>
                  </a:cubicBezTo>
                  <a:cubicBezTo>
                    <a:pt x="1192" y="216"/>
                    <a:pt x="1256" y="88"/>
                    <a:pt x="1344" y="48"/>
                  </a:cubicBezTo>
                  <a:cubicBezTo>
                    <a:pt x="1432" y="8"/>
                    <a:pt x="1544" y="8"/>
                    <a:pt x="1584" y="0"/>
                  </a:cubicBezTo>
                </a:path>
              </a:pathLst>
            </a:custGeom>
            <a:noFill/>
            <a:ln w="28440">
              <a:solidFill>
                <a:srgbClr val="54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3" name="computr2"/>
            <p:cNvSpPr/>
            <p:nvPr/>
          </p:nvSpPr>
          <p:spPr>
            <a:xfrm>
              <a:off x="685800" y="2133720"/>
              <a:ext cx="990720" cy="990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4" name="mainfrm"/>
            <p:cNvSpPr/>
            <p:nvPr/>
          </p:nvSpPr>
          <p:spPr>
            <a:xfrm>
              <a:off x="4419720" y="2209680"/>
              <a:ext cx="838080" cy="8384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5" name="server"/>
            <p:cNvSpPr/>
            <p:nvPr/>
          </p:nvSpPr>
          <p:spPr>
            <a:xfrm>
              <a:off x="6095880" y="1752480"/>
              <a:ext cx="1057320" cy="1057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800" y="3505320"/>
              <a:ext cx="2971800" cy="0"/>
            </a:xfrm>
            <a:prstGeom prst="line">
              <a:avLst/>
            </a:prstGeom>
            <a:ln w="38160">
              <a:solidFill>
                <a:srgbClr val="54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3124080"/>
              <a:ext cx="0" cy="381240"/>
            </a:xfrm>
            <a:prstGeom prst="line">
              <a:avLst/>
            </a:prstGeom>
            <a:ln w="9360">
              <a:solidFill>
                <a:srgbClr val="54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0400" y="3124080"/>
              <a:ext cx="0" cy="381240"/>
            </a:xfrm>
            <a:prstGeom prst="line">
              <a:avLst/>
            </a:prstGeom>
            <a:ln w="9360">
              <a:solidFill>
                <a:srgbClr val="54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89" name="modem"/>
            <p:cNvSpPr/>
            <p:nvPr/>
          </p:nvSpPr>
          <p:spPr>
            <a:xfrm>
              <a:off x="2819520" y="2743200"/>
              <a:ext cx="761760" cy="3859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2920" y="2286000"/>
              <a:ext cx="609480" cy="914400"/>
            </a:xfrm>
            <a:custGeom>
              <a:avLst/>
              <a:gdLst/>
              <a:ahLst/>
              <a:rect l="l" t="t" r="r" b="b"/>
              <a:pathLst>
                <a:path w="384" h="576">
                  <a:moveTo>
                    <a:pt x="0" y="0"/>
                  </a:moveTo>
                  <a:cubicBezTo>
                    <a:pt x="144" y="8"/>
                    <a:pt x="288" y="16"/>
                    <a:pt x="336" y="96"/>
                  </a:cubicBezTo>
                  <a:cubicBezTo>
                    <a:pt x="384" y="176"/>
                    <a:pt x="288" y="400"/>
                    <a:pt x="288" y="480"/>
                  </a:cubicBezTo>
                  <a:cubicBezTo>
                    <a:pt x="288" y="560"/>
                    <a:pt x="328" y="560"/>
                    <a:pt x="336" y="576"/>
                  </a:cubicBezTo>
                </a:path>
              </a:pathLst>
            </a:custGeom>
            <a:noFill/>
            <a:ln w="28440">
              <a:solidFill>
                <a:srgbClr val="54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777200" y="2819520"/>
              <a:ext cx="4466520" cy="3428640"/>
              <a:chOff x="4777200" y="2819520"/>
              <a:chExt cx="4466520" cy="3428640"/>
            </a:xfrm>
          </p:grpSpPr>
          <p:sp>
            <p:nvSpPr>
              <p:cNvPr id="92" name="Cloud"/>
              <p:cNvSpPr/>
              <p:nvPr/>
            </p:nvSpPr>
            <p:spPr>
              <a:xfrm rot="20728200">
                <a:off x="5029200" y="3276360"/>
                <a:ext cx="3962520" cy="2514600"/>
              </a:xfrm>
              <a:prstGeom prst="pi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97480" y="4278600"/>
                <a:ext cx="1600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2a00"/>
                    </a:solidFill>
                    <a:latin typeface="Times New Roman"/>
                  </a:rPr>
                  <a:t>Internet</a:t>
                </a:r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95480" y="4419720"/>
              <a:ext cx="1981440" cy="1326960"/>
              <a:chOff x="2895480" y="4419720"/>
              <a:chExt cx="1981440" cy="1326960"/>
            </a:xfrm>
          </p:grpSpPr>
          <p:sp>
            <p:nvSpPr>
              <p:cNvPr id="95" name="Cloud"/>
              <p:cNvSpPr/>
              <p:nvPr/>
            </p:nvSpPr>
            <p:spPr>
              <a:xfrm>
                <a:off x="2895480" y="4419720"/>
                <a:ext cx="1981440" cy="1326960"/>
              </a:xfrm>
              <a:prstGeom prst="pi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24080" y="4876920"/>
                <a:ext cx="160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2a00"/>
                    </a:solidFill>
                    <a:latin typeface="Times New Roman"/>
                  </a:rPr>
                  <a:t>UCL-CS</a:t>
                </a:r>
                <a:endParaRPr b="0" lang="en-US" sz="1800" spc="-1" strike="noStrike">
                  <a:solidFill>
                    <a:srgbClr val="542a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33520" y="6019920"/>
              <a:ext cx="3047760" cy="0"/>
            </a:xfrm>
            <a:prstGeom prst="line">
              <a:avLst/>
            </a:prstGeom>
            <a:ln w="38160">
              <a:solidFill>
                <a:srgbClr val="54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5715000"/>
              <a:ext cx="0" cy="304920"/>
            </a:xfrm>
            <a:prstGeom prst="line">
              <a:avLst/>
            </a:prstGeom>
            <a:ln w="9360">
              <a:solidFill>
                <a:srgbClr val="54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99" name="tower"/>
            <p:cNvSpPr/>
            <p:nvPr/>
          </p:nvSpPr>
          <p:spPr>
            <a:xfrm>
              <a:off x="533520" y="4419720"/>
              <a:ext cx="752400" cy="1352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100" name="modem"/>
            <p:cNvSpPr/>
            <p:nvPr/>
          </p:nvSpPr>
          <p:spPr>
            <a:xfrm>
              <a:off x="2895480" y="6095880"/>
              <a:ext cx="1067040" cy="45720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32800" y="1371600"/>
            <a:ext cx="7049160" cy="4478400"/>
            <a:chOff x="532800" y="1371600"/>
            <a:chExt cx="7049160" cy="4478400"/>
          </a:xfrm>
        </p:grpSpPr>
        <p:sp>
          <p:nvSpPr>
            <p:cNvPr id="102" name=""/>
            <p:cNvSpPr/>
            <p:nvPr/>
          </p:nvSpPr>
          <p:spPr>
            <a:xfrm>
              <a:off x="1092240" y="1650960"/>
              <a:ext cx="6489720" cy="4199040"/>
            </a:xfrm>
            <a:custGeom>
              <a:avLst/>
              <a:gdLst/>
              <a:ahLst/>
              <a:rect l="l" t="t" r="r" b="b"/>
              <a:pathLst>
                <a:path w="4088" h="2645">
                  <a:moveTo>
                    <a:pt x="32" y="400"/>
                  </a:moveTo>
                  <a:cubicBezTo>
                    <a:pt x="16" y="280"/>
                    <a:pt x="0" y="160"/>
                    <a:pt x="80" y="112"/>
                  </a:cubicBezTo>
                  <a:cubicBezTo>
                    <a:pt x="160" y="64"/>
                    <a:pt x="408" y="0"/>
                    <a:pt x="512" y="112"/>
                  </a:cubicBezTo>
                  <a:cubicBezTo>
                    <a:pt x="616" y="224"/>
                    <a:pt x="560" y="656"/>
                    <a:pt x="704" y="784"/>
                  </a:cubicBezTo>
                  <a:cubicBezTo>
                    <a:pt x="848" y="912"/>
                    <a:pt x="1040" y="888"/>
                    <a:pt x="1376" y="880"/>
                  </a:cubicBezTo>
                  <a:cubicBezTo>
                    <a:pt x="1712" y="872"/>
                    <a:pt x="2384" y="792"/>
                    <a:pt x="2720" y="736"/>
                  </a:cubicBezTo>
                  <a:cubicBezTo>
                    <a:pt x="3056" y="680"/>
                    <a:pt x="3184" y="552"/>
                    <a:pt x="3392" y="544"/>
                  </a:cubicBezTo>
                  <a:cubicBezTo>
                    <a:pt x="3600" y="536"/>
                    <a:pt x="3888" y="536"/>
                    <a:pt x="3968" y="688"/>
                  </a:cubicBezTo>
                  <a:cubicBezTo>
                    <a:pt x="4048" y="840"/>
                    <a:pt x="4088" y="1224"/>
                    <a:pt x="3872" y="1456"/>
                  </a:cubicBezTo>
                  <a:cubicBezTo>
                    <a:pt x="3656" y="1688"/>
                    <a:pt x="3005" y="1912"/>
                    <a:pt x="2672" y="2080"/>
                  </a:cubicBezTo>
                  <a:cubicBezTo>
                    <a:pt x="2339" y="2248"/>
                    <a:pt x="2121" y="2395"/>
                    <a:pt x="1870" y="2462"/>
                  </a:cubicBezTo>
                  <a:cubicBezTo>
                    <a:pt x="1619" y="2529"/>
                    <a:pt x="1302" y="2645"/>
                    <a:pt x="1166" y="2480"/>
                  </a:cubicBezTo>
                  <a:cubicBezTo>
                    <a:pt x="1030" y="2315"/>
                    <a:pt x="1144" y="1573"/>
                    <a:pt x="1056" y="1474"/>
                  </a:cubicBezTo>
                  <a:cubicBezTo>
                    <a:pt x="968" y="1375"/>
                    <a:pt x="723" y="1800"/>
                    <a:pt x="635" y="188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2800" y="1371600"/>
              <a:ext cx="138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128.16.113.3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0880" y="4038480"/>
              <a:ext cx="138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2a00"/>
                  </a:solidFill>
                  <a:latin typeface="Times New Roman"/>
                </a:rPr>
                <a:t>128.16.113.1</a:t>
              </a:r>
              <a:endParaRPr b="0" lang="en-US" sz="1800" spc="-1" strike="noStrike">
                <a:solidFill>
                  <a:srgbClr val="542a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132-0E19-4378-8F6D-ED68841877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83642-4CA6-4CBC-8477-22A6828983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Encapsulation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1905120"/>
          <a:ext cx="8839080" cy="275436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600200"/>
                <a:gridCol w="685800"/>
                <a:gridCol w="1600200"/>
                <a:gridCol w="1371600"/>
                <a:gridCol w="685800"/>
              </a:tblGrid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SRC</a:t>
                      </a:r>
                      <a:endParaRPr b="0" lang="en-US" sz="16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DST</a:t>
                      </a:r>
                      <a:endParaRPr b="0" lang="en-US" sz="16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PRO</a:t>
                      </a:r>
                      <a:endParaRPr b="0" lang="en-US" sz="16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SRC</a:t>
                      </a:r>
                      <a:endParaRPr b="0" lang="en-US" sz="16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DST</a:t>
                      </a:r>
                      <a:endParaRPr b="0" lang="en-US" sz="16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PRO</a:t>
                      </a:r>
                      <a:endParaRPr b="0" lang="en-US" sz="16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13680">
                      <a:solidFill>
                        <a:srgbClr val="542a00"/>
                      </a:solidFill>
                    </a:lnR>
                    <a:lnT w="1368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Initial</a:t>
                      </a:r>
                      <a:endParaRPr b="0" lang="en-US" sz="20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113.3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6.16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TCP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1368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After VPN processing</a:t>
                      </a:r>
                      <a:endParaRPr b="0" lang="en-US" sz="20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92.168.0.3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10.244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GRE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113.3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6.16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TCP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1368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5760">
                      <a:solidFill>
                        <a:srgbClr val="542a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2a00"/>
                          </a:solidFill>
                          <a:latin typeface="Times New Roman"/>
                        </a:rPr>
                        <a:t>After NAT g/w</a:t>
                      </a:r>
                      <a:endParaRPr b="0" lang="en-US" sz="20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217.47.45.2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10.244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GRE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113.3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128.16.6.16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576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TCP</a:t>
                      </a:r>
                      <a:endParaRPr b="0" lang="en-US" sz="1400" spc="-1" strike="noStrike">
                        <a:solidFill>
                          <a:srgbClr val="542a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42a00"/>
                      </a:solidFill>
                    </a:lnL>
                    <a:lnR w="13680">
                      <a:solidFill>
                        <a:srgbClr val="542a00"/>
                      </a:solidFill>
                    </a:lnR>
                    <a:lnT w="5760">
                      <a:solidFill>
                        <a:srgbClr val="542a00"/>
                      </a:solidFill>
                    </a:lnT>
                    <a:lnB w="13680">
                      <a:solidFill>
                        <a:srgbClr val="542a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338-F805-43EE-8E18-D03BBA2DCF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33A27-5E1E-430F-BDC8-AB29D2537C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9:20:59Z</dcterms:created>
  <dc:creator>Graham Knight</dc:creator>
  <dc:description/>
  <dc:language>en-US</dc:language>
  <cp:lastModifiedBy>Graham Knight</cp:lastModifiedBy>
  <cp:lastPrinted>1998-12-19T19:50:33Z</cp:lastPrinted>
  <dcterms:modified xsi:type="dcterms:W3CDTF">2008-11-21T17:27:10Z</dcterms:modified>
  <cp:revision>7</cp:revision>
  <dc:subject/>
  <dc:title>Spectral Analysis (Background Material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ucl.ac.uk/staff/S.Bhatti/</vt:lpwstr>
  </property>
  <property fmtid="{D5CDD505-2E9C-101B-9397-08002B2CF9AE}" pid="9" name="LinkColor">
    <vt:r8>16711782</vt:r8>
  </property>
  <property fmtid="{D5CDD505-2E9C-101B-9397-08002B2CF9AE}" pid="10" name="MailAddress">
    <vt:lpwstr>S.Bhatti@cs.ucl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saleem\teaching\bt7\html\bt7-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