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7BA-C478-44CE-8F03-156F74E0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750-F8A5-4420-85E6-280537CB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0D9-FE55-42D9-977E-F98254FC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64D-CE60-4CDE-8723-682E97A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D0C-6614-44CA-B000-3F6278DE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EB9-0CED-4EFA-B0E6-BEE4D742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35A8-43BF-42F5-9911-EF34B2F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1E3-F74D-45AB-A182-C6F67B2B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F632-BA9C-467F-9CB5-9FF6CB5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D21E-78CD-4C09-84BC-C244B975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F3BA-D272-468C-ACA8-3A3EF84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391-55B6-44E7-8DCF-16DBAC8E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633-107B-4CCC-8CA9-A7EDA52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CF5-167D-42DC-BFB1-2F6E361E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1FEF-0F6D-441A-A4D8-CE071A9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825-3FEE-4AC2-B53A-F4592F6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C473-2312-4545-B14F-795FAC40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47B-AD01-48C1-A05F-61C00FB8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CC0D-57A6-4B2E-82A9-C524D3AC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A50-CEB5-4D10-945F-1B4E2058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12B-62B5-498D-A4CD-90CECE37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759-D194-4485-A65D-3F20FA8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C90-7A89-46A2-B220-31CB8A2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3D6-31CB-4A1C-986C-8FA23AED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DC9-C5E1-495F-9997-74C553D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1AB-7F32-42DF-9896-638D367C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377-950C-40E2-AD68-246686BCFF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286-8EE4-4F94-BD94-EE1C57977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692280"/>
            <a:ext cx="6781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S 352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eue managem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gers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ky Bu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ross a single link, only allow packets across at a constant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ts may be generated in a bursty manner, but after they pass through the leaky bucket, they enter the network evenly spa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ll inputs enforce a leaky bucket, its easy to reason about the total resource demand on the rest of the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84720" y="487692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84720" y="1986120"/>
            <a:ext cx="0" cy="175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ky Bucket: Ana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6840" y="491976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36840" y="533700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6840" y="576576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1760" y="307332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331164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261000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1871640"/>
            <a:ext cx="111240" cy="220680"/>
          </a:xfrm>
          <a:custGeom>
            <a:avLst/>
            <a:gdLst/>
            <a:ahLst/>
            <a:rect l="l" t="t" r="r" b="b"/>
            <a:pathLst>
              <a:path w="70" h="139">
                <a:moveTo>
                  <a:pt x="48" y="0"/>
                </a:moveTo>
                <a:lnTo>
                  <a:pt x="0" y="96"/>
                </a:lnTo>
                <a:lnTo>
                  <a:pt x="0" y="96"/>
                </a:lnTo>
                <a:lnTo>
                  <a:pt x="0" y="116"/>
                </a:lnTo>
                <a:lnTo>
                  <a:pt x="26" y="138"/>
                </a:lnTo>
                <a:lnTo>
                  <a:pt x="58" y="134"/>
                </a:lnTo>
                <a:lnTo>
                  <a:pt x="69" y="108"/>
                </a:lnTo>
                <a:lnTo>
                  <a:pt x="48" y="0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7200" y="3940200"/>
            <a:ext cx="963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88120" y="3743280"/>
            <a:ext cx="1415880" cy="12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72040" y="2087640"/>
            <a:ext cx="201600" cy="22536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2705040"/>
            <a:ext cx="201600" cy="22536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72040" y="3051000"/>
            <a:ext cx="201600" cy="22572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2040" y="3325680"/>
            <a:ext cx="201600" cy="22572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72040" y="5087880"/>
            <a:ext cx="201600" cy="22536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549760"/>
            <a:ext cx="201600" cy="22572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72040" y="6040440"/>
            <a:ext cx="201600" cy="225360"/>
          </a:xfrm>
          <a:prstGeom prst="rect">
            <a:avLst/>
          </a:prstGeom>
          <a:solidFill>
            <a:srgbClr val="7e9c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05360" y="6512040"/>
            <a:ext cx="247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9480" y="6176880"/>
            <a:ext cx="101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1080" y="160020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76160" y="3733920"/>
            <a:ext cx="1676520" cy="1143000"/>
            <a:chOff x="1676160" y="3733920"/>
            <a:chExt cx="1676520" cy="1143000"/>
          </a:xfrm>
        </p:grpSpPr>
        <p:sp>
          <p:nvSpPr>
            <p:cNvPr id="286" name=""/>
            <p:cNvSpPr/>
            <p:nvPr/>
          </p:nvSpPr>
          <p:spPr>
            <a:xfrm>
              <a:off x="2478240" y="481176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8800" y="4191120"/>
              <a:ext cx="1371600" cy="68580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144" y="432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44" y="48"/>
                  </a:lnTo>
                  <a:lnTo>
                    <a:pt x="192" y="0"/>
                  </a:lnTo>
                  <a:lnTo>
                    <a:pt x="240" y="48"/>
                  </a:lnTo>
                  <a:lnTo>
                    <a:pt x="336" y="0"/>
                  </a:lnTo>
                  <a:lnTo>
                    <a:pt x="336" y="48"/>
                  </a:lnTo>
                  <a:lnTo>
                    <a:pt x="432" y="0"/>
                  </a:lnTo>
                  <a:lnTo>
                    <a:pt x="480" y="48"/>
                  </a:lnTo>
                  <a:lnTo>
                    <a:pt x="576" y="0"/>
                  </a:lnTo>
                  <a:lnTo>
                    <a:pt x="624" y="48"/>
                  </a:lnTo>
                  <a:lnTo>
                    <a:pt x="672" y="0"/>
                  </a:lnTo>
                  <a:lnTo>
                    <a:pt x="720" y="48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64" y="48"/>
                  </a:lnTo>
                  <a:lnTo>
                    <a:pt x="720" y="432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200400" y="380988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1676160" y="380988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76520" y="3733920"/>
              <a:ext cx="167616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4800600"/>
              <a:ext cx="152640" cy="7632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86400" y="4038480"/>
            <a:ext cx="1143000" cy="779400"/>
            <a:chOff x="5486400" y="4038480"/>
            <a:chExt cx="1143000" cy="779400"/>
          </a:xfrm>
        </p:grpSpPr>
        <p:sp>
          <p:nvSpPr>
            <p:cNvPr id="293" name=""/>
            <p:cNvSpPr/>
            <p:nvPr/>
          </p:nvSpPr>
          <p:spPr>
            <a:xfrm>
              <a:off x="6032880" y="4773600"/>
              <a:ext cx="10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90080" y="4350240"/>
              <a:ext cx="935280" cy="4676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144" y="432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44" y="48"/>
                  </a:lnTo>
                  <a:lnTo>
                    <a:pt x="192" y="0"/>
                  </a:lnTo>
                  <a:lnTo>
                    <a:pt x="240" y="48"/>
                  </a:lnTo>
                  <a:lnTo>
                    <a:pt x="336" y="0"/>
                  </a:lnTo>
                  <a:lnTo>
                    <a:pt x="336" y="48"/>
                  </a:lnTo>
                  <a:lnTo>
                    <a:pt x="432" y="0"/>
                  </a:lnTo>
                  <a:lnTo>
                    <a:pt x="480" y="48"/>
                  </a:lnTo>
                  <a:lnTo>
                    <a:pt x="576" y="0"/>
                  </a:lnTo>
                  <a:lnTo>
                    <a:pt x="624" y="48"/>
                  </a:lnTo>
                  <a:lnTo>
                    <a:pt x="672" y="0"/>
                  </a:lnTo>
                  <a:lnTo>
                    <a:pt x="720" y="48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64" y="48"/>
                  </a:lnTo>
                  <a:lnTo>
                    <a:pt x="720" y="432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525360" y="4089960"/>
              <a:ext cx="10368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5486400" y="4089960"/>
              <a:ext cx="10368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4038480"/>
              <a:ext cx="1143000" cy="103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05880" y="4766040"/>
              <a:ext cx="104040" cy="518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ky Bucket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(cont’d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eaky bucket is a “traffic shaper”:  It changes the characteristics of a packet str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ffic shaping makes the network more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manageable and predic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the network tells the leaky bucket the rate at which it may send packets when a connection is established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ky Bucket: Doesn’t allow bursty transmis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ome cases, we may want to allow short bursts of packets to enter the network without smoothing them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is purpose we use a token bucket, which is a modified leaky bu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 Bu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ucket holds logical tokens instead of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kens are generated and placed into the token bucket at a constant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packet arrives at the token bucket, it is transmitted if there is a token available.  Otherwise it is buffered until a token becomes avai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oken bucket holds a fixed number of tokens, so when it becomes full, subsequently generated tokens are discar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till reason about total possible dem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506840" y="5010120"/>
            <a:ext cx="0" cy="150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6840" y="1986120"/>
            <a:ext cx="0" cy="175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 Bu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3743280"/>
            <a:ext cx="1416240" cy="12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94160" y="208764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94160" y="270504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3051000"/>
            <a:ext cx="201600" cy="2257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94160" y="3325680"/>
            <a:ext cx="201600" cy="2257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4160" y="508788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94160" y="533412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94160" y="556272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27480" y="6512040"/>
            <a:ext cx="247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72320" y="6176880"/>
            <a:ext cx="89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73200" y="160020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4343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7960" y="4114800"/>
            <a:ext cx="2235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nerates a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every T seco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94160" y="5943600"/>
            <a:ext cx="201600" cy="2253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62160" y="3962520"/>
            <a:ext cx="1143360" cy="761760"/>
            <a:chOff x="3962160" y="3962520"/>
            <a:chExt cx="1143360" cy="761760"/>
          </a:xfrm>
        </p:grpSpPr>
        <p:sp>
          <p:nvSpPr>
            <p:cNvPr id="323" name=""/>
            <p:cNvSpPr/>
            <p:nvPr/>
          </p:nvSpPr>
          <p:spPr>
            <a:xfrm flipV="1">
              <a:off x="4870440" y="4014720"/>
              <a:ext cx="235080" cy="70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3962160" y="4014720"/>
              <a:ext cx="235080" cy="70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62520" y="3962520"/>
              <a:ext cx="1143000" cy="102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33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4495680"/>
            <a:ext cx="76320" cy="76320"/>
          </a:xfrm>
          <a:prstGeom prst="ellipse">
            <a:avLst/>
          </a:prstGeom>
          <a:solidFill>
            <a:srgbClr val="33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4267080"/>
            <a:ext cx="76320" cy="76320"/>
          </a:xfrm>
          <a:prstGeom prst="ellipse">
            <a:avLst/>
          </a:prstGeom>
          <a:solidFill>
            <a:srgbClr val="33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267080"/>
            <a:ext cx="76320" cy="76320"/>
          </a:xfrm>
          <a:prstGeom prst="ellipse">
            <a:avLst/>
          </a:prstGeom>
          <a:solidFill>
            <a:srgbClr val="33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4267080"/>
            <a:ext cx="76320" cy="76320"/>
          </a:xfrm>
          <a:prstGeom prst="ellipse">
            <a:avLst/>
          </a:prstGeom>
          <a:solidFill>
            <a:srgbClr val="33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9880" y="2638440"/>
            <a:ext cx="304920" cy="3049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38440"/>
            <a:ext cx="304920" cy="3049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2638440"/>
            <a:ext cx="304920" cy="304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638440"/>
            <a:ext cx="304560" cy="3049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994200"/>
            <a:ext cx="304920" cy="3049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3994200"/>
            <a:ext cx="304920" cy="304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3994200"/>
            <a:ext cx="304560" cy="3049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 Bucket vs. Leaky Bu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3994200"/>
            <a:ext cx="304560" cy="3049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1880" y="175248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1: Short burst arri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4146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2790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2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1132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3044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832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6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47480" y="266688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l time at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47120" y="4022640"/>
            <a:ext cx="3052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ure time from a leaky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y bucket rate = 1 packet / 2 tim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y bucket size = 4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2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1132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044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832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744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6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5384880"/>
            <a:ext cx="304920" cy="3045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0" y="5384880"/>
            <a:ext cx="304920" cy="30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384880"/>
            <a:ext cx="304560" cy="3045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5384880"/>
            <a:ext cx="304920" cy="3045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55371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2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1132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3044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832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744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6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47480" y="5337000"/>
            <a:ext cx="3068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ure time from a token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en bucket rate = 1 tokens / 2 tim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en bucket size = 2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2638440"/>
            <a:ext cx="304920" cy="30492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638440"/>
            <a:ext cx="304560" cy="3049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638440"/>
            <a:ext cx="304920" cy="3049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2638440"/>
            <a:ext cx="304920" cy="304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38440"/>
            <a:ext cx="304560" cy="3049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3994200"/>
            <a:ext cx="304920" cy="3049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3994200"/>
            <a:ext cx="304920" cy="304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3994200"/>
            <a:ext cx="304560" cy="3049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 Bucket vs. Leaky Bu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3994200"/>
            <a:ext cx="304560" cy="3049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1880" y="17524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2: Large burst arri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4146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7400" y="4070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2790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57400" y="2714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2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1132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044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9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832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744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6560" y="292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47480" y="266688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l time at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47120" y="4022640"/>
            <a:ext cx="3052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ure time from a leaky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y bucket rate = 1 packet / 2 tim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y bucket size = 2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2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1132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832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744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06560" y="429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5384880"/>
            <a:ext cx="304920" cy="3045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5384880"/>
            <a:ext cx="304920" cy="30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5384880"/>
            <a:ext cx="304560" cy="3045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5384880"/>
            <a:ext cx="304920" cy="3045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6520" y="55371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5460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2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132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3044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6832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744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6560" y="56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47480" y="5337000"/>
            <a:ext cx="2992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ure time from a token 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en bucket rate = 1 token / 2 tim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en bucket size = 2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-link congestion management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en bucket and leaky bucket manage traffic across a single lin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f we do not trust the incoming traffic to behav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manage across multipl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r Queuing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-que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one source is sending too many packets, can we allow other sources to continue and just drop the “bad” sourc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cut: round-rob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input queues in round-robin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one flow/link has all large packets, another all small packet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packets get more link bandwid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ues and Traffic sha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 Idea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ffic shap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ify traffic at </a:t>
            </a:r>
            <a:r>
              <a:rPr b="0" lang="en-US" sz="2300" spc="-1" strike="noStrike">
                <a:solidFill>
                  <a:srgbClr val="669999"/>
                </a:solidFill>
                <a:latin typeface="Arial"/>
              </a:rPr>
              <a:t>entrance point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the network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reason about states of the interior and link properties, loa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ify traffic in the rout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rce policies on “flo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alized flow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N sources, we would like to give each host or input source 1/N of the link bandwid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e we could squeeze factions of a bits on the link at o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fluid mod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“fluid” would interleave the bits on the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e must work with packe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approximate fairness of the fluid flow model, but still have pack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uid model vs. Packet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48280" y="2362320"/>
            <a:ext cx="8040240" cy="3746160"/>
            <a:chOff x="548280" y="2362320"/>
            <a:chExt cx="8040240" cy="3746160"/>
          </a:xfrm>
        </p:grpSpPr>
        <p:sp>
          <p:nvSpPr>
            <p:cNvPr id="467" name=""/>
            <p:cNvSpPr/>
            <p:nvPr/>
          </p:nvSpPr>
          <p:spPr>
            <a:xfrm>
              <a:off x="1958760" y="2817720"/>
              <a:ext cx="6019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8080" y="236232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87560" y="236232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97400" y="2362320"/>
              <a:ext cx="3045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06880" y="236232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58760" y="3808080"/>
              <a:ext cx="6019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58760" y="3352680"/>
              <a:ext cx="60984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68600" y="335268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78080" y="335268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87560" y="3352680"/>
              <a:ext cx="60984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97400" y="335268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08160" y="3390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7640" y="3390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7480" y="3390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38400" y="3390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6440" y="3390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7484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8612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9560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0364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58760" y="4800240"/>
              <a:ext cx="6019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8760" y="5713200"/>
              <a:ext cx="6019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8760" y="4343040"/>
              <a:ext cx="60984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68600" y="434304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78080" y="4343040"/>
              <a:ext cx="60948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78080" y="4571640"/>
              <a:ext cx="1219320" cy="228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87560" y="4343040"/>
              <a:ext cx="60984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97400" y="4571640"/>
              <a:ext cx="1218960" cy="228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97400" y="4343040"/>
              <a:ext cx="60948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06880" y="4343040"/>
              <a:ext cx="60948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09600" y="4381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19440" y="4381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41400" y="4543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4152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100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0720" y="4543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5916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6360" y="4571640"/>
              <a:ext cx="1219320" cy="228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6360" y="4343040"/>
              <a:ext cx="60984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26200" y="4343040"/>
              <a:ext cx="609480" cy="228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80040" y="4543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980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314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58760" y="5257440"/>
              <a:ext cx="60984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68600" y="525744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0960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1944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1320" y="5257440"/>
              <a:ext cx="3045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7808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83000" y="525744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204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3920" y="525744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9248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98840" y="525744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9740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01960" y="5257440"/>
              <a:ext cx="60984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5280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14680" y="525744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180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16360" y="236232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26200" y="2362320"/>
              <a:ext cx="3045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1492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22960" y="24001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21280" y="5257440"/>
              <a:ext cx="60948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7212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18160" y="5257440"/>
              <a:ext cx="3045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34000" y="5257440"/>
              <a:ext cx="30492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636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30760" y="5295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6600" y="2362320"/>
              <a:ext cx="970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arrival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8160" y="3276360"/>
              <a:ext cx="1027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arrivals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6560" y="4267080"/>
              <a:ext cx="8596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flui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8280" y="5289480"/>
              <a:ext cx="11307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47000" y="2652480"/>
              <a:ext cx="56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78680" y="3628800"/>
              <a:ext cx="56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22960" y="4619520"/>
              <a:ext cx="56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22960" y="5562360"/>
              <a:ext cx="56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ir Queuing vs. Round Rob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s: protection among fl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behaving flows will not affect the performance of well-behaving 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sbehaving flow – a flow that does not implement congestion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complex: must maintain a queue per flow per output  instead of a single queue per outpu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rtual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keep track of service delivered on each queu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tual Time is the number of rounds of queue service completed by a bit-by-bit Round Robin (RR) schedu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ot be an integ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s/decreases with # of active que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bit-bit R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tual time is incremented each time a bit is transmitted for all flow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ve 3 active flows, and transmit 3 bits, we increment virtual time by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d 4 flows, and transmit 2 bits, increment Vt by 0.5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each packet arrival, compute time packet would have exited the router during virtual ti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packet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finish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ir Queuing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virtual time packet exits system (finish tim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in order of increasing Finish times I.e., F(t)’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r maintains 2 variab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virtual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est per-queue finish numb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Queu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eue is active if the largest finish number is greater than the current virtual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ice the length of a RR “round” (set of queue services) in real time is proportional to the number of active conn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WFQ to take advantage of idle connec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uting Finish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ish # of an arriving packet is computed as the size of the packet in bits + the greater 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ish # of previous packet in the same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virtual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23888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finish # of packet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 flow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in virtual ti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ngth of packet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 flow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bi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- Real to virtual time function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n: The finish # of packet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 flow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nish Numb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981080" y="2743200"/>
                <a:ext cx="37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905120" y="2362320"/>
                <a:ext cx="4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1828800" y="4572000"/>
                <a:ext cx="5867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828800" y="3200400"/>
                <a:ext cx="635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ir Queuing Summary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packet arriva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finish number of pac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ompute virtu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sed on number of active queues at time of arriva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packet compl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acket with lowest finish number to be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ute virtual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gestion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o many packets in some part of the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124080"/>
            <a:ext cx="2197080" cy="82548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Fair Queuing Exampl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queues: A, B, and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real time =0, 3 packe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size 1 on A, size 2 on B and 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acket of size 2 shows up at Real time = 4 on queu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Q Example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nish #’s for queues A, B and C are set to 1, 2 and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tual time runs at 1/3 real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133720"/>
          <a:ext cx="8533800" cy="1888920"/>
        </p:xfrm>
        <a:graphic>
          <a:graphicData uri="http://schemas.openxmlformats.org/drawingml/2006/table">
            <a:tbl>
              <a:tblPr/>
              <a:tblGrid>
                <a:gridCol w="948960"/>
                <a:gridCol w="945720"/>
                <a:gridCol w="949680"/>
                <a:gridCol w="1102320"/>
                <a:gridCol w="793080"/>
                <a:gridCol w="949680"/>
                <a:gridCol w="949320"/>
                <a:gridCol w="946080"/>
                <a:gridCol w="94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# of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rt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Q Example- cont.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1 unit of service, each connection has received 1*0.33 =0.33 units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et from queue A departed at R(t)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et from queue C is transmitting (break tie randomly)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04920" y="2133720"/>
          <a:ext cx="8533800" cy="1888920"/>
        </p:xfrm>
        <a:graphic>
          <a:graphicData uri="http://schemas.openxmlformats.org/drawingml/2006/table">
            <a:tbl>
              <a:tblPr/>
              <a:tblGrid>
                <a:gridCol w="948960"/>
                <a:gridCol w="945720"/>
                <a:gridCol w="949680"/>
                <a:gridCol w="1102320"/>
                <a:gridCol w="793080"/>
                <a:gridCol w="949680"/>
                <a:gridCol w="949320"/>
                <a:gridCol w="946080"/>
                <a:gridCol w="94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# of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rt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Q Example- cont.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T=[1,3] there are 2 connections; virtual time V(t) function increases by 0.5 per unit of re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133720"/>
          <a:ext cx="8534160" cy="2224080"/>
        </p:xfrm>
        <a:graphic>
          <a:graphicData uri="http://schemas.openxmlformats.org/drawingml/2006/table">
            <a:tbl>
              <a:tblPr/>
              <a:tblGrid>
                <a:gridCol w="949320"/>
                <a:gridCol w="946080"/>
                <a:gridCol w="949320"/>
                <a:gridCol w="1101600"/>
                <a:gridCol w="793800"/>
                <a:gridCol w="949320"/>
                <a:gridCol w="949320"/>
                <a:gridCol w="946080"/>
                <a:gridCol w="949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# of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rt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Q Example- cont.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T=[3,4] only 1 connection; virtual time increases by 1.0 per unit of re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04920" y="2133720"/>
          <a:ext cx="8534160" cy="2705040"/>
        </p:xfrm>
        <a:graphic>
          <a:graphicData uri="http://schemas.openxmlformats.org/drawingml/2006/table">
            <a:tbl>
              <a:tblPr/>
              <a:tblGrid>
                <a:gridCol w="949320"/>
                <a:gridCol w="946080"/>
                <a:gridCol w="949320"/>
                <a:gridCol w="1101600"/>
                <a:gridCol w="793800"/>
                <a:gridCol w="949320"/>
                <a:gridCol w="949320"/>
                <a:gridCol w="946080"/>
                <a:gridCol w="949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# of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rt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eu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ish #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mai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=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nal Schedul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990720" y="1905120"/>
          <a:ext cx="7315200" cy="4200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838080"/>
                <a:gridCol w="939960"/>
                <a:gridCol w="787320"/>
                <a:gridCol w="787320"/>
                <a:gridCol w="787320"/>
                <a:gridCol w="787320"/>
                <a:gridCol w="787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 of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ir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eu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eu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eu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e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nish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m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nish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m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nish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m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23888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finish time of packet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 flow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in virtual ti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ngth of packet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 flow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bi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- Real to virtual time function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- Weight of flow 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nishing time of pack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low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ight on the queu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905120" y="2743200"/>
                <a:ext cx="36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905120" y="2362320"/>
                <a:ext cx="4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981080" y="5029200"/>
                <a:ext cx="5727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828800" y="3124080"/>
                <a:ext cx="635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981080" y="3505320"/>
                <a:ext cx="37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5943600" y="5791320"/>
            <a:ext cx="11430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764240" y="594360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ighted Fair Queuing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the weight gives more service to a given que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ers finish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is proportional to the weigh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Weights of 1, 1 and 2 means one queue gets 50% of the service, other 2 queues get 25%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plified Network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590920"/>
            <a:ext cx="2209680" cy="21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57400" y="18288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r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94400" y="1828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343400"/>
            <a:ext cx="60948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3200400"/>
            <a:ext cx="15264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71600" y="2590920"/>
            <a:ext cx="1676520" cy="2057400"/>
            <a:chOff x="1371600" y="2590920"/>
            <a:chExt cx="1676520" cy="2057400"/>
          </a:xfrm>
        </p:grpSpPr>
        <p:grpSp>
          <p:nvGrpSpPr>
            <p:cNvPr id="170" name=""/>
            <p:cNvGrpSpPr/>
            <p:nvPr/>
          </p:nvGrpSpPr>
          <p:grpSpPr>
            <a:xfrm>
              <a:off x="1371600" y="2590920"/>
              <a:ext cx="1676520" cy="380880"/>
              <a:chOff x="1371600" y="2590920"/>
              <a:chExt cx="1676520" cy="380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133720" y="2666880"/>
                <a:ext cx="533160" cy="228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66880" y="2666880"/>
                <a:ext cx="304920" cy="228600"/>
              </a:xfrm>
              <a:prstGeom prst="rect">
                <a:avLst/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81080" y="2666880"/>
                <a:ext cx="152640" cy="22860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23880" y="297180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481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3880" y="259092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71600" y="2666880"/>
                <a:ext cx="609480" cy="228600"/>
              </a:xfrm>
              <a:prstGeom prst="rect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676520" y="3200400"/>
              <a:ext cx="533160" cy="228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3200400"/>
              <a:ext cx="30492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3200400"/>
              <a:ext cx="152280" cy="2286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3880" y="3505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31240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200400"/>
              <a:ext cx="304920" cy="22860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3733920"/>
              <a:ext cx="533520" cy="228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3733920"/>
              <a:ext cx="15228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3733920"/>
              <a:ext cx="685800" cy="2286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4038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81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657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343400"/>
              <a:ext cx="152280" cy="228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4343400"/>
              <a:ext cx="15264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38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42670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62320" y="4343400"/>
              <a:ext cx="609480" cy="22860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911920" y="19051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Depar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172200" y="2590920"/>
            <a:ext cx="1676520" cy="380880"/>
            <a:chOff x="6172200" y="2590920"/>
            <a:chExt cx="1676520" cy="380880"/>
          </a:xfrm>
        </p:grpSpPr>
        <p:sp>
          <p:nvSpPr>
            <p:cNvPr id="199" name=""/>
            <p:cNvSpPr/>
            <p:nvPr/>
          </p:nvSpPr>
          <p:spPr>
            <a:xfrm>
              <a:off x="6934320" y="2666880"/>
              <a:ext cx="53316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67480" y="2666880"/>
              <a:ext cx="30492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81680" y="2666880"/>
              <a:ext cx="15264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480" y="2971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872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25909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2200" y="2666880"/>
              <a:ext cx="609480" cy="2286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77120" y="3200400"/>
            <a:ext cx="53316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200400"/>
            <a:ext cx="30492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3200400"/>
            <a:ext cx="15228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3200400"/>
            <a:ext cx="30492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3733920"/>
            <a:ext cx="53352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733920"/>
            <a:ext cx="1522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733920"/>
            <a:ext cx="68580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48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343400"/>
            <a:ext cx="15228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4343400"/>
            <a:ext cx="15264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4648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4267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4343400"/>
            <a:ext cx="60948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743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48120" y="4343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743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715000" y="4343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880" y="4800600"/>
            <a:ext cx="85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 packets across the system from the inputs to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uld be a single switch, or entire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s with Cong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Through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 Latenc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Variability (jitt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y enforcemen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X pays more than user Y, X should get more bandwidth than 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r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user/flow getting much more throughput or better latency than the other fl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gestion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of cong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congestion control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cong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Cong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ultimate caus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 applications, new users, bugs, faults, viruses, spam, stochastic (time based) variations, unknown randomn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stion can be long-lived or trans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scale of the congestion is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croseconds vs seconds vs hours vs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ferent solutions to all the above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haustion of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uffer Space  </a:t>
            </a: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(cont’d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82840" y="3511440"/>
            <a:ext cx="2882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352680"/>
            <a:ext cx="106704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2670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133360" y="4648320"/>
            <a:ext cx="11430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6480" y="391644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8000" y="300204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58160" y="391644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1680" y="498312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06640" y="35352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403848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962520"/>
            <a:ext cx="228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29000" y="3886200"/>
            <a:ext cx="2133720" cy="761760"/>
            <a:chOff x="3429000" y="3886200"/>
            <a:chExt cx="2133720" cy="761760"/>
          </a:xfrm>
        </p:grpSpPr>
        <p:sp>
          <p:nvSpPr>
            <p:cNvPr id="254" name=""/>
            <p:cNvSpPr/>
            <p:nvPr/>
          </p:nvSpPr>
          <p:spPr>
            <a:xfrm>
              <a:off x="3429000" y="3886200"/>
              <a:ext cx="21337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42670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429000" y="4343040"/>
              <a:ext cx="21337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H="1" flipV="1">
            <a:off x="6019560" y="45720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9240" y="5867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Congestion Control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minate existing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op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op circui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entry into the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 level (laye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ky Bucket, token bucket, WFQ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/conversation level (layer 4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ource reserv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CP backoff/reduce wind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level (layer 7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 types/kinds of ap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Graham Knight</cp:lastModifiedBy>
  <cp:lastPrinted>2003-09-23T14:36:37Z</cp:lastPrinted>
  <dcterms:modified xsi:type="dcterms:W3CDTF">2006-11-25T17:17:04Z</dcterms:modified>
  <cp:revision>85</cp:revision>
  <dc:subject/>
  <dc:title>PowerPoint Presentation</dc:title>
</cp:coreProperties>
</file>