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47C-1A6E-49B1-B47C-15F3B0A6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016-5373-4589-AD7A-E821361D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F61-32F2-4982-8B95-5951FCA4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DB4-CC81-4E7D-9E50-18C35F0A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870-F724-4E82-8983-00B22D41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AAE-0DC6-4F9C-99B1-1159C725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AA8-7ACB-4F91-80D5-352B136E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7FA-0899-4FF3-AE1F-1F180704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D6E-32DF-4273-A936-DB3852BB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D1C-9590-4D63-A9C9-59D58E8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0E6-D997-4612-9F77-CB4229F7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3B0-FBA2-4DB8-9D82-67B0E3C2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2" marL="94464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3" marL="1333440" indent="-198360"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4" marL="1719360" indent="-195480">
              <a:spcBef>
                <a:spcPts val="700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5" marL="1719360" indent="-195480">
              <a:spcBef>
                <a:spcPts val="700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6" marL="1719360" indent="-195480">
              <a:spcBef>
                <a:spcPts val="700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DF8-7DE9-41E1-AA9B-CC15496838D1}" type="datetime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1722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7DD7-4A51-4DEF-9219-1CC3D2916471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.Knight@cs.ucl.ac.uk" TargetMode="External"/><Relationship Id="rId2" Type="http://schemas.openxmlformats.org/officeDocument/2006/relationships/hyperlink" Target="mailto:G.Knight@cs.ucl.ac.uk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GZ01/3035 Networked Systems - Introduction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Graham Knight (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Times New Roman"/>
                <a:hlinkClick r:id="rId1"/>
              </a:rPr>
              <a:t>G.Knight@cs.ucl.ac.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Times New Roman"/>
                <a:hlinkClick r:id="rId2"/>
              </a:rPr>
              <a:t>uk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GZ01 and 3035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GZ01 – MSc DCND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3035 – BSc/MSci 3</a:t>
            </a:r>
            <a:r>
              <a:rPr b="0" lang="en-GB" sz="2800" spc="-1" strike="noStrike" baseline="30000">
                <a:solidFill>
                  <a:srgbClr val="0033cc"/>
                </a:solidFill>
                <a:latin typeface="Times New Roman"/>
              </a:rPr>
              <a:t>rd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 yea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Shared lectur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Some coursework shared (some not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Different exam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B68-7EFC-446A-A8E1-C4AA551E34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6E842-6E2A-4E5D-9EA7-902B9ED17E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ourse Communication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 do not have an office at UC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ntact me by email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g.knight@cs.ucl.ac.uk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rogramme email lists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928440" indent="-45252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nformation about lectures, admin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2" marL="1324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scdcnds@cs.ucl.ac.uk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324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3035@cs.ucl.ac.uk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324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(3035-request@cs.ucl.ac.uk, subject “join”)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OT for technical discussion (see later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Read email regularly!!!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27F-B00C-42B3-ACC3-E3B526E7B1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B1D84-D639-40F3-855B-CDBE44AC19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ourse Web Pages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WebCT 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http://www-webct.ucl.ac.uk:8900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562680" indent="-190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DCNDS GZ01 pre-term study onl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183600" indent="-18360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oodle 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http://moodle.ucl.ac.uk/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562680" indent="-190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Online coursework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562680" indent="-190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Discussion boards – 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Technical Discussions – READ TEHM!!. POST TO THEM!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562680" indent="-190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Copies of note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183600" indent="-18360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IS userid and passwor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578-2E78-4606-BC5F-B953BF07E6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70B3D-B041-4C77-A660-149FC4E98A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oursework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10% 3035, 15% GZ01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All done through Moodl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C/w is intended to help you to learn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Try to keep up with c/w schedule (see Moodle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Courseworks may be: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Not assessed (just for fun!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Binary marked – full marks for a “serious attempt”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Assessed – conventional percentage mark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Courseworks may be: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Computer marked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Hand marked by m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CA2-DC52-4B97-A570-3968D5C680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394E3-D96B-4F8F-8EF5-A8F986E616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Study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Times New Roman"/>
              </a:rPr>
              <a:t>See “Study Guide” on Moodl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ry to understand </a:t>
            </a:r>
            <a:r>
              <a:rPr b="0" lang="en-GB" sz="2800" spc="-1" strike="noStrike">
                <a:solidFill>
                  <a:srgbClr val="8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 something is the way it i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Read the note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766800" indent="-285840">
              <a:lnSpc>
                <a:spcPct val="7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 …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but don’t rely on them solel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Read books (use the library!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Use the web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more sources the better!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Ask questions in class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Keep up with the coursework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Times New Roman"/>
              </a:rPr>
              <a:t>Take part in the discuss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E92-8F94-40E3-9533-5D58AE6FFB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1411B-C608-4319-8273-A1C4E5968C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Times New Roman"/>
              </a:rPr>
              <a:t>Moodle Discussion Forums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One discussion board per topic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Ask ques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About the lectur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About the coursework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Times New Roman"/>
              </a:rPr>
              <a:t>Try to answer question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Suggest sourc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Times New Roman"/>
              </a:rPr>
              <a:t>You will learn by answering others’ ques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185760" indent="-18576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It is OK to help others’ understand coursework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568440" indent="-1922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but don’t tell them the answers!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Z01/3005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480-ED4A-4A7C-A0BA-3C994B2706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C44BD-C634-4F1B-9CD7-B371D8C618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5:43:11Z</dcterms:created>
  <dc:creator>Graham Knight</dc:creator>
  <dc:description/>
  <dc:language>en-US</dc:language>
  <cp:lastModifiedBy>Graham Knight</cp:lastModifiedBy>
  <cp:lastPrinted>1998-12-19T19:50:33Z</cp:lastPrinted>
  <dcterms:modified xsi:type="dcterms:W3CDTF">2007-09-08T15:46:02Z</dcterms:modified>
  <cp:revision>1</cp:revision>
  <dc:subject/>
  <dc:title>GZ01/3035 Networked Systems -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ucl.ac.uk/staff/S.Bhatti/</vt:lpwstr>
  </property>
  <property fmtid="{D5CDD505-2E9C-101B-9397-08002B2CF9AE}" pid="9" name="LinkColor">
    <vt:r8>16711782</vt:r8>
  </property>
  <property fmtid="{D5CDD505-2E9C-101B-9397-08002B2CF9AE}" pid="10" name="MailAddress">
    <vt:lpwstr>S.Bhatti@cs.ucl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saleem\teaching\bt7\html\bt7-0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