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642100" cy="96551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42000" cy="965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78200" cy="4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63440" y="-360"/>
            <a:ext cx="2878200" cy="4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1160" y="723960"/>
            <a:ext cx="4826160" cy="361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Times New Roman"/>
              </a:rPr>
              <a:t>Click to move the slide</a:t>
            </a:r>
            <a:endParaRPr b="1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5600" y="4584600"/>
            <a:ext cx="4870440" cy="43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170640"/>
            <a:ext cx="2878200" cy="48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63440" y="9170640"/>
            <a:ext cx="2878200" cy="48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Z20/3C35 19/</a:t>
            </a:r>
            <a:fld id="{33EDAB29-7EC9-4575-BF5D-3A078F76D608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11160" y="723960"/>
            <a:ext cx="4826160" cy="36194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885600" y="4584600"/>
            <a:ext cx="4870440" cy="43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is was on a computer on my home network without a VP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11160" y="723960"/>
            <a:ext cx="4826160" cy="36194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885600" y="4584600"/>
            <a:ext cx="4870440" cy="43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ow with the VPN started. VPN server at UCL-CS is at 128.16.10.244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45F8-1C22-459A-96BF-E0D3B256B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676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D84B-4420-4389-99B6-6300BDE8D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C33B-2F7C-4706-8D72-10C861242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A6BB-1D95-487E-A9C3-6C0DC1A3E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FA4E-B970-45CA-BC4C-583EA6844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F7AA-521F-4D06-B012-955C85DA8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A981-A5C0-4B5A-8DE0-7F6682284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4368-7D38-4491-BB24-AE288810E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AF10-56BE-4B4F-83D2-86A2DD467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FFF8-A6EE-40CE-BDBD-2119BE76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0E20-7247-49EF-9E95-A8434C84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0D35-C521-41FD-9E4F-5D1E2BD5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lvl="1" marL="766800" indent="-285840">
              <a:spcBef>
                <a:spcPts val="700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lvl="2" marL="1185840" indent="-22860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lvl="3" marL="1604880" indent="-228600">
              <a:spcBef>
                <a:spcPts val="700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B1EAA-3AD8-437A-9F1D-23908C25D263}" type="datetime5"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Jul 31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F4F3C-8F54-469C-9AD4-0414B5F4F4ED}" type="slidenum"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Times New Roman"/>
              </a:rPr>
              <a:t>Host routing table</a:t>
            </a:r>
            <a:endParaRPr b="1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C:\&gt;route print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2905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===========================================================================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2905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Interface List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2905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0x1 ........................... MS TCP Loopback interface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2905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0x2 ...00 13 20 31 e0 de ...... Intel(R) PRO/100 VE Network Connection - Packet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2905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Scheduler Miniport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2905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0x3 ...00 10 dc af 92 a7 ...... Bluetooth LAN Access Server Driver - Packet Sche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2905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duler Miniport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2905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===========================================================================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2905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===========================================================================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2905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Active Routes: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2905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Network Destination        Netmask          Gateway       Interface  Metric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2905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          </a:t>
            </a: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0.0.0.0          0.0.0.0     192.168.0.50     192.168.0.3       20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2905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        </a:t>
            </a: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127.0.0.0        255.0.0.0        127.0.0.1       127.0.0.1       1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2905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      </a:t>
            </a: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192.168.0.0    255.255.255.0      192.168.0.3     192.168.0.3       20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2905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      </a:t>
            </a: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192.168.0.3  255.255.255.255        127.0.0.1       127.0.0.1       20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2905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192.168.0.255  255.255.255.255      192.168.0.3     192.168.0.3       20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2905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        </a:t>
            </a: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224.0.0.0        240.0.0.0      192.168.0.3     192.168.0.3       20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2905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255.255.255.255  255.255.255.255      192.168.0.3     192.168.0.3       1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2905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255.255.255.255  255.255.255.255      192.168.0.3               3       1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2905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Default Gateway:      192.168.0.50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2905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===========================================================================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2905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Persistent Routes: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2905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None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20/3C35 Routing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2A84-3C54-49EC-AE1F-6E6B7F5D6D7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E67C68-19E1-46C7-8765-5307B1A3F26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Times New Roman"/>
              </a:rPr>
              <a:t>Route to UCL-CS</a:t>
            </a:r>
            <a:endParaRPr b="1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C:\&gt;tracert -d sonic.cs.ucl.ac.uk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2905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2905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Tracing route to sonic.cs.ucl.ac.uk [128.16.6.16]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2905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over a maximum of 30 hops: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2905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2905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1     *        *        *     Request timed out.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2905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2    13 ms    11 ms    11 ms  217.47.45.146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2905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3    13 ms    11 ms    11 ms  217.47.45.13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2905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4    13 ms    11 ms    12 ms  217.47.45.51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2905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5    12 ms    11 ms    11 ms  194.72.4.37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2905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6    13 ms    12 ms    11 ms  62.6.204.73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2905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7    12 ms    11 ms    11 ms  194.74.65.117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2905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8    14 ms    12 ms    13 ms  193.62.157.129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2905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9    13 ms    11 ms    13 ms  146.97.35.237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2905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10    14 ms    13 ms    12 ms  146.97.33.33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2905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11    13 ms    13 ms    13 ms  146.97.35.6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2905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12    15 ms    13 ms    14 ms  146.97.40.34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2905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13    14 ms    13 ms    13 ms  194.83.101.6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2905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14    13 ms    13 ms    13 ms  128.40.20.61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2905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15    12 ms    13 ms    11 ms  128.40.20.2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2905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16    14 ms    13 ms    13 ms  128.40.15.4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2905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17    13 ms    13 ms    13 ms  128.16.6.16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2905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2905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Trace complete.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20/3C35 Routing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8B28-D851-41BC-A359-8963D4C096F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624CA4-D0A2-48F8-9ED0-5CB2CE68701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Times New Roman"/>
              </a:rPr>
              <a:t>Host Routing table</a:t>
            </a:r>
            <a:endParaRPr b="1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86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C:\&gt;route print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2786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===========================================================================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2786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Interface List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2786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0x1 ........................... MS TCP Loopback interface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2786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0x2 ...00 13 20 31 e0 de ...... Intel(R) PRO/100 VE Network Connection - Packet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2786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Scheduler Miniport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2786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0x3 ...00 10 dc af 92 a7 ...... Bluetooth LAN Access Server Driver - Packet Scheduler Miniport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2786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0x20005 ...00 53 45 00 00 00 ...... WAN (PPP/SLIP) Interface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2786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===========================================================================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2786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===========================================================================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2786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Active Routes: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2786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Network Destination        Netmask          Gateway       Interface  Metric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2786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          </a:t>
            </a: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0.0.0.0          0.0.0.0     192.168.0.50     192.168.0.3       21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2786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        </a:t>
            </a: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127.0.0.0        255.0.0.0        127.0.0.1       127.0.0.1       1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2786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       </a:t>
            </a: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128.16.0.0      255.255.0.0     128.16.113.3    128.16.113.3       1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2786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128.16.10.244  255.255.255.255     192.168.0.50     192.168.0.3       20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2786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128.16.113.3  255.255.255.255        127.0.0.1       127.0.0.1       50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2786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128.16.255.255  255.255.255.255     128.16.113.3    128.16.113.3       50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2786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      </a:t>
            </a: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192.168.0.0    255.255.255.0      192.168.0.3     192.168.0.3       20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2786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      </a:t>
            </a: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192.168.0.3  255.255.255.255        127.0.0.1       127.0.0.1       20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2786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192.168.0.255  255.255.255.255      192.168.0.3     192.168.0.3       20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2786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        </a:t>
            </a: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224.0.0.0        240.0.0.0      192.168.0.3     192.168.0.3       20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2786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        </a:t>
            </a: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224.0.0.0        240.0.0.0     128.16.113.3    128.16.113.3       1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2786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255.255.255.255  255.255.255.255     128.16.113.3    128.16.113.3       1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2786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255.255.255.255  255.255.255.255      192.168.0.3     192.168.0.3       1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2786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255.255.255.255  255.255.255.255      192.168.0.3               3       1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2786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Default Gateway:      192.168.0.50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2786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===========================================================================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2786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Persistent Routes: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2786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None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20/3C35 Routing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CE6B-D645-4A3C-8927-618FB1C2237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C574F8-966B-4BA9-BA98-2730A691EBE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Times New Roman"/>
              </a:rPr>
              <a:t>Routes</a:t>
            </a:r>
            <a:endParaRPr b="1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8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C:\&gt;tracert -d sonic.cs.ucl.ac.uk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278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278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Tracing route to sonic.cs.ucl.ac.uk [128.16.6.16]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278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over a maximum of 30 hops: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278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278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1    15 ms    13 ms    13 ms  128.16.113.1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278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2    13 ms    13 ms    13 ms  128.16.6.16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278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278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Trace complete.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278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278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C:\&gt;tracert -d www.ucl.ac.uk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278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278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Tracing route to www.ucl.ac.uk [128.40.105.130]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278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over a maximum of 30 hops: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278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278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1     *        *        *     Request timed out.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278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2    13 ms    11 ms    11 ms  217.47.45.146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278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3    13 ms    13 ms    12 ms  217.47.45.13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278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4    12 ms    11 ms    11 ms  217.47.45.58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278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5    11 ms    11 ms    12 ms  194.72.4.33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278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6    12 ms    11 ms    11 ms  62.6.204.73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278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7    14 ms    11 ms    13 ms  194.74.65.133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278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8    13 ms    11 ms    13 ms  193.62.157.129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278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cc0000"/>
                </a:solidFill>
                <a:latin typeface="Courier New"/>
              </a:rPr>
              <a:t>9    12 ms    12 ms    13 ms  146.97.35.237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278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20/3C35 Routing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9CCC-7015-4563-B513-94D16C2BF7D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C26BE6-7721-4E32-836E-44DFA08F151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276720" y="6019920"/>
            <a:ext cx="0" cy="15228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Times New Roman"/>
              </a:rPr>
              <a:t>Network Map</a:t>
            </a:r>
            <a:endParaRPr b="1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457200" y="2209680"/>
            <a:ext cx="3505320" cy="1737720"/>
            <a:chOff x="457200" y="2209680"/>
            <a:chExt cx="3505320" cy="1737720"/>
          </a:xfrm>
        </p:grpSpPr>
        <p:sp>
          <p:nvSpPr>
            <p:cNvPr id="59" name=""/>
            <p:cNvSpPr/>
            <p:nvPr/>
          </p:nvSpPr>
          <p:spPr>
            <a:xfrm>
              <a:off x="457200" y="3581280"/>
              <a:ext cx="1447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cc"/>
                  </a:solidFill>
                  <a:latin typeface="Times New Roman"/>
                </a:rPr>
                <a:t>192.168.0.3</a:t>
              </a:r>
              <a:endParaRPr b="0" lang="en-US" sz="1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514600" y="3581280"/>
              <a:ext cx="1447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cc"/>
                  </a:solidFill>
                  <a:latin typeface="Times New Roman"/>
                </a:rPr>
                <a:t>192.168.0.50</a:t>
              </a:r>
              <a:endParaRPr b="0" lang="en-US" sz="1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447920" y="2209680"/>
              <a:ext cx="1600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33cc"/>
                  </a:solidFill>
                  <a:latin typeface="Times New Roman"/>
                </a:rPr>
                <a:t>192.168.0.0/24</a:t>
              </a:r>
              <a:endParaRPr b="0" lang="en-US" sz="1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5562720" y="2895480"/>
            <a:ext cx="160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217.47.45.146</a:t>
            </a:r>
            <a:endParaRPr b="0" lang="en-US" sz="1800" spc="-1" strike="noStrike">
              <a:solidFill>
                <a:srgbClr val="0033cc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3408480" y="1399680"/>
            <a:ext cx="2688480" cy="1424520"/>
            <a:chOff x="3408480" y="1399680"/>
            <a:chExt cx="2688480" cy="1424520"/>
          </a:xfrm>
        </p:grpSpPr>
        <p:sp>
          <p:nvSpPr>
            <p:cNvPr id="64" name=""/>
            <p:cNvSpPr/>
            <p:nvPr/>
          </p:nvSpPr>
          <p:spPr>
            <a:xfrm rot="20329200">
              <a:off x="4038120" y="1676160"/>
              <a:ext cx="1600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cc"/>
                  </a:solidFill>
                  <a:latin typeface="Times New Roman"/>
                </a:rPr>
                <a:t>PPP + ATM</a:t>
              </a:r>
              <a:endParaRPr b="0" lang="en-US" sz="1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3408480" y="1414080"/>
              <a:ext cx="2688480" cy="1410120"/>
              <a:chOff x="3408480" y="1414080"/>
              <a:chExt cx="2688480" cy="1410120"/>
            </a:xfrm>
          </p:grpSpPr>
          <p:sp>
            <p:nvSpPr>
              <p:cNvPr id="66" name=""/>
              <p:cNvSpPr/>
              <p:nvPr/>
            </p:nvSpPr>
            <p:spPr>
              <a:xfrm flipV="1">
                <a:off x="3486600" y="1629000"/>
                <a:ext cx="2506680" cy="909000"/>
              </a:xfrm>
              <a:prstGeom prst="line">
                <a:avLst/>
              </a:prstGeom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0" lang="en-US" sz="2400" spc="-1" strike="noStrike">
                  <a:solidFill>
                    <a:srgbClr val="0033cc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408480" y="2323080"/>
                <a:ext cx="181800" cy="501120"/>
              </a:xfrm>
              <a:prstGeom prst="line">
                <a:avLst/>
              </a:prstGeom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0" lang="en-US" sz="2400" spc="-1" strike="noStrike">
                  <a:solidFill>
                    <a:srgbClr val="0033cc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915520" y="1414080"/>
                <a:ext cx="181440" cy="501120"/>
              </a:xfrm>
              <a:prstGeom prst="line">
                <a:avLst/>
              </a:prstGeom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0" lang="en-US" sz="2400" spc="-1" strike="noStrike">
                  <a:solidFill>
                    <a:srgbClr val="0033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" name=""/>
          <p:cNvSpPr/>
          <p:nvPr/>
        </p:nvSpPr>
        <p:spPr>
          <a:xfrm>
            <a:off x="304920" y="6095880"/>
            <a:ext cx="1447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128.16.6.16</a:t>
            </a:r>
            <a:endParaRPr b="0" lang="en-US" sz="1800" spc="-1" strike="noStrike">
              <a:solidFill>
                <a:srgbClr val="0033cc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2743200" y="1676520"/>
            <a:ext cx="1219320" cy="1066680"/>
            <a:chOff x="2743200" y="1676520"/>
            <a:chExt cx="1219320" cy="1066680"/>
          </a:xfrm>
        </p:grpSpPr>
        <p:sp>
          <p:nvSpPr>
            <p:cNvPr id="71" name=""/>
            <p:cNvSpPr/>
            <p:nvPr/>
          </p:nvSpPr>
          <p:spPr>
            <a:xfrm>
              <a:off x="2743200" y="1676520"/>
              <a:ext cx="1219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cc"/>
                  </a:solidFill>
                  <a:latin typeface="Times New Roman"/>
                </a:rPr>
                <a:t>NAT</a:t>
              </a:r>
              <a:endParaRPr b="0" lang="en-US" sz="1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124080" y="2057400"/>
              <a:ext cx="0" cy="685800"/>
            </a:xfrm>
            <a:prstGeom prst="line">
              <a:avLst/>
            </a:prstGeom>
            <a:ln w="93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494960" y="5867280"/>
            <a:ext cx="1500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128.16.10.244</a:t>
            </a:r>
            <a:endParaRPr b="0" lang="en-US" sz="1800" spc="-1" strike="noStrike">
              <a:solidFill>
                <a:srgbClr val="0033cc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1446840" y="4495680"/>
            <a:ext cx="1500480" cy="1524240"/>
            <a:chOff x="1446840" y="4495680"/>
            <a:chExt cx="1500480" cy="1524240"/>
          </a:xfrm>
        </p:grpSpPr>
        <p:sp>
          <p:nvSpPr>
            <p:cNvPr id="75" name=""/>
            <p:cNvSpPr/>
            <p:nvPr/>
          </p:nvSpPr>
          <p:spPr>
            <a:xfrm>
              <a:off x="1446840" y="5562720"/>
              <a:ext cx="1500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cc"/>
                  </a:solidFill>
                  <a:latin typeface="Times New Roman"/>
                </a:rPr>
                <a:t>128.16.10.244</a:t>
              </a:r>
              <a:endParaRPr b="0" lang="en-US" sz="1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1752480" y="4495680"/>
              <a:ext cx="723960" cy="1524240"/>
              <a:chOff x="1752480" y="4495680"/>
              <a:chExt cx="723960" cy="1524240"/>
            </a:xfrm>
          </p:grpSpPr>
          <p:sp>
            <p:nvSpPr>
              <p:cNvPr id="77" name="tower"/>
              <p:cNvSpPr/>
              <p:nvPr/>
            </p:nvSpPr>
            <p:spPr>
              <a:xfrm>
                <a:off x="1752480" y="4495680"/>
                <a:ext cx="723960" cy="114300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cc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905120" y="5638680"/>
                <a:ext cx="0" cy="381240"/>
              </a:xfrm>
              <a:prstGeom prst="line">
                <a:avLst/>
              </a:prstGeom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0" lang="en-US" sz="2400" spc="-1" strike="noStrike">
                  <a:solidFill>
                    <a:srgbClr val="0033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" name=""/>
          <p:cNvGrpSpPr/>
          <p:nvPr/>
        </p:nvGrpSpPr>
        <p:grpSpPr>
          <a:xfrm>
            <a:off x="533520" y="1752480"/>
            <a:ext cx="8710200" cy="4800600"/>
            <a:chOff x="533520" y="1752480"/>
            <a:chExt cx="8710200" cy="4800600"/>
          </a:xfrm>
        </p:grpSpPr>
        <p:sp>
          <p:nvSpPr>
            <p:cNvPr id="80" name=""/>
            <p:cNvSpPr/>
            <p:nvPr/>
          </p:nvSpPr>
          <p:spPr>
            <a:xfrm>
              <a:off x="3568680" y="4495680"/>
              <a:ext cx="1917720" cy="1676520"/>
            </a:xfrm>
            <a:custGeom>
              <a:avLst/>
              <a:gdLst/>
              <a:ahLst/>
              <a:rect l="l" t="t" r="r" b="b"/>
              <a:pathLst>
                <a:path w="1208" h="1056">
                  <a:moveTo>
                    <a:pt x="1208" y="0"/>
                  </a:moveTo>
                  <a:cubicBezTo>
                    <a:pt x="1108" y="120"/>
                    <a:pt x="1008" y="240"/>
                    <a:pt x="920" y="288"/>
                  </a:cubicBezTo>
                  <a:cubicBezTo>
                    <a:pt x="832" y="336"/>
                    <a:pt x="824" y="248"/>
                    <a:pt x="680" y="288"/>
                  </a:cubicBezTo>
                  <a:cubicBezTo>
                    <a:pt x="536" y="328"/>
                    <a:pt x="112" y="424"/>
                    <a:pt x="56" y="528"/>
                  </a:cubicBezTo>
                  <a:cubicBezTo>
                    <a:pt x="0" y="632"/>
                    <a:pt x="328" y="824"/>
                    <a:pt x="344" y="912"/>
                  </a:cubicBezTo>
                  <a:cubicBezTo>
                    <a:pt x="360" y="1000"/>
                    <a:pt x="184" y="1032"/>
                    <a:pt x="152" y="1056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14800" y="3124080"/>
              <a:ext cx="1447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cc"/>
                  </a:solidFill>
                  <a:latin typeface="Times New Roman"/>
                </a:rPr>
                <a:t>DSLAM</a:t>
              </a:r>
              <a:endParaRPr b="0" lang="en-US" sz="1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81280" y="2286000"/>
              <a:ext cx="2514600" cy="685800"/>
            </a:xfrm>
            <a:custGeom>
              <a:avLst/>
              <a:gdLst/>
              <a:ahLst/>
              <a:rect l="l" t="t" r="r" b="b"/>
              <a:pathLst>
                <a:path w="1584" h="432">
                  <a:moveTo>
                    <a:pt x="0" y="432"/>
                  </a:moveTo>
                  <a:cubicBezTo>
                    <a:pt x="76" y="332"/>
                    <a:pt x="152" y="232"/>
                    <a:pt x="240" y="192"/>
                  </a:cubicBezTo>
                  <a:cubicBezTo>
                    <a:pt x="328" y="152"/>
                    <a:pt x="392" y="184"/>
                    <a:pt x="528" y="192"/>
                  </a:cubicBezTo>
                  <a:cubicBezTo>
                    <a:pt x="664" y="200"/>
                    <a:pt x="920" y="264"/>
                    <a:pt x="1056" y="240"/>
                  </a:cubicBezTo>
                  <a:cubicBezTo>
                    <a:pt x="1192" y="216"/>
                    <a:pt x="1256" y="88"/>
                    <a:pt x="1344" y="48"/>
                  </a:cubicBezTo>
                  <a:cubicBezTo>
                    <a:pt x="1432" y="8"/>
                    <a:pt x="1544" y="8"/>
                    <a:pt x="1584" y="0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83" name="computr2"/>
            <p:cNvSpPr/>
            <p:nvPr/>
          </p:nvSpPr>
          <p:spPr>
            <a:xfrm>
              <a:off x="685800" y="2133720"/>
              <a:ext cx="990720" cy="99036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84" name="mainfrm"/>
            <p:cNvSpPr/>
            <p:nvPr/>
          </p:nvSpPr>
          <p:spPr>
            <a:xfrm>
              <a:off x="4419720" y="2209680"/>
              <a:ext cx="838080" cy="83844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85" name="server"/>
            <p:cNvSpPr/>
            <p:nvPr/>
          </p:nvSpPr>
          <p:spPr>
            <a:xfrm>
              <a:off x="6095880" y="1752480"/>
              <a:ext cx="1057320" cy="10573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85800" y="3505320"/>
              <a:ext cx="297180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219320" y="3124080"/>
              <a:ext cx="0" cy="38124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200400" y="3124080"/>
              <a:ext cx="0" cy="38124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89" name="modem"/>
            <p:cNvSpPr/>
            <p:nvPr/>
          </p:nvSpPr>
          <p:spPr>
            <a:xfrm>
              <a:off x="2819520" y="2743200"/>
              <a:ext cx="761760" cy="3859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162920" y="2286000"/>
              <a:ext cx="609480" cy="914400"/>
            </a:xfrm>
            <a:custGeom>
              <a:avLst/>
              <a:gdLst/>
              <a:ahLst/>
              <a:rect l="l" t="t" r="r" b="b"/>
              <a:pathLst>
                <a:path w="384" h="576">
                  <a:moveTo>
                    <a:pt x="0" y="0"/>
                  </a:moveTo>
                  <a:cubicBezTo>
                    <a:pt x="144" y="8"/>
                    <a:pt x="288" y="16"/>
                    <a:pt x="336" y="96"/>
                  </a:cubicBezTo>
                  <a:cubicBezTo>
                    <a:pt x="384" y="176"/>
                    <a:pt x="288" y="400"/>
                    <a:pt x="288" y="480"/>
                  </a:cubicBezTo>
                  <a:cubicBezTo>
                    <a:pt x="288" y="560"/>
                    <a:pt x="328" y="560"/>
                    <a:pt x="336" y="576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4777200" y="2819520"/>
              <a:ext cx="4466520" cy="3428640"/>
              <a:chOff x="4777200" y="2819520"/>
              <a:chExt cx="4466520" cy="3428640"/>
            </a:xfrm>
          </p:grpSpPr>
          <p:sp>
            <p:nvSpPr>
              <p:cNvPr id="92" name="Cloud"/>
              <p:cNvSpPr/>
              <p:nvPr/>
            </p:nvSpPr>
            <p:spPr>
              <a:xfrm rot="20728200">
                <a:off x="5029200" y="3276360"/>
                <a:ext cx="3962520" cy="2514600"/>
              </a:xfrm>
              <a:prstGeom prst="pi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cc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297480" y="4278600"/>
                <a:ext cx="16002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cc"/>
                    </a:solidFill>
                    <a:latin typeface="Times New Roman"/>
                  </a:rPr>
                  <a:t>Internet</a:t>
                </a:r>
                <a:endParaRPr b="0" lang="en-US" sz="2400" spc="-1" strike="noStrike">
                  <a:solidFill>
                    <a:srgbClr val="0033cc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2895480" y="4419720"/>
              <a:ext cx="1981440" cy="1326960"/>
              <a:chOff x="2895480" y="4419720"/>
              <a:chExt cx="1981440" cy="1326960"/>
            </a:xfrm>
          </p:grpSpPr>
          <p:sp>
            <p:nvSpPr>
              <p:cNvPr id="95" name="Cloud"/>
              <p:cNvSpPr/>
              <p:nvPr/>
            </p:nvSpPr>
            <p:spPr>
              <a:xfrm>
                <a:off x="2895480" y="4419720"/>
                <a:ext cx="1981440" cy="1326960"/>
              </a:xfrm>
              <a:prstGeom prst="pi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cc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124080" y="4876920"/>
                <a:ext cx="16002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cc"/>
                    </a:solidFill>
                    <a:latin typeface="Times New Roman"/>
                  </a:rPr>
                  <a:t>UCL-CS</a:t>
                </a:r>
                <a:endParaRPr b="0" lang="en-US" sz="1800" spc="-1" strike="noStrike">
                  <a:solidFill>
                    <a:srgbClr val="0033cc"/>
                  </a:solidFill>
                  <a:latin typeface="Times New Roman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533520" y="6019920"/>
              <a:ext cx="304776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38080" y="5715000"/>
              <a:ext cx="0" cy="30492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99" name="tower"/>
            <p:cNvSpPr/>
            <p:nvPr/>
          </p:nvSpPr>
          <p:spPr>
            <a:xfrm>
              <a:off x="533520" y="4419720"/>
              <a:ext cx="752400" cy="13525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00" name="modem"/>
            <p:cNvSpPr/>
            <p:nvPr/>
          </p:nvSpPr>
          <p:spPr>
            <a:xfrm>
              <a:off x="2895480" y="6095880"/>
              <a:ext cx="1067040" cy="45720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32800" y="1371600"/>
            <a:ext cx="7049160" cy="4478400"/>
            <a:chOff x="532800" y="1371600"/>
            <a:chExt cx="7049160" cy="4478400"/>
          </a:xfrm>
        </p:grpSpPr>
        <p:sp>
          <p:nvSpPr>
            <p:cNvPr id="102" name=""/>
            <p:cNvSpPr/>
            <p:nvPr/>
          </p:nvSpPr>
          <p:spPr>
            <a:xfrm>
              <a:off x="1092240" y="1650960"/>
              <a:ext cx="6489720" cy="4199040"/>
            </a:xfrm>
            <a:custGeom>
              <a:avLst/>
              <a:gdLst/>
              <a:ahLst/>
              <a:rect l="l" t="t" r="r" b="b"/>
              <a:pathLst>
                <a:path w="4088" h="2645">
                  <a:moveTo>
                    <a:pt x="32" y="400"/>
                  </a:moveTo>
                  <a:cubicBezTo>
                    <a:pt x="16" y="280"/>
                    <a:pt x="0" y="160"/>
                    <a:pt x="80" y="112"/>
                  </a:cubicBezTo>
                  <a:cubicBezTo>
                    <a:pt x="160" y="64"/>
                    <a:pt x="408" y="0"/>
                    <a:pt x="512" y="112"/>
                  </a:cubicBezTo>
                  <a:cubicBezTo>
                    <a:pt x="616" y="224"/>
                    <a:pt x="560" y="656"/>
                    <a:pt x="704" y="784"/>
                  </a:cubicBezTo>
                  <a:cubicBezTo>
                    <a:pt x="848" y="912"/>
                    <a:pt x="1040" y="888"/>
                    <a:pt x="1376" y="880"/>
                  </a:cubicBezTo>
                  <a:cubicBezTo>
                    <a:pt x="1712" y="872"/>
                    <a:pt x="2384" y="792"/>
                    <a:pt x="2720" y="736"/>
                  </a:cubicBezTo>
                  <a:cubicBezTo>
                    <a:pt x="3056" y="680"/>
                    <a:pt x="3184" y="552"/>
                    <a:pt x="3392" y="544"/>
                  </a:cubicBezTo>
                  <a:cubicBezTo>
                    <a:pt x="3600" y="536"/>
                    <a:pt x="3888" y="536"/>
                    <a:pt x="3968" y="688"/>
                  </a:cubicBezTo>
                  <a:cubicBezTo>
                    <a:pt x="4048" y="840"/>
                    <a:pt x="4088" y="1224"/>
                    <a:pt x="3872" y="1456"/>
                  </a:cubicBezTo>
                  <a:cubicBezTo>
                    <a:pt x="3656" y="1688"/>
                    <a:pt x="3005" y="1912"/>
                    <a:pt x="2672" y="2080"/>
                  </a:cubicBezTo>
                  <a:cubicBezTo>
                    <a:pt x="2339" y="2248"/>
                    <a:pt x="2121" y="2395"/>
                    <a:pt x="1870" y="2462"/>
                  </a:cubicBezTo>
                  <a:cubicBezTo>
                    <a:pt x="1619" y="2529"/>
                    <a:pt x="1302" y="2645"/>
                    <a:pt x="1166" y="2480"/>
                  </a:cubicBezTo>
                  <a:cubicBezTo>
                    <a:pt x="1030" y="2315"/>
                    <a:pt x="1144" y="1573"/>
                    <a:pt x="1056" y="1474"/>
                  </a:cubicBezTo>
                  <a:cubicBezTo>
                    <a:pt x="968" y="1375"/>
                    <a:pt x="723" y="1800"/>
                    <a:pt x="635" y="1886"/>
                  </a:cubicBezTo>
                </a:path>
              </a:pathLst>
            </a:custGeom>
            <a:noFill/>
            <a:ln w="28440">
              <a:solidFill>
                <a:srgbClr val="cc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32800" y="1371600"/>
              <a:ext cx="1386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cc"/>
                  </a:solidFill>
                  <a:latin typeface="Times New Roman"/>
                </a:rPr>
                <a:t>128.16.113.3</a:t>
              </a:r>
              <a:endParaRPr b="0" lang="en-US" sz="1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70880" y="4038480"/>
              <a:ext cx="1386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cc"/>
                  </a:solidFill>
                  <a:latin typeface="Times New Roman"/>
                </a:rPr>
                <a:t>128.16.113.1</a:t>
              </a:r>
              <a:endParaRPr b="0" lang="en-US" sz="1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20/3C35 Routing Examp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EE0E-28BB-49C9-B6FB-DFC47991524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4C961E-6261-496F-95F8-88358AE8631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Times New Roman"/>
              </a:rPr>
              <a:t>Encapsulation</a:t>
            </a:r>
            <a:endParaRPr b="1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52280" y="1905120"/>
          <a:ext cx="8839080" cy="2754360"/>
        </p:xfrm>
        <a:graphic>
          <a:graphicData uri="http://schemas.openxmlformats.org/drawingml/2006/table">
            <a:tbl>
              <a:tblPr/>
              <a:tblGrid>
                <a:gridCol w="1371600"/>
                <a:gridCol w="1523880"/>
                <a:gridCol w="1600200"/>
                <a:gridCol w="685800"/>
                <a:gridCol w="1600200"/>
                <a:gridCol w="1371600"/>
                <a:gridCol w="685800"/>
              </a:tblGrid>
              <a:tr h="6764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SRC</a:t>
                      </a:r>
                      <a:endParaRPr b="0" lang="en-US" sz="16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DST</a:t>
                      </a:r>
                      <a:endParaRPr b="0" lang="en-US" sz="16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PRO</a:t>
                      </a:r>
                      <a:endParaRPr b="0" lang="en-US" sz="16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SRC</a:t>
                      </a:r>
                      <a:endParaRPr b="0" lang="en-US" sz="16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DST</a:t>
                      </a:r>
                      <a:endParaRPr b="0" lang="en-US" sz="16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PRO</a:t>
                      </a:r>
                      <a:endParaRPr b="0" lang="en-US" sz="16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675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Initial</a:t>
                      </a:r>
                      <a:endParaRPr b="0" lang="en-US" sz="20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Courier New"/>
                        </a:rPr>
                        <a:t>128.16.113.3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Courier New"/>
                        </a:rPr>
                        <a:t>128.16.6.16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Courier New"/>
                        </a:rPr>
                        <a:t>TCP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After VPN processing</a:t>
                      </a:r>
                      <a:endParaRPr b="0" lang="en-US" sz="20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Courier New"/>
                        </a:rPr>
                        <a:t>192.168.0.3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Courier New"/>
                        </a:rPr>
                        <a:t>128.16.10.244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Courier New"/>
                        </a:rPr>
                        <a:t>GRE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Courier New"/>
                        </a:rPr>
                        <a:t>128.16.113.3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Courier New"/>
                        </a:rPr>
                        <a:t>128.16.6.16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Courier New"/>
                        </a:rPr>
                        <a:t>TCP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After NAT g/w</a:t>
                      </a:r>
                      <a:endParaRPr b="0" lang="en-US" sz="20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Courier New"/>
                        </a:rPr>
                        <a:t>217.47.45.2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Courier New"/>
                        </a:rPr>
                        <a:t>128.16.10.244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Courier New"/>
                        </a:rPr>
                        <a:t>GRE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Courier New"/>
                        </a:rPr>
                        <a:t>128.16.113.3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Courier New"/>
                        </a:rPr>
                        <a:t>128.16.6.16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Courier New"/>
                        </a:rPr>
                        <a:t>TCP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20/3C35 Routing Examp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FF23-A875-4E48-B136-9E2E249715B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C770A9-2F52-4030-A60F-C97CDEDFBE4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4T22:37:55Z</dcterms:created>
  <dc:creator>Graham Knight</dc:creator>
  <dc:description/>
  <dc:language>en-US</dc:language>
  <cp:lastModifiedBy>Graham Knight</cp:lastModifiedBy>
  <cp:lastPrinted>1999-10-19T15:45:59Z</cp:lastPrinted>
  <dcterms:modified xsi:type="dcterms:W3CDTF">2006-12-08T19:45:23Z</dcterms:modified>
  <cp:revision>313</cp:revision>
  <dc:subject/>
  <dc:title>The Internet in Practice</dc:title>
</cp:coreProperties>
</file>