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24280" cy="48744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19240" y="0"/>
            <a:ext cx="2924280" cy="48744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3312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266040"/>
            <a:ext cx="2924280" cy="4870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19240" y="9266040"/>
            <a:ext cx="2924280" cy="4870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Times New Roman"/>
              </a:rPr>
              <a:t>Z20 07/</a:t>
            </a:r>
            <a:fld id="{52464090-46FF-4F0A-9635-8A52066463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938160" y="731880"/>
            <a:ext cx="4875120" cy="3655800"/>
          </a:xfrm>
          <a:prstGeom prst="rect">
            <a:avLst/>
          </a:prstGeom>
          <a:ln w="0">
            <a:noFill/>
          </a:ln>
        </p:spPr>
      </p:sp>
      <p:sp>
        <p:nvSpPr>
          <p:cNvPr id="1764"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P or a customer may further sub-divide a block. However, the “common network prefix” rules must be preser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ing addresses in this way is useful to a large organisation who can then operate several “subnets” interconnected by routers. This allows (for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atible technologies to be connected via rou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irewall” routers to control access to sensitive parts of the networ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938160" y="731880"/>
            <a:ext cx="4875120" cy="3655800"/>
          </a:xfrm>
          <a:prstGeom prst="rect">
            <a:avLst/>
          </a:prstGeom>
          <a:ln w="0">
            <a:noFill/>
          </a:ln>
        </p:spPr>
      </p:sp>
      <p:sp>
        <p:nvSpPr>
          <p:cNvPr id="1766"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cast IPv4 addresses were originally allocated from one of three </a:t>
            </a:r>
            <a:r>
              <a:rPr b="1" lang="en-GB" sz="1200" spc="-1" strike="noStrike">
                <a:solidFill>
                  <a:srgbClr val="000000"/>
                </a:solidFill>
                <a:latin typeface="Times New Roman"/>
              </a:rPr>
              <a:t>IP address classes,</a:t>
            </a:r>
            <a:r>
              <a:rPr b="0" lang="en-GB" sz="1200" spc="-1" strike="noStrike">
                <a:solidFill>
                  <a:srgbClr val="000000"/>
                </a:solidFill>
                <a:latin typeface="Times New Roman"/>
              </a:rPr>
              <a:t> class A, class B or class C. One of the main problems with the class-based approach is the inefficiency that can result with class A and class B addresses when the host id space is not fully utilised within a single IP network. The addresses cannot be used by any other IP network that is connected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cast IPv4 addresses identify one interface connected to the Internet. Hence, a normal host machine (a workstation or a server) typically has only a single IPv4 address and a single network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which we look at later in the course) uses class D addresses to identify not a single host interface, but a group of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 E is reserved for experimenta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936720" y="731880"/>
            <a:ext cx="4876560" cy="3657600"/>
          </a:xfrm>
          <a:prstGeom prst="rect">
            <a:avLst/>
          </a:prstGeom>
          <a:ln w="0">
            <a:noFill/>
          </a:ln>
        </p:spPr>
      </p:sp>
      <p:sp>
        <p:nvSpPr>
          <p:cNvPr id="1768"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 that provides a service (e.g. the CS department web server) usually needs a permanent IP address which can be advertised. (Think of the problem of phoning someone whose telephone number changes from day to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most computers do not offer services. Programs that run on them act as “clients” – they initiate all connections by sending requests to “servers”. These machines do not need permanent IP addresses. (The server can easily discover the client’s current IP address as this is contained in every datagram the client s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exist which allocate IP addresses to clients dynamically each time they connect to the network. Such automation is useful si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lieves users of the responsibility of correctly configuring their computer with an IP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als easily with computers which move between IP networks (e.g. lap-t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voids wasted allocations to computers which are not currently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rotocols exist for managing that allocation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ynamic Host Configuration Protocol” (used on L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int-to-point Protocol” (used for dial-up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6 has dynamic allocation built 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938160" y="731880"/>
            <a:ext cx="4875120" cy="3655800"/>
          </a:xfrm>
          <a:prstGeom prst="rect">
            <a:avLst/>
          </a:prstGeom>
          <a:ln w="0">
            <a:noFill/>
          </a:ln>
        </p:spPr>
      </p:sp>
      <p:sp>
        <p:nvSpPr>
          <p:cNvPr id="1770"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There are many networks that do not need direct external access for each host, but would like to use the Internet Protocols and applications. They would like to run an IP network, but not one that is necessarily connected to the Internet at the IP level. Such networks are private IP networks, such as an </a:t>
            </a:r>
            <a:r>
              <a:rPr b="1" lang="en-US" sz="1200" spc="-1" strike="noStrike">
                <a:solidFill>
                  <a:srgbClr val="000000"/>
                </a:solidFill>
                <a:latin typeface="Times New Roman"/>
              </a:rPr>
              <a:t>Intranet</a:t>
            </a:r>
            <a:r>
              <a:rPr b="0" lang="en-US" sz="1200" spc="-1" strike="noStrike">
                <a:solidFill>
                  <a:srgbClr val="000000"/>
                </a:solidFill>
                <a:latin typeface="Times New Roman"/>
              </a:rPr>
              <a:t>. When using IP, we need to have IP addresses for hosts. If the hosts are not directly connected to the Internet, then, in principle any IP address can be used. However, if such hosts that had such randomly chosen IPv4 addresses were to connect directly to the Internet (by accident or design!), they could cause havoc with the normal operation of the Internet.</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To minimise the risk of such occurrences, but still allow the use of private IP networks, RFC1918 specifies three address groups that can be used in numbering hosts. These are:</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	</a:t>
            </a:r>
            <a:r>
              <a:rPr b="0" lang="en-US" sz="1200" spc="-1" strike="noStrike">
                <a:solidFill>
                  <a:srgbClr val="000000"/>
                </a:solidFill>
                <a:latin typeface="Times New Roman"/>
              </a:rPr>
              <a:t>10.0.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10.255.255.255</a:t>
            </a:r>
            <a:r>
              <a:rPr b="0" lang="en-US" sz="1200" spc="-1" strike="noStrike">
                <a:solidFill>
                  <a:srgbClr val="000000"/>
                </a:solidFill>
                <a:latin typeface="Times New Roman"/>
              </a:rPr>
              <a:t>	</a:t>
            </a:r>
            <a:r>
              <a:rPr b="0" lang="en-US" sz="1200" spc="-1" strike="noStrike">
                <a:solidFill>
                  <a:srgbClr val="000000"/>
                </a:solidFill>
                <a:latin typeface="Times New Roman"/>
              </a:rPr>
              <a:t>(10/8 prefix)</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     </a:t>
            </a:r>
            <a:r>
              <a:rPr b="0" lang="en-US" sz="1200" spc="-1" strike="noStrike">
                <a:solidFill>
                  <a:srgbClr val="000000"/>
                </a:solidFill>
                <a:latin typeface="Times New Roman"/>
              </a:rPr>
              <a:t>172.16.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172.31.255.255</a:t>
            </a:r>
            <a:r>
              <a:rPr b="0" lang="en-US" sz="1200" spc="-1" strike="noStrike">
                <a:solidFill>
                  <a:srgbClr val="000000"/>
                </a:solidFill>
                <a:latin typeface="Times New Roman"/>
              </a:rPr>
              <a:t>	</a:t>
            </a:r>
            <a:r>
              <a:rPr b="0" lang="en-US" sz="1200" spc="-1" strike="noStrike">
                <a:solidFill>
                  <a:srgbClr val="000000"/>
                </a:solidFill>
                <a:latin typeface="Times New Roman"/>
              </a:rPr>
              <a:t>(172.16/12 prefix)</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     </a:t>
            </a:r>
            <a:r>
              <a:rPr b="0" lang="en-US" sz="1200" spc="-1" strike="noStrike">
                <a:solidFill>
                  <a:srgbClr val="000000"/>
                </a:solidFill>
                <a:latin typeface="Times New Roman"/>
              </a:rPr>
              <a:t>192.168.0.0</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192.168.255.255</a:t>
            </a:r>
            <a:r>
              <a:rPr b="0" lang="en-US" sz="1200" spc="-1" strike="noStrike">
                <a:solidFill>
                  <a:srgbClr val="000000"/>
                </a:solidFill>
                <a:latin typeface="Times New Roman"/>
              </a:rPr>
              <a:t>	</a:t>
            </a:r>
            <a:r>
              <a:rPr b="0" lang="en-US" sz="1200" spc="-1" strike="noStrike">
                <a:solidFill>
                  <a:srgbClr val="000000"/>
                </a:solidFill>
                <a:latin typeface="Times New Roman"/>
              </a:rPr>
              <a:t>(192.168/16 prefix)</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Times New Roman"/>
              </a:rPr>
              <a:t>Routers are configured not to forward these addresses onto interfaces connected to the Internet.</a:t>
            </a:r>
            <a:endParaRPr b="0" lang="en-US" sz="1200" spc="-1" strike="noStrike">
              <a:solidFill>
                <a:srgbClr val="000000"/>
              </a:solidFill>
              <a:latin typeface="Times New Roman"/>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936720" y="731880"/>
            <a:ext cx="4876560" cy="3657600"/>
          </a:xfrm>
          <a:prstGeom prst="rect">
            <a:avLst/>
          </a:prstGeom>
          <a:ln w="0">
            <a:noFill/>
          </a:ln>
        </p:spPr>
      </p:sp>
      <p:sp>
        <p:nvSpPr>
          <p:cNvPr id="1772"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version</a:t>
            </a:r>
            <a:r>
              <a:rPr b="0" lang="en-GB" sz="1200" spc="-1" strike="noStrike">
                <a:solidFill>
                  <a:srgbClr val="000000"/>
                </a:solidFill>
                <a:latin typeface="Times New Roman"/>
              </a:rPr>
              <a:t>: 4 for IPv4, 6 for IPv6</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HL</a:t>
            </a:r>
            <a:r>
              <a:rPr b="0" lang="en-GB" sz="1200" spc="-1" strike="noStrike">
                <a:solidFill>
                  <a:srgbClr val="000000"/>
                </a:solidFill>
                <a:latin typeface="Times New Roman"/>
              </a:rPr>
              <a:t>: The length of the IP header in 32 bit words. This is normally 5 but will be longer if any of the options are in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ype of service (ToS)</a:t>
            </a:r>
            <a:r>
              <a:rPr b="0" lang="en-GB" sz="1200" spc="-1" strike="noStrike">
                <a:solidFill>
                  <a:srgbClr val="000000"/>
                </a:solidFill>
                <a:latin typeface="Times New Roman"/>
              </a:rPr>
              <a:t>: handling requirements in the network – we shall return to these later in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length</a:t>
            </a:r>
            <a:r>
              <a:rPr b="0" lang="en-GB" sz="1200" spc="-1" strike="noStrike">
                <a:solidFill>
                  <a:srgbClr val="000000"/>
                </a:solidFill>
                <a:latin typeface="Times New Roman"/>
              </a:rPr>
              <a:t>: total length in bytes (including the h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dentification</a:t>
            </a:r>
            <a:r>
              <a:rPr b="0" lang="en-GB" sz="1200" spc="-1" strike="noStrike">
                <a:solidFill>
                  <a:srgbClr val="000000"/>
                </a:solidFill>
                <a:latin typeface="Times New Roman"/>
              </a:rPr>
              <a:t> and </a:t>
            </a:r>
            <a:r>
              <a:rPr b="1" lang="en-GB" sz="1200" spc="-1" strike="noStrike">
                <a:solidFill>
                  <a:srgbClr val="000000"/>
                </a:solidFill>
                <a:latin typeface="Times New Roman"/>
              </a:rPr>
              <a:t>fragment offset</a:t>
            </a:r>
            <a:r>
              <a:rPr b="0" lang="en-GB" sz="1200" spc="-1" strike="noStrike">
                <a:solidFill>
                  <a:srgbClr val="000000"/>
                </a:solidFill>
                <a:latin typeface="Times New Roman"/>
              </a:rPr>
              <a:t>: used to implement fragmentation and re-assem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lags</a:t>
            </a:r>
            <a:r>
              <a:rPr b="0" lang="en-GB" sz="1200" spc="-1" strike="noStrike">
                <a:solidFill>
                  <a:srgbClr val="000000"/>
                </a:solidFill>
                <a:latin typeface="Times New Roman"/>
              </a:rPr>
              <a:t>: bits used to mark fragmentation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ime to live (TTL)</a:t>
            </a:r>
            <a:r>
              <a:rPr b="0" lang="en-GB" sz="1200" spc="-1" strike="noStrike">
                <a:solidFill>
                  <a:srgbClr val="000000"/>
                </a:solidFill>
                <a:latin typeface="Times New Roman"/>
              </a:rPr>
              <a:t>: hop count before packet must be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ocol</a:t>
            </a:r>
            <a:r>
              <a:rPr b="0" lang="en-GB" sz="1200" spc="-1" strike="noStrike">
                <a:solidFill>
                  <a:srgbClr val="000000"/>
                </a:solidFill>
                <a:latin typeface="Times New Roman"/>
              </a:rPr>
              <a:t>: a number to identify the protocol that this datagram is carrying – TCP, UDP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eader checksum</a:t>
            </a:r>
            <a:r>
              <a:rPr b="0" lang="en-GB" sz="1200" spc="-1" strike="noStrike">
                <a:solidFill>
                  <a:srgbClr val="000000"/>
                </a:solidFill>
                <a:latin typeface="Times New Roman"/>
              </a:rPr>
              <a:t>: used to pick up transmission errors that might corrupt header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urce address</a:t>
            </a:r>
            <a:r>
              <a:rPr b="0" lang="en-GB" sz="1200" spc="-1" strike="noStrike">
                <a:solidFill>
                  <a:srgbClr val="000000"/>
                </a:solidFill>
                <a:latin typeface="Times New Roman"/>
              </a:rPr>
              <a:t> and </a:t>
            </a:r>
            <a:r>
              <a:rPr b="1" lang="en-GB" sz="1200" spc="-1" strike="noStrike">
                <a:solidFill>
                  <a:srgbClr val="000000"/>
                </a:solidFill>
                <a:latin typeface="Times New Roman"/>
              </a:rPr>
              <a:t>destination address</a:t>
            </a:r>
            <a:r>
              <a:rPr b="0" lang="en-GB" sz="1200" spc="-1" strike="noStrike">
                <a:solidFill>
                  <a:srgbClr val="000000"/>
                </a:solidFill>
                <a:latin typeface="Times New Roman"/>
              </a:rPr>
              <a:t>: IPv4 address of sender of datagram and IPv4 address of destination of datagram,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ptions</a:t>
            </a:r>
            <a:r>
              <a:rPr b="0" lang="en-GB" sz="1200" spc="-1" strike="noStrike">
                <a:solidFill>
                  <a:srgbClr val="000000"/>
                </a:solidFill>
                <a:latin typeface="Times New Roman"/>
              </a:rPr>
              <a:t>: rarely used (includes source route, record route and timestamp,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933480" y="731880"/>
            <a:ext cx="4876920" cy="3657600"/>
          </a:xfrm>
          <a:prstGeom prst="rect">
            <a:avLst/>
          </a:prstGeom>
          <a:ln w="0">
            <a:noFill/>
          </a:ln>
        </p:spPr>
      </p:sp>
      <p:sp>
        <p:nvSpPr>
          <p:cNvPr id="1774"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many possible routes from a source to a destination. We have to chose the “best” route – perhaps one which minimises the number of hops, though there are many other pos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irtually all cases, IP forwarding is done on a “</a:t>
            </a:r>
            <a:r>
              <a:rPr b="1" lang="en-US" sz="1200" spc="-1" strike="noStrike">
                <a:solidFill>
                  <a:srgbClr val="000000"/>
                </a:solidFill>
                <a:latin typeface="Times New Roman"/>
              </a:rPr>
              <a:t>hop-by-hop</a:t>
            </a:r>
            <a:r>
              <a:rPr b="0" lang="en-US" sz="1200" spc="-1" strike="noStrike">
                <a:solidFill>
                  <a:srgbClr val="000000"/>
                </a:solidFill>
                <a:latin typeface="Times New Roman"/>
              </a:rPr>
              <a:t>” basis. At no stage does any component attempt to work out the whole route from source to destination. Instead, each host and router works out just the </a:t>
            </a:r>
            <a:r>
              <a:rPr b="1" lang="en-US" sz="1200" spc="-1" strike="noStrike">
                <a:solidFill>
                  <a:srgbClr val="000000"/>
                </a:solidFill>
                <a:latin typeface="Times New Roman"/>
              </a:rPr>
              <a:t>next hop</a:t>
            </a:r>
            <a:r>
              <a:rPr b="0" lang="en-US" sz="1200" spc="-1" strike="noStrike">
                <a:solidFill>
                  <a:srgbClr val="000000"/>
                </a:solidFill>
                <a:latin typeface="Times New Roman"/>
              </a:rPr>
              <a:t> of the route and sends the datagram there. This is rather like setting out by car from London knowing only that the final destination is Glasgow. At every junction along the way we find a helpful local inhabitant, announce that we are going to Glasgow, and are told the way to go to the next j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op-by-hop approach tends to be robust. If a component breaks, the router nearest to the break will discover it and will begin routing packets differently. “Routing protocols” exist which enable routers periodically to exchange information about the state of the Internet and so vary their forwarding decisions. However, there are some disadvantages. If routing information is inconsistent we can have routing loops around which datagrams circulate for ever (in practice, they are automatically discarded after a while). Since each datagram is routed separately it is quite possible for one to overtake another and so be delivered out of ord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936720" y="731880"/>
            <a:ext cx="4876560" cy="3657600"/>
          </a:xfrm>
          <a:prstGeom prst="rect">
            <a:avLst/>
          </a:prstGeom>
          <a:ln w="0">
            <a:noFill/>
          </a:ln>
        </p:spPr>
      </p:sp>
      <p:sp>
        <p:nvSpPr>
          <p:cNvPr id="1776"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shows the first two hops from H</a:t>
            </a:r>
            <a:r>
              <a:rPr b="0" lang="en-US" sz="1200" spc="-1" strike="noStrike" baseline="-25000">
                <a:solidFill>
                  <a:srgbClr val="000000"/>
                </a:solidFill>
                <a:latin typeface="Times New Roman"/>
              </a:rPr>
              <a:t>4</a:t>
            </a:r>
            <a:r>
              <a:rPr b="0" lang="en-US" sz="1200" spc="-1" strike="noStrike">
                <a:solidFill>
                  <a:srgbClr val="000000"/>
                </a:solidFill>
                <a:latin typeface="Times New Roman"/>
              </a:rPr>
              <a:t> to H</a:t>
            </a:r>
            <a:r>
              <a:rPr b="0" lang="en-US" sz="1200" spc="-1" strike="noStrike" baseline="-25000">
                <a:solidFill>
                  <a:srgbClr val="000000"/>
                </a:solidFill>
                <a:latin typeface="Times New Roman"/>
              </a:rPr>
              <a:t>6</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ing table for H</a:t>
            </a:r>
            <a:r>
              <a:rPr b="0" lang="en-US" sz="1200" spc="-1" strike="noStrike" baseline="-25000">
                <a:solidFill>
                  <a:srgbClr val="000000"/>
                </a:solidFill>
                <a:latin typeface="Times New Roman"/>
              </a:rPr>
              <a:t>4</a:t>
            </a:r>
            <a:r>
              <a:rPr b="0" lang="en-US" sz="1200" spc="-1" strike="noStrike">
                <a:solidFill>
                  <a:srgbClr val="000000"/>
                </a:solidFill>
                <a:latin typeface="Times New Roman"/>
              </a:rPr>
              <a:t> is minimal; it just distinguishes between “local” (i.e. hosts on “my” IP network) and everything else. “Everything else” is sent to the default router – 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parts of 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s routing table are shown – there would probably be many more entries. The destination address (128.16.8.78) matches the third entry and results in the datagram being forwarded to 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936720" y="731880"/>
            <a:ext cx="4876560" cy="3657600"/>
          </a:xfrm>
          <a:prstGeom prst="rect">
            <a:avLst/>
          </a:prstGeom>
          <a:ln w="0">
            <a:noFill/>
          </a:ln>
        </p:spPr>
      </p:sp>
      <p:sp>
        <p:nvSpPr>
          <p:cNvPr id="1778"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shows the last hop from H</a:t>
            </a:r>
            <a:r>
              <a:rPr b="0" lang="en-US" sz="1200" spc="-1" strike="noStrike" baseline="-25000">
                <a:solidFill>
                  <a:srgbClr val="000000"/>
                </a:solidFill>
                <a:latin typeface="Times New Roman"/>
              </a:rPr>
              <a:t>4</a:t>
            </a:r>
            <a:r>
              <a:rPr b="0" lang="en-US" sz="1200" spc="-1" strike="noStrike">
                <a:solidFill>
                  <a:srgbClr val="000000"/>
                </a:solidFill>
                <a:latin typeface="Times New Roman"/>
              </a:rPr>
              <a:t> to H</a:t>
            </a:r>
            <a:r>
              <a:rPr b="0" lang="en-US" sz="1200" spc="-1" strike="noStrike" baseline="-25000">
                <a:solidFill>
                  <a:srgbClr val="000000"/>
                </a:solidFill>
                <a:latin typeface="Times New Roman"/>
              </a:rPr>
              <a:t>6</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parts of 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s routing table are shown – there would probably be many more entries. The destination address (128.16.8.78) matches the third entry which indicates a local transmis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934920" y="730080"/>
            <a:ext cx="4880160" cy="3660840"/>
          </a:xfrm>
          <a:prstGeom prst="rect">
            <a:avLst/>
          </a:prstGeom>
          <a:ln w="0">
            <a:noFill/>
          </a:ln>
        </p:spPr>
      </p:sp>
      <p:sp>
        <p:nvSpPr>
          <p:cNvPr id="1780" name="PlaceHolder 2"/>
          <p:cNvSpPr>
            <a:spLocks noGrp="1"/>
          </p:cNvSpPr>
          <p:nvPr>
            <p:ph type="body"/>
          </p:nvPr>
        </p:nvSpPr>
        <p:spPr>
          <a:xfrm>
            <a:off x="900000" y="4633560"/>
            <a:ext cx="4943520" cy="4389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traffic today is IP v4 there are certainly other possibilities (IP v6 for example). The receiving equipment needs a quick way of determining what is being carried so it can pass the contents to the appropriate processing hardware or software. Each protocol has been allocated a unique number and this is carried in some extra bytes which precede the IP datagram. Principally for historical reasons 8 bytes are added to achieve this termed the SNAP and LLC headers. The details are unimporta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934920" y="730080"/>
            <a:ext cx="4880160" cy="3660840"/>
          </a:xfrm>
          <a:prstGeom prst="rect">
            <a:avLst/>
          </a:prstGeom>
          <a:ln w="0">
            <a:noFill/>
          </a:ln>
        </p:spPr>
      </p:sp>
      <p:sp>
        <p:nvSpPr>
          <p:cNvPr id="1782" name="PlaceHolder 2"/>
          <p:cNvSpPr>
            <a:spLocks noGrp="1"/>
          </p:cNvSpPr>
          <p:nvPr>
            <p:ph type="body"/>
          </p:nvPr>
        </p:nvSpPr>
        <p:spPr>
          <a:xfrm>
            <a:off x="900000" y="4633560"/>
            <a:ext cx="4943520" cy="4389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frames (e.g. Ethernet) start with a </a:t>
            </a:r>
            <a:r>
              <a:rPr b="1" lang="en-US" sz="1200" spc="-1" strike="noStrike">
                <a:solidFill>
                  <a:srgbClr val="000000"/>
                </a:solidFill>
                <a:latin typeface="Times New Roman"/>
              </a:rPr>
              <a:t>MAC Header </a:t>
            </a:r>
            <a:r>
              <a:rPr b="0" lang="en-US" sz="1200" spc="-1" strike="noStrike">
                <a:solidFill>
                  <a:srgbClr val="000000"/>
                </a:solidFill>
                <a:latin typeface="Times New Roman"/>
              </a:rPr>
              <a:t>(which includes the source and destination MAC addresses)  and conclude with a CRC. IP encapsulation is simple – the datagram simply becomes the MAC pay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 is more complex since its frames are small and of constant length. We could “fragment” large IP datagrams into several smaller ones which would fit; but this would be inefficient since each fragment would need its own IP header. Instead a special mechanism is used – called “ATM Adaptation Layer 5” (AAL-5) which uses information in the ATM headers to indicate that successive ATM frames should be associated as a grou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33480" y="731880"/>
            <a:ext cx="4876920" cy="3657600"/>
          </a:xfrm>
          <a:prstGeom prst="rect">
            <a:avLst/>
          </a:prstGeom>
          <a:ln w="0">
            <a:noFill/>
          </a:ln>
        </p:spPr>
      </p:sp>
      <p:sp>
        <p:nvSpPr>
          <p:cNvPr id="174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et is a collection of </a:t>
            </a:r>
            <a:r>
              <a:rPr b="1" lang="en-GB" sz="1200" spc="-1" strike="noStrike">
                <a:solidFill>
                  <a:srgbClr val="000000"/>
                </a:solidFill>
                <a:latin typeface="Times New Roman"/>
              </a:rPr>
              <a:t>physical networks</a:t>
            </a:r>
            <a:r>
              <a:rPr b="0" lang="en-GB" sz="1200" spc="-1" strike="noStrike">
                <a:solidFill>
                  <a:srgbClr val="000000"/>
                </a:solidFill>
                <a:latin typeface="Times New Roman"/>
              </a:rPr>
              <a:t> connected together by </a:t>
            </a:r>
            <a:r>
              <a:rPr b="1" lang="en-GB" sz="1200" spc="-1" strike="noStrike">
                <a:solidFill>
                  <a:srgbClr val="000000"/>
                </a:solidFill>
                <a:latin typeface="Times New Roman"/>
              </a:rPr>
              <a:t>routers</a:t>
            </a:r>
            <a:r>
              <a:rPr b="0" lang="en-GB" sz="1200" spc="-1" strike="noStrike">
                <a:solidFill>
                  <a:srgbClr val="000000"/>
                </a:solidFill>
                <a:latin typeface="Times New Roman"/>
              </a:rPr>
              <a:t> and </a:t>
            </a:r>
            <a:r>
              <a:rPr b="1" lang="en-GB" sz="1200" spc="-1" strike="noStrike">
                <a:solidFill>
                  <a:srgbClr val="000000"/>
                </a:solidFill>
                <a:latin typeface="Times New Roman"/>
              </a:rPr>
              <a:t>point-to-point link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Networks – LANs, MANs, WANs – anything! (One of the strengths of the Intern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ter – a packet-switch designed to handle Internet Protocol (IP) datagra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to-to point links – cable, optical fibre, microw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a home user connected via ADSL.The “local loop” telephone wire is used to connect to a multiplexor (which will serve many users) at the telephone exchange. A high-capacity access network then connects to a router at the </a:t>
            </a:r>
            <a:r>
              <a:rPr b="1" lang="en-GB" sz="1200" spc="-1" strike="noStrike">
                <a:solidFill>
                  <a:srgbClr val="000000"/>
                </a:solidFill>
                <a:latin typeface="Times New Roman"/>
              </a:rPr>
              <a:t>Internet Service Provider</a:t>
            </a:r>
            <a:r>
              <a:rPr b="0" lang="en-GB" sz="1200" spc="-1" strike="noStrike">
                <a:solidFill>
                  <a:srgbClr val="000000"/>
                </a:solidFill>
                <a:latin typeface="Times New Roman"/>
              </a:rPr>
              <a:t> (ISP) site. This site will have servers connected by, for example, Gigabit Ethernet together with routers providing access to the rest of the Internet. Servers will probably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l server – receives and stores email on behalf of users who may not be connected at the time of delive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 server – perhaps including pages concerning the ISP’s ser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main Name Server – se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d “server” is used to mean a program implementing a service (e.g. the Apache WWW server) as well as the host on which the service runs. It is possible to run several server programs on one server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936720" y="731880"/>
            <a:ext cx="4876560" cy="3657600"/>
          </a:xfrm>
          <a:prstGeom prst="rect">
            <a:avLst/>
          </a:prstGeom>
          <a:ln w="0">
            <a:noFill/>
          </a:ln>
        </p:spPr>
      </p:sp>
      <p:sp>
        <p:nvSpPr>
          <p:cNvPr id="1784" name="PlaceHolder 2"/>
          <p:cNvSpPr>
            <a:spLocks noGrp="1"/>
          </p:cNvSpPr>
          <p:nvPr>
            <p:ph type="body"/>
          </p:nvPr>
        </p:nvSpPr>
        <p:spPr>
          <a:xfrm>
            <a:off x="900000" y="4633920"/>
            <a:ext cx="501984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ANs support a broadcast service. This is the basis for the </a:t>
            </a:r>
            <a:r>
              <a:rPr b="1" lang="en-US" sz="1200" spc="-1" strike="noStrike">
                <a:solidFill>
                  <a:srgbClr val="000000"/>
                </a:solidFill>
                <a:latin typeface="Times New Roman"/>
              </a:rPr>
              <a:t>LAN Address Resolution Protocol</a:t>
            </a:r>
            <a:r>
              <a:rPr b="0" lang="en-US" sz="1200" spc="-1" strike="noStrike">
                <a:solidFill>
                  <a:srgbClr val="000000"/>
                </a:solidFill>
                <a:latin typeface="Times New Roman"/>
              </a:rPr>
              <a:t> (</a:t>
            </a:r>
            <a:r>
              <a:rPr b="1" lang="en-US" sz="1200" spc="-1" strike="noStrike">
                <a:solidFill>
                  <a:srgbClr val="000000"/>
                </a:solidFill>
                <a:latin typeface="Times New Roman"/>
              </a:rPr>
              <a:t>AR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P host (or router) begins by knowing the IP address of the host to which it wants to send a datagram (128.16.8.177 in the slide). It broadcasts an ARP request messages which contains the following information (refer to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I am IP address 128.16.8.135, Ethernet address 08:00:20:0d:5a:4b. What is the Ethernet address of 128.16.8.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hosts receive this message and hence learn the address mapping for the requestor – a useful side-effect of ARP. One host recognises its IP address and responds with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I am IP address 128.16.8.177, Ethernet address 08:00:20:0d:23: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is not broad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estor can now construct an Ethernet frame with destination address 08:00:20:0d:23:34 the data part of which will be an IP datagram with destination address 128.16.8.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appings are cached so that ARP generally has to be used only for the first datagram sent. However, we cannot assume that mappings will be constant for evermore – a new Ethernet card might be installed for example. Thus mappings are timed out if not refreshed and are subsequently re-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938160" y="731880"/>
            <a:ext cx="4875120" cy="3655800"/>
          </a:xfrm>
          <a:prstGeom prst="rect">
            <a:avLst/>
          </a:prstGeom>
          <a:ln w="0">
            <a:noFill/>
          </a:ln>
        </p:spPr>
      </p:sp>
      <p:sp>
        <p:nvSpPr>
          <p:cNvPr id="178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network technologies support broadcast. In such cases a server machine is needed to store AR mappings. Before sending an IP datagram hosts must consult the server to obtain the physical addresses which corresponds to the IP address. Results are cached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re is some mechanism whereby the server learns mappings. For example, hosts may provide their own IP-&gt;physical address mappings at start-up or when they send a reques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933480" y="731880"/>
            <a:ext cx="4876920" cy="3657600"/>
          </a:xfrm>
          <a:prstGeom prst="rect">
            <a:avLst/>
          </a:prstGeom>
          <a:ln w="0">
            <a:noFill/>
          </a:ln>
        </p:spPr>
      </p:sp>
      <p:sp>
        <p:nvSpPr>
          <p:cNvPr id="1788"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P protocol does not attempt very much – no error control, flow control etc. It just aims to deliver packets with a reasonable success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simple, it is easy to implement on different network technologies. Mappings are defined for LANs, WANs, serial lines etc. We can think of these technologies as “underlying” IP. IP is a user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is used by applications. Many of these, like the WWW for example, require reliable, sequenced delivery. Rather than have each application implement its own ARQ procedures a common protocol, TCP, is used to provide this. TCP is an example off a “Transport Protocol”. TCP uses IP to convey its “Protocol Data Units” (PDU). The applications use TCP to convey</a:t>
            </a:r>
            <a:r>
              <a:rPr b="0" i="1" lang="en-US" sz="1200" spc="-1" strike="noStrike">
                <a:solidFill>
                  <a:srgbClr val="000000"/>
                </a:solidFill>
                <a:latin typeface="Times New Roman"/>
              </a:rPr>
              <a:t> their</a:t>
            </a:r>
            <a:r>
              <a:rPr b="0" lang="en-US" sz="1200" spc="-1" strike="noStrike">
                <a:solidFill>
                  <a:srgbClr val="000000"/>
                </a:solidFill>
                <a:latin typeface="Times New Roman"/>
              </a:rPr>
              <a:t> PD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pplications do not require reliable, sequenced delivery. These may use an alternative Transport Protocol – U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ransport Protocols reside in the end-systems. The network (routers etc.) pays them no attention apart from carrying their PDUs from place to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933480" y="731880"/>
            <a:ext cx="4876920" cy="3657600"/>
          </a:xfrm>
          <a:prstGeom prst="rect">
            <a:avLst/>
          </a:prstGeom>
          <a:ln w="0">
            <a:noFill/>
          </a:ln>
        </p:spPr>
      </p:sp>
      <p:sp>
        <p:nvSpPr>
          <p:cNvPr id="179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was first specified in the late 1970s. It is quite a complex protocol using ARQ for error control and a window-based mechanism for flow control. The receiver can vary the window in order to control the rate at which the transmitter may send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DUs consist of a header + data. The header contains the sequence and acknowledgement numbers, the window values and the source and destination port numbers (see next slide). TCP PDUs become the data part of IP datagrams when they are 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connection oriented”. The originator starts by sending a special PDU (called a SYN for “synchronise”) proposing a new connection. The receiver can accept or reject the connection. Once the connection is set up, data can be sent. Finally, one end will send a FIN PDU (“final”) proposing that the connection be termina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933480" y="731880"/>
            <a:ext cx="4876920" cy="3657600"/>
          </a:xfrm>
          <a:prstGeom prst="rect">
            <a:avLst/>
          </a:prstGeom>
          <a:ln w="0">
            <a:noFill/>
          </a:ln>
        </p:spPr>
      </p:sp>
      <p:sp>
        <p:nvSpPr>
          <p:cNvPr id="1792"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es identify hosts (more precisely they identify the host interface to the network). We need also to identify a particular service or process present on the host. This is achieved with the help of TCP/UDP ports. There is a close analogy with telephone extensions; the telephone number identifies the building, the extension number identifies an individual within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analogy is not quite exact. There can be two processes receiving datagrams on the same port (e.g. port 80 in the slide). This can happen when a particular service is provided by multiple processes. When a datagram arrives, s/w in the OS will look at the source and destination ports as well as the source and destination IP addresses in order to determine to which process it should deliver the datagram’s cont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933480" y="731880"/>
            <a:ext cx="4876920" cy="3657600"/>
          </a:xfrm>
          <a:prstGeom prst="rect">
            <a:avLst/>
          </a:prstGeom>
          <a:ln w="0">
            <a:noFill/>
          </a:ln>
        </p:spPr>
      </p:sp>
      <p:sp>
        <p:nvSpPr>
          <p:cNvPr id="1794"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ervices usually use “well-known” ports (see slide). When a browser sets up a connection to a WWW server it must send a TCP SYN PDU with the destination port set to 80. The operating system on the server will have a table which tells it that port 80 belongs to the WWW server process. It will ensure the the WWW server process is informed about the new connection and takes responsibility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port in the SYN PDU will have been chosen by the client host to be different from any other local ports it is currently using. Responses from the server will swap the source and destination ports from the reque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933480" y="731880"/>
            <a:ext cx="4876920" cy="3657600"/>
          </a:xfrm>
          <a:prstGeom prst="rect">
            <a:avLst/>
          </a:prstGeom>
          <a:ln w="0">
            <a:noFill/>
          </a:ln>
        </p:spPr>
      </p:sp>
      <p:sp>
        <p:nvSpPr>
          <p:cNvPr id="1796"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does not suit all applications. For example Voice over IP (VoIP) suffers when jitter is high. Unfortunately, ARQ procedures, such as those in TCP, </a:t>
            </a:r>
            <a:r>
              <a:rPr b="0" i="1" lang="en-US" sz="1200" spc="-1" strike="noStrike">
                <a:solidFill>
                  <a:srgbClr val="000000"/>
                </a:solidFill>
                <a:latin typeface="Times New Roman"/>
              </a:rPr>
              <a:t>increase</a:t>
            </a:r>
            <a:r>
              <a:rPr b="0" lang="en-US" sz="1200" spc="-1" strike="noStrike">
                <a:solidFill>
                  <a:srgbClr val="000000"/>
                </a:solidFill>
                <a:latin typeface="Times New Roman"/>
              </a:rPr>
              <a:t> jitter since they introduce occasional very large delays when re-transmitting. A voice application would prefer these lost packets to be lost for ever rather than have to deal with the increased jitter. Losing one packet (ie. about 50ms of speech) will not be especially disruptive to a liste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e want an alternative to TCP which does not use ARQ procedures. In the Internet, this is the “</a:t>
            </a:r>
            <a:r>
              <a:rPr b="1" lang="en-US" sz="1200" spc="-1" strike="noStrike">
                <a:solidFill>
                  <a:srgbClr val="000000"/>
                </a:solidFill>
                <a:latin typeface="Times New Roman"/>
              </a:rPr>
              <a:t>User Datagram Protocol</a:t>
            </a:r>
            <a:r>
              <a:rPr b="0" lang="en-US" sz="1200" spc="-1" strike="noStrike">
                <a:solidFill>
                  <a:srgbClr val="000000"/>
                </a:solidFill>
                <a:latin typeface="Times New Roman"/>
              </a:rPr>
              <a:t>” (</a:t>
            </a:r>
            <a:r>
              <a:rPr b="1" lang="en-US" sz="1200" spc="-1" strike="noStrike">
                <a:solidFill>
                  <a:srgbClr val="000000"/>
                </a:solidFill>
                <a:latin typeface="Times New Roman"/>
              </a:rPr>
              <a:t>UDP</a:t>
            </a:r>
            <a:r>
              <a:rPr b="0" lang="en-US" sz="1200" spc="-1" strike="noStrike">
                <a:solidFill>
                  <a:srgbClr val="000000"/>
                </a:solidFill>
                <a:latin typeface="Times New Roman"/>
              </a:rPr>
              <a:t>). UDP adds nothing to the basic IP service; thus UDP datagrams may be lost, delivered out of sequence etc. However UDP does have a small header which includes ports which are used in the manner previously described for TC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33480" y="731880"/>
            <a:ext cx="4876920" cy="3657600"/>
          </a:xfrm>
          <a:prstGeom prst="rect">
            <a:avLst/>
          </a:prstGeom>
          <a:ln w="0">
            <a:noFill/>
          </a:ln>
        </p:spPr>
      </p:sp>
      <p:sp>
        <p:nvSpPr>
          <p:cNvPr id="1750" name="PlaceHolder 2"/>
          <p:cNvSpPr>
            <a:spLocks noGrp="1"/>
          </p:cNvSpPr>
          <p:nvPr>
            <p:ph type="body"/>
          </p:nvPr>
        </p:nvSpPr>
        <p:spPr>
          <a:xfrm>
            <a:off x="900000" y="4633920"/>
            <a:ext cx="4943520" cy="4387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lide the ISP has a router giving access to the rest of the Internet via a point-to-point link to a </a:t>
            </a:r>
            <a:r>
              <a:rPr b="1" lang="en-GB" sz="1200" spc="-1" strike="noStrike">
                <a:solidFill>
                  <a:srgbClr val="000000"/>
                </a:solidFill>
                <a:latin typeface="Times New Roman"/>
              </a:rPr>
              <a:t>transit network </a:t>
            </a:r>
            <a:r>
              <a:rPr b="0" lang="en-GB" sz="1200" spc="-1" strike="noStrike">
                <a:solidFill>
                  <a:srgbClr val="000000"/>
                </a:solidFill>
                <a:latin typeface="Times New Roman"/>
              </a:rPr>
              <a:t>which might serve a region or country. The transit network will probably be owned by a different company. There will have to be a commercial agreement under which the transit network agrees to carry the ISP’s traffic. Not all ISP’s are equal. Some have rather congested links to the rest of the Internet and provide a poor service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art of the Internet are the backbone </a:t>
            </a:r>
            <a:r>
              <a:rPr b="1" lang="en-GB" sz="1200" spc="-1" strike="noStrike">
                <a:solidFill>
                  <a:srgbClr val="000000"/>
                </a:solidFill>
                <a:latin typeface="Times New Roman"/>
              </a:rPr>
              <a:t>networks mainly</a:t>
            </a:r>
            <a:r>
              <a:rPr b="0" lang="en-GB" sz="1200" spc="-1" strike="noStrike">
                <a:solidFill>
                  <a:srgbClr val="000000"/>
                </a:solidFill>
                <a:latin typeface="Times New Roman"/>
              </a:rPr>
              <a:t> in the USA. These are very high capacity networks which carry traffic between transit networks. Once more these are owned by separate (rival?) organisations so commercial agreements will b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interface between a host or router and the Internet has an </a:t>
            </a:r>
            <a:r>
              <a:rPr b="1" lang="en-GB" sz="1200" spc="-1" strike="noStrike">
                <a:solidFill>
                  <a:srgbClr val="000000"/>
                </a:solidFill>
                <a:latin typeface="Times New Roman"/>
              </a:rPr>
              <a:t>IP address</a:t>
            </a:r>
            <a:r>
              <a:rPr b="0" lang="en-GB" sz="1200" spc="-1" strike="noStrike">
                <a:solidFill>
                  <a:srgbClr val="000000"/>
                </a:solidFill>
                <a:latin typeface="Times New Roman"/>
              </a:rPr>
              <a:t> – e.g. 129.16.3.1. These addresses appear in the headers of IP datagrams and are used by routers to determine to where a datagram should be sent next. </a:t>
            </a:r>
            <a:r>
              <a:rPr b="1" lang="en-GB" sz="1200" spc="-1" strike="noStrike">
                <a:solidFill>
                  <a:srgbClr val="000000"/>
                </a:solidFill>
                <a:latin typeface="Times New Roman"/>
              </a:rPr>
              <a:t>Each router makes an independent decision as to where to send the datagram next.</a:t>
            </a:r>
            <a:r>
              <a:rPr b="0" lang="en-GB" sz="1200" spc="-1" strike="noStrike">
                <a:solidFill>
                  <a:srgbClr val="000000"/>
                </a:solidFill>
                <a:latin typeface="Times New Roman"/>
              </a:rPr>
              <a:t> Normally a client starts with a </a:t>
            </a:r>
            <a:r>
              <a:rPr b="1" lang="en-GB" sz="1200" spc="-1" strike="noStrike">
                <a:solidFill>
                  <a:srgbClr val="000000"/>
                </a:solidFill>
                <a:latin typeface="Times New Roman"/>
              </a:rPr>
              <a:t>domain name</a:t>
            </a:r>
            <a:r>
              <a:rPr b="0" lang="en-GB" sz="1200" spc="-1" strike="noStrike">
                <a:solidFill>
                  <a:srgbClr val="000000"/>
                </a:solidFill>
                <a:latin typeface="Times New Roman"/>
              </a:rPr>
              <a:t> like www.foo.com. This must be mapped to an address. The Internet has a </a:t>
            </a:r>
            <a:r>
              <a:rPr b="1" lang="en-GB" sz="1200" spc="-1" strike="noStrike">
                <a:solidFill>
                  <a:srgbClr val="000000"/>
                </a:solidFill>
                <a:latin typeface="Times New Roman"/>
              </a:rPr>
              <a:t>Domain Name Service</a:t>
            </a:r>
            <a:r>
              <a:rPr b="0" lang="en-GB" sz="1200" spc="-1" strike="noStrike">
                <a:solidFill>
                  <a:srgbClr val="000000"/>
                </a:solidFill>
                <a:latin typeface="Times New Roman"/>
              </a:rPr>
              <a:t> (DNS) to perform this task automatically. Communication usually begins with a message to the ISP’s DNS server asking for a mapping. If this is successful, the client now has an address which can be put in the header of an IP datagram which can be launched towards its desti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36720" y="731880"/>
            <a:ext cx="4876560" cy="3657600"/>
          </a:xfrm>
          <a:prstGeom prst="rect">
            <a:avLst/>
          </a:prstGeom>
          <a:ln w="0">
            <a:noFill/>
          </a:ln>
        </p:spPr>
      </p:sp>
      <p:sp>
        <p:nvSpPr>
          <p:cNvPr id="1752"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we need names and addresses? In the context of data communications, the answer is that names are that a) relatively permanent and are used by humans and b) addresses are, potentially, changeable and are used directly by communications hardware and software. So, we need a service (much like a telephone directory) that will map between names and IP addresses and this is the </a:t>
            </a:r>
            <a:r>
              <a:rPr b="1" lang="en-GB" sz="1200" spc="-1" strike="noStrike">
                <a:solidFill>
                  <a:srgbClr val="000000"/>
                </a:solidFill>
                <a:latin typeface="Times New Roman"/>
              </a:rPr>
              <a:t>Domain Name System (DNS)</a:t>
            </a:r>
            <a:r>
              <a:rPr b="0" lang="en-GB" sz="1200" spc="-1" strike="noStrike">
                <a:solidFill>
                  <a:srgbClr val="000000"/>
                </a:solidFill>
                <a:latin typeface="Times New Roman"/>
              </a:rPr>
              <a:t>. A heavily pruned portion of the DNS naming tree is shown. Each node (leaf or non-leaf) represents a </a:t>
            </a:r>
            <a:r>
              <a:rPr b="1" lang="en-GB" sz="1200" spc="-1" strike="noStrike">
                <a:solidFill>
                  <a:srgbClr val="000000"/>
                </a:solidFill>
                <a:latin typeface="Times New Roman"/>
              </a:rPr>
              <a:t>domain</a:t>
            </a:r>
            <a:r>
              <a:rPr b="0" lang="en-GB" sz="1200" spc="-1" strike="noStrike">
                <a:solidFill>
                  <a:srgbClr val="000000"/>
                </a:solidFill>
                <a:latin typeface="Times New Roman"/>
              </a:rPr>
              <a:t> which consists of itself and all the nodes in the sub-tree beneath it. A </a:t>
            </a:r>
            <a:r>
              <a:rPr b="1" lang="en-GB" sz="1200" spc="-1" strike="noStrike">
                <a:solidFill>
                  <a:srgbClr val="000000"/>
                </a:solidFill>
                <a:latin typeface="Times New Roman"/>
              </a:rPr>
              <a:t>Fully Qualified Domain Name (FQDN)</a:t>
            </a:r>
            <a:r>
              <a:rPr b="0" lang="en-GB" sz="1200" spc="-1" strike="noStrike">
                <a:solidFill>
                  <a:srgbClr val="000000"/>
                </a:solidFill>
                <a:latin typeface="Times New Roman"/>
              </a:rPr>
              <a:t> is a concatenation of the </a:t>
            </a:r>
            <a:r>
              <a:rPr b="1" lang="en-GB" sz="1200" spc="-1" strike="noStrike">
                <a:solidFill>
                  <a:srgbClr val="000000"/>
                </a:solidFill>
                <a:latin typeface="Times New Roman"/>
              </a:rPr>
              <a:t>labels</a:t>
            </a:r>
            <a:r>
              <a:rPr b="0" lang="en-GB" sz="1200" spc="-1" strike="noStrike">
                <a:solidFill>
                  <a:srgbClr val="000000"/>
                </a:solidFill>
                <a:latin typeface="Times New Roman"/>
              </a:rPr>
              <a:t> on the path from a node all the way back to the root, for example </a:t>
            </a:r>
            <a:r>
              <a:rPr b="0" i="1" lang="en-GB" sz="1200" spc="-1" strike="noStrike">
                <a:solidFill>
                  <a:srgbClr val="000000"/>
                </a:solidFill>
                <a:latin typeface="Times New Roman"/>
              </a:rPr>
              <a:t>darhu.cs.ucl.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hority to allocate names is delegated. The authority for a zone is responsible for ensuring that no two sibling nodes it administers have the same name. It is clear that, provided this is done, there will be global uniqueness of DNS names. The top-level domains include the world-wide generic domains (</a:t>
            </a:r>
            <a:r>
              <a:rPr b="0" i="1" lang="en-GB" sz="1200" spc="-1" strike="noStrike">
                <a:solidFill>
                  <a:srgbClr val="000000"/>
                </a:solidFill>
                <a:latin typeface="Times New Roman"/>
              </a:rPr>
              <a:t>com</a:t>
            </a:r>
            <a:r>
              <a:rPr b="0" lang="en-GB" sz="1200" spc="-1" strike="noStrike">
                <a:solidFill>
                  <a:srgbClr val="000000"/>
                </a:solidFill>
                <a:latin typeface="Times New Roman"/>
              </a:rPr>
              <a:t>, </a:t>
            </a:r>
            <a:r>
              <a:rPr b="0" i="1" lang="en-GB" sz="1200" spc="-1" strike="noStrike">
                <a:solidFill>
                  <a:srgbClr val="000000"/>
                </a:solidFill>
                <a:latin typeface="Times New Roman"/>
              </a:rPr>
              <a:t>org</a:t>
            </a:r>
            <a:r>
              <a:rPr b="0" lang="en-GB" sz="1200" spc="-1" strike="noStrike">
                <a:solidFill>
                  <a:srgbClr val="000000"/>
                </a:solidFill>
                <a:latin typeface="Times New Roman"/>
              </a:rPr>
              <a:t>, </a:t>
            </a:r>
            <a:r>
              <a:rPr b="0" i="1" lang="en-GB" sz="1200" spc="-1" strike="noStrike">
                <a:solidFill>
                  <a:srgbClr val="000000"/>
                </a:solidFill>
                <a:latin typeface="Times New Roman"/>
              </a:rPr>
              <a:t>net</a:t>
            </a:r>
            <a:r>
              <a:rPr b="0" lang="en-GB" sz="1200" spc="-1" strike="noStrike">
                <a:solidFill>
                  <a:srgbClr val="000000"/>
                </a:solidFill>
                <a:latin typeface="Times New Roman"/>
              </a:rPr>
              <a:t>, </a:t>
            </a:r>
            <a:r>
              <a:rPr b="0" i="1" lang="en-GB" sz="1200" spc="-1" strike="noStrike">
                <a:solidFill>
                  <a:srgbClr val="000000"/>
                </a:solidFill>
                <a:latin typeface="Times New Roman"/>
              </a:rPr>
              <a:t>edu</a:t>
            </a:r>
            <a:r>
              <a:rPr b="0" lang="en-GB" sz="1200" spc="-1" strike="noStrike">
                <a:solidFill>
                  <a:srgbClr val="000000"/>
                </a:solidFill>
                <a:latin typeface="Times New Roman"/>
              </a:rPr>
              <a:t> etc.) and country code domains (e.g., </a:t>
            </a:r>
            <a:r>
              <a:rPr b="0" i="1" lang="en-GB" sz="1200" spc="-1" strike="noStrike">
                <a:solidFill>
                  <a:srgbClr val="000000"/>
                </a:solidFill>
                <a:latin typeface="Times New Roman"/>
              </a:rPr>
              <a:t>us</a:t>
            </a:r>
            <a:r>
              <a:rPr b="0" lang="en-GB" sz="1200" spc="-1" strike="noStrike">
                <a:solidFill>
                  <a:srgbClr val="000000"/>
                </a:solidFill>
                <a:latin typeface="Times New Roman"/>
              </a:rPr>
              <a:t> for the United States, </a:t>
            </a:r>
            <a:r>
              <a:rPr b="0" i="1" lang="en-GB" sz="1200" spc="-1" strike="noStrike">
                <a:solidFill>
                  <a:srgbClr val="000000"/>
                </a:solidFill>
                <a:latin typeface="Times New Roman"/>
              </a:rPr>
              <a:t>uk</a:t>
            </a:r>
            <a:r>
              <a:rPr b="0" lang="en-GB" sz="1200" spc="-1" strike="noStrike">
                <a:solidFill>
                  <a:srgbClr val="000000"/>
                </a:solidFill>
                <a:latin typeface="Times New Roman"/>
              </a:rPr>
              <a:t> for the United Kingdom,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ough the DNS name-space and the IP address-space both involve hierarchies, these are completely independent. </a:t>
            </a:r>
            <a:r>
              <a:rPr b="0" lang="en-GB" sz="1200" spc="-1" strike="noStrike">
                <a:solidFill>
                  <a:srgbClr val="000000"/>
                </a:solidFill>
                <a:latin typeface="Times New Roman"/>
              </a:rPr>
              <a:t>Because two hosts have similar domain names does not imply they have similar IP addresses and </a:t>
            </a:r>
            <a:r>
              <a:rPr b="0" i="1" lang="en-GB" sz="1200" spc="-1" strike="noStrike">
                <a:solidFill>
                  <a:srgbClr val="000000"/>
                </a:solidFill>
                <a:latin typeface="Times New Roman"/>
              </a:rPr>
              <a:t>vice-versa</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36720" y="731880"/>
            <a:ext cx="4876560" cy="3657600"/>
          </a:xfrm>
          <a:prstGeom prst="rect">
            <a:avLst/>
          </a:prstGeom>
          <a:ln w="0">
            <a:noFill/>
          </a:ln>
        </p:spPr>
      </p:sp>
      <p:sp>
        <p:nvSpPr>
          <p:cNvPr id="1754" name="PlaceHolder 2"/>
          <p:cNvSpPr>
            <a:spLocks noGrp="1"/>
          </p:cNvSpPr>
          <p:nvPr>
            <p:ph type="body"/>
          </p:nvPr>
        </p:nvSpPr>
        <p:spPr>
          <a:xfrm>
            <a:off x="900000" y="4633920"/>
            <a:ext cx="4943520" cy="438768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to the name-mapping problem is to maintain a table mapping names to addresses and to make this available across the Internet. It makes no sense to postulate a single server for the whole Internet, therefore we need a distributed service with multiple servers. The DNS protocol allows hosts to query these mappings and so to map names onto addresses. Local DNS servers hold mappings for local machines and answer queries for these directly. Non local names are passed on to other DNS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different modes in which DNS look-ups can operate. Steps 2 and 3 show the </a:t>
            </a:r>
            <a:r>
              <a:rPr b="0" i="1" lang="en-GB" sz="1200" spc="-1" strike="noStrike">
                <a:solidFill>
                  <a:srgbClr val="000000"/>
                </a:solidFill>
                <a:latin typeface="Times New Roman"/>
              </a:rPr>
              <a:t>iterative</a:t>
            </a:r>
            <a:r>
              <a:rPr b="0" lang="en-GB" sz="1200" spc="-1" strike="noStrike">
                <a:solidFill>
                  <a:srgbClr val="000000"/>
                </a:solidFill>
                <a:latin typeface="Times New Roman"/>
              </a:rPr>
              <a:t> mode; the </a:t>
            </a:r>
            <a:r>
              <a:rPr b="0" i="1" lang="en-GB" sz="1200" spc="-1" strike="noStrike">
                <a:solidFill>
                  <a:srgbClr val="000000"/>
                </a:solidFill>
                <a:latin typeface="Times New Roman"/>
              </a:rPr>
              <a:t>root</a:t>
            </a:r>
            <a:r>
              <a:rPr b="0" lang="en-GB" sz="1200" spc="-1" strike="noStrike">
                <a:solidFill>
                  <a:srgbClr val="000000"/>
                </a:solidFill>
                <a:latin typeface="Times New Roman"/>
              </a:rPr>
              <a:t> nameserver does not answer the query but refers its questioner to a different nameserver. Steps 1, 4, 5 and 6 show </a:t>
            </a:r>
            <a:r>
              <a:rPr b="0" i="1" lang="en-GB" sz="1200" spc="-1" strike="noStrike">
                <a:solidFill>
                  <a:srgbClr val="000000"/>
                </a:solidFill>
                <a:latin typeface="Times New Roman"/>
              </a:rPr>
              <a:t>recursive</a:t>
            </a:r>
            <a:r>
              <a:rPr b="0" lang="en-GB" sz="1200" spc="-1" strike="noStrike">
                <a:solidFill>
                  <a:srgbClr val="000000"/>
                </a:solidFill>
                <a:latin typeface="Times New Roman"/>
              </a:rPr>
              <a:t> mode; the client sees only a request and response, the local nameserver has taken the responsibility of passing the query on. The local nameserver will cache the result of the query so that, next time around, we will see, at most, steps 1 and 6. Some implementations cache results in the client as well. In such cases, there would be no network activity at all for the second and subsequent look-ups. As with all caching strategies, there is a danger that the cached information will become out-of-date, so a timeout is used. In addition to this, nameserver responses always contain a flag to indicate whether they are </a:t>
            </a:r>
            <a:r>
              <a:rPr b="0" i="1" lang="en-GB" sz="1200" spc="-1" strike="noStrike">
                <a:solidFill>
                  <a:srgbClr val="000000"/>
                </a:solidFill>
                <a:latin typeface="Times New Roman"/>
              </a:rPr>
              <a:t>authoritative</a:t>
            </a:r>
            <a:r>
              <a:rPr b="0" lang="en-GB" sz="1200" spc="-1" strike="noStrike">
                <a:solidFill>
                  <a:srgbClr val="000000"/>
                </a:solidFill>
                <a:latin typeface="Times New Roman"/>
              </a:rPr>
              <a:t> - i.e. whether they come direct from a primary nameserver. It is possible for a client to insist in a query that an authoritative response be provi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938160" y="731880"/>
            <a:ext cx="4875120" cy="3655800"/>
          </a:xfrm>
          <a:prstGeom prst="rect">
            <a:avLst/>
          </a:prstGeom>
          <a:ln w="0">
            <a:noFill/>
          </a:ln>
        </p:spPr>
      </p:sp>
      <p:sp>
        <p:nvSpPr>
          <p:cNvPr id="1756"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networks are logical concepts. An IP network may be 1-1 with a real network but may also encompass several real networks. Also, it is possible to partition one real network into several IP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networks are defined by the addresses allocated to the interfaces attached to it. All interfaces in one IP network must share the same network pref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ents above apply equally if the phrase “IP network” is replaced by either “IP subnet” or IP supernet”. “IP network” and “IP subnet” are now used interchangeab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938160" y="731880"/>
            <a:ext cx="4875120" cy="3655800"/>
          </a:xfrm>
          <a:prstGeom prst="rect">
            <a:avLst/>
          </a:prstGeom>
          <a:ln w="0">
            <a:noFill/>
          </a:ln>
        </p:spPr>
      </p:sp>
      <p:sp>
        <p:nvSpPr>
          <p:cNvPr id="1758"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implest case. Many LAN hosts are configured like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938160" y="731880"/>
            <a:ext cx="4875120" cy="3655800"/>
          </a:xfrm>
          <a:prstGeom prst="rect">
            <a:avLst/>
          </a:prstGeom>
          <a:ln w="0">
            <a:noFill/>
          </a:ln>
        </p:spPr>
      </p:sp>
      <p:sp>
        <p:nvSpPr>
          <p:cNvPr id="1760"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has its own addressing scheme and packet format. </a:t>
            </a:r>
            <a:r>
              <a:rPr b="1" lang="en-US" sz="1200" spc="-1" strike="noStrike">
                <a:solidFill>
                  <a:srgbClr val="000000"/>
                </a:solidFill>
                <a:latin typeface="Times New Roman"/>
              </a:rPr>
              <a:t>So does every networking technology and their schemes are different from IP’s. It is vital to keep thi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ful analogy is to think of each networking technology as providing it’s own style of envelopes and it’s own addresses (often referred to as “physical addresses”). In order to send an IP datagram we have to place it in an appropriate envelope (“encapsulation”) and write the correct type of address upon it. The process of discovering the physical address which corresponds to a particular IP address is called “address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networking technology a standard has been defined which specifies how the encapsulation and address resolution should be d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938160" y="731880"/>
            <a:ext cx="4875120" cy="3655800"/>
          </a:xfrm>
          <a:prstGeom prst="rect">
            <a:avLst/>
          </a:prstGeom>
          <a:ln w="0">
            <a:noFill/>
          </a:ln>
        </p:spPr>
      </p:sp>
      <p:sp>
        <p:nvSpPr>
          <p:cNvPr id="1762" name="PlaceHolder 2"/>
          <p:cNvSpPr>
            <a:spLocks noGrp="1"/>
          </p:cNvSpPr>
          <p:nvPr>
            <p:ph type="body"/>
          </p:nvPr>
        </p:nvSpPr>
        <p:spPr>
          <a:xfrm>
            <a:off x="900000" y="4632480"/>
            <a:ext cx="4943520" cy="43891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v4 address allocations are (ultimately) controlled by the Internet Assigned Numbers Authority (IANA) in the US. Other bodies, such as Réseaux IP Européens (RIPE), control allocation in particular geographical regions. ISPs and backbone network providers get their IP addresses from bodies such as RIPE. Other users get their addresses from their I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addresses are allocated to ISPs who then allocate them to customers. Allocations cannot be arbitrary. Blocks must be allocated with a common network prefix otherwise IP routing will not 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D9A9C-D2C5-4797-9D5E-7C63F641A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5998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155FD-2036-4CC3-B6E6-17D4B391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91D1A-100D-4AD9-BAB7-75A42F550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5998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40676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49584-584E-47D5-8F40-2201F747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DD6A-16BC-484A-A27F-7BE460B9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4AC3-A5C0-47B3-93A8-9E99B164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B825-F996-4383-9081-DEAA530BD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3B16B-0665-4E86-B33B-3188C8C6A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DA15C-7295-4962-8B87-7CE7901C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D4E48-29AE-41A1-9814-9D1BA887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8E18-87EC-412C-BAC6-FB66F887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804B9-4AA8-43F5-8B83-A03546497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9176-7F2A-4503-A353-C73B06A4EEC9}" type="datetime5">
              <a:rPr b="0"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8BE0-5614-4EF7-90CC-A0BAFC25D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png"/><Relationship Id="rId5" Type="http://schemas.openxmlformats.org/officeDocument/2006/relationships/package" Target="../embeddings/oleObject3.docx"/><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hyperlink" Target="http://www.foo.co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99"/>
                </a:solidFill>
                <a:latin typeface="Arial"/>
              </a:rPr>
              <a:t>Internetworking and the Internet</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930240" y="3886200"/>
            <a:ext cx="695952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33cc"/>
                </a:solidFill>
                <a:latin typeface="Arial"/>
              </a:rPr>
              <a:t>Graham Knight (G.Knight@cs.ucl.ac.uk)</a:t>
            </a:r>
            <a:br>
              <a:rPr sz="2800"/>
            </a:b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2]</a:t>
            </a:r>
            <a:endParaRPr b="1" lang="en-US" sz="3600" spc="-1" strike="noStrike">
              <a:solidFill>
                <a:srgbClr val="336699"/>
              </a:solidFill>
              <a:latin typeface="Times New Roman"/>
            </a:endParaRPr>
          </a:p>
        </p:txBody>
      </p:sp>
      <p:sp>
        <p:nvSpPr>
          <p:cNvPr id="908"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an be further subdivided. E.g.</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f you own 192.168.0.128/25</a:t>
            </a:r>
            <a:endParaRPr b="0" lang="en-US" sz="2000" spc="-1" strike="noStrike">
              <a:solidFill>
                <a:srgbClr val="0033cc"/>
              </a:solidFill>
              <a:latin typeface="Times New Roman"/>
            </a:endParaRPr>
          </a:p>
          <a:p>
            <a:pPr lvl="1" marL="76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1100000010101000000000001</a:t>
            </a:r>
            <a:r>
              <a:rPr b="1" lang="en-US" sz="1800" spc="-1" strike="noStrike">
                <a:solidFill>
                  <a:srgbClr val="0033cc"/>
                </a:solidFill>
                <a:latin typeface="Courier New"/>
              </a:rPr>
              <a:t>.......</a:t>
            </a:r>
            <a:endParaRPr b="0" lang="en-US" sz="18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uld allocate 2 more bits to network prefix</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28/27 (</a:t>
            </a:r>
            <a:r>
              <a:rPr b="1" lang="en-US" sz="1800" spc="-1" strike="noStrike">
                <a:solidFill>
                  <a:srgbClr val="0033cc"/>
                </a:solidFill>
                <a:latin typeface="Courier New"/>
              </a:rPr>
              <a:t>100</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60/27 (</a:t>
            </a:r>
            <a:r>
              <a:rPr b="1" lang="en-US" sz="1800" spc="-1" strike="noStrike">
                <a:solidFill>
                  <a:srgbClr val="0033cc"/>
                </a:solidFill>
                <a:latin typeface="Courier New"/>
              </a:rPr>
              <a:t>101</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92/27 (</a:t>
            </a:r>
            <a:r>
              <a:rPr b="1" lang="en-US" sz="1800" spc="-1" strike="noStrike">
                <a:solidFill>
                  <a:srgbClr val="0033cc"/>
                </a:solidFill>
                <a:latin typeface="Courier New"/>
              </a:rPr>
              <a:t>110</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224/27 (</a:t>
            </a:r>
            <a:r>
              <a:rPr b="1" lang="en-US" sz="1800" spc="-1" strike="noStrike">
                <a:solidFill>
                  <a:srgbClr val="0033cc"/>
                </a:solidFill>
                <a:latin typeface="Courier New"/>
              </a:rPr>
              <a:t>111</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r</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28/27 (</a:t>
            </a:r>
            <a:r>
              <a:rPr b="1" lang="en-US" sz="1800" spc="-1" strike="noStrike">
                <a:solidFill>
                  <a:srgbClr val="0033cc"/>
                </a:solidFill>
                <a:latin typeface="Courier New"/>
              </a:rPr>
              <a:t>100</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60/27 (</a:t>
            </a:r>
            <a:r>
              <a:rPr b="1" lang="en-US" sz="1800" spc="-1" strike="noStrike">
                <a:solidFill>
                  <a:srgbClr val="0033cc"/>
                </a:solidFill>
                <a:latin typeface="Courier New"/>
              </a:rPr>
              <a:t>101</a:t>
            </a:r>
            <a:r>
              <a:rPr b="1" lang="en-US" sz="1800" spc="-1" strike="noStrike">
                <a:solidFill>
                  <a:srgbClr val="0033cc"/>
                </a:solidFill>
                <a:latin typeface="Courier New"/>
              </a:rPr>
              <a:t>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92.168.0.192/26 (</a:t>
            </a:r>
            <a:r>
              <a:rPr b="1" lang="en-US" sz="1800" spc="-1" strike="noStrike">
                <a:solidFill>
                  <a:srgbClr val="0033cc"/>
                </a:solidFill>
                <a:latin typeface="Courier New"/>
              </a:rPr>
              <a:t>11</a:t>
            </a:r>
            <a:r>
              <a:rPr b="1" lang="en-US" sz="1800" spc="-1" strike="noStrike">
                <a:solidFill>
                  <a:srgbClr val="0033cc"/>
                </a:solidFill>
                <a:latin typeface="Courier New"/>
              </a:rPr>
              <a:t>00000</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EC174AD2-99DC-42A0-BEC0-02DD2DE640D8}" type="slidenum">
              <a:t>10</a:t>
            </a:fld>
          </a:p>
        </p:txBody>
      </p:sp>
      <p:sp>
        <p:nvSpPr>
          <p:cNvPr id="6" name="PlaceHolder 5"/>
          <p:cNvSpPr>
            <a:spLocks noGrp="1"/>
          </p:cNvSpPr>
          <p:nvPr>
            <p:ph type="dt" idx="1"/>
          </p:nvPr>
        </p:nvSpPr>
        <p:spPr/>
        <p:txBody>
          <a:bodyPr/>
          <a:p>
            <a:fld id="{8B1B0185-D49C-46D8-B591-6261C0E18A5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 history</a:t>
            </a:r>
            <a:endParaRPr b="1" lang="en-US" sz="3600" spc="-1" strike="noStrike">
              <a:solidFill>
                <a:srgbClr val="336699"/>
              </a:solidFill>
              <a:latin typeface="Times New Roman"/>
            </a:endParaRPr>
          </a:p>
        </p:txBody>
      </p:sp>
      <p:sp>
        <p:nvSpPr>
          <p:cNvPr id="910" name=""/>
          <p:cNvSpPr/>
          <p:nvPr/>
        </p:nvSpPr>
        <p:spPr>
          <a:xfrm>
            <a:off x="1600200" y="220968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00200" y="2819520"/>
            <a:ext cx="607068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600200" y="335268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600200" y="388620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600200" y="4419720"/>
            <a:ext cx="607068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816200" y="21970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968480" y="28065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33400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349360" y="3873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349360" y="44067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568520" y="2244600"/>
            <a:ext cx="27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urier New"/>
              </a:rPr>
              <a:t>0</a:t>
            </a:r>
            <a:endParaRPr b="0" lang="en-US" sz="1200" spc="-1" strike="noStrike">
              <a:solidFill>
                <a:srgbClr val="000000"/>
              </a:solidFill>
              <a:latin typeface="Times New Roman"/>
            </a:endParaRPr>
          </a:p>
        </p:txBody>
      </p:sp>
      <p:sp>
        <p:nvSpPr>
          <p:cNvPr id="921" name=""/>
          <p:cNvSpPr/>
          <p:nvPr/>
        </p:nvSpPr>
        <p:spPr>
          <a:xfrm>
            <a:off x="1568160" y="2854440"/>
            <a:ext cx="459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urier New"/>
              </a:rPr>
              <a:t>1 0</a:t>
            </a:r>
            <a:endParaRPr b="0" lang="en-US" sz="1200" spc="-1" strike="noStrike">
              <a:solidFill>
                <a:srgbClr val="000000"/>
              </a:solidFill>
              <a:latin typeface="Times New Roman"/>
            </a:endParaRPr>
          </a:p>
        </p:txBody>
      </p:sp>
      <p:sp>
        <p:nvSpPr>
          <p:cNvPr id="922" name=""/>
          <p:cNvSpPr/>
          <p:nvPr/>
        </p:nvSpPr>
        <p:spPr>
          <a:xfrm>
            <a:off x="1569600" y="3386160"/>
            <a:ext cx="642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urier New"/>
              </a:rPr>
              <a:t>1 1 0</a:t>
            </a:r>
            <a:endParaRPr b="0" lang="en-US" sz="1200" spc="-1" strike="noStrike">
              <a:solidFill>
                <a:srgbClr val="000000"/>
              </a:solidFill>
              <a:latin typeface="Times New Roman"/>
            </a:endParaRPr>
          </a:p>
        </p:txBody>
      </p:sp>
      <p:sp>
        <p:nvSpPr>
          <p:cNvPr id="923" name=""/>
          <p:cNvSpPr/>
          <p:nvPr/>
        </p:nvSpPr>
        <p:spPr>
          <a:xfrm>
            <a:off x="1570320" y="391968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urier New"/>
              </a:rPr>
              <a:t>1 1 1 0</a:t>
            </a:r>
            <a:endParaRPr b="0" lang="en-US" sz="1200" spc="-1" strike="noStrike">
              <a:solidFill>
                <a:srgbClr val="000000"/>
              </a:solidFill>
              <a:latin typeface="Times New Roman"/>
            </a:endParaRPr>
          </a:p>
        </p:txBody>
      </p:sp>
      <p:sp>
        <p:nvSpPr>
          <p:cNvPr id="924" name=""/>
          <p:cNvSpPr/>
          <p:nvPr/>
        </p:nvSpPr>
        <p:spPr>
          <a:xfrm>
            <a:off x="1570320" y="445284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urier New"/>
              </a:rPr>
              <a:t>1 1 1 1</a:t>
            </a:r>
            <a:endParaRPr b="0" lang="en-US" sz="1200" spc="-1" strike="noStrike">
              <a:solidFill>
                <a:srgbClr val="000000"/>
              </a:solidFill>
              <a:latin typeface="Times New Roman"/>
            </a:endParaRPr>
          </a:p>
        </p:txBody>
      </p:sp>
      <p:sp>
        <p:nvSpPr>
          <p:cNvPr id="925" name=""/>
          <p:cNvSpPr/>
          <p:nvPr/>
        </p:nvSpPr>
        <p:spPr>
          <a:xfrm>
            <a:off x="3111480" y="21970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635360" y="28065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235560" y="33400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946880" y="2243160"/>
            <a:ext cx="88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twork id</a:t>
            </a:r>
            <a:endParaRPr b="0" lang="en-US" sz="1200" spc="-1" strike="noStrike">
              <a:solidFill>
                <a:srgbClr val="000000"/>
              </a:solidFill>
              <a:latin typeface="Times New Roman"/>
            </a:endParaRPr>
          </a:p>
        </p:txBody>
      </p:sp>
      <p:sp>
        <p:nvSpPr>
          <p:cNvPr id="929" name=""/>
          <p:cNvSpPr/>
          <p:nvPr/>
        </p:nvSpPr>
        <p:spPr>
          <a:xfrm>
            <a:off x="5224680" y="2243160"/>
            <a:ext cx="636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930" name=""/>
          <p:cNvSpPr/>
          <p:nvPr/>
        </p:nvSpPr>
        <p:spPr>
          <a:xfrm>
            <a:off x="2861280" y="2852640"/>
            <a:ext cx="88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twork id</a:t>
            </a:r>
            <a:endParaRPr b="0" lang="en-US" sz="1200" spc="-1" strike="noStrike">
              <a:solidFill>
                <a:srgbClr val="000000"/>
              </a:solidFill>
              <a:latin typeface="Times New Roman"/>
            </a:endParaRPr>
          </a:p>
        </p:txBody>
      </p:sp>
      <p:sp>
        <p:nvSpPr>
          <p:cNvPr id="931" name=""/>
          <p:cNvSpPr/>
          <p:nvPr/>
        </p:nvSpPr>
        <p:spPr>
          <a:xfrm>
            <a:off x="3623400" y="3386160"/>
            <a:ext cx="88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twork id</a:t>
            </a:r>
            <a:endParaRPr b="0" lang="en-US" sz="1200" spc="-1" strike="noStrike">
              <a:solidFill>
                <a:srgbClr val="000000"/>
              </a:solidFill>
              <a:latin typeface="Times New Roman"/>
            </a:endParaRPr>
          </a:p>
        </p:txBody>
      </p:sp>
      <p:sp>
        <p:nvSpPr>
          <p:cNvPr id="932" name=""/>
          <p:cNvSpPr/>
          <p:nvPr/>
        </p:nvSpPr>
        <p:spPr>
          <a:xfrm>
            <a:off x="6063120" y="2852640"/>
            <a:ext cx="636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933" name=""/>
          <p:cNvSpPr/>
          <p:nvPr/>
        </p:nvSpPr>
        <p:spPr>
          <a:xfrm>
            <a:off x="6748920" y="3386160"/>
            <a:ext cx="636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934" name=""/>
          <p:cNvSpPr/>
          <p:nvPr/>
        </p:nvSpPr>
        <p:spPr>
          <a:xfrm>
            <a:off x="3925800" y="3919680"/>
            <a:ext cx="1908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ulticast (group) address</a:t>
            </a:r>
            <a:endParaRPr b="0" lang="en-US" sz="1200" spc="-1" strike="noStrike">
              <a:solidFill>
                <a:srgbClr val="000000"/>
              </a:solidFill>
              <a:latin typeface="Times New Roman"/>
            </a:endParaRPr>
          </a:p>
        </p:txBody>
      </p:sp>
      <p:sp>
        <p:nvSpPr>
          <p:cNvPr id="935" name=""/>
          <p:cNvSpPr/>
          <p:nvPr/>
        </p:nvSpPr>
        <p:spPr>
          <a:xfrm>
            <a:off x="4154400" y="4452840"/>
            <a:ext cx="1349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xperimental use</a:t>
            </a:r>
            <a:endParaRPr b="0" lang="en-US" sz="1200" spc="-1" strike="noStrike">
              <a:solidFill>
                <a:srgbClr val="000000"/>
              </a:solidFill>
              <a:latin typeface="Times New Roman"/>
            </a:endParaRPr>
          </a:p>
        </p:txBody>
      </p:sp>
      <p:sp>
        <p:nvSpPr>
          <p:cNvPr id="936" name=""/>
          <p:cNvSpPr/>
          <p:nvPr/>
        </p:nvSpPr>
        <p:spPr>
          <a:xfrm>
            <a:off x="7816320" y="2243160"/>
            <a:ext cx="71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ass A</a:t>
            </a:r>
            <a:endParaRPr b="0" lang="en-US" sz="1200" spc="-1" strike="noStrike">
              <a:solidFill>
                <a:srgbClr val="000000"/>
              </a:solidFill>
              <a:latin typeface="Times New Roman"/>
            </a:endParaRPr>
          </a:p>
        </p:txBody>
      </p:sp>
      <p:sp>
        <p:nvSpPr>
          <p:cNvPr id="937" name=""/>
          <p:cNvSpPr/>
          <p:nvPr/>
        </p:nvSpPr>
        <p:spPr>
          <a:xfrm>
            <a:off x="7816320" y="2852640"/>
            <a:ext cx="71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ass B</a:t>
            </a:r>
            <a:endParaRPr b="0" lang="en-US" sz="1200" spc="-1" strike="noStrike">
              <a:solidFill>
                <a:srgbClr val="000000"/>
              </a:solidFill>
              <a:latin typeface="Times New Roman"/>
            </a:endParaRPr>
          </a:p>
        </p:txBody>
      </p:sp>
      <p:sp>
        <p:nvSpPr>
          <p:cNvPr id="938" name=""/>
          <p:cNvSpPr/>
          <p:nvPr/>
        </p:nvSpPr>
        <p:spPr>
          <a:xfrm>
            <a:off x="7816320" y="3386160"/>
            <a:ext cx="718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ass C</a:t>
            </a:r>
            <a:endParaRPr b="0" lang="en-US" sz="1200" spc="-1" strike="noStrike">
              <a:solidFill>
                <a:srgbClr val="000000"/>
              </a:solidFill>
              <a:latin typeface="Times New Roman"/>
            </a:endParaRPr>
          </a:p>
        </p:txBody>
      </p:sp>
      <p:sp>
        <p:nvSpPr>
          <p:cNvPr id="939" name=""/>
          <p:cNvSpPr/>
          <p:nvPr/>
        </p:nvSpPr>
        <p:spPr>
          <a:xfrm>
            <a:off x="7816320" y="3919680"/>
            <a:ext cx="718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ass D</a:t>
            </a:r>
            <a:endParaRPr b="0" lang="en-US" sz="1200" spc="-1" strike="noStrike">
              <a:solidFill>
                <a:srgbClr val="000000"/>
              </a:solidFill>
              <a:latin typeface="Times New Roman"/>
            </a:endParaRPr>
          </a:p>
        </p:txBody>
      </p:sp>
      <p:sp>
        <p:nvSpPr>
          <p:cNvPr id="940" name=""/>
          <p:cNvSpPr/>
          <p:nvPr/>
        </p:nvSpPr>
        <p:spPr>
          <a:xfrm>
            <a:off x="7816320" y="4452840"/>
            <a:ext cx="71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ass E</a:t>
            </a:r>
            <a:endParaRPr b="0" lang="en-US" sz="1200" spc="-1" strike="noStrike">
              <a:solidFill>
                <a:srgbClr val="000000"/>
              </a:solidFill>
              <a:latin typeface="Times New Roman"/>
            </a:endParaRPr>
          </a:p>
        </p:txBody>
      </p:sp>
      <p:sp>
        <p:nvSpPr>
          <p:cNvPr id="941" name=""/>
          <p:cNvSpPr/>
          <p:nvPr/>
        </p:nvSpPr>
        <p:spPr>
          <a:xfrm>
            <a:off x="1564200" y="5038560"/>
            <a:ext cx="54108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No need for explicit network prefix length</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e.g. marston.cs.ucl.ac.uk:</a:t>
            </a:r>
            <a:r>
              <a:rPr b="0" lang="en-GB" sz="2000" spc="-1" strike="noStrike">
                <a:solidFill>
                  <a:srgbClr val="000000"/>
                </a:solidFill>
                <a:latin typeface="Times New Roman"/>
              </a:rPr>
              <a:t>	</a:t>
            </a:r>
            <a:r>
              <a:rPr b="0" lang="en-GB" sz="2000" spc="-1" strike="noStrike">
                <a:solidFill>
                  <a:srgbClr val="000000"/>
                </a:solidFill>
                <a:latin typeface="Times New Roman"/>
              </a:rPr>
              <a:t>128.16.20.1 (class B)</a:t>
            </a:r>
            <a:endParaRPr b="0" lang="en-US" sz="2000" spc="-1" strike="noStrike">
              <a:solidFill>
                <a:srgbClr val="000000"/>
              </a:solidFill>
              <a:latin typeface="Times New Roman"/>
            </a:endParaRPr>
          </a:p>
        </p:txBody>
      </p:sp>
      <p:grpSp>
        <p:nvGrpSpPr>
          <p:cNvPr id="942" name=""/>
          <p:cNvGrpSpPr/>
          <p:nvPr/>
        </p:nvGrpSpPr>
        <p:grpSpPr>
          <a:xfrm>
            <a:off x="1491120" y="1633680"/>
            <a:ext cx="6324480" cy="411120"/>
            <a:chOff x="1491120" y="1633680"/>
            <a:chExt cx="6324480" cy="411120"/>
          </a:xfrm>
        </p:grpSpPr>
        <p:sp>
          <p:nvSpPr>
            <p:cNvPr id="943" name=""/>
            <p:cNvSpPr/>
            <p:nvPr/>
          </p:nvSpPr>
          <p:spPr>
            <a:xfrm>
              <a:off x="1587600" y="2044800"/>
              <a:ext cx="60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587600" y="18925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635360" y="18925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683480" y="18925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11480" y="18925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235560" y="18925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91120" y="16336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50" name=""/>
            <p:cNvSpPr/>
            <p:nvPr/>
          </p:nvSpPr>
          <p:spPr>
            <a:xfrm>
              <a:off x="3015360" y="16354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951" name=""/>
            <p:cNvSpPr/>
            <p:nvPr/>
          </p:nvSpPr>
          <p:spPr>
            <a:xfrm>
              <a:off x="4539600" y="163548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952" name=""/>
            <p:cNvSpPr/>
            <p:nvPr/>
          </p:nvSpPr>
          <p:spPr>
            <a:xfrm>
              <a:off x="6139800" y="163548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953" name=""/>
            <p:cNvSpPr/>
            <p:nvPr/>
          </p:nvSpPr>
          <p:spPr>
            <a:xfrm>
              <a:off x="7359120" y="163368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E56DBBB0-38A6-45FF-9790-8941971FCFA3}" type="slidenum">
              <a:t>11</a:t>
            </a:fld>
          </a:p>
        </p:txBody>
      </p:sp>
      <p:sp>
        <p:nvSpPr>
          <p:cNvPr id="5" name="PlaceHolder 4"/>
          <p:cNvSpPr>
            <a:spLocks noGrp="1"/>
          </p:cNvSpPr>
          <p:nvPr>
            <p:ph type="dt" idx="1"/>
          </p:nvPr>
        </p:nvSpPr>
        <p:spPr/>
        <p:txBody>
          <a:bodyPr/>
          <a:p>
            <a:fld id="{5267DD11-D3BE-4800-A72A-A29628DF9A0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ynamic IP addresses</a:t>
            </a:r>
            <a:endParaRPr b="1" lang="en-US" sz="3600" spc="-1" strike="noStrike">
              <a:solidFill>
                <a:srgbClr val="336699"/>
              </a:solidFill>
              <a:latin typeface="Times New Roman"/>
            </a:endParaRPr>
          </a:p>
        </p:txBody>
      </p:sp>
      <p:sp>
        <p:nvSpPr>
          <p:cNvPr id="955"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Server” hosts need permanent IP addresses, “Client” hosts do not</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llocate addresses to clients when they connect to network</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sy configuration</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ptimal use of addresse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ool of addresse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r allocated IP address from pool</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turned to pool at end of session</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ext session may be using different addres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HCP, PPP, IPv6 etc….</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E05E7EB9-B2E6-4B8E-84CC-1A1D23C224A2}" type="slidenum">
              <a:t>12</a:t>
            </a:fld>
          </a:p>
        </p:txBody>
      </p:sp>
      <p:sp>
        <p:nvSpPr>
          <p:cNvPr id="6" name="PlaceHolder 5"/>
          <p:cNvSpPr>
            <a:spLocks noGrp="1"/>
          </p:cNvSpPr>
          <p:nvPr>
            <p:ph type="dt" idx="1"/>
          </p:nvPr>
        </p:nvSpPr>
        <p:spPr/>
        <p:txBody>
          <a:bodyPr/>
          <a:p>
            <a:fld id="{1E4D71DF-F5F3-44F5-A9A6-F15332241DB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ivate IPv4 address space</a:t>
            </a:r>
            <a:endParaRPr b="1" lang="en-US" sz="3600" spc="-1" strike="noStrike">
              <a:solidFill>
                <a:srgbClr val="336699"/>
              </a:solidFill>
              <a:latin typeface="Times New Roman"/>
            </a:endParaRPr>
          </a:p>
        </p:txBody>
      </p:sp>
      <p:sp>
        <p:nvSpPr>
          <p:cNvPr id="957"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ivate IP network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tranet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Use IP, so need IP address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an use any addres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a:t>
            </a:r>
            <a:r>
              <a:rPr b="1" lang="en-US" sz="2400" spc="-1" strike="noStrike">
                <a:solidFill>
                  <a:srgbClr val="0033cc"/>
                </a:solidFill>
                <a:latin typeface="Times New Roman"/>
              </a:rPr>
              <a:t>must not</a:t>
            </a:r>
            <a:r>
              <a:rPr b="0" lang="en-US" sz="2400" spc="-1" strike="noStrike">
                <a:solidFill>
                  <a:srgbClr val="0033cc"/>
                </a:solidFill>
                <a:latin typeface="Times New Roman"/>
              </a:rPr>
              <a:t> be directly connected to the Internet</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pecial addresses (RFC1918):</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8 prefix</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72.16/12 prefix</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92.168/16 prefix</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t forwarded by router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EDD684BD-EF1F-4F5C-960D-9F9186DF2BDB}" type="slidenum">
              <a:t>13</a:t>
            </a:fld>
          </a:p>
        </p:txBody>
      </p:sp>
      <p:sp>
        <p:nvSpPr>
          <p:cNvPr id="6" name="PlaceHolder 5"/>
          <p:cNvSpPr>
            <a:spLocks noGrp="1"/>
          </p:cNvSpPr>
          <p:nvPr>
            <p:ph type="dt" idx="1"/>
          </p:nvPr>
        </p:nvSpPr>
        <p:spPr/>
        <p:txBody>
          <a:bodyPr/>
          <a:p>
            <a:fld id="{76B61940-00D0-41A2-BB94-2D8D148A02F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v4 Datagram Header</a:t>
            </a:r>
            <a:endParaRPr b="1" lang="en-US" sz="3600" spc="-1" strike="noStrike">
              <a:solidFill>
                <a:srgbClr val="336699"/>
              </a:solidFill>
              <a:latin typeface="Times New Roman"/>
            </a:endParaRPr>
          </a:p>
        </p:txBody>
      </p:sp>
      <p:grpSp>
        <p:nvGrpSpPr>
          <p:cNvPr id="959" name=""/>
          <p:cNvGrpSpPr/>
          <p:nvPr/>
        </p:nvGrpSpPr>
        <p:grpSpPr>
          <a:xfrm>
            <a:off x="1399320" y="2678040"/>
            <a:ext cx="6323760" cy="3475440"/>
            <a:chOff x="1399320" y="2678040"/>
            <a:chExt cx="6323760" cy="3475440"/>
          </a:xfrm>
        </p:grpSpPr>
        <p:sp>
          <p:nvSpPr>
            <p:cNvPr id="960" name=""/>
            <p:cNvSpPr/>
            <p:nvPr/>
          </p:nvSpPr>
          <p:spPr>
            <a:xfrm>
              <a:off x="1508040" y="325404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508040" y="363528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508040" y="401616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508040" y="439704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08040" y="477828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257560" y="32414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19320" y="32414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543560" y="32414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543560" y="362232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57960" y="362232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019320" y="400356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543560" y="400356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550520" y="3287520"/>
              <a:ext cx="677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sion</a:t>
              </a:r>
              <a:endParaRPr b="0" lang="en-US" sz="1200" spc="-1" strike="noStrike">
                <a:solidFill>
                  <a:srgbClr val="000000"/>
                </a:solidFill>
                <a:latin typeface="Times New Roman"/>
              </a:endParaRPr>
            </a:p>
          </p:txBody>
        </p:sp>
        <p:sp>
          <p:nvSpPr>
            <p:cNvPr id="973" name=""/>
            <p:cNvSpPr/>
            <p:nvPr/>
          </p:nvSpPr>
          <p:spPr>
            <a:xfrm>
              <a:off x="2390040" y="3287520"/>
              <a:ext cx="42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HL</a:t>
              </a:r>
              <a:endParaRPr b="0" lang="en-US" sz="1200" spc="-1" strike="noStrike">
                <a:solidFill>
                  <a:srgbClr val="000000"/>
                </a:solidFill>
                <a:latin typeface="Times New Roman"/>
              </a:endParaRPr>
            </a:p>
          </p:txBody>
        </p:sp>
        <p:sp>
          <p:nvSpPr>
            <p:cNvPr id="974" name=""/>
            <p:cNvSpPr/>
            <p:nvPr/>
          </p:nvSpPr>
          <p:spPr>
            <a:xfrm>
              <a:off x="3225960" y="3290760"/>
              <a:ext cx="117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ype of service</a:t>
              </a:r>
              <a:endParaRPr b="0" lang="en-US" sz="1200" spc="-1" strike="noStrike">
                <a:solidFill>
                  <a:srgbClr val="000000"/>
                </a:solidFill>
                <a:latin typeface="Times New Roman"/>
              </a:endParaRPr>
            </a:p>
          </p:txBody>
        </p:sp>
        <p:sp>
          <p:nvSpPr>
            <p:cNvPr id="975" name=""/>
            <p:cNvSpPr/>
            <p:nvPr/>
          </p:nvSpPr>
          <p:spPr>
            <a:xfrm>
              <a:off x="5663520" y="3287520"/>
              <a:ext cx="93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otal length</a:t>
              </a:r>
              <a:endParaRPr b="0" lang="en-US" sz="1200" spc="-1" strike="noStrike">
                <a:solidFill>
                  <a:srgbClr val="000000"/>
                </a:solidFill>
                <a:latin typeface="Times New Roman"/>
              </a:endParaRPr>
            </a:p>
          </p:txBody>
        </p:sp>
        <p:sp>
          <p:nvSpPr>
            <p:cNvPr id="976" name=""/>
            <p:cNvSpPr/>
            <p:nvPr/>
          </p:nvSpPr>
          <p:spPr>
            <a:xfrm>
              <a:off x="2693160" y="3668400"/>
              <a:ext cx="1035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dentification</a:t>
              </a:r>
              <a:endParaRPr b="0" lang="en-US" sz="1200" spc="-1" strike="noStrike">
                <a:solidFill>
                  <a:srgbClr val="000000"/>
                </a:solidFill>
                <a:latin typeface="Times New Roman"/>
              </a:endParaRPr>
            </a:p>
          </p:txBody>
        </p:sp>
        <p:sp>
          <p:nvSpPr>
            <p:cNvPr id="977" name=""/>
            <p:cNvSpPr/>
            <p:nvPr/>
          </p:nvSpPr>
          <p:spPr>
            <a:xfrm>
              <a:off x="4751640" y="3668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lags</a:t>
              </a:r>
              <a:endParaRPr b="0" lang="en-US" sz="1200" spc="-1" strike="noStrike">
                <a:solidFill>
                  <a:srgbClr val="000000"/>
                </a:solidFill>
                <a:latin typeface="Times New Roman"/>
              </a:endParaRPr>
            </a:p>
          </p:txBody>
        </p:sp>
        <p:sp>
          <p:nvSpPr>
            <p:cNvPr id="978" name=""/>
            <p:cNvSpPr/>
            <p:nvPr/>
          </p:nvSpPr>
          <p:spPr>
            <a:xfrm>
              <a:off x="5816880" y="3668400"/>
              <a:ext cx="1206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ragment offset</a:t>
              </a:r>
              <a:endParaRPr b="0" lang="en-US" sz="1200" spc="-1" strike="noStrike">
                <a:solidFill>
                  <a:srgbClr val="000000"/>
                </a:solidFill>
                <a:latin typeface="Times New Roman"/>
              </a:endParaRPr>
            </a:p>
          </p:txBody>
        </p:sp>
        <p:sp>
          <p:nvSpPr>
            <p:cNvPr id="979" name=""/>
            <p:cNvSpPr/>
            <p:nvPr/>
          </p:nvSpPr>
          <p:spPr>
            <a:xfrm>
              <a:off x="1627560" y="4049640"/>
              <a:ext cx="1329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to live (TTL)</a:t>
              </a:r>
              <a:endParaRPr b="0" lang="en-US" sz="1200" spc="-1" strike="noStrike">
                <a:solidFill>
                  <a:srgbClr val="000000"/>
                </a:solidFill>
                <a:latin typeface="Times New Roman"/>
              </a:endParaRPr>
            </a:p>
          </p:txBody>
        </p:sp>
        <p:sp>
          <p:nvSpPr>
            <p:cNvPr id="980" name=""/>
            <p:cNvSpPr/>
            <p:nvPr/>
          </p:nvSpPr>
          <p:spPr>
            <a:xfrm>
              <a:off x="3378960" y="4049640"/>
              <a:ext cx="729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tocol</a:t>
              </a:r>
              <a:endParaRPr b="0" lang="en-US" sz="1200" spc="-1" strike="noStrike">
                <a:solidFill>
                  <a:srgbClr val="000000"/>
                </a:solidFill>
                <a:latin typeface="Times New Roman"/>
              </a:endParaRPr>
            </a:p>
          </p:txBody>
        </p:sp>
        <p:sp>
          <p:nvSpPr>
            <p:cNvPr id="981" name=""/>
            <p:cNvSpPr/>
            <p:nvPr/>
          </p:nvSpPr>
          <p:spPr>
            <a:xfrm>
              <a:off x="5205600" y="404964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eader checksum</a:t>
              </a:r>
              <a:endParaRPr b="0" lang="en-US" sz="1200" spc="-1" strike="noStrike">
                <a:solidFill>
                  <a:srgbClr val="000000"/>
                </a:solidFill>
                <a:latin typeface="Times New Roman"/>
              </a:endParaRPr>
            </a:p>
          </p:txBody>
        </p:sp>
        <p:sp>
          <p:nvSpPr>
            <p:cNvPr id="982" name=""/>
            <p:cNvSpPr/>
            <p:nvPr/>
          </p:nvSpPr>
          <p:spPr>
            <a:xfrm>
              <a:off x="3834720" y="4430520"/>
              <a:ext cx="1418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IP address</a:t>
              </a:r>
              <a:endParaRPr b="0" lang="en-US" sz="1200" spc="-1" strike="noStrike">
                <a:solidFill>
                  <a:srgbClr val="000000"/>
                </a:solidFill>
                <a:latin typeface="Times New Roman"/>
              </a:endParaRPr>
            </a:p>
          </p:txBody>
        </p:sp>
        <p:sp>
          <p:nvSpPr>
            <p:cNvPr id="983" name=""/>
            <p:cNvSpPr/>
            <p:nvPr/>
          </p:nvSpPr>
          <p:spPr>
            <a:xfrm>
              <a:off x="3681720" y="4811400"/>
              <a:ext cx="1699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ination IP address</a:t>
              </a:r>
              <a:endParaRPr b="0" lang="en-US" sz="1200" spc="-1" strike="noStrike">
                <a:solidFill>
                  <a:srgbClr val="000000"/>
                </a:solidFill>
                <a:latin typeface="Times New Roman"/>
              </a:endParaRPr>
            </a:p>
          </p:txBody>
        </p:sp>
        <p:sp>
          <p:nvSpPr>
            <p:cNvPr id="984" name=""/>
            <p:cNvSpPr/>
            <p:nvPr/>
          </p:nvSpPr>
          <p:spPr>
            <a:xfrm>
              <a:off x="1508040" y="5464080"/>
              <a:ext cx="60706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296040" y="545112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370760" y="5116320"/>
              <a:ext cx="678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sp>
          <p:nvSpPr>
            <p:cNvPr id="987" name=""/>
            <p:cNvSpPr/>
            <p:nvPr/>
          </p:nvSpPr>
          <p:spPr>
            <a:xfrm>
              <a:off x="2999160" y="5497200"/>
              <a:ext cx="678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sp>
          <p:nvSpPr>
            <p:cNvPr id="988" name=""/>
            <p:cNvSpPr/>
            <p:nvPr/>
          </p:nvSpPr>
          <p:spPr>
            <a:xfrm>
              <a:off x="1495440" y="5146560"/>
              <a:ext cx="0" cy="3045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91320" y="5146560"/>
              <a:ext cx="0" cy="2286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591320" y="5832360"/>
              <a:ext cx="0" cy="3045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5440" y="5832360"/>
              <a:ext cx="0" cy="3045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655320" y="5497200"/>
              <a:ext cx="73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adding</a:t>
              </a:r>
              <a:endParaRPr b="0" lang="en-US" sz="1200" spc="-1" strike="noStrike">
                <a:solidFill>
                  <a:srgbClr val="000000"/>
                </a:solidFill>
                <a:latin typeface="Times New Roman"/>
              </a:endParaRPr>
            </a:p>
          </p:txBody>
        </p:sp>
        <p:sp>
          <p:nvSpPr>
            <p:cNvPr id="993" name=""/>
            <p:cNvSpPr/>
            <p:nvPr/>
          </p:nvSpPr>
          <p:spPr>
            <a:xfrm>
              <a:off x="4447440" y="5878440"/>
              <a:ext cx="48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grpSp>
          <p:nvGrpSpPr>
            <p:cNvPr id="994" name=""/>
            <p:cNvGrpSpPr/>
            <p:nvPr/>
          </p:nvGrpSpPr>
          <p:grpSpPr>
            <a:xfrm>
              <a:off x="1399320" y="2678040"/>
              <a:ext cx="6323760" cy="411120"/>
              <a:chOff x="1399320" y="2678040"/>
              <a:chExt cx="6323760" cy="411120"/>
            </a:xfrm>
          </p:grpSpPr>
          <p:sp>
            <p:nvSpPr>
              <p:cNvPr id="995" name=""/>
              <p:cNvSpPr/>
              <p:nvPr/>
            </p:nvSpPr>
            <p:spPr>
              <a:xfrm>
                <a:off x="1495440" y="3089160"/>
                <a:ext cx="60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95440" y="2936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543560" y="2936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591320" y="2936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019320" y="2936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143760" y="2936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399320" y="267804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002" name=""/>
              <p:cNvSpPr/>
              <p:nvPr/>
            </p:nvSpPr>
            <p:spPr>
              <a:xfrm>
                <a:off x="2923200" y="26794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003" name=""/>
              <p:cNvSpPr/>
              <p:nvPr/>
            </p:nvSpPr>
            <p:spPr>
              <a:xfrm>
                <a:off x="4446720" y="267948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004" name=""/>
              <p:cNvSpPr/>
              <p:nvPr/>
            </p:nvSpPr>
            <p:spPr>
              <a:xfrm>
                <a:off x="6046920" y="267948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005" name=""/>
              <p:cNvSpPr/>
              <p:nvPr/>
            </p:nvSpPr>
            <p:spPr>
              <a:xfrm>
                <a:off x="7266600" y="267804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grpSp>
      </p:grpSp>
      <p:sp>
        <p:nvSpPr>
          <p:cNvPr id="1006" name=""/>
          <p:cNvSpPr/>
          <p:nvPr/>
        </p:nvSpPr>
        <p:spPr>
          <a:xfrm>
            <a:off x="914400" y="1577880"/>
            <a:ext cx="7551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l IPv4 datagrams begin with a header as shown be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DFFB87F9-2700-45A3-8355-7C68BE4A1551}" type="slidenum">
              <a:t>14</a:t>
            </a:fld>
          </a:p>
        </p:txBody>
      </p:sp>
      <p:sp>
        <p:nvSpPr>
          <p:cNvPr id="5" name="PlaceHolder 4"/>
          <p:cNvSpPr>
            <a:spLocks noGrp="1"/>
          </p:cNvSpPr>
          <p:nvPr>
            <p:ph type="dt" idx="1"/>
          </p:nvPr>
        </p:nvSpPr>
        <p:spPr/>
        <p:txBody>
          <a:bodyPr/>
          <a:p>
            <a:fld id="{4DC8AD30-78E7-44E2-AB82-049FDF4DE07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07" name=""/>
          <p:cNvSpPr/>
          <p:nvPr/>
        </p:nvSpPr>
        <p:spPr>
          <a:xfrm>
            <a:off x="3276720" y="3200400"/>
            <a:ext cx="1041120" cy="533520"/>
          </a:xfrm>
          <a:custGeom>
            <a:avLst/>
            <a:gdLst/>
            <a:ahLst/>
            <a:rect l="l" t="t" r="r" b="b"/>
            <a:pathLst>
              <a:path w="656" h="336">
                <a:moveTo>
                  <a:pt x="0" y="288"/>
                </a:moveTo>
                <a:cubicBezTo>
                  <a:pt x="248" y="312"/>
                  <a:pt x="496" y="336"/>
                  <a:pt x="576" y="288"/>
                </a:cubicBezTo>
                <a:cubicBezTo>
                  <a:pt x="656" y="240"/>
                  <a:pt x="496" y="48"/>
                  <a:pt x="480"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8" name=""/>
          <p:cNvGrpSpPr/>
          <p:nvPr/>
        </p:nvGrpSpPr>
        <p:grpSpPr>
          <a:xfrm>
            <a:off x="1905120" y="3733920"/>
            <a:ext cx="2247480" cy="1304280"/>
            <a:chOff x="1905120" y="3733920"/>
            <a:chExt cx="2247480" cy="1304280"/>
          </a:xfrm>
        </p:grpSpPr>
        <p:grpSp>
          <p:nvGrpSpPr>
            <p:cNvPr id="1009" name=""/>
            <p:cNvGrpSpPr/>
            <p:nvPr/>
          </p:nvGrpSpPr>
          <p:grpSpPr>
            <a:xfrm>
              <a:off x="1905120" y="3733920"/>
              <a:ext cx="2247480" cy="1304280"/>
              <a:chOff x="1905120" y="3733920"/>
              <a:chExt cx="2247480" cy="1304280"/>
            </a:xfrm>
          </p:grpSpPr>
          <p:sp>
            <p:nvSpPr>
              <p:cNvPr id="1010" name=""/>
              <p:cNvSpPr/>
              <p:nvPr/>
            </p:nvSpPr>
            <p:spPr>
              <a:xfrm>
                <a:off x="1905120" y="3733920"/>
                <a:ext cx="2247480" cy="130428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905120" y="3733920"/>
                <a:ext cx="2247480" cy="130428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014200" y="449748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2209320" y="478800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14" name=""/>
              <p:cNvSpPr/>
              <p:nvPr/>
            </p:nvSpPr>
            <p:spPr>
              <a:xfrm>
                <a:off x="2724480" y="486252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5" name=""/>
              <p:cNvSpPr/>
              <p:nvPr/>
            </p:nvSpPr>
            <p:spPr>
              <a:xfrm>
                <a:off x="3387960" y="478152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6" name=""/>
              <p:cNvSpPr/>
              <p:nvPr/>
            </p:nvSpPr>
            <p:spPr>
              <a:xfrm>
                <a:off x="3684240" y="4429800"/>
                <a:ext cx="163800" cy="20916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004280" y="419328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8" name=""/>
              <p:cNvSpPr/>
              <p:nvPr/>
            </p:nvSpPr>
            <p:spPr>
              <a:xfrm>
                <a:off x="3895200" y="389592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19" name=""/>
              <p:cNvSpPr/>
              <p:nvPr/>
            </p:nvSpPr>
            <p:spPr>
              <a:xfrm>
                <a:off x="3419280" y="380124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0" name=""/>
              <p:cNvSpPr/>
              <p:nvPr/>
            </p:nvSpPr>
            <p:spPr>
              <a:xfrm flipH="1">
                <a:off x="3052440" y="383508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1" name=""/>
              <p:cNvSpPr/>
              <p:nvPr/>
            </p:nvSpPr>
            <p:spPr>
              <a:xfrm flipH="1" flipV="1">
                <a:off x="2630520" y="388908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2" name=""/>
              <p:cNvSpPr/>
              <p:nvPr/>
            </p:nvSpPr>
            <p:spPr>
              <a:xfrm>
                <a:off x="2107800" y="416628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23" name=""/>
            <p:cNvSpPr/>
            <p:nvPr/>
          </p:nvSpPr>
          <p:spPr>
            <a:xfrm>
              <a:off x="2589120" y="4103280"/>
              <a:ext cx="1074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4" name=""/>
          <p:cNvGrpSpPr/>
          <p:nvPr/>
        </p:nvGrpSpPr>
        <p:grpSpPr>
          <a:xfrm>
            <a:off x="4572000" y="4419720"/>
            <a:ext cx="2247480" cy="1304280"/>
            <a:chOff x="4572000" y="4419720"/>
            <a:chExt cx="2247480" cy="1304280"/>
          </a:xfrm>
        </p:grpSpPr>
        <p:grpSp>
          <p:nvGrpSpPr>
            <p:cNvPr id="1025" name=""/>
            <p:cNvGrpSpPr/>
            <p:nvPr/>
          </p:nvGrpSpPr>
          <p:grpSpPr>
            <a:xfrm>
              <a:off x="4572000" y="4419720"/>
              <a:ext cx="2247480" cy="1304280"/>
              <a:chOff x="4572000" y="4419720"/>
              <a:chExt cx="2247480" cy="1304280"/>
            </a:xfrm>
          </p:grpSpPr>
          <p:sp>
            <p:nvSpPr>
              <p:cNvPr id="1026" name=""/>
              <p:cNvSpPr/>
              <p:nvPr/>
            </p:nvSpPr>
            <p:spPr>
              <a:xfrm>
                <a:off x="4572000" y="4419720"/>
                <a:ext cx="2247480" cy="130428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572000" y="4419720"/>
                <a:ext cx="2247480" cy="130428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681080" y="518328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4876200" y="547380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30" name=""/>
              <p:cNvSpPr/>
              <p:nvPr/>
            </p:nvSpPr>
            <p:spPr>
              <a:xfrm>
                <a:off x="5391360" y="554832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1" name=""/>
              <p:cNvSpPr/>
              <p:nvPr/>
            </p:nvSpPr>
            <p:spPr>
              <a:xfrm>
                <a:off x="6054840" y="546732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2" name=""/>
              <p:cNvSpPr/>
              <p:nvPr/>
            </p:nvSpPr>
            <p:spPr>
              <a:xfrm>
                <a:off x="6351120" y="5115600"/>
                <a:ext cx="163800" cy="20916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671160" y="487908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6562080" y="458172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35" name=""/>
              <p:cNvSpPr/>
              <p:nvPr/>
            </p:nvSpPr>
            <p:spPr>
              <a:xfrm>
                <a:off x="6086160" y="448704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6" name=""/>
              <p:cNvSpPr/>
              <p:nvPr/>
            </p:nvSpPr>
            <p:spPr>
              <a:xfrm flipH="1">
                <a:off x="5719320" y="452088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37" name=""/>
              <p:cNvSpPr/>
              <p:nvPr/>
            </p:nvSpPr>
            <p:spPr>
              <a:xfrm flipH="1" flipV="1">
                <a:off x="5297400" y="457488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38" name=""/>
              <p:cNvSpPr/>
              <p:nvPr/>
            </p:nvSpPr>
            <p:spPr>
              <a:xfrm>
                <a:off x="4774680" y="485208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39" name=""/>
            <p:cNvSpPr/>
            <p:nvPr/>
          </p:nvSpPr>
          <p:spPr>
            <a:xfrm>
              <a:off x="5256000" y="4789080"/>
              <a:ext cx="1074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Forwarding</a:t>
            </a:r>
            <a:endParaRPr b="1" lang="en-US" sz="3600" spc="-1" strike="noStrike">
              <a:solidFill>
                <a:srgbClr val="336699"/>
              </a:solidFill>
              <a:latin typeface="Times New Roman"/>
            </a:endParaRPr>
          </a:p>
        </p:txBody>
      </p:sp>
      <p:grpSp>
        <p:nvGrpSpPr>
          <p:cNvPr id="1041" name=""/>
          <p:cNvGrpSpPr/>
          <p:nvPr/>
        </p:nvGrpSpPr>
        <p:grpSpPr>
          <a:xfrm>
            <a:off x="2590920" y="5562720"/>
            <a:ext cx="677880" cy="252360"/>
            <a:chOff x="2590920" y="5562720"/>
            <a:chExt cx="677880" cy="252360"/>
          </a:xfrm>
        </p:grpSpPr>
        <p:sp>
          <p:nvSpPr>
            <p:cNvPr id="1042" name=""/>
            <p:cNvSpPr/>
            <p:nvPr/>
          </p:nvSpPr>
          <p:spPr>
            <a:xfrm>
              <a:off x="2590920" y="55627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2657520" y="56185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982960" y="57589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662560" y="57117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664360" y="57492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106440" y="56124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48" name=""/>
          <p:cNvGrpSpPr/>
          <p:nvPr/>
        </p:nvGrpSpPr>
        <p:grpSpPr>
          <a:xfrm>
            <a:off x="5257800" y="4267080"/>
            <a:ext cx="677880" cy="252360"/>
            <a:chOff x="5257800" y="4267080"/>
            <a:chExt cx="677880" cy="252360"/>
          </a:xfrm>
        </p:grpSpPr>
        <p:sp>
          <p:nvSpPr>
            <p:cNvPr id="1049" name=""/>
            <p:cNvSpPr/>
            <p:nvPr/>
          </p:nvSpPr>
          <p:spPr>
            <a:xfrm>
              <a:off x="5257800" y="4267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324400" y="4322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649840" y="4463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329440" y="4416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331240" y="4453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73320" y="4316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55" name=""/>
          <p:cNvGrpSpPr/>
          <p:nvPr/>
        </p:nvGrpSpPr>
        <p:grpSpPr>
          <a:xfrm>
            <a:off x="3886200" y="3962520"/>
            <a:ext cx="677880" cy="252360"/>
            <a:chOff x="3886200" y="3962520"/>
            <a:chExt cx="677880" cy="252360"/>
          </a:xfrm>
        </p:grpSpPr>
        <p:sp>
          <p:nvSpPr>
            <p:cNvPr id="1056" name=""/>
            <p:cNvSpPr/>
            <p:nvPr/>
          </p:nvSpPr>
          <p:spPr>
            <a:xfrm>
              <a:off x="3886200" y="39625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3952800" y="40183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278240" y="41587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7840" y="41115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59640" y="41490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401720" y="40122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62" name=""/>
          <p:cNvGrpSpPr/>
          <p:nvPr/>
        </p:nvGrpSpPr>
        <p:grpSpPr>
          <a:xfrm>
            <a:off x="2895480" y="4876920"/>
            <a:ext cx="677880" cy="252360"/>
            <a:chOff x="2895480" y="4876920"/>
            <a:chExt cx="677880" cy="252360"/>
          </a:xfrm>
        </p:grpSpPr>
        <p:sp>
          <p:nvSpPr>
            <p:cNvPr id="1063" name=""/>
            <p:cNvSpPr/>
            <p:nvPr/>
          </p:nvSpPr>
          <p:spPr>
            <a:xfrm>
              <a:off x="2895480" y="4876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2962080" y="4932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87520" y="5073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67120" y="5025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968920" y="5063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411000" y="4926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69" name=""/>
          <p:cNvGrpSpPr/>
          <p:nvPr/>
        </p:nvGrpSpPr>
        <p:grpSpPr>
          <a:xfrm>
            <a:off x="3048120" y="3657600"/>
            <a:ext cx="677880" cy="252360"/>
            <a:chOff x="3048120" y="3657600"/>
            <a:chExt cx="677880" cy="252360"/>
          </a:xfrm>
        </p:grpSpPr>
        <p:sp>
          <p:nvSpPr>
            <p:cNvPr id="1070" name=""/>
            <p:cNvSpPr/>
            <p:nvPr/>
          </p:nvSpPr>
          <p:spPr>
            <a:xfrm>
              <a:off x="3048120" y="365760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3114720" y="371340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440160" y="38538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119760" y="380664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21560" y="38440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563640" y="37072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76" name=""/>
          <p:cNvGrpSpPr/>
          <p:nvPr/>
        </p:nvGrpSpPr>
        <p:grpSpPr>
          <a:xfrm>
            <a:off x="4191120" y="5257800"/>
            <a:ext cx="677880" cy="252360"/>
            <a:chOff x="4191120" y="5257800"/>
            <a:chExt cx="677880" cy="252360"/>
          </a:xfrm>
        </p:grpSpPr>
        <p:sp>
          <p:nvSpPr>
            <p:cNvPr id="1077" name=""/>
            <p:cNvSpPr/>
            <p:nvPr/>
          </p:nvSpPr>
          <p:spPr>
            <a:xfrm>
              <a:off x="4191120" y="525780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H="1">
              <a:off x="4257720" y="531360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583160" y="54540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262760" y="540684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264560" y="54442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706640" y="53074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83" name=""/>
          <p:cNvGrpSpPr/>
          <p:nvPr/>
        </p:nvGrpSpPr>
        <p:grpSpPr>
          <a:xfrm>
            <a:off x="4114800" y="2743200"/>
            <a:ext cx="1477800" cy="874800"/>
            <a:chOff x="4114800" y="2743200"/>
            <a:chExt cx="1477800" cy="874800"/>
          </a:xfrm>
        </p:grpSpPr>
        <p:grpSp>
          <p:nvGrpSpPr>
            <p:cNvPr id="1084" name=""/>
            <p:cNvGrpSpPr/>
            <p:nvPr/>
          </p:nvGrpSpPr>
          <p:grpSpPr>
            <a:xfrm>
              <a:off x="4114800" y="2743200"/>
              <a:ext cx="1477800" cy="874800"/>
              <a:chOff x="4114800" y="2743200"/>
              <a:chExt cx="1477800" cy="874800"/>
            </a:xfrm>
          </p:grpSpPr>
          <p:sp>
            <p:nvSpPr>
              <p:cNvPr id="1085" name=""/>
              <p:cNvSpPr/>
              <p:nvPr/>
            </p:nvSpPr>
            <p:spPr>
              <a:xfrm>
                <a:off x="4114800" y="2743200"/>
                <a:ext cx="1477800" cy="8748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114800" y="2743200"/>
                <a:ext cx="1477800" cy="8748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186440" y="3255480"/>
                <a:ext cx="87120" cy="18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 name=""/>
              <p:cNvSpPr/>
              <p:nvPr/>
            </p:nvSpPr>
            <p:spPr>
              <a:xfrm>
                <a:off x="4314960" y="3450240"/>
                <a:ext cx="35640" cy="900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 name=""/>
              <p:cNvSpPr/>
              <p:nvPr/>
            </p:nvSpPr>
            <p:spPr>
              <a:xfrm>
                <a:off x="4653720" y="3500280"/>
                <a:ext cx="25560" cy="36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90" name=""/>
              <p:cNvSpPr/>
              <p:nvPr/>
            </p:nvSpPr>
            <p:spPr>
              <a:xfrm>
                <a:off x="5089680" y="3445920"/>
                <a:ext cx="10080" cy="4068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91" name=""/>
              <p:cNvSpPr/>
              <p:nvPr/>
            </p:nvSpPr>
            <p:spPr>
              <a:xfrm>
                <a:off x="5284800" y="3210120"/>
                <a:ext cx="107640" cy="1404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495040" y="3051360"/>
                <a:ext cx="51120" cy="54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3" name=""/>
              <p:cNvSpPr/>
              <p:nvPr/>
            </p:nvSpPr>
            <p:spPr>
              <a:xfrm>
                <a:off x="5423400" y="2851920"/>
                <a:ext cx="5040" cy="2700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5110200" y="2788200"/>
                <a:ext cx="25560" cy="36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95" name=""/>
              <p:cNvSpPr/>
              <p:nvPr/>
            </p:nvSpPr>
            <p:spPr>
              <a:xfrm flipH="1">
                <a:off x="4869000" y="2810880"/>
                <a:ext cx="151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6" name=""/>
              <p:cNvSpPr/>
              <p:nvPr/>
            </p:nvSpPr>
            <p:spPr>
              <a:xfrm flipH="1" flipV="1">
                <a:off x="4591800" y="2846880"/>
                <a:ext cx="460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4248000" y="3033360"/>
                <a:ext cx="5040" cy="316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098" name=""/>
            <p:cNvSpPr/>
            <p:nvPr/>
          </p:nvSpPr>
          <p:spPr>
            <a:xfrm>
              <a:off x="4564440" y="2990880"/>
              <a:ext cx="7063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9" name=""/>
          <p:cNvGrpSpPr/>
          <p:nvPr/>
        </p:nvGrpSpPr>
        <p:grpSpPr>
          <a:xfrm>
            <a:off x="5562720" y="1752480"/>
            <a:ext cx="677880" cy="252360"/>
            <a:chOff x="5562720" y="1752480"/>
            <a:chExt cx="677880" cy="252360"/>
          </a:xfrm>
        </p:grpSpPr>
        <p:sp>
          <p:nvSpPr>
            <p:cNvPr id="1100" name=""/>
            <p:cNvSpPr/>
            <p:nvPr/>
          </p:nvSpPr>
          <p:spPr>
            <a:xfrm>
              <a:off x="5562720" y="17524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5629320" y="18082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954760" y="19486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634360" y="19015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636160" y="19389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78240" y="18021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06" name=""/>
          <p:cNvGrpSpPr/>
          <p:nvPr/>
        </p:nvGrpSpPr>
        <p:grpSpPr>
          <a:xfrm>
            <a:off x="7162920" y="1219320"/>
            <a:ext cx="1447560" cy="1098360"/>
            <a:chOff x="7162920" y="1219320"/>
            <a:chExt cx="1447560" cy="1098360"/>
          </a:xfrm>
        </p:grpSpPr>
        <p:sp>
          <p:nvSpPr>
            <p:cNvPr id="1107" name=""/>
            <p:cNvSpPr/>
            <p:nvPr/>
          </p:nvSpPr>
          <p:spPr>
            <a:xfrm>
              <a:off x="7858080" y="1663560"/>
              <a:ext cx="33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8" name=""/>
            <p:cNvGrpSpPr/>
            <p:nvPr/>
          </p:nvGrpSpPr>
          <p:grpSpPr>
            <a:xfrm>
              <a:off x="7238880" y="1219320"/>
              <a:ext cx="662040" cy="763560"/>
              <a:chOff x="7238880" y="1219320"/>
              <a:chExt cx="662040" cy="763560"/>
            </a:xfrm>
          </p:grpSpPr>
          <p:sp>
            <p:nvSpPr>
              <p:cNvPr id="1109" name=""/>
              <p:cNvSpPr/>
              <p:nvPr/>
            </p:nvSpPr>
            <p:spPr>
              <a:xfrm>
                <a:off x="7238880" y="1219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238880" y="1219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238880" y="1219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291080" y="1279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3" name=""/>
              <p:cNvSpPr/>
              <p:nvPr/>
            </p:nvSpPr>
            <p:spPr>
              <a:xfrm>
                <a:off x="7238880" y="1371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594200" y="1263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5" name=""/>
              <p:cNvSpPr/>
              <p:nvPr/>
            </p:nvSpPr>
            <p:spPr>
              <a:xfrm>
                <a:off x="7594200" y="1335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7594200" y="1432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7" name=""/>
              <p:cNvSpPr/>
              <p:nvPr/>
            </p:nvSpPr>
            <p:spPr>
              <a:xfrm>
                <a:off x="7594200" y="1504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8" name=""/>
              <p:cNvSpPr/>
              <p:nvPr/>
            </p:nvSpPr>
            <p:spPr>
              <a:xfrm>
                <a:off x="7594200" y="1368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19" name=""/>
              <p:cNvSpPr/>
              <p:nvPr/>
            </p:nvSpPr>
            <p:spPr>
              <a:xfrm>
                <a:off x="76813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0" name=""/>
              <p:cNvSpPr/>
              <p:nvPr/>
            </p:nvSpPr>
            <p:spPr>
              <a:xfrm>
                <a:off x="7758000" y="1368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1" name=""/>
              <p:cNvSpPr/>
              <p:nvPr/>
            </p:nvSpPr>
            <p:spPr>
              <a:xfrm>
                <a:off x="78451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2" name=""/>
              <p:cNvSpPr/>
              <p:nvPr/>
            </p:nvSpPr>
            <p:spPr>
              <a:xfrm>
                <a:off x="7594200" y="1560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3" name=""/>
              <p:cNvSpPr/>
              <p:nvPr/>
            </p:nvSpPr>
            <p:spPr>
              <a:xfrm>
                <a:off x="76813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4" name=""/>
              <p:cNvSpPr/>
              <p:nvPr/>
            </p:nvSpPr>
            <p:spPr>
              <a:xfrm>
                <a:off x="7758000" y="1560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5" name=""/>
              <p:cNvSpPr/>
              <p:nvPr/>
            </p:nvSpPr>
            <p:spPr>
              <a:xfrm>
                <a:off x="78451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6" name=""/>
              <p:cNvSpPr/>
              <p:nvPr/>
            </p:nvSpPr>
            <p:spPr>
              <a:xfrm>
                <a:off x="7573320" y="1717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73320" y="1219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8083440" y="1441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162920" y="1981080"/>
              <a:ext cx="14475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0" name=""/>
          <p:cNvGrpSpPr/>
          <p:nvPr/>
        </p:nvGrpSpPr>
        <p:grpSpPr>
          <a:xfrm>
            <a:off x="838080" y="5181480"/>
            <a:ext cx="1008360" cy="1022400"/>
            <a:chOff x="838080" y="5181480"/>
            <a:chExt cx="1008360" cy="1022400"/>
          </a:xfrm>
        </p:grpSpPr>
        <p:grpSp>
          <p:nvGrpSpPr>
            <p:cNvPr id="1131" name=""/>
            <p:cNvGrpSpPr/>
            <p:nvPr/>
          </p:nvGrpSpPr>
          <p:grpSpPr>
            <a:xfrm>
              <a:off x="838080" y="5181480"/>
              <a:ext cx="1008360" cy="671760"/>
              <a:chOff x="838080" y="5181480"/>
              <a:chExt cx="1008360" cy="671760"/>
            </a:xfrm>
          </p:grpSpPr>
          <p:sp>
            <p:nvSpPr>
              <p:cNvPr id="1132" name=""/>
              <p:cNvSpPr/>
              <p:nvPr/>
            </p:nvSpPr>
            <p:spPr>
              <a:xfrm>
                <a:off x="1058400" y="5709600"/>
                <a:ext cx="631080" cy="2232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1003320" y="5751360"/>
                <a:ext cx="741240" cy="2628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34" name=""/>
              <p:cNvSpPr/>
              <p:nvPr/>
            </p:nvSpPr>
            <p:spPr>
              <a:xfrm>
                <a:off x="952560" y="5796720"/>
                <a:ext cx="847440" cy="2232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5" name=""/>
              <p:cNvSpPr/>
              <p:nvPr/>
            </p:nvSpPr>
            <p:spPr>
              <a:xfrm>
                <a:off x="838080" y="5181480"/>
                <a:ext cx="100836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193760" y="5253120"/>
                <a:ext cx="411120" cy="298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63280" y="5306040"/>
                <a:ext cx="741600" cy="37728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058400" y="5709600"/>
                <a:ext cx="631080" cy="2232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9" name=""/>
              <p:cNvSpPr/>
              <p:nvPr/>
            </p:nvSpPr>
            <p:spPr>
              <a:xfrm>
                <a:off x="1003320" y="5751360"/>
                <a:ext cx="741240" cy="2628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40" name=""/>
              <p:cNvSpPr/>
              <p:nvPr/>
            </p:nvSpPr>
            <p:spPr>
              <a:xfrm>
                <a:off x="952560" y="5796720"/>
                <a:ext cx="847440" cy="2232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 name=""/>
              <p:cNvSpPr/>
              <p:nvPr/>
            </p:nvSpPr>
            <p:spPr>
              <a:xfrm>
                <a:off x="838080" y="5181480"/>
                <a:ext cx="100836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31320" y="5709600"/>
                <a:ext cx="122760" cy="90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3" name=""/>
              <p:cNvSpPr/>
              <p:nvPr/>
            </p:nvSpPr>
            <p:spPr>
              <a:xfrm>
                <a:off x="1193760" y="5253120"/>
                <a:ext cx="411120" cy="29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63280" y="5306040"/>
                <a:ext cx="16524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5" name=""/>
              <p:cNvSpPr/>
              <p:nvPr/>
            </p:nvSpPr>
            <p:spPr>
              <a:xfrm>
                <a:off x="1193760" y="5622840"/>
                <a:ext cx="411120" cy="60120"/>
              </a:xfrm>
              <a:prstGeom prst="rect">
                <a:avLst/>
              </a:prstGeom>
              <a:no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146" name=""/>
            <p:cNvSpPr/>
            <p:nvPr/>
          </p:nvSpPr>
          <p:spPr>
            <a:xfrm>
              <a:off x="1066680" y="5867280"/>
              <a:ext cx="609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7" name=""/>
          <p:cNvSpPr/>
          <p:nvPr/>
        </p:nvSpPr>
        <p:spPr>
          <a:xfrm>
            <a:off x="685800" y="6019920"/>
            <a:ext cx="31240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971800" y="5791320"/>
            <a:ext cx="0" cy="228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819520" y="5105520"/>
            <a:ext cx="330120" cy="457200"/>
          </a:xfrm>
          <a:custGeom>
            <a:avLst/>
            <a:gdLst/>
            <a:ahLst/>
            <a:rect l="l" t="t" r="r" b="b"/>
            <a:pathLst>
              <a:path w="208" h="288">
                <a:moveTo>
                  <a:pt x="0" y="288"/>
                </a:moveTo>
                <a:cubicBezTo>
                  <a:pt x="88" y="256"/>
                  <a:pt x="176" y="224"/>
                  <a:pt x="192" y="192"/>
                </a:cubicBezTo>
                <a:cubicBezTo>
                  <a:pt x="208" y="160"/>
                  <a:pt x="112" y="128"/>
                  <a:pt x="96" y="96"/>
                </a:cubicBezTo>
                <a:cubicBezTo>
                  <a:pt x="80" y="64"/>
                  <a:pt x="96" y="16"/>
                  <a:pt x="96"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276720" y="5486400"/>
            <a:ext cx="1269720" cy="254160"/>
          </a:xfrm>
          <a:custGeom>
            <a:avLst/>
            <a:gdLst/>
            <a:ahLst/>
            <a:rect l="l" t="t" r="r" b="b"/>
            <a:pathLst>
              <a:path w="800" h="160">
                <a:moveTo>
                  <a:pt x="0" y="96"/>
                </a:moveTo>
                <a:cubicBezTo>
                  <a:pt x="272" y="128"/>
                  <a:pt x="544" y="160"/>
                  <a:pt x="672" y="144"/>
                </a:cubicBezTo>
                <a:cubicBezTo>
                  <a:pt x="800" y="128"/>
                  <a:pt x="752" y="24"/>
                  <a:pt x="768"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6553080" y="4724280"/>
            <a:ext cx="677880" cy="252360"/>
            <a:chOff x="6553080" y="4724280"/>
            <a:chExt cx="677880" cy="252360"/>
          </a:xfrm>
        </p:grpSpPr>
        <p:sp>
          <p:nvSpPr>
            <p:cNvPr id="1152" name=""/>
            <p:cNvSpPr/>
            <p:nvPr/>
          </p:nvSpPr>
          <p:spPr>
            <a:xfrm>
              <a:off x="6553080" y="47242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a:off x="6619680" y="47800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945120" y="49204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624720" y="48733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626520" y="49107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068600" y="47739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158" name=""/>
          <p:cNvSpPr/>
          <p:nvPr/>
        </p:nvSpPr>
        <p:spPr>
          <a:xfrm>
            <a:off x="4572000" y="4076640"/>
            <a:ext cx="685800" cy="343080"/>
          </a:xfrm>
          <a:custGeom>
            <a:avLst/>
            <a:gdLst/>
            <a:ahLst/>
            <a:rect l="l" t="t" r="r" b="b"/>
            <a:pathLst>
              <a:path w="432" h="216">
                <a:moveTo>
                  <a:pt x="0" y="24"/>
                </a:moveTo>
                <a:cubicBezTo>
                  <a:pt x="152" y="12"/>
                  <a:pt x="304" y="0"/>
                  <a:pt x="336" y="24"/>
                </a:cubicBezTo>
                <a:cubicBezTo>
                  <a:pt x="368" y="48"/>
                  <a:pt x="176" y="136"/>
                  <a:pt x="192" y="168"/>
                </a:cubicBezTo>
                <a:cubicBezTo>
                  <a:pt x="208" y="200"/>
                  <a:pt x="392" y="208"/>
                  <a:pt x="432" y="216"/>
                </a:cubicBezTo>
              </a:path>
            </a:pathLst>
          </a:custGeom>
          <a:noFill/>
          <a:ln w="1908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238880" y="4813200"/>
            <a:ext cx="1524240" cy="520920"/>
          </a:xfrm>
          <a:custGeom>
            <a:avLst/>
            <a:gdLst/>
            <a:ahLst/>
            <a:rect l="l" t="t" r="r" b="b"/>
            <a:pathLst>
              <a:path w="960" h="328">
                <a:moveTo>
                  <a:pt x="0" y="40"/>
                </a:moveTo>
                <a:cubicBezTo>
                  <a:pt x="172" y="20"/>
                  <a:pt x="344" y="0"/>
                  <a:pt x="384" y="40"/>
                </a:cubicBezTo>
                <a:cubicBezTo>
                  <a:pt x="424" y="80"/>
                  <a:pt x="144" y="232"/>
                  <a:pt x="240" y="280"/>
                </a:cubicBezTo>
                <a:cubicBezTo>
                  <a:pt x="336" y="328"/>
                  <a:pt x="840" y="320"/>
                  <a:pt x="960" y="328"/>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0" name=""/>
          <p:cNvGrpSpPr/>
          <p:nvPr/>
        </p:nvGrpSpPr>
        <p:grpSpPr>
          <a:xfrm>
            <a:off x="5715000" y="2666880"/>
            <a:ext cx="2247480" cy="1304640"/>
            <a:chOff x="5715000" y="2666880"/>
            <a:chExt cx="2247480" cy="1304640"/>
          </a:xfrm>
        </p:grpSpPr>
        <p:grpSp>
          <p:nvGrpSpPr>
            <p:cNvPr id="1161" name=""/>
            <p:cNvGrpSpPr/>
            <p:nvPr/>
          </p:nvGrpSpPr>
          <p:grpSpPr>
            <a:xfrm>
              <a:off x="5715000" y="2666880"/>
              <a:ext cx="2247480" cy="1304640"/>
              <a:chOff x="5715000" y="2666880"/>
              <a:chExt cx="2247480" cy="1304640"/>
            </a:xfrm>
          </p:grpSpPr>
          <p:sp>
            <p:nvSpPr>
              <p:cNvPr id="1162" name=""/>
              <p:cNvSpPr/>
              <p:nvPr/>
            </p:nvSpPr>
            <p:spPr>
              <a:xfrm>
                <a:off x="5715000" y="26668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715000" y="26668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5824080" y="343080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5" name=""/>
              <p:cNvSpPr/>
              <p:nvPr/>
            </p:nvSpPr>
            <p:spPr>
              <a:xfrm>
                <a:off x="6019200" y="372132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6" name=""/>
              <p:cNvSpPr/>
              <p:nvPr/>
            </p:nvSpPr>
            <p:spPr>
              <a:xfrm>
                <a:off x="6534360" y="379584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7" name=""/>
              <p:cNvSpPr/>
              <p:nvPr/>
            </p:nvSpPr>
            <p:spPr>
              <a:xfrm>
                <a:off x="7197840" y="371448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68" name=""/>
              <p:cNvSpPr/>
              <p:nvPr/>
            </p:nvSpPr>
            <p:spPr>
              <a:xfrm>
                <a:off x="7494120" y="3363120"/>
                <a:ext cx="163800" cy="2095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814160" y="312660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0" name=""/>
              <p:cNvSpPr/>
              <p:nvPr/>
            </p:nvSpPr>
            <p:spPr>
              <a:xfrm>
                <a:off x="7705080" y="282888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1" name=""/>
              <p:cNvSpPr/>
              <p:nvPr/>
            </p:nvSpPr>
            <p:spPr>
              <a:xfrm>
                <a:off x="7229160" y="273420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2" name=""/>
              <p:cNvSpPr/>
              <p:nvPr/>
            </p:nvSpPr>
            <p:spPr>
              <a:xfrm flipH="1">
                <a:off x="6862320" y="276804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3" name=""/>
              <p:cNvSpPr/>
              <p:nvPr/>
            </p:nvSpPr>
            <p:spPr>
              <a:xfrm flipH="1" flipV="1">
                <a:off x="6440400" y="282204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4" name=""/>
              <p:cNvSpPr/>
              <p:nvPr/>
            </p:nvSpPr>
            <p:spPr>
              <a:xfrm>
                <a:off x="5917680" y="309924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75" name=""/>
            <p:cNvSpPr/>
            <p:nvPr/>
          </p:nvSpPr>
          <p:spPr>
            <a:xfrm>
              <a:off x="6399000" y="3036240"/>
              <a:ext cx="1074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6" name=""/>
          <p:cNvGrpSpPr/>
          <p:nvPr/>
        </p:nvGrpSpPr>
        <p:grpSpPr>
          <a:xfrm>
            <a:off x="6553080" y="3809880"/>
            <a:ext cx="677880" cy="252360"/>
            <a:chOff x="6553080" y="3809880"/>
            <a:chExt cx="677880" cy="252360"/>
          </a:xfrm>
        </p:grpSpPr>
        <p:sp>
          <p:nvSpPr>
            <p:cNvPr id="1177" name=""/>
            <p:cNvSpPr/>
            <p:nvPr/>
          </p:nvSpPr>
          <p:spPr>
            <a:xfrm>
              <a:off x="6553080" y="38098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6619680" y="38656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945120" y="40060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624720" y="39589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626520" y="39963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068600" y="38595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183" name=""/>
          <p:cNvSpPr/>
          <p:nvPr/>
        </p:nvSpPr>
        <p:spPr>
          <a:xfrm>
            <a:off x="6934320" y="4038480"/>
            <a:ext cx="1193760" cy="685800"/>
          </a:xfrm>
          <a:custGeom>
            <a:avLst/>
            <a:gdLst/>
            <a:ahLst/>
            <a:rect l="l" t="t" r="r" b="b"/>
            <a:pathLst>
              <a:path w="752" h="432">
                <a:moveTo>
                  <a:pt x="0" y="432"/>
                </a:moveTo>
                <a:cubicBezTo>
                  <a:pt x="344" y="324"/>
                  <a:pt x="688" y="216"/>
                  <a:pt x="720" y="144"/>
                </a:cubicBezTo>
                <a:cubicBezTo>
                  <a:pt x="752" y="72"/>
                  <a:pt x="280" y="24"/>
                  <a:pt x="192" y="0"/>
                </a:cubicBezTo>
              </a:path>
            </a:pathLst>
          </a:custGeom>
          <a:noFill/>
          <a:ln w="381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4" name=""/>
          <p:cNvGrpSpPr/>
          <p:nvPr/>
        </p:nvGrpSpPr>
        <p:grpSpPr>
          <a:xfrm>
            <a:off x="5410080" y="3124080"/>
            <a:ext cx="677880" cy="252360"/>
            <a:chOff x="5410080" y="3124080"/>
            <a:chExt cx="677880" cy="252360"/>
          </a:xfrm>
        </p:grpSpPr>
        <p:sp>
          <p:nvSpPr>
            <p:cNvPr id="1185" name=""/>
            <p:cNvSpPr/>
            <p:nvPr/>
          </p:nvSpPr>
          <p:spPr>
            <a:xfrm>
              <a:off x="5410080" y="3124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5476680" y="3179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802120" y="3320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481720" y="3273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83520" y="3310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925600" y="3173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91" name=""/>
          <p:cNvGrpSpPr/>
          <p:nvPr/>
        </p:nvGrpSpPr>
        <p:grpSpPr>
          <a:xfrm>
            <a:off x="3809880" y="2971800"/>
            <a:ext cx="677880" cy="252360"/>
            <a:chOff x="3809880" y="2971800"/>
            <a:chExt cx="677880" cy="252360"/>
          </a:xfrm>
        </p:grpSpPr>
        <p:sp>
          <p:nvSpPr>
            <p:cNvPr id="1192" name=""/>
            <p:cNvSpPr/>
            <p:nvPr/>
          </p:nvSpPr>
          <p:spPr>
            <a:xfrm>
              <a:off x="3809880" y="297180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3876480" y="302760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201920" y="31680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81520" y="312084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883320" y="31582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325400" y="30214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98" name=""/>
          <p:cNvGrpSpPr/>
          <p:nvPr/>
        </p:nvGrpSpPr>
        <p:grpSpPr>
          <a:xfrm>
            <a:off x="2057400" y="2057400"/>
            <a:ext cx="1477800" cy="874800"/>
            <a:chOff x="2057400" y="2057400"/>
            <a:chExt cx="1477800" cy="874800"/>
          </a:xfrm>
        </p:grpSpPr>
        <p:grpSp>
          <p:nvGrpSpPr>
            <p:cNvPr id="1199" name=""/>
            <p:cNvGrpSpPr/>
            <p:nvPr/>
          </p:nvGrpSpPr>
          <p:grpSpPr>
            <a:xfrm>
              <a:off x="2057400" y="2057400"/>
              <a:ext cx="1477800" cy="874800"/>
              <a:chOff x="2057400" y="2057400"/>
              <a:chExt cx="1477800" cy="874800"/>
            </a:xfrm>
          </p:grpSpPr>
          <p:sp>
            <p:nvSpPr>
              <p:cNvPr id="1200" name=""/>
              <p:cNvSpPr/>
              <p:nvPr/>
            </p:nvSpPr>
            <p:spPr>
              <a:xfrm>
                <a:off x="2057400" y="2057400"/>
                <a:ext cx="1477800" cy="8748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057400" y="2057400"/>
                <a:ext cx="1477800" cy="8748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129040" y="2569680"/>
                <a:ext cx="87120" cy="18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3" name=""/>
              <p:cNvSpPr/>
              <p:nvPr/>
            </p:nvSpPr>
            <p:spPr>
              <a:xfrm>
                <a:off x="2257560" y="2764440"/>
                <a:ext cx="35640" cy="900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 name=""/>
              <p:cNvSpPr/>
              <p:nvPr/>
            </p:nvSpPr>
            <p:spPr>
              <a:xfrm>
                <a:off x="2596320" y="2814480"/>
                <a:ext cx="25560" cy="36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05" name=""/>
              <p:cNvSpPr/>
              <p:nvPr/>
            </p:nvSpPr>
            <p:spPr>
              <a:xfrm>
                <a:off x="3032280" y="2760120"/>
                <a:ext cx="10080" cy="4068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6" name=""/>
              <p:cNvSpPr/>
              <p:nvPr/>
            </p:nvSpPr>
            <p:spPr>
              <a:xfrm>
                <a:off x="3227400" y="2524320"/>
                <a:ext cx="107640" cy="1404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3437640" y="2365560"/>
                <a:ext cx="51120" cy="54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8" name=""/>
              <p:cNvSpPr/>
              <p:nvPr/>
            </p:nvSpPr>
            <p:spPr>
              <a:xfrm>
                <a:off x="3366000" y="2166120"/>
                <a:ext cx="5040" cy="2700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9" name=""/>
              <p:cNvSpPr/>
              <p:nvPr/>
            </p:nvSpPr>
            <p:spPr>
              <a:xfrm>
                <a:off x="3052800" y="2102400"/>
                <a:ext cx="25560" cy="36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0" name=""/>
              <p:cNvSpPr/>
              <p:nvPr/>
            </p:nvSpPr>
            <p:spPr>
              <a:xfrm flipH="1">
                <a:off x="2811600" y="2125080"/>
                <a:ext cx="151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1" name=""/>
              <p:cNvSpPr/>
              <p:nvPr/>
            </p:nvSpPr>
            <p:spPr>
              <a:xfrm flipH="1" flipV="1">
                <a:off x="2534400" y="2161080"/>
                <a:ext cx="460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2" name=""/>
              <p:cNvSpPr/>
              <p:nvPr/>
            </p:nvSpPr>
            <p:spPr>
              <a:xfrm>
                <a:off x="2190600" y="2347560"/>
                <a:ext cx="5040" cy="316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213" name=""/>
            <p:cNvSpPr/>
            <p:nvPr/>
          </p:nvSpPr>
          <p:spPr>
            <a:xfrm>
              <a:off x="2507040" y="2305080"/>
              <a:ext cx="7063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
          <p:cNvGrpSpPr/>
          <p:nvPr/>
        </p:nvGrpSpPr>
        <p:grpSpPr>
          <a:xfrm>
            <a:off x="2971800" y="2514600"/>
            <a:ext cx="677880" cy="252360"/>
            <a:chOff x="2971800" y="2514600"/>
            <a:chExt cx="677880" cy="252360"/>
          </a:xfrm>
        </p:grpSpPr>
        <p:sp>
          <p:nvSpPr>
            <p:cNvPr id="1215" name=""/>
            <p:cNvSpPr/>
            <p:nvPr/>
          </p:nvSpPr>
          <p:spPr>
            <a:xfrm>
              <a:off x="2971800" y="251460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3038400" y="257040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363840" y="27108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043440" y="266364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045240" y="27010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487320" y="25642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221" name=""/>
          <p:cNvSpPr/>
          <p:nvPr/>
        </p:nvSpPr>
        <p:spPr>
          <a:xfrm>
            <a:off x="5562720" y="2209680"/>
            <a:ext cx="31240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772400" y="1981080"/>
            <a:ext cx="0" cy="228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019920" y="1981080"/>
            <a:ext cx="0" cy="228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4" name=""/>
          <p:cNvGrpSpPr/>
          <p:nvPr/>
        </p:nvGrpSpPr>
        <p:grpSpPr>
          <a:xfrm>
            <a:off x="3581280" y="1447920"/>
            <a:ext cx="1478160" cy="874440"/>
            <a:chOff x="3581280" y="1447920"/>
            <a:chExt cx="1478160" cy="874440"/>
          </a:xfrm>
        </p:grpSpPr>
        <p:grpSp>
          <p:nvGrpSpPr>
            <p:cNvPr id="1225" name=""/>
            <p:cNvGrpSpPr/>
            <p:nvPr/>
          </p:nvGrpSpPr>
          <p:grpSpPr>
            <a:xfrm>
              <a:off x="3581280" y="1447920"/>
              <a:ext cx="1478160" cy="874440"/>
              <a:chOff x="3581280" y="1447920"/>
              <a:chExt cx="1478160" cy="874440"/>
            </a:xfrm>
          </p:grpSpPr>
          <p:sp>
            <p:nvSpPr>
              <p:cNvPr id="1226" name=""/>
              <p:cNvSpPr/>
              <p:nvPr/>
            </p:nvSpPr>
            <p:spPr>
              <a:xfrm>
                <a:off x="3581280" y="144792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581280" y="144792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52920" y="1959840"/>
                <a:ext cx="87120" cy="18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9" name=""/>
              <p:cNvSpPr/>
              <p:nvPr/>
            </p:nvSpPr>
            <p:spPr>
              <a:xfrm>
                <a:off x="3781440" y="2154600"/>
                <a:ext cx="35640" cy="900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 name=""/>
              <p:cNvSpPr/>
              <p:nvPr/>
            </p:nvSpPr>
            <p:spPr>
              <a:xfrm>
                <a:off x="4120200" y="2204640"/>
                <a:ext cx="25560" cy="36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1" name=""/>
              <p:cNvSpPr/>
              <p:nvPr/>
            </p:nvSpPr>
            <p:spPr>
              <a:xfrm>
                <a:off x="4556520" y="2150280"/>
                <a:ext cx="10080" cy="4068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32" name=""/>
              <p:cNvSpPr/>
              <p:nvPr/>
            </p:nvSpPr>
            <p:spPr>
              <a:xfrm>
                <a:off x="4751640" y="1914480"/>
                <a:ext cx="107640" cy="1404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961880" y="1756080"/>
                <a:ext cx="51120" cy="54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4" name=""/>
              <p:cNvSpPr/>
              <p:nvPr/>
            </p:nvSpPr>
            <p:spPr>
              <a:xfrm>
                <a:off x="4890240" y="1556640"/>
                <a:ext cx="5040" cy="2700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5" name=""/>
              <p:cNvSpPr/>
              <p:nvPr/>
            </p:nvSpPr>
            <p:spPr>
              <a:xfrm>
                <a:off x="4577040" y="1492920"/>
                <a:ext cx="25560" cy="36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6" name=""/>
              <p:cNvSpPr/>
              <p:nvPr/>
            </p:nvSpPr>
            <p:spPr>
              <a:xfrm flipH="1">
                <a:off x="4335840" y="1515600"/>
                <a:ext cx="151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7" name=""/>
              <p:cNvSpPr/>
              <p:nvPr/>
            </p:nvSpPr>
            <p:spPr>
              <a:xfrm flipH="1" flipV="1">
                <a:off x="4058640" y="1551600"/>
                <a:ext cx="460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8" name=""/>
              <p:cNvSpPr/>
              <p:nvPr/>
            </p:nvSpPr>
            <p:spPr>
              <a:xfrm>
                <a:off x="3714480" y="1737720"/>
                <a:ext cx="5040" cy="316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239" name=""/>
            <p:cNvSpPr/>
            <p:nvPr/>
          </p:nvSpPr>
          <p:spPr>
            <a:xfrm>
              <a:off x="4030920" y="1695600"/>
              <a:ext cx="7066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0" name=""/>
          <p:cNvGrpSpPr/>
          <p:nvPr/>
        </p:nvGrpSpPr>
        <p:grpSpPr>
          <a:xfrm>
            <a:off x="3200400" y="1981080"/>
            <a:ext cx="677880" cy="252360"/>
            <a:chOff x="3200400" y="1981080"/>
            <a:chExt cx="677880" cy="252360"/>
          </a:xfrm>
        </p:grpSpPr>
        <p:sp>
          <p:nvSpPr>
            <p:cNvPr id="1241" name=""/>
            <p:cNvSpPr/>
            <p:nvPr/>
          </p:nvSpPr>
          <p:spPr>
            <a:xfrm>
              <a:off x="3200400" y="1981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H="1">
              <a:off x="3267000" y="2036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592440" y="2177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72040" y="2130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273840" y="2167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715920" y="2030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47" name=""/>
          <p:cNvGrpSpPr/>
          <p:nvPr/>
        </p:nvGrpSpPr>
        <p:grpSpPr>
          <a:xfrm>
            <a:off x="1676520" y="2514600"/>
            <a:ext cx="677880" cy="252360"/>
            <a:chOff x="1676520" y="2514600"/>
            <a:chExt cx="677880" cy="252360"/>
          </a:xfrm>
        </p:grpSpPr>
        <p:sp>
          <p:nvSpPr>
            <p:cNvPr id="1248" name=""/>
            <p:cNvSpPr/>
            <p:nvPr/>
          </p:nvSpPr>
          <p:spPr>
            <a:xfrm>
              <a:off x="1676520" y="251460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1743120" y="257040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2068560" y="27108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748160" y="266364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749960" y="27010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92040" y="25642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54" name=""/>
          <p:cNvGrpSpPr/>
          <p:nvPr/>
        </p:nvGrpSpPr>
        <p:grpSpPr>
          <a:xfrm>
            <a:off x="4648320" y="1447920"/>
            <a:ext cx="677880" cy="252360"/>
            <a:chOff x="4648320" y="1447920"/>
            <a:chExt cx="677880" cy="252360"/>
          </a:xfrm>
        </p:grpSpPr>
        <p:sp>
          <p:nvSpPr>
            <p:cNvPr id="1255" name=""/>
            <p:cNvSpPr/>
            <p:nvPr/>
          </p:nvSpPr>
          <p:spPr>
            <a:xfrm>
              <a:off x="4648320" y="1447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714920" y="1503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040360" y="1644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719960" y="1596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721760" y="1634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163840" y="1497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61" name=""/>
          <p:cNvGrpSpPr/>
          <p:nvPr/>
        </p:nvGrpSpPr>
        <p:grpSpPr>
          <a:xfrm>
            <a:off x="1828800" y="4038480"/>
            <a:ext cx="677880" cy="252360"/>
            <a:chOff x="1828800" y="4038480"/>
            <a:chExt cx="677880" cy="252360"/>
          </a:xfrm>
        </p:grpSpPr>
        <p:sp>
          <p:nvSpPr>
            <p:cNvPr id="1262" name=""/>
            <p:cNvSpPr/>
            <p:nvPr/>
          </p:nvSpPr>
          <p:spPr>
            <a:xfrm>
              <a:off x="1828800" y="40384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895400" y="40942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220840" y="42346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900440" y="41875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902240" y="42249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344320" y="40881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268" name=""/>
          <p:cNvSpPr/>
          <p:nvPr/>
        </p:nvSpPr>
        <p:spPr>
          <a:xfrm>
            <a:off x="1282680" y="2743200"/>
            <a:ext cx="927000" cy="1295280"/>
          </a:xfrm>
          <a:custGeom>
            <a:avLst/>
            <a:gdLst/>
            <a:ahLst/>
            <a:rect l="l" t="t" r="r" b="b"/>
            <a:pathLst>
              <a:path w="584" h="816">
                <a:moveTo>
                  <a:pt x="488" y="816"/>
                </a:moveTo>
                <a:cubicBezTo>
                  <a:pt x="244" y="712"/>
                  <a:pt x="0" y="608"/>
                  <a:pt x="8" y="528"/>
                </a:cubicBezTo>
                <a:cubicBezTo>
                  <a:pt x="16" y="448"/>
                  <a:pt x="488" y="424"/>
                  <a:pt x="536" y="336"/>
                </a:cubicBezTo>
                <a:cubicBezTo>
                  <a:pt x="584" y="248"/>
                  <a:pt x="440" y="124"/>
                  <a:pt x="296"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57200" y="2133720"/>
            <a:ext cx="1219320" cy="533160"/>
          </a:xfrm>
          <a:custGeom>
            <a:avLst/>
            <a:gdLst/>
            <a:ahLst/>
            <a:rect l="l" t="t" r="r" b="b"/>
            <a:pathLst>
              <a:path w="768" h="336">
                <a:moveTo>
                  <a:pt x="768" y="336"/>
                </a:moveTo>
                <a:cubicBezTo>
                  <a:pt x="540" y="332"/>
                  <a:pt x="312" y="328"/>
                  <a:pt x="288" y="288"/>
                </a:cubicBezTo>
                <a:cubicBezTo>
                  <a:pt x="264" y="248"/>
                  <a:pt x="672" y="144"/>
                  <a:pt x="624" y="96"/>
                </a:cubicBezTo>
                <a:cubicBezTo>
                  <a:pt x="576" y="48"/>
                  <a:pt x="104" y="16"/>
                  <a:pt x="0"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130720" y="1473120"/>
            <a:ext cx="762120" cy="432000"/>
          </a:xfrm>
          <a:custGeom>
            <a:avLst/>
            <a:gdLst/>
            <a:ahLst/>
            <a:rect l="l" t="t" r="r" b="b"/>
            <a:pathLst>
              <a:path w="480" h="272">
                <a:moveTo>
                  <a:pt x="128" y="32"/>
                </a:moveTo>
                <a:cubicBezTo>
                  <a:pt x="304" y="16"/>
                  <a:pt x="480" y="0"/>
                  <a:pt x="464" y="32"/>
                </a:cubicBezTo>
                <a:cubicBezTo>
                  <a:pt x="448" y="64"/>
                  <a:pt x="64" y="184"/>
                  <a:pt x="32" y="224"/>
                </a:cubicBezTo>
                <a:cubicBezTo>
                  <a:pt x="0" y="264"/>
                  <a:pt x="232" y="264"/>
                  <a:pt x="272" y="272"/>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149640" y="2666880"/>
            <a:ext cx="1041480" cy="520920"/>
          </a:xfrm>
          <a:custGeom>
            <a:avLst/>
            <a:gdLst/>
            <a:ahLst/>
            <a:rect l="l" t="t" r="r" b="b"/>
            <a:pathLst>
              <a:path w="656" h="328">
                <a:moveTo>
                  <a:pt x="416" y="288"/>
                </a:moveTo>
                <a:cubicBezTo>
                  <a:pt x="208" y="308"/>
                  <a:pt x="0" y="328"/>
                  <a:pt x="32" y="288"/>
                </a:cubicBezTo>
                <a:cubicBezTo>
                  <a:pt x="64" y="248"/>
                  <a:pt x="560" y="96"/>
                  <a:pt x="608" y="48"/>
                </a:cubicBezTo>
                <a:cubicBezTo>
                  <a:pt x="656" y="0"/>
                  <a:pt x="368" y="8"/>
                  <a:pt x="320" y="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371600" y="5867280"/>
            <a:ext cx="0" cy="152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0880" y="4140360"/>
            <a:ext cx="1447920" cy="507960"/>
          </a:xfrm>
          <a:custGeom>
            <a:avLst/>
            <a:gdLst/>
            <a:ahLst/>
            <a:rect l="l" t="t" r="r" b="b"/>
            <a:pathLst>
              <a:path w="912" h="320">
                <a:moveTo>
                  <a:pt x="912" y="32"/>
                </a:moveTo>
                <a:cubicBezTo>
                  <a:pt x="668" y="16"/>
                  <a:pt x="424" y="0"/>
                  <a:pt x="384" y="32"/>
                </a:cubicBezTo>
                <a:cubicBezTo>
                  <a:pt x="344" y="64"/>
                  <a:pt x="736" y="176"/>
                  <a:pt x="672" y="224"/>
                </a:cubicBezTo>
                <a:cubicBezTo>
                  <a:pt x="608" y="272"/>
                  <a:pt x="112" y="304"/>
                  <a:pt x="0" y="320"/>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960480" y="6099120"/>
            <a:ext cx="754200" cy="98640"/>
            <a:chOff x="960480" y="6099120"/>
            <a:chExt cx="754200" cy="98640"/>
          </a:xfrm>
        </p:grpSpPr>
        <p:sp>
          <p:nvSpPr>
            <p:cNvPr id="1275" name=""/>
            <p:cNvSpPr/>
            <p:nvPr/>
          </p:nvSpPr>
          <p:spPr>
            <a:xfrm>
              <a:off x="960480" y="6099120"/>
              <a:ext cx="592560" cy="98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553040" y="6099120"/>
              <a:ext cx="161640" cy="98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1255320" y="5164200"/>
            <a:ext cx="611640" cy="699120"/>
            <a:chOff x="1255320" y="5164200"/>
            <a:chExt cx="611640" cy="699120"/>
          </a:xfrm>
        </p:grpSpPr>
        <p:sp>
          <p:nvSpPr>
            <p:cNvPr id="1278" name=""/>
            <p:cNvSpPr/>
            <p:nvPr/>
          </p:nvSpPr>
          <p:spPr>
            <a:xfrm rot="240000">
              <a:off x="1458360" y="5169600"/>
              <a:ext cx="166680" cy="161640"/>
            </a:xfrm>
            <a:custGeom>
              <a:avLst/>
              <a:gdLst/>
              <a:ahLst/>
              <a:rect l="l" t="t" r="r" b="b"/>
              <a:pathLst>
                <a:path w="525" h="510">
                  <a:moveTo>
                    <a:pt x="108" y="23"/>
                  </a:moveTo>
                  <a:lnTo>
                    <a:pt x="167" y="0"/>
                  </a:lnTo>
                  <a:lnTo>
                    <a:pt x="209" y="17"/>
                  </a:lnTo>
                  <a:lnTo>
                    <a:pt x="254" y="72"/>
                  </a:lnTo>
                  <a:lnTo>
                    <a:pt x="282" y="152"/>
                  </a:lnTo>
                  <a:lnTo>
                    <a:pt x="285" y="208"/>
                  </a:lnTo>
                  <a:lnTo>
                    <a:pt x="289" y="280"/>
                  </a:lnTo>
                  <a:lnTo>
                    <a:pt x="476" y="277"/>
                  </a:lnTo>
                  <a:lnTo>
                    <a:pt x="525" y="288"/>
                  </a:lnTo>
                  <a:lnTo>
                    <a:pt x="519" y="322"/>
                  </a:lnTo>
                  <a:lnTo>
                    <a:pt x="418" y="308"/>
                  </a:lnTo>
                  <a:lnTo>
                    <a:pt x="285" y="329"/>
                  </a:lnTo>
                  <a:lnTo>
                    <a:pt x="258" y="401"/>
                  </a:lnTo>
                  <a:lnTo>
                    <a:pt x="220" y="464"/>
                  </a:lnTo>
                  <a:lnTo>
                    <a:pt x="174" y="488"/>
                  </a:lnTo>
                  <a:lnTo>
                    <a:pt x="125" y="510"/>
                  </a:lnTo>
                  <a:lnTo>
                    <a:pt x="90" y="496"/>
                  </a:lnTo>
                  <a:lnTo>
                    <a:pt x="41" y="440"/>
                  </a:lnTo>
                  <a:lnTo>
                    <a:pt x="7" y="371"/>
                  </a:lnTo>
                  <a:lnTo>
                    <a:pt x="0" y="312"/>
                  </a:lnTo>
                  <a:lnTo>
                    <a:pt x="18" y="193"/>
                  </a:lnTo>
                  <a:lnTo>
                    <a:pt x="59" y="104"/>
                  </a:lnTo>
                  <a:lnTo>
                    <a:pt x="90" y="52"/>
                  </a:lnTo>
                  <a:lnTo>
                    <a:pt x="128" y="20"/>
                  </a:lnTo>
                  <a:lnTo>
                    <a:pt x="108" y="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rot="240000">
              <a:off x="1523880" y="5335920"/>
              <a:ext cx="341280" cy="60120"/>
            </a:xfrm>
            <a:custGeom>
              <a:avLst/>
              <a:gdLst/>
              <a:ahLst/>
              <a:rect l="l" t="t" r="r" b="b"/>
              <a:pathLst>
                <a:path w="1075" h="190">
                  <a:moveTo>
                    <a:pt x="0" y="121"/>
                  </a:moveTo>
                  <a:lnTo>
                    <a:pt x="90" y="91"/>
                  </a:lnTo>
                  <a:lnTo>
                    <a:pt x="282" y="77"/>
                  </a:lnTo>
                  <a:lnTo>
                    <a:pt x="442" y="63"/>
                  </a:lnTo>
                  <a:lnTo>
                    <a:pt x="620" y="35"/>
                  </a:lnTo>
                  <a:lnTo>
                    <a:pt x="751" y="31"/>
                  </a:lnTo>
                  <a:lnTo>
                    <a:pt x="925" y="11"/>
                  </a:lnTo>
                  <a:lnTo>
                    <a:pt x="1072" y="0"/>
                  </a:lnTo>
                  <a:lnTo>
                    <a:pt x="1075" y="22"/>
                  </a:lnTo>
                  <a:lnTo>
                    <a:pt x="1040" y="49"/>
                  </a:lnTo>
                  <a:lnTo>
                    <a:pt x="908" y="49"/>
                  </a:lnTo>
                  <a:lnTo>
                    <a:pt x="919" y="83"/>
                  </a:lnTo>
                  <a:lnTo>
                    <a:pt x="901" y="125"/>
                  </a:lnTo>
                  <a:lnTo>
                    <a:pt x="866" y="152"/>
                  </a:lnTo>
                  <a:lnTo>
                    <a:pt x="811" y="152"/>
                  </a:lnTo>
                  <a:lnTo>
                    <a:pt x="765" y="138"/>
                  </a:lnTo>
                  <a:lnTo>
                    <a:pt x="748" y="94"/>
                  </a:lnTo>
                  <a:lnTo>
                    <a:pt x="748" y="66"/>
                  </a:lnTo>
                  <a:lnTo>
                    <a:pt x="623" y="69"/>
                  </a:lnTo>
                  <a:lnTo>
                    <a:pt x="571" y="83"/>
                  </a:lnTo>
                  <a:lnTo>
                    <a:pt x="466" y="111"/>
                  </a:lnTo>
                  <a:lnTo>
                    <a:pt x="316" y="129"/>
                  </a:lnTo>
                  <a:lnTo>
                    <a:pt x="191" y="132"/>
                  </a:lnTo>
                  <a:lnTo>
                    <a:pt x="108" y="149"/>
                  </a:lnTo>
                  <a:lnTo>
                    <a:pt x="32" y="190"/>
                  </a:lnTo>
                  <a:lnTo>
                    <a:pt x="0" y="149"/>
                  </a:lnTo>
                  <a:lnTo>
                    <a:pt x="21" y="111"/>
                  </a:lnTo>
                  <a:lnTo>
                    <a:pt x="38" y="101"/>
                  </a:lnTo>
                  <a:lnTo>
                    <a:pt x="0" y="121"/>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0" name=""/>
            <p:cNvSpPr/>
            <p:nvPr/>
          </p:nvSpPr>
          <p:spPr>
            <a:xfrm rot="240000">
              <a:off x="1409040" y="5334840"/>
              <a:ext cx="133560" cy="277920"/>
            </a:xfrm>
            <a:custGeom>
              <a:avLst/>
              <a:gdLst/>
              <a:ahLst/>
              <a:rect l="l" t="t" r="r" b="b"/>
              <a:pathLst>
                <a:path w="420" h="874">
                  <a:moveTo>
                    <a:pt x="187" y="0"/>
                  </a:moveTo>
                  <a:lnTo>
                    <a:pt x="239" y="9"/>
                  </a:lnTo>
                  <a:lnTo>
                    <a:pt x="301" y="9"/>
                  </a:lnTo>
                  <a:lnTo>
                    <a:pt x="385" y="51"/>
                  </a:lnTo>
                  <a:lnTo>
                    <a:pt x="416" y="135"/>
                  </a:lnTo>
                  <a:lnTo>
                    <a:pt x="420" y="249"/>
                  </a:lnTo>
                  <a:lnTo>
                    <a:pt x="388" y="377"/>
                  </a:lnTo>
                  <a:lnTo>
                    <a:pt x="333" y="499"/>
                  </a:lnTo>
                  <a:lnTo>
                    <a:pt x="292" y="603"/>
                  </a:lnTo>
                  <a:lnTo>
                    <a:pt x="249" y="748"/>
                  </a:lnTo>
                  <a:lnTo>
                    <a:pt x="200" y="835"/>
                  </a:lnTo>
                  <a:lnTo>
                    <a:pt x="139" y="874"/>
                  </a:lnTo>
                  <a:lnTo>
                    <a:pt x="86" y="874"/>
                  </a:lnTo>
                  <a:lnTo>
                    <a:pt x="24" y="835"/>
                  </a:lnTo>
                  <a:lnTo>
                    <a:pt x="0" y="779"/>
                  </a:lnTo>
                  <a:lnTo>
                    <a:pt x="0" y="689"/>
                  </a:lnTo>
                  <a:lnTo>
                    <a:pt x="34" y="571"/>
                  </a:lnTo>
                  <a:lnTo>
                    <a:pt x="63" y="409"/>
                  </a:lnTo>
                  <a:lnTo>
                    <a:pt x="72" y="207"/>
                  </a:lnTo>
                  <a:lnTo>
                    <a:pt x="55" y="55"/>
                  </a:lnTo>
                  <a:lnTo>
                    <a:pt x="107" y="3"/>
                  </a:lnTo>
                  <a:lnTo>
                    <a:pt x="1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rot="240000">
              <a:off x="1290960" y="5338440"/>
              <a:ext cx="152280" cy="247680"/>
            </a:xfrm>
            <a:custGeom>
              <a:avLst/>
              <a:gdLst/>
              <a:ahLst/>
              <a:rect l="l" t="t" r="r" b="b"/>
              <a:pathLst>
                <a:path w="480" h="781">
                  <a:moveTo>
                    <a:pt x="365" y="31"/>
                  </a:moveTo>
                  <a:lnTo>
                    <a:pt x="417" y="0"/>
                  </a:lnTo>
                  <a:lnTo>
                    <a:pt x="456" y="0"/>
                  </a:lnTo>
                  <a:lnTo>
                    <a:pt x="480" y="24"/>
                  </a:lnTo>
                  <a:lnTo>
                    <a:pt x="466" y="72"/>
                  </a:lnTo>
                  <a:lnTo>
                    <a:pt x="434" y="104"/>
                  </a:lnTo>
                  <a:lnTo>
                    <a:pt x="376" y="135"/>
                  </a:lnTo>
                  <a:lnTo>
                    <a:pt x="261" y="180"/>
                  </a:lnTo>
                  <a:lnTo>
                    <a:pt x="115" y="260"/>
                  </a:lnTo>
                  <a:lnTo>
                    <a:pt x="60" y="263"/>
                  </a:lnTo>
                  <a:lnTo>
                    <a:pt x="91" y="337"/>
                  </a:lnTo>
                  <a:lnTo>
                    <a:pt x="153" y="416"/>
                  </a:lnTo>
                  <a:lnTo>
                    <a:pt x="205" y="514"/>
                  </a:lnTo>
                  <a:lnTo>
                    <a:pt x="226" y="615"/>
                  </a:lnTo>
                  <a:lnTo>
                    <a:pt x="216" y="645"/>
                  </a:lnTo>
                  <a:lnTo>
                    <a:pt x="185" y="667"/>
                  </a:lnTo>
                  <a:lnTo>
                    <a:pt x="143" y="680"/>
                  </a:lnTo>
                  <a:lnTo>
                    <a:pt x="101" y="711"/>
                  </a:lnTo>
                  <a:lnTo>
                    <a:pt x="84" y="743"/>
                  </a:lnTo>
                  <a:lnTo>
                    <a:pt x="74" y="781"/>
                  </a:lnTo>
                  <a:lnTo>
                    <a:pt x="42" y="781"/>
                  </a:lnTo>
                  <a:lnTo>
                    <a:pt x="31" y="753"/>
                  </a:lnTo>
                  <a:lnTo>
                    <a:pt x="52" y="708"/>
                  </a:lnTo>
                  <a:lnTo>
                    <a:pt x="112" y="677"/>
                  </a:lnTo>
                  <a:lnTo>
                    <a:pt x="147" y="645"/>
                  </a:lnTo>
                  <a:lnTo>
                    <a:pt x="178" y="628"/>
                  </a:lnTo>
                  <a:lnTo>
                    <a:pt x="188" y="597"/>
                  </a:lnTo>
                  <a:lnTo>
                    <a:pt x="174" y="514"/>
                  </a:lnTo>
                  <a:lnTo>
                    <a:pt x="126" y="451"/>
                  </a:lnTo>
                  <a:lnTo>
                    <a:pt x="84" y="396"/>
                  </a:lnTo>
                  <a:lnTo>
                    <a:pt x="31" y="333"/>
                  </a:lnTo>
                  <a:lnTo>
                    <a:pt x="0" y="274"/>
                  </a:lnTo>
                  <a:lnTo>
                    <a:pt x="0" y="239"/>
                  </a:lnTo>
                  <a:lnTo>
                    <a:pt x="28" y="222"/>
                  </a:lnTo>
                  <a:lnTo>
                    <a:pt x="136" y="159"/>
                  </a:lnTo>
                  <a:lnTo>
                    <a:pt x="240" y="104"/>
                  </a:lnTo>
                  <a:lnTo>
                    <a:pt x="344" y="52"/>
                  </a:lnTo>
                  <a:lnTo>
                    <a:pt x="365"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rot="240000">
              <a:off x="1422000" y="5589360"/>
              <a:ext cx="101520" cy="268200"/>
            </a:xfrm>
            <a:custGeom>
              <a:avLst/>
              <a:gdLst/>
              <a:ahLst/>
              <a:rect l="l" t="t" r="r" b="b"/>
              <a:pathLst>
                <a:path w="320" h="846">
                  <a:moveTo>
                    <a:pt x="60" y="98"/>
                  </a:moveTo>
                  <a:lnTo>
                    <a:pt x="18" y="43"/>
                  </a:lnTo>
                  <a:lnTo>
                    <a:pt x="32" y="0"/>
                  </a:lnTo>
                  <a:lnTo>
                    <a:pt x="74" y="0"/>
                  </a:lnTo>
                  <a:lnTo>
                    <a:pt x="122" y="46"/>
                  </a:lnTo>
                  <a:lnTo>
                    <a:pt x="185" y="139"/>
                  </a:lnTo>
                  <a:lnTo>
                    <a:pt x="220" y="230"/>
                  </a:lnTo>
                  <a:lnTo>
                    <a:pt x="251" y="317"/>
                  </a:lnTo>
                  <a:lnTo>
                    <a:pt x="261" y="396"/>
                  </a:lnTo>
                  <a:lnTo>
                    <a:pt x="258" y="438"/>
                  </a:lnTo>
                  <a:lnTo>
                    <a:pt x="226" y="490"/>
                  </a:lnTo>
                  <a:lnTo>
                    <a:pt x="174" y="629"/>
                  </a:lnTo>
                  <a:lnTo>
                    <a:pt x="115" y="708"/>
                  </a:lnTo>
                  <a:lnTo>
                    <a:pt x="101" y="743"/>
                  </a:lnTo>
                  <a:lnTo>
                    <a:pt x="157" y="750"/>
                  </a:lnTo>
                  <a:lnTo>
                    <a:pt x="230" y="750"/>
                  </a:lnTo>
                  <a:lnTo>
                    <a:pt x="320" y="780"/>
                  </a:lnTo>
                  <a:lnTo>
                    <a:pt x="313" y="805"/>
                  </a:lnTo>
                  <a:lnTo>
                    <a:pt x="300" y="832"/>
                  </a:lnTo>
                  <a:lnTo>
                    <a:pt x="272" y="846"/>
                  </a:lnTo>
                  <a:lnTo>
                    <a:pt x="216" y="826"/>
                  </a:lnTo>
                  <a:lnTo>
                    <a:pt x="157" y="795"/>
                  </a:lnTo>
                  <a:lnTo>
                    <a:pt x="74" y="791"/>
                  </a:lnTo>
                  <a:lnTo>
                    <a:pt x="22" y="802"/>
                  </a:lnTo>
                  <a:lnTo>
                    <a:pt x="0" y="785"/>
                  </a:lnTo>
                  <a:lnTo>
                    <a:pt x="0" y="760"/>
                  </a:lnTo>
                  <a:lnTo>
                    <a:pt x="29" y="733"/>
                  </a:lnTo>
                  <a:lnTo>
                    <a:pt x="74" y="687"/>
                  </a:lnTo>
                  <a:lnTo>
                    <a:pt x="153" y="572"/>
                  </a:lnTo>
                  <a:lnTo>
                    <a:pt x="188" y="473"/>
                  </a:lnTo>
                  <a:lnTo>
                    <a:pt x="199" y="375"/>
                  </a:lnTo>
                  <a:lnTo>
                    <a:pt x="196" y="323"/>
                  </a:lnTo>
                  <a:lnTo>
                    <a:pt x="168" y="230"/>
                  </a:lnTo>
                  <a:lnTo>
                    <a:pt x="95" y="129"/>
                  </a:lnTo>
                  <a:lnTo>
                    <a:pt x="43" y="77"/>
                  </a:lnTo>
                  <a:lnTo>
                    <a:pt x="60" y="9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rot="240000">
              <a:off x="1265400" y="5561280"/>
              <a:ext cx="149040" cy="297000"/>
            </a:xfrm>
            <a:custGeom>
              <a:avLst/>
              <a:gdLst/>
              <a:ahLst/>
              <a:rect l="l" t="t" r="r" b="b"/>
              <a:pathLst>
                <a:path w="469" h="933">
                  <a:moveTo>
                    <a:pt x="274" y="163"/>
                  </a:moveTo>
                  <a:lnTo>
                    <a:pt x="344" y="73"/>
                  </a:lnTo>
                  <a:lnTo>
                    <a:pt x="406" y="0"/>
                  </a:lnTo>
                  <a:lnTo>
                    <a:pt x="448" y="7"/>
                  </a:lnTo>
                  <a:lnTo>
                    <a:pt x="469" y="38"/>
                  </a:lnTo>
                  <a:lnTo>
                    <a:pt x="469" y="93"/>
                  </a:lnTo>
                  <a:lnTo>
                    <a:pt x="431" y="125"/>
                  </a:lnTo>
                  <a:lnTo>
                    <a:pt x="364" y="167"/>
                  </a:lnTo>
                  <a:lnTo>
                    <a:pt x="312" y="219"/>
                  </a:lnTo>
                  <a:lnTo>
                    <a:pt x="254" y="288"/>
                  </a:lnTo>
                  <a:lnTo>
                    <a:pt x="229" y="340"/>
                  </a:lnTo>
                  <a:lnTo>
                    <a:pt x="202" y="402"/>
                  </a:lnTo>
                  <a:lnTo>
                    <a:pt x="187" y="486"/>
                  </a:lnTo>
                  <a:lnTo>
                    <a:pt x="187" y="561"/>
                  </a:lnTo>
                  <a:lnTo>
                    <a:pt x="202" y="656"/>
                  </a:lnTo>
                  <a:lnTo>
                    <a:pt x="240" y="746"/>
                  </a:lnTo>
                  <a:lnTo>
                    <a:pt x="271" y="798"/>
                  </a:lnTo>
                  <a:lnTo>
                    <a:pt x="292" y="832"/>
                  </a:lnTo>
                  <a:lnTo>
                    <a:pt x="292" y="861"/>
                  </a:lnTo>
                  <a:lnTo>
                    <a:pt x="271" y="870"/>
                  </a:lnTo>
                  <a:lnTo>
                    <a:pt x="222" y="870"/>
                  </a:lnTo>
                  <a:lnTo>
                    <a:pt x="145" y="884"/>
                  </a:lnTo>
                  <a:lnTo>
                    <a:pt x="86" y="905"/>
                  </a:lnTo>
                  <a:lnTo>
                    <a:pt x="52" y="933"/>
                  </a:lnTo>
                  <a:lnTo>
                    <a:pt x="20" y="922"/>
                  </a:lnTo>
                  <a:lnTo>
                    <a:pt x="0" y="884"/>
                  </a:lnTo>
                  <a:lnTo>
                    <a:pt x="3" y="853"/>
                  </a:lnTo>
                  <a:lnTo>
                    <a:pt x="63" y="829"/>
                  </a:lnTo>
                  <a:lnTo>
                    <a:pt x="156" y="823"/>
                  </a:lnTo>
                  <a:lnTo>
                    <a:pt x="243" y="823"/>
                  </a:lnTo>
                  <a:lnTo>
                    <a:pt x="208" y="780"/>
                  </a:lnTo>
                  <a:lnTo>
                    <a:pt x="191" y="728"/>
                  </a:lnTo>
                  <a:lnTo>
                    <a:pt x="167" y="656"/>
                  </a:lnTo>
                  <a:lnTo>
                    <a:pt x="139" y="580"/>
                  </a:lnTo>
                  <a:lnTo>
                    <a:pt x="139" y="489"/>
                  </a:lnTo>
                  <a:lnTo>
                    <a:pt x="145" y="402"/>
                  </a:lnTo>
                  <a:lnTo>
                    <a:pt x="177" y="323"/>
                  </a:lnTo>
                  <a:lnTo>
                    <a:pt x="232" y="219"/>
                  </a:lnTo>
                  <a:lnTo>
                    <a:pt x="274" y="1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4" name=""/>
          <p:cNvGrpSpPr/>
          <p:nvPr/>
        </p:nvGrpSpPr>
        <p:grpSpPr>
          <a:xfrm>
            <a:off x="1297080" y="1964880"/>
            <a:ext cx="1144800" cy="767160"/>
            <a:chOff x="1297080" y="1964880"/>
            <a:chExt cx="1144800" cy="767160"/>
          </a:xfrm>
        </p:grpSpPr>
        <p:grpSp>
          <p:nvGrpSpPr>
            <p:cNvPr id="1285" name=""/>
            <p:cNvGrpSpPr/>
            <p:nvPr/>
          </p:nvGrpSpPr>
          <p:grpSpPr>
            <a:xfrm>
              <a:off x="1875960" y="1964880"/>
              <a:ext cx="565920" cy="740880"/>
              <a:chOff x="1875960" y="1964880"/>
              <a:chExt cx="565920" cy="740880"/>
            </a:xfrm>
          </p:grpSpPr>
          <p:sp>
            <p:nvSpPr>
              <p:cNvPr id="1286" name=""/>
              <p:cNvSpPr/>
              <p:nvPr/>
            </p:nvSpPr>
            <p:spPr>
              <a:xfrm rot="21115200">
                <a:off x="2012040" y="1975680"/>
                <a:ext cx="166680" cy="161640"/>
              </a:xfrm>
              <a:custGeom>
                <a:avLst/>
                <a:gdLst/>
                <a:ahLst/>
                <a:rect l="l" t="t" r="r" b="b"/>
                <a:pathLst>
                  <a:path w="525" h="510">
                    <a:moveTo>
                      <a:pt x="108" y="23"/>
                    </a:moveTo>
                    <a:lnTo>
                      <a:pt x="167" y="0"/>
                    </a:lnTo>
                    <a:lnTo>
                      <a:pt x="209" y="17"/>
                    </a:lnTo>
                    <a:lnTo>
                      <a:pt x="254" y="72"/>
                    </a:lnTo>
                    <a:lnTo>
                      <a:pt x="282" y="152"/>
                    </a:lnTo>
                    <a:lnTo>
                      <a:pt x="285" y="208"/>
                    </a:lnTo>
                    <a:lnTo>
                      <a:pt x="289" y="280"/>
                    </a:lnTo>
                    <a:lnTo>
                      <a:pt x="476" y="277"/>
                    </a:lnTo>
                    <a:lnTo>
                      <a:pt x="525" y="288"/>
                    </a:lnTo>
                    <a:lnTo>
                      <a:pt x="519" y="322"/>
                    </a:lnTo>
                    <a:lnTo>
                      <a:pt x="418" y="308"/>
                    </a:lnTo>
                    <a:lnTo>
                      <a:pt x="285" y="329"/>
                    </a:lnTo>
                    <a:lnTo>
                      <a:pt x="258" y="401"/>
                    </a:lnTo>
                    <a:lnTo>
                      <a:pt x="220" y="464"/>
                    </a:lnTo>
                    <a:lnTo>
                      <a:pt x="174" y="488"/>
                    </a:lnTo>
                    <a:lnTo>
                      <a:pt x="125" y="510"/>
                    </a:lnTo>
                    <a:lnTo>
                      <a:pt x="90" y="496"/>
                    </a:lnTo>
                    <a:lnTo>
                      <a:pt x="41" y="440"/>
                    </a:lnTo>
                    <a:lnTo>
                      <a:pt x="7" y="371"/>
                    </a:lnTo>
                    <a:lnTo>
                      <a:pt x="0" y="312"/>
                    </a:lnTo>
                    <a:lnTo>
                      <a:pt x="18" y="193"/>
                    </a:lnTo>
                    <a:lnTo>
                      <a:pt x="59" y="104"/>
                    </a:lnTo>
                    <a:lnTo>
                      <a:pt x="90" y="52"/>
                    </a:lnTo>
                    <a:lnTo>
                      <a:pt x="128" y="20"/>
                    </a:lnTo>
                    <a:lnTo>
                      <a:pt x="108" y="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rot="21115200">
                <a:off x="2098080" y="2107440"/>
                <a:ext cx="341280" cy="60120"/>
              </a:xfrm>
              <a:custGeom>
                <a:avLst/>
                <a:gdLst/>
                <a:ahLst/>
                <a:rect l="l" t="t" r="r" b="b"/>
                <a:pathLst>
                  <a:path w="1075" h="190">
                    <a:moveTo>
                      <a:pt x="0" y="121"/>
                    </a:moveTo>
                    <a:lnTo>
                      <a:pt x="90" y="91"/>
                    </a:lnTo>
                    <a:lnTo>
                      <a:pt x="282" y="77"/>
                    </a:lnTo>
                    <a:lnTo>
                      <a:pt x="442" y="63"/>
                    </a:lnTo>
                    <a:lnTo>
                      <a:pt x="620" y="35"/>
                    </a:lnTo>
                    <a:lnTo>
                      <a:pt x="751" y="31"/>
                    </a:lnTo>
                    <a:lnTo>
                      <a:pt x="925" y="11"/>
                    </a:lnTo>
                    <a:lnTo>
                      <a:pt x="1072" y="0"/>
                    </a:lnTo>
                    <a:lnTo>
                      <a:pt x="1075" y="22"/>
                    </a:lnTo>
                    <a:lnTo>
                      <a:pt x="1040" y="49"/>
                    </a:lnTo>
                    <a:lnTo>
                      <a:pt x="908" y="49"/>
                    </a:lnTo>
                    <a:lnTo>
                      <a:pt x="919" y="83"/>
                    </a:lnTo>
                    <a:lnTo>
                      <a:pt x="901" y="125"/>
                    </a:lnTo>
                    <a:lnTo>
                      <a:pt x="866" y="152"/>
                    </a:lnTo>
                    <a:lnTo>
                      <a:pt x="811" y="152"/>
                    </a:lnTo>
                    <a:lnTo>
                      <a:pt x="765" y="138"/>
                    </a:lnTo>
                    <a:lnTo>
                      <a:pt x="748" y="94"/>
                    </a:lnTo>
                    <a:lnTo>
                      <a:pt x="748" y="66"/>
                    </a:lnTo>
                    <a:lnTo>
                      <a:pt x="623" y="69"/>
                    </a:lnTo>
                    <a:lnTo>
                      <a:pt x="571" y="83"/>
                    </a:lnTo>
                    <a:lnTo>
                      <a:pt x="466" y="111"/>
                    </a:lnTo>
                    <a:lnTo>
                      <a:pt x="316" y="129"/>
                    </a:lnTo>
                    <a:lnTo>
                      <a:pt x="191" y="132"/>
                    </a:lnTo>
                    <a:lnTo>
                      <a:pt x="108" y="149"/>
                    </a:lnTo>
                    <a:lnTo>
                      <a:pt x="32" y="190"/>
                    </a:lnTo>
                    <a:lnTo>
                      <a:pt x="0" y="149"/>
                    </a:lnTo>
                    <a:lnTo>
                      <a:pt x="21" y="111"/>
                    </a:lnTo>
                    <a:lnTo>
                      <a:pt x="38" y="101"/>
                    </a:lnTo>
                    <a:lnTo>
                      <a:pt x="0" y="121"/>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8" name=""/>
              <p:cNvSpPr/>
              <p:nvPr/>
            </p:nvSpPr>
            <p:spPr>
              <a:xfrm rot="21115200">
                <a:off x="2010960" y="2150280"/>
                <a:ext cx="133560" cy="277920"/>
              </a:xfrm>
              <a:custGeom>
                <a:avLst/>
                <a:gdLst/>
                <a:ahLst/>
                <a:rect l="l" t="t" r="r" b="b"/>
                <a:pathLst>
                  <a:path w="420" h="874">
                    <a:moveTo>
                      <a:pt x="187" y="0"/>
                    </a:moveTo>
                    <a:lnTo>
                      <a:pt x="239" y="9"/>
                    </a:lnTo>
                    <a:lnTo>
                      <a:pt x="301" y="9"/>
                    </a:lnTo>
                    <a:lnTo>
                      <a:pt x="385" y="51"/>
                    </a:lnTo>
                    <a:lnTo>
                      <a:pt x="416" y="135"/>
                    </a:lnTo>
                    <a:lnTo>
                      <a:pt x="420" y="249"/>
                    </a:lnTo>
                    <a:lnTo>
                      <a:pt x="388" y="377"/>
                    </a:lnTo>
                    <a:lnTo>
                      <a:pt x="333" y="499"/>
                    </a:lnTo>
                    <a:lnTo>
                      <a:pt x="292" y="603"/>
                    </a:lnTo>
                    <a:lnTo>
                      <a:pt x="249" y="748"/>
                    </a:lnTo>
                    <a:lnTo>
                      <a:pt x="200" y="835"/>
                    </a:lnTo>
                    <a:lnTo>
                      <a:pt x="139" y="874"/>
                    </a:lnTo>
                    <a:lnTo>
                      <a:pt x="86" y="874"/>
                    </a:lnTo>
                    <a:lnTo>
                      <a:pt x="24" y="835"/>
                    </a:lnTo>
                    <a:lnTo>
                      <a:pt x="0" y="779"/>
                    </a:lnTo>
                    <a:lnTo>
                      <a:pt x="0" y="689"/>
                    </a:lnTo>
                    <a:lnTo>
                      <a:pt x="34" y="571"/>
                    </a:lnTo>
                    <a:lnTo>
                      <a:pt x="63" y="409"/>
                    </a:lnTo>
                    <a:lnTo>
                      <a:pt x="72" y="207"/>
                    </a:lnTo>
                    <a:lnTo>
                      <a:pt x="55" y="55"/>
                    </a:lnTo>
                    <a:lnTo>
                      <a:pt x="107" y="3"/>
                    </a:lnTo>
                    <a:lnTo>
                      <a:pt x="1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rot="21115200">
                <a:off x="1892520" y="2176560"/>
                <a:ext cx="152280" cy="247680"/>
              </a:xfrm>
              <a:custGeom>
                <a:avLst/>
                <a:gdLst/>
                <a:ahLst/>
                <a:rect l="l" t="t" r="r" b="b"/>
                <a:pathLst>
                  <a:path w="480" h="781">
                    <a:moveTo>
                      <a:pt x="365" y="31"/>
                    </a:moveTo>
                    <a:lnTo>
                      <a:pt x="417" y="0"/>
                    </a:lnTo>
                    <a:lnTo>
                      <a:pt x="456" y="0"/>
                    </a:lnTo>
                    <a:lnTo>
                      <a:pt x="480" y="24"/>
                    </a:lnTo>
                    <a:lnTo>
                      <a:pt x="466" y="72"/>
                    </a:lnTo>
                    <a:lnTo>
                      <a:pt x="434" y="104"/>
                    </a:lnTo>
                    <a:lnTo>
                      <a:pt x="376" y="135"/>
                    </a:lnTo>
                    <a:lnTo>
                      <a:pt x="261" y="180"/>
                    </a:lnTo>
                    <a:lnTo>
                      <a:pt x="115" y="260"/>
                    </a:lnTo>
                    <a:lnTo>
                      <a:pt x="60" y="263"/>
                    </a:lnTo>
                    <a:lnTo>
                      <a:pt x="91" y="337"/>
                    </a:lnTo>
                    <a:lnTo>
                      <a:pt x="153" y="416"/>
                    </a:lnTo>
                    <a:lnTo>
                      <a:pt x="205" y="514"/>
                    </a:lnTo>
                    <a:lnTo>
                      <a:pt x="226" y="615"/>
                    </a:lnTo>
                    <a:lnTo>
                      <a:pt x="216" y="645"/>
                    </a:lnTo>
                    <a:lnTo>
                      <a:pt x="185" y="667"/>
                    </a:lnTo>
                    <a:lnTo>
                      <a:pt x="143" y="680"/>
                    </a:lnTo>
                    <a:lnTo>
                      <a:pt x="101" y="711"/>
                    </a:lnTo>
                    <a:lnTo>
                      <a:pt x="84" y="743"/>
                    </a:lnTo>
                    <a:lnTo>
                      <a:pt x="74" y="781"/>
                    </a:lnTo>
                    <a:lnTo>
                      <a:pt x="42" y="781"/>
                    </a:lnTo>
                    <a:lnTo>
                      <a:pt x="31" y="753"/>
                    </a:lnTo>
                    <a:lnTo>
                      <a:pt x="52" y="708"/>
                    </a:lnTo>
                    <a:lnTo>
                      <a:pt x="112" y="677"/>
                    </a:lnTo>
                    <a:lnTo>
                      <a:pt x="147" y="645"/>
                    </a:lnTo>
                    <a:lnTo>
                      <a:pt x="178" y="628"/>
                    </a:lnTo>
                    <a:lnTo>
                      <a:pt x="188" y="597"/>
                    </a:lnTo>
                    <a:lnTo>
                      <a:pt x="174" y="514"/>
                    </a:lnTo>
                    <a:lnTo>
                      <a:pt x="126" y="451"/>
                    </a:lnTo>
                    <a:lnTo>
                      <a:pt x="84" y="396"/>
                    </a:lnTo>
                    <a:lnTo>
                      <a:pt x="31" y="333"/>
                    </a:lnTo>
                    <a:lnTo>
                      <a:pt x="0" y="274"/>
                    </a:lnTo>
                    <a:lnTo>
                      <a:pt x="0" y="239"/>
                    </a:lnTo>
                    <a:lnTo>
                      <a:pt x="28" y="222"/>
                    </a:lnTo>
                    <a:lnTo>
                      <a:pt x="136" y="159"/>
                    </a:lnTo>
                    <a:lnTo>
                      <a:pt x="240" y="104"/>
                    </a:lnTo>
                    <a:lnTo>
                      <a:pt x="344" y="52"/>
                    </a:lnTo>
                    <a:lnTo>
                      <a:pt x="365"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rot="21115200">
                <a:off x="2075760" y="2399760"/>
                <a:ext cx="101520" cy="268200"/>
              </a:xfrm>
              <a:custGeom>
                <a:avLst/>
                <a:gdLst/>
                <a:ahLst/>
                <a:rect l="l" t="t" r="r" b="b"/>
                <a:pathLst>
                  <a:path w="320" h="846">
                    <a:moveTo>
                      <a:pt x="60" y="98"/>
                    </a:moveTo>
                    <a:lnTo>
                      <a:pt x="18" y="43"/>
                    </a:lnTo>
                    <a:lnTo>
                      <a:pt x="32" y="0"/>
                    </a:lnTo>
                    <a:lnTo>
                      <a:pt x="74" y="0"/>
                    </a:lnTo>
                    <a:lnTo>
                      <a:pt x="122" y="46"/>
                    </a:lnTo>
                    <a:lnTo>
                      <a:pt x="185" y="139"/>
                    </a:lnTo>
                    <a:lnTo>
                      <a:pt x="220" y="230"/>
                    </a:lnTo>
                    <a:lnTo>
                      <a:pt x="251" y="317"/>
                    </a:lnTo>
                    <a:lnTo>
                      <a:pt x="261" y="396"/>
                    </a:lnTo>
                    <a:lnTo>
                      <a:pt x="258" y="438"/>
                    </a:lnTo>
                    <a:lnTo>
                      <a:pt x="226" y="490"/>
                    </a:lnTo>
                    <a:lnTo>
                      <a:pt x="174" y="629"/>
                    </a:lnTo>
                    <a:lnTo>
                      <a:pt x="115" y="708"/>
                    </a:lnTo>
                    <a:lnTo>
                      <a:pt x="101" y="743"/>
                    </a:lnTo>
                    <a:lnTo>
                      <a:pt x="157" y="750"/>
                    </a:lnTo>
                    <a:lnTo>
                      <a:pt x="230" y="750"/>
                    </a:lnTo>
                    <a:lnTo>
                      <a:pt x="320" y="780"/>
                    </a:lnTo>
                    <a:lnTo>
                      <a:pt x="313" y="805"/>
                    </a:lnTo>
                    <a:lnTo>
                      <a:pt x="300" y="832"/>
                    </a:lnTo>
                    <a:lnTo>
                      <a:pt x="272" y="846"/>
                    </a:lnTo>
                    <a:lnTo>
                      <a:pt x="216" y="826"/>
                    </a:lnTo>
                    <a:lnTo>
                      <a:pt x="157" y="795"/>
                    </a:lnTo>
                    <a:lnTo>
                      <a:pt x="74" y="791"/>
                    </a:lnTo>
                    <a:lnTo>
                      <a:pt x="22" y="802"/>
                    </a:lnTo>
                    <a:lnTo>
                      <a:pt x="0" y="785"/>
                    </a:lnTo>
                    <a:lnTo>
                      <a:pt x="0" y="760"/>
                    </a:lnTo>
                    <a:lnTo>
                      <a:pt x="29" y="733"/>
                    </a:lnTo>
                    <a:lnTo>
                      <a:pt x="74" y="687"/>
                    </a:lnTo>
                    <a:lnTo>
                      <a:pt x="153" y="572"/>
                    </a:lnTo>
                    <a:lnTo>
                      <a:pt x="188" y="473"/>
                    </a:lnTo>
                    <a:lnTo>
                      <a:pt x="199" y="375"/>
                    </a:lnTo>
                    <a:lnTo>
                      <a:pt x="196" y="323"/>
                    </a:lnTo>
                    <a:lnTo>
                      <a:pt x="168" y="230"/>
                    </a:lnTo>
                    <a:lnTo>
                      <a:pt x="95" y="129"/>
                    </a:lnTo>
                    <a:lnTo>
                      <a:pt x="43" y="77"/>
                    </a:lnTo>
                    <a:lnTo>
                      <a:pt x="60" y="9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rot="21115200">
                <a:off x="1919520" y="2399400"/>
                <a:ext cx="149040" cy="297000"/>
              </a:xfrm>
              <a:custGeom>
                <a:avLst/>
                <a:gdLst/>
                <a:ahLst/>
                <a:rect l="l" t="t" r="r" b="b"/>
                <a:pathLst>
                  <a:path w="469" h="933">
                    <a:moveTo>
                      <a:pt x="274" y="163"/>
                    </a:moveTo>
                    <a:lnTo>
                      <a:pt x="344" y="73"/>
                    </a:lnTo>
                    <a:lnTo>
                      <a:pt x="406" y="0"/>
                    </a:lnTo>
                    <a:lnTo>
                      <a:pt x="448" y="7"/>
                    </a:lnTo>
                    <a:lnTo>
                      <a:pt x="469" y="38"/>
                    </a:lnTo>
                    <a:lnTo>
                      <a:pt x="469" y="93"/>
                    </a:lnTo>
                    <a:lnTo>
                      <a:pt x="431" y="125"/>
                    </a:lnTo>
                    <a:lnTo>
                      <a:pt x="364" y="167"/>
                    </a:lnTo>
                    <a:lnTo>
                      <a:pt x="312" y="219"/>
                    </a:lnTo>
                    <a:lnTo>
                      <a:pt x="254" y="288"/>
                    </a:lnTo>
                    <a:lnTo>
                      <a:pt x="229" y="340"/>
                    </a:lnTo>
                    <a:lnTo>
                      <a:pt x="202" y="402"/>
                    </a:lnTo>
                    <a:lnTo>
                      <a:pt x="187" y="486"/>
                    </a:lnTo>
                    <a:lnTo>
                      <a:pt x="187" y="561"/>
                    </a:lnTo>
                    <a:lnTo>
                      <a:pt x="202" y="656"/>
                    </a:lnTo>
                    <a:lnTo>
                      <a:pt x="240" y="746"/>
                    </a:lnTo>
                    <a:lnTo>
                      <a:pt x="271" y="798"/>
                    </a:lnTo>
                    <a:lnTo>
                      <a:pt x="292" y="832"/>
                    </a:lnTo>
                    <a:lnTo>
                      <a:pt x="292" y="861"/>
                    </a:lnTo>
                    <a:lnTo>
                      <a:pt x="271" y="870"/>
                    </a:lnTo>
                    <a:lnTo>
                      <a:pt x="222" y="870"/>
                    </a:lnTo>
                    <a:lnTo>
                      <a:pt x="145" y="884"/>
                    </a:lnTo>
                    <a:lnTo>
                      <a:pt x="86" y="905"/>
                    </a:lnTo>
                    <a:lnTo>
                      <a:pt x="52" y="933"/>
                    </a:lnTo>
                    <a:lnTo>
                      <a:pt x="20" y="922"/>
                    </a:lnTo>
                    <a:lnTo>
                      <a:pt x="0" y="884"/>
                    </a:lnTo>
                    <a:lnTo>
                      <a:pt x="3" y="853"/>
                    </a:lnTo>
                    <a:lnTo>
                      <a:pt x="63" y="829"/>
                    </a:lnTo>
                    <a:lnTo>
                      <a:pt x="156" y="823"/>
                    </a:lnTo>
                    <a:lnTo>
                      <a:pt x="243" y="823"/>
                    </a:lnTo>
                    <a:lnTo>
                      <a:pt x="208" y="780"/>
                    </a:lnTo>
                    <a:lnTo>
                      <a:pt x="191" y="728"/>
                    </a:lnTo>
                    <a:lnTo>
                      <a:pt x="167" y="656"/>
                    </a:lnTo>
                    <a:lnTo>
                      <a:pt x="139" y="580"/>
                    </a:lnTo>
                    <a:lnTo>
                      <a:pt x="139" y="489"/>
                    </a:lnTo>
                    <a:lnTo>
                      <a:pt x="145" y="402"/>
                    </a:lnTo>
                    <a:lnTo>
                      <a:pt x="177" y="323"/>
                    </a:lnTo>
                    <a:lnTo>
                      <a:pt x="232" y="219"/>
                    </a:lnTo>
                    <a:lnTo>
                      <a:pt x="274" y="1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2" name=""/>
            <p:cNvGrpSpPr/>
            <p:nvPr/>
          </p:nvGrpSpPr>
          <p:grpSpPr>
            <a:xfrm>
              <a:off x="1297080" y="2633760"/>
              <a:ext cx="753480" cy="98280"/>
              <a:chOff x="1297080" y="2633760"/>
              <a:chExt cx="753480" cy="98280"/>
            </a:xfrm>
          </p:grpSpPr>
          <p:sp>
            <p:nvSpPr>
              <p:cNvPr id="1293" name=""/>
              <p:cNvSpPr/>
              <p:nvPr/>
            </p:nvSpPr>
            <p:spPr>
              <a:xfrm>
                <a:off x="1297080" y="2633760"/>
                <a:ext cx="59220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1889280" y="2633760"/>
                <a:ext cx="16128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5" name=""/>
          <p:cNvGrpSpPr/>
          <p:nvPr/>
        </p:nvGrpSpPr>
        <p:grpSpPr>
          <a:xfrm>
            <a:off x="1512720" y="3379680"/>
            <a:ext cx="1090800" cy="939600"/>
            <a:chOff x="1512720" y="3379680"/>
            <a:chExt cx="1090800" cy="939600"/>
          </a:xfrm>
        </p:grpSpPr>
        <p:grpSp>
          <p:nvGrpSpPr>
            <p:cNvPr id="1296" name=""/>
            <p:cNvGrpSpPr/>
            <p:nvPr/>
          </p:nvGrpSpPr>
          <p:grpSpPr>
            <a:xfrm>
              <a:off x="2271600" y="3379680"/>
              <a:ext cx="331920" cy="939600"/>
              <a:chOff x="2271600" y="3379680"/>
              <a:chExt cx="331920" cy="939600"/>
            </a:xfrm>
          </p:grpSpPr>
          <p:sp>
            <p:nvSpPr>
              <p:cNvPr id="1297" name=""/>
              <p:cNvSpPr/>
              <p:nvPr/>
            </p:nvSpPr>
            <p:spPr>
              <a:xfrm flipH="1">
                <a:off x="2439360" y="3544560"/>
                <a:ext cx="137520" cy="186840"/>
              </a:xfrm>
              <a:custGeom>
                <a:avLst/>
                <a:gdLst/>
                <a:ahLst/>
                <a:rect l="l" t="t" r="r" b="b"/>
                <a:pathLst>
                  <a:path w="432" h="589">
                    <a:moveTo>
                      <a:pt x="286" y="147"/>
                    </a:moveTo>
                    <a:lnTo>
                      <a:pt x="252" y="85"/>
                    </a:lnTo>
                    <a:lnTo>
                      <a:pt x="190" y="46"/>
                    </a:lnTo>
                    <a:lnTo>
                      <a:pt x="128" y="40"/>
                    </a:lnTo>
                    <a:lnTo>
                      <a:pt x="66" y="62"/>
                    </a:lnTo>
                    <a:lnTo>
                      <a:pt x="21" y="125"/>
                    </a:lnTo>
                    <a:lnTo>
                      <a:pt x="0" y="232"/>
                    </a:lnTo>
                    <a:lnTo>
                      <a:pt x="16" y="363"/>
                    </a:lnTo>
                    <a:lnTo>
                      <a:pt x="56" y="475"/>
                    </a:lnTo>
                    <a:lnTo>
                      <a:pt x="106" y="537"/>
                    </a:lnTo>
                    <a:lnTo>
                      <a:pt x="174" y="578"/>
                    </a:lnTo>
                    <a:lnTo>
                      <a:pt x="236" y="589"/>
                    </a:lnTo>
                    <a:lnTo>
                      <a:pt x="314" y="560"/>
                    </a:lnTo>
                    <a:lnTo>
                      <a:pt x="342" y="510"/>
                    </a:lnTo>
                    <a:lnTo>
                      <a:pt x="359" y="419"/>
                    </a:lnTo>
                    <a:lnTo>
                      <a:pt x="354" y="301"/>
                    </a:lnTo>
                    <a:lnTo>
                      <a:pt x="325" y="193"/>
                    </a:lnTo>
                    <a:lnTo>
                      <a:pt x="432" y="52"/>
                    </a:lnTo>
                    <a:lnTo>
                      <a:pt x="432" y="23"/>
                    </a:lnTo>
                    <a:lnTo>
                      <a:pt x="410" y="0"/>
                    </a:lnTo>
                    <a:lnTo>
                      <a:pt x="387" y="11"/>
                    </a:lnTo>
                    <a:lnTo>
                      <a:pt x="286" y="14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2271240" y="3379680"/>
                <a:ext cx="179640" cy="322560"/>
              </a:xfrm>
              <a:custGeom>
                <a:avLst/>
                <a:gdLst/>
                <a:ahLst/>
                <a:rect l="l" t="t" r="r" b="b"/>
                <a:pathLst>
                  <a:path w="568" h="1016">
                    <a:moveTo>
                      <a:pt x="56" y="1016"/>
                    </a:moveTo>
                    <a:lnTo>
                      <a:pt x="11" y="1004"/>
                    </a:lnTo>
                    <a:lnTo>
                      <a:pt x="0" y="942"/>
                    </a:lnTo>
                    <a:lnTo>
                      <a:pt x="73" y="823"/>
                    </a:lnTo>
                    <a:lnTo>
                      <a:pt x="174" y="632"/>
                    </a:lnTo>
                    <a:lnTo>
                      <a:pt x="259" y="479"/>
                    </a:lnTo>
                    <a:lnTo>
                      <a:pt x="326" y="293"/>
                    </a:lnTo>
                    <a:lnTo>
                      <a:pt x="416" y="179"/>
                    </a:lnTo>
                    <a:lnTo>
                      <a:pt x="512" y="17"/>
                    </a:lnTo>
                    <a:lnTo>
                      <a:pt x="528" y="0"/>
                    </a:lnTo>
                    <a:lnTo>
                      <a:pt x="562" y="5"/>
                    </a:lnTo>
                    <a:lnTo>
                      <a:pt x="568" y="34"/>
                    </a:lnTo>
                    <a:lnTo>
                      <a:pt x="450" y="179"/>
                    </a:lnTo>
                    <a:lnTo>
                      <a:pt x="444" y="242"/>
                    </a:lnTo>
                    <a:lnTo>
                      <a:pt x="478" y="304"/>
                    </a:lnTo>
                    <a:lnTo>
                      <a:pt x="478" y="360"/>
                    </a:lnTo>
                    <a:lnTo>
                      <a:pt x="444" y="395"/>
                    </a:lnTo>
                    <a:lnTo>
                      <a:pt x="360" y="439"/>
                    </a:lnTo>
                    <a:lnTo>
                      <a:pt x="321" y="451"/>
                    </a:lnTo>
                    <a:lnTo>
                      <a:pt x="303" y="485"/>
                    </a:lnTo>
                    <a:lnTo>
                      <a:pt x="259" y="620"/>
                    </a:lnTo>
                    <a:lnTo>
                      <a:pt x="214" y="744"/>
                    </a:lnTo>
                    <a:lnTo>
                      <a:pt x="158" y="891"/>
                    </a:lnTo>
                    <a:lnTo>
                      <a:pt x="85" y="1016"/>
                    </a:lnTo>
                    <a:lnTo>
                      <a:pt x="56" y="10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2497680" y="3759480"/>
                <a:ext cx="105840" cy="290880"/>
              </a:xfrm>
              <a:custGeom>
                <a:avLst/>
                <a:gdLst/>
                <a:ahLst/>
                <a:rect l="l" t="t" r="r" b="b"/>
                <a:pathLst>
                  <a:path w="334" h="917">
                    <a:moveTo>
                      <a:pt x="153" y="73"/>
                    </a:moveTo>
                    <a:lnTo>
                      <a:pt x="215" y="17"/>
                    </a:lnTo>
                    <a:lnTo>
                      <a:pt x="283" y="0"/>
                    </a:lnTo>
                    <a:lnTo>
                      <a:pt x="328" y="17"/>
                    </a:lnTo>
                    <a:lnTo>
                      <a:pt x="334" y="52"/>
                    </a:lnTo>
                    <a:lnTo>
                      <a:pt x="294" y="125"/>
                    </a:lnTo>
                    <a:lnTo>
                      <a:pt x="243" y="125"/>
                    </a:lnTo>
                    <a:lnTo>
                      <a:pt x="192" y="158"/>
                    </a:lnTo>
                    <a:lnTo>
                      <a:pt x="124" y="255"/>
                    </a:lnTo>
                    <a:lnTo>
                      <a:pt x="79" y="363"/>
                    </a:lnTo>
                    <a:lnTo>
                      <a:pt x="79" y="407"/>
                    </a:lnTo>
                    <a:lnTo>
                      <a:pt x="107" y="459"/>
                    </a:lnTo>
                    <a:lnTo>
                      <a:pt x="181" y="504"/>
                    </a:lnTo>
                    <a:lnTo>
                      <a:pt x="249" y="544"/>
                    </a:lnTo>
                    <a:lnTo>
                      <a:pt x="323" y="617"/>
                    </a:lnTo>
                    <a:lnTo>
                      <a:pt x="328" y="679"/>
                    </a:lnTo>
                    <a:lnTo>
                      <a:pt x="260" y="720"/>
                    </a:lnTo>
                    <a:lnTo>
                      <a:pt x="210" y="764"/>
                    </a:lnTo>
                    <a:lnTo>
                      <a:pt x="192" y="803"/>
                    </a:lnTo>
                    <a:lnTo>
                      <a:pt x="204" y="844"/>
                    </a:lnTo>
                    <a:lnTo>
                      <a:pt x="181" y="900"/>
                    </a:lnTo>
                    <a:lnTo>
                      <a:pt x="147" y="917"/>
                    </a:lnTo>
                    <a:lnTo>
                      <a:pt x="130" y="906"/>
                    </a:lnTo>
                    <a:lnTo>
                      <a:pt x="136" y="809"/>
                    </a:lnTo>
                    <a:lnTo>
                      <a:pt x="169" y="741"/>
                    </a:lnTo>
                    <a:lnTo>
                      <a:pt x="232" y="685"/>
                    </a:lnTo>
                    <a:lnTo>
                      <a:pt x="266" y="668"/>
                    </a:lnTo>
                    <a:lnTo>
                      <a:pt x="237" y="583"/>
                    </a:lnTo>
                    <a:lnTo>
                      <a:pt x="187" y="550"/>
                    </a:lnTo>
                    <a:lnTo>
                      <a:pt x="97" y="515"/>
                    </a:lnTo>
                    <a:lnTo>
                      <a:pt x="33" y="465"/>
                    </a:lnTo>
                    <a:lnTo>
                      <a:pt x="0" y="386"/>
                    </a:lnTo>
                    <a:lnTo>
                      <a:pt x="23" y="312"/>
                    </a:lnTo>
                    <a:lnTo>
                      <a:pt x="85" y="198"/>
                    </a:lnTo>
                    <a:lnTo>
                      <a:pt x="136" y="108"/>
                    </a:lnTo>
                    <a:lnTo>
                      <a:pt x="153" y="7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2384280" y="3736800"/>
                <a:ext cx="110160" cy="260280"/>
              </a:xfrm>
              <a:custGeom>
                <a:avLst/>
                <a:gdLst/>
                <a:ahLst/>
                <a:rect l="l" t="t" r="r" b="b"/>
                <a:pathLst>
                  <a:path w="350" h="820">
                    <a:moveTo>
                      <a:pt x="29" y="34"/>
                    </a:moveTo>
                    <a:lnTo>
                      <a:pt x="85" y="5"/>
                    </a:lnTo>
                    <a:lnTo>
                      <a:pt x="130" y="0"/>
                    </a:lnTo>
                    <a:lnTo>
                      <a:pt x="209" y="51"/>
                    </a:lnTo>
                    <a:lnTo>
                      <a:pt x="254" y="102"/>
                    </a:lnTo>
                    <a:lnTo>
                      <a:pt x="289" y="175"/>
                    </a:lnTo>
                    <a:lnTo>
                      <a:pt x="316" y="271"/>
                    </a:lnTo>
                    <a:lnTo>
                      <a:pt x="345" y="418"/>
                    </a:lnTo>
                    <a:lnTo>
                      <a:pt x="350" y="582"/>
                    </a:lnTo>
                    <a:lnTo>
                      <a:pt x="333" y="690"/>
                    </a:lnTo>
                    <a:lnTo>
                      <a:pt x="306" y="740"/>
                    </a:lnTo>
                    <a:lnTo>
                      <a:pt x="232" y="791"/>
                    </a:lnTo>
                    <a:lnTo>
                      <a:pt x="153" y="820"/>
                    </a:lnTo>
                    <a:lnTo>
                      <a:pt x="103" y="820"/>
                    </a:lnTo>
                    <a:lnTo>
                      <a:pt x="58" y="808"/>
                    </a:lnTo>
                    <a:lnTo>
                      <a:pt x="29" y="740"/>
                    </a:lnTo>
                    <a:lnTo>
                      <a:pt x="18" y="656"/>
                    </a:lnTo>
                    <a:lnTo>
                      <a:pt x="41" y="599"/>
                    </a:lnTo>
                    <a:lnTo>
                      <a:pt x="68" y="548"/>
                    </a:lnTo>
                    <a:lnTo>
                      <a:pt x="62" y="480"/>
                    </a:lnTo>
                    <a:lnTo>
                      <a:pt x="52" y="395"/>
                    </a:lnTo>
                    <a:lnTo>
                      <a:pt x="29" y="310"/>
                    </a:lnTo>
                    <a:lnTo>
                      <a:pt x="0" y="221"/>
                    </a:lnTo>
                    <a:lnTo>
                      <a:pt x="0" y="152"/>
                    </a:lnTo>
                    <a:lnTo>
                      <a:pt x="18" y="79"/>
                    </a:lnTo>
                    <a:lnTo>
                      <a:pt x="29"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2286360" y="3944520"/>
                <a:ext cx="144720" cy="333360"/>
              </a:xfrm>
              <a:custGeom>
                <a:avLst/>
                <a:gdLst/>
                <a:ahLst/>
                <a:rect l="l" t="t" r="r" b="b"/>
                <a:pathLst>
                  <a:path w="455" h="1050">
                    <a:moveTo>
                      <a:pt x="0" y="91"/>
                    </a:moveTo>
                    <a:lnTo>
                      <a:pt x="0" y="45"/>
                    </a:lnTo>
                    <a:lnTo>
                      <a:pt x="39" y="0"/>
                    </a:lnTo>
                    <a:lnTo>
                      <a:pt x="68" y="17"/>
                    </a:lnTo>
                    <a:lnTo>
                      <a:pt x="203" y="197"/>
                    </a:lnTo>
                    <a:lnTo>
                      <a:pt x="269" y="299"/>
                    </a:lnTo>
                    <a:lnTo>
                      <a:pt x="287" y="390"/>
                    </a:lnTo>
                    <a:lnTo>
                      <a:pt x="292" y="486"/>
                    </a:lnTo>
                    <a:lnTo>
                      <a:pt x="281" y="616"/>
                    </a:lnTo>
                    <a:lnTo>
                      <a:pt x="242" y="757"/>
                    </a:lnTo>
                    <a:lnTo>
                      <a:pt x="203" y="841"/>
                    </a:lnTo>
                    <a:lnTo>
                      <a:pt x="186" y="926"/>
                    </a:lnTo>
                    <a:lnTo>
                      <a:pt x="191" y="965"/>
                    </a:lnTo>
                    <a:lnTo>
                      <a:pt x="213" y="977"/>
                    </a:lnTo>
                    <a:lnTo>
                      <a:pt x="348" y="971"/>
                    </a:lnTo>
                    <a:lnTo>
                      <a:pt x="439" y="988"/>
                    </a:lnTo>
                    <a:lnTo>
                      <a:pt x="455" y="1011"/>
                    </a:lnTo>
                    <a:lnTo>
                      <a:pt x="455" y="1028"/>
                    </a:lnTo>
                    <a:lnTo>
                      <a:pt x="383" y="1050"/>
                    </a:lnTo>
                    <a:lnTo>
                      <a:pt x="366" y="1044"/>
                    </a:lnTo>
                    <a:lnTo>
                      <a:pt x="304" y="1017"/>
                    </a:lnTo>
                    <a:lnTo>
                      <a:pt x="242" y="1017"/>
                    </a:lnTo>
                    <a:lnTo>
                      <a:pt x="157" y="1017"/>
                    </a:lnTo>
                    <a:lnTo>
                      <a:pt x="129" y="1022"/>
                    </a:lnTo>
                    <a:lnTo>
                      <a:pt x="118" y="1000"/>
                    </a:lnTo>
                    <a:lnTo>
                      <a:pt x="118" y="965"/>
                    </a:lnTo>
                    <a:lnTo>
                      <a:pt x="147" y="859"/>
                    </a:lnTo>
                    <a:lnTo>
                      <a:pt x="197" y="745"/>
                    </a:lnTo>
                    <a:lnTo>
                      <a:pt x="230" y="633"/>
                    </a:lnTo>
                    <a:lnTo>
                      <a:pt x="236" y="548"/>
                    </a:lnTo>
                    <a:lnTo>
                      <a:pt x="230" y="429"/>
                    </a:lnTo>
                    <a:lnTo>
                      <a:pt x="207" y="361"/>
                    </a:lnTo>
                    <a:lnTo>
                      <a:pt x="151" y="276"/>
                    </a:lnTo>
                    <a:lnTo>
                      <a:pt x="73" y="197"/>
                    </a:lnTo>
                    <a:lnTo>
                      <a:pt x="17" y="152"/>
                    </a:lnTo>
                    <a:lnTo>
                      <a:pt x="0" y="124"/>
                    </a:lnTo>
                    <a:lnTo>
                      <a:pt x="0" y="9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2440080" y="3962880"/>
                <a:ext cx="120960" cy="356400"/>
              </a:xfrm>
              <a:custGeom>
                <a:avLst/>
                <a:gdLst/>
                <a:ahLst/>
                <a:rect l="l" t="t" r="r" b="b"/>
                <a:pathLst>
                  <a:path w="382" h="1124">
                    <a:moveTo>
                      <a:pt x="270" y="28"/>
                    </a:moveTo>
                    <a:lnTo>
                      <a:pt x="304" y="0"/>
                    </a:lnTo>
                    <a:lnTo>
                      <a:pt x="372" y="0"/>
                    </a:lnTo>
                    <a:lnTo>
                      <a:pt x="382" y="34"/>
                    </a:lnTo>
                    <a:lnTo>
                      <a:pt x="372" y="124"/>
                    </a:lnTo>
                    <a:lnTo>
                      <a:pt x="310" y="237"/>
                    </a:lnTo>
                    <a:lnTo>
                      <a:pt x="282" y="360"/>
                    </a:lnTo>
                    <a:lnTo>
                      <a:pt x="270" y="514"/>
                    </a:lnTo>
                    <a:lnTo>
                      <a:pt x="310" y="688"/>
                    </a:lnTo>
                    <a:lnTo>
                      <a:pt x="361" y="858"/>
                    </a:lnTo>
                    <a:lnTo>
                      <a:pt x="366" y="925"/>
                    </a:lnTo>
                    <a:lnTo>
                      <a:pt x="343" y="948"/>
                    </a:lnTo>
                    <a:lnTo>
                      <a:pt x="264" y="948"/>
                    </a:lnTo>
                    <a:lnTo>
                      <a:pt x="186" y="977"/>
                    </a:lnTo>
                    <a:lnTo>
                      <a:pt x="135" y="1050"/>
                    </a:lnTo>
                    <a:lnTo>
                      <a:pt x="90" y="1118"/>
                    </a:lnTo>
                    <a:lnTo>
                      <a:pt x="67" y="1124"/>
                    </a:lnTo>
                    <a:lnTo>
                      <a:pt x="0" y="1083"/>
                    </a:lnTo>
                    <a:lnTo>
                      <a:pt x="0" y="1056"/>
                    </a:lnTo>
                    <a:lnTo>
                      <a:pt x="90" y="977"/>
                    </a:lnTo>
                    <a:lnTo>
                      <a:pt x="197" y="925"/>
                    </a:lnTo>
                    <a:lnTo>
                      <a:pt x="282" y="898"/>
                    </a:lnTo>
                    <a:lnTo>
                      <a:pt x="299" y="886"/>
                    </a:lnTo>
                    <a:lnTo>
                      <a:pt x="293" y="835"/>
                    </a:lnTo>
                    <a:lnTo>
                      <a:pt x="264" y="711"/>
                    </a:lnTo>
                    <a:lnTo>
                      <a:pt x="231" y="570"/>
                    </a:lnTo>
                    <a:lnTo>
                      <a:pt x="214" y="497"/>
                    </a:lnTo>
                    <a:lnTo>
                      <a:pt x="208" y="412"/>
                    </a:lnTo>
                    <a:lnTo>
                      <a:pt x="220" y="316"/>
                    </a:lnTo>
                    <a:lnTo>
                      <a:pt x="242" y="158"/>
                    </a:lnTo>
                    <a:lnTo>
                      <a:pt x="270" y="2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1512720" y="4118040"/>
              <a:ext cx="754200" cy="98280"/>
              <a:chOff x="1512720" y="4118040"/>
              <a:chExt cx="754200" cy="98280"/>
            </a:xfrm>
          </p:grpSpPr>
          <p:sp>
            <p:nvSpPr>
              <p:cNvPr id="1304" name=""/>
              <p:cNvSpPr/>
              <p:nvPr/>
            </p:nvSpPr>
            <p:spPr>
              <a:xfrm>
                <a:off x="1512720" y="4118040"/>
                <a:ext cx="59256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05280" y="4118040"/>
                <a:ext cx="16164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6" name=""/>
          <p:cNvGrpSpPr/>
          <p:nvPr/>
        </p:nvGrpSpPr>
        <p:grpSpPr>
          <a:xfrm>
            <a:off x="2489040" y="4497840"/>
            <a:ext cx="1027080" cy="753480"/>
            <a:chOff x="2489040" y="4497840"/>
            <a:chExt cx="1027080" cy="753480"/>
          </a:xfrm>
        </p:grpSpPr>
        <p:grpSp>
          <p:nvGrpSpPr>
            <p:cNvPr id="1307" name=""/>
            <p:cNvGrpSpPr/>
            <p:nvPr/>
          </p:nvGrpSpPr>
          <p:grpSpPr>
            <a:xfrm>
              <a:off x="2979720" y="4497840"/>
              <a:ext cx="536400" cy="753480"/>
              <a:chOff x="2979720" y="4497840"/>
              <a:chExt cx="536400" cy="753480"/>
            </a:xfrm>
          </p:grpSpPr>
          <p:sp>
            <p:nvSpPr>
              <p:cNvPr id="1308" name=""/>
              <p:cNvSpPr/>
              <p:nvPr/>
            </p:nvSpPr>
            <p:spPr>
              <a:xfrm flipH="1" rot="782400">
                <a:off x="3237840" y="4513680"/>
                <a:ext cx="159120" cy="162000"/>
              </a:xfrm>
              <a:custGeom>
                <a:avLst/>
                <a:gdLst/>
                <a:ahLst/>
                <a:rect l="l" t="t" r="r" b="b"/>
                <a:pathLst>
                  <a:path w="525" h="510">
                    <a:moveTo>
                      <a:pt x="108" y="23"/>
                    </a:moveTo>
                    <a:lnTo>
                      <a:pt x="167" y="0"/>
                    </a:lnTo>
                    <a:lnTo>
                      <a:pt x="209" y="17"/>
                    </a:lnTo>
                    <a:lnTo>
                      <a:pt x="254" y="72"/>
                    </a:lnTo>
                    <a:lnTo>
                      <a:pt x="282" y="152"/>
                    </a:lnTo>
                    <a:lnTo>
                      <a:pt x="285" y="208"/>
                    </a:lnTo>
                    <a:lnTo>
                      <a:pt x="289" y="280"/>
                    </a:lnTo>
                    <a:lnTo>
                      <a:pt x="476" y="277"/>
                    </a:lnTo>
                    <a:lnTo>
                      <a:pt x="525" y="288"/>
                    </a:lnTo>
                    <a:lnTo>
                      <a:pt x="519" y="322"/>
                    </a:lnTo>
                    <a:lnTo>
                      <a:pt x="418" y="308"/>
                    </a:lnTo>
                    <a:lnTo>
                      <a:pt x="285" y="329"/>
                    </a:lnTo>
                    <a:lnTo>
                      <a:pt x="258" y="401"/>
                    </a:lnTo>
                    <a:lnTo>
                      <a:pt x="220" y="464"/>
                    </a:lnTo>
                    <a:lnTo>
                      <a:pt x="174" y="488"/>
                    </a:lnTo>
                    <a:lnTo>
                      <a:pt x="125" y="510"/>
                    </a:lnTo>
                    <a:lnTo>
                      <a:pt x="90" y="496"/>
                    </a:lnTo>
                    <a:lnTo>
                      <a:pt x="41" y="440"/>
                    </a:lnTo>
                    <a:lnTo>
                      <a:pt x="7" y="371"/>
                    </a:lnTo>
                    <a:lnTo>
                      <a:pt x="0" y="312"/>
                    </a:lnTo>
                    <a:lnTo>
                      <a:pt x="18" y="193"/>
                    </a:lnTo>
                    <a:lnTo>
                      <a:pt x="59" y="104"/>
                    </a:lnTo>
                    <a:lnTo>
                      <a:pt x="90" y="52"/>
                    </a:lnTo>
                    <a:lnTo>
                      <a:pt x="128" y="20"/>
                    </a:lnTo>
                    <a:lnTo>
                      <a:pt x="108" y="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rot="782400">
                <a:off x="2982240" y="4631400"/>
                <a:ext cx="326160" cy="59760"/>
              </a:xfrm>
              <a:custGeom>
                <a:avLst/>
                <a:gdLst/>
                <a:ahLst/>
                <a:rect l="l" t="t" r="r" b="b"/>
                <a:pathLst>
                  <a:path w="1075" h="190">
                    <a:moveTo>
                      <a:pt x="0" y="121"/>
                    </a:moveTo>
                    <a:lnTo>
                      <a:pt x="90" y="91"/>
                    </a:lnTo>
                    <a:lnTo>
                      <a:pt x="282" y="77"/>
                    </a:lnTo>
                    <a:lnTo>
                      <a:pt x="442" y="63"/>
                    </a:lnTo>
                    <a:lnTo>
                      <a:pt x="620" y="35"/>
                    </a:lnTo>
                    <a:lnTo>
                      <a:pt x="751" y="31"/>
                    </a:lnTo>
                    <a:lnTo>
                      <a:pt x="925" y="11"/>
                    </a:lnTo>
                    <a:lnTo>
                      <a:pt x="1072" y="0"/>
                    </a:lnTo>
                    <a:lnTo>
                      <a:pt x="1075" y="22"/>
                    </a:lnTo>
                    <a:lnTo>
                      <a:pt x="1040" y="49"/>
                    </a:lnTo>
                    <a:lnTo>
                      <a:pt x="908" y="49"/>
                    </a:lnTo>
                    <a:lnTo>
                      <a:pt x="919" y="83"/>
                    </a:lnTo>
                    <a:lnTo>
                      <a:pt x="901" y="125"/>
                    </a:lnTo>
                    <a:lnTo>
                      <a:pt x="866" y="152"/>
                    </a:lnTo>
                    <a:lnTo>
                      <a:pt x="811" y="152"/>
                    </a:lnTo>
                    <a:lnTo>
                      <a:pt x="765" y="138"/>
                    </a:lnTo>
                    <a:lnTo>
                      <a:pt x="748" y="94"/>
                    </a:lnTo>
                    <a:lnTo>
                      <a:pt x="748" y="66"/>
                    </a:lnTo>
                    <a:lnTo>
                      <a:pt x="623" y="69"/>
                    </a:lnTo>
                    <a:lnTo>
                      <a:pt x="571" y="83"/>
                    </a:lnTo>
                    <a:lnTo>
                      <a:pt x="466" y="111"/>
                    </a:lnTo>
                    <a:lnTo>
                      <a:pt x="316" y="129"/>
                    </a:lnTo>
                    <a:lnTo>
                      <a:pt x="191" y="132"/>
                    </a:lnTo>
                    <a:lnTo>
                      <a:pt x="108" y="149"/>
                    </a:lnTo>
                    <a:lnTo>
                      <a:pt x="32" y="190"/>
                    </a:lnTo>
                    <a:lnTo>
                      <a:pt x="0" y="149"/>
                    </a:lnTo>
                    <a:lnTo>
                      <a:pt x="21" y="111"/>
                    </a:lnTo>
                    <a:lnTo>
                      <a:pt x="38" y="101"/>
                    </a:lnTo>
                    <a:lnTo>
                      <a:pt x="0" y="121"/>
                    </a:lnTo>
                    <a:close/>
                  </a:path>
                </a:pathLst>
              </a:custGeom>
              <a:solidFill>
                <a:srgbClr val="ff3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10" name=""/>
              <p:cNvSpPr/>
              <p:nvPr/>
            </p:nvSpPr>
            <p:spPr>
              <a:xfrm flipH="1" rot="782400">
                <a:off x="3250080" y="4687920"/>
                <a:ext cx="128160" cy="277560"/>
              </a:xfrm>
              <a:custGeom>
                <a:avLst/>
                <a:gdLst/>
                <a:ahLst/>
                <a:rect l="l" t="t" r="r" b="b"/>
                <a:pathLst>
                  <a:path w="420" h="874">
                    <a:moveTo>
                      <a:pt x="187" y="0"/>
                    </a:moveTo>
                    <a:lnTo>
                      <a:pt x="239" y="9"/>
                    </a:lnTo>
                    <a:lnTo>
                      <a:pt x="301" y="9"/>
                    </a:lnTo>
                    <a:lnTo>
                      <a:pt x="385" y="51"/>
                    </a:lnTo>
                    <a:lnTo>
                      <a:pt x="416" y="135"/>
                    </a:lnTo>
                    <a:lnTo>
                      <a:pt x="420" y="249"/>
                    </a:lnTo>
                    <a:lnTo>
                      <a:pt x="388" y="377"/>
                    </a:lnTo>
                    <a:lnTo>
                      <a:pt x="333" y="499"/>
                    </a:lnTo>
                    <a:lnTo>
                      <a:pt x="292" y="603"/>
                    </a:lnTo>
                    <a:lnTo>
                      <a:pt x="249" y="748"/>
                    </a:lnTo>
                    <a:lnTo>
                      <a:pt x="200" y="835"/>
                    </a:lnTo>
                    <a:lnTo>
                      <a:pt x="139" y="874"/>
                    </a:lnTo>
                    <a:lnTo>
                      <a:pt x="86" y="874"/>
                    </a:lnTo>
                    <a:lnTo>
                      <a:pt x="24" y="835"/>
                    </a:lnTo>
                    <a:lnTo>
                      <a:pt x="0" y="779"/>
                    </a:lnTo>
                    <a:lnTo>
                      <a:pt x="0" y="689"/>
                    </a:lnTo>
                    <a:lnTo>
                      <a:pt x="34" y="571"/>
                    </a:lnTo>
                    <a:lnTo>
                      <a:pt x="63" y="409"/>
                    </a:lnTo>
                    <a:lnTo>
                      <a:pt x="72" y="207"/>
                    </a:lnTo>
                    <a:lnTo>
                      <a:pt x="55" y="55"/>
                    </a:lnTo>
                    <a:lnTo>
                      <a:pt x="107" y="3"/>
                    </a:lnTo>
                    <a:lnTo>
                      <a:pt x="1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flipH="1" rot="782400">
                <a:off x="3344040" y="4722840"/>
                <a:ext cx="145800" cy="248400"/>
              </a:xfrm>
              <a:custGeom>
                <a:avLst/>
                <a:gdLst/>
                <a:ahLst/>
                <a:rect l="l" t="t" r="r" b="b"/>
                <a:pathLst>
                  <a:path w="480" h="781">
                    <a:moveTo>
                      <a:pt x="365" y="31"/>
                    </a:moveTo>
                    <a:lnTo>
                      <a:pt x="417" y="0"/>
                    </a:lnTo>
                    <a:lnTo>
                      <a:pt x="456" y="0"/>
                    </a:lnTo>
                    <a:lnTo>
                      <a:pt x="480" y="24"/>
                    </a:lnTo>
                    <a:lnTo>
                      <a:pt x="466" y="72"/>
                    </a:lnTo>
                    <a:lnTo>
                      <a:pt x="434" y="104"/>
                    </a:lnTo>
                    <a:lnTo>
                      <a:pt x="376" y="135"/>
                    </a:lnTo>
                    <a:lnTo>
                      <a:pt x="261" y="180"/>
                    </a:lnTo>
                    <a:lnTo>
                      <a:pt x="115" y="260"/>
                    </a:lnTo>
                    <a:lnTo>
                      <a:pt x="60" y="263"/>
                    </a:lnTo>
                    <a:lnTo>
                      <a:pt x="91" y="337"/>
                    </a:lnTo>
                    <a:lnTo>
                      <a:pt x="153" y="416"/>
                    </a:lnTo>
                    <a:lnTo>
                      <a:pt x="205" y="514"/>
                    </a:lnTo>
                    <a:lnTo>
                      <a:pt x="226" y="615"/>
                    </a:lnTo>
                    <a:lnTo>
                      <a:pt x="216" y="645"/>
                    </a:lnTo>
                    <a:lnTo>
                      <a:pt x="185" y="667"/>
                    </a:lnTo>
                    <a:lnTo>
                      <a:pt x="143" y="680"/>
                    </a:lnTo>
                    <a:lnTo>
                      <a:pt x="101" y="711"/>
                    </a:lnTo>
                    <a:lnTo>
                      <a:pt x="84" y="743"/>
                    </a:lnTo>
                    <a:lnTo>
                      <a:pt x="74" y="781"/>
                    </a:lnTo>
                    <a:lnTo>
                      <a:pt x="42" y="781"/>
                    </a:lnTo>
                    <a:lnTo>
                      <a:pt x="31" y="753"/>
                    </a:lnTo>
                    <a:lnTo>
                      <a:pt x="52" y="708"/>
                    </a:lnTo>
                    <a:lnTo>
                      <a:pt x="112" y="677"/>
                    </a:lnTo>
                    <a:lnTo>
                      <a:pt x="147" y="645"/>
                    </a:lnTo>
                    <a:lnTo>
                      <a:pt x="178" y="628"/>
                    </a:lnTo>
                    <a:lnTo>
                      <a:pt x="188" y="597"/>
                    </a:lnTo>
                    <a:lnTo>
                      <a:pt x="174" y="514"/>
                    </a:lnTo>
                    <a:lnTo>
                      <a:pt x="126" y="451"/>
                    </a:lnTo>
                    <a:lnTo>
                      <a:pt x="84" y="396"/>
                    </a:lnTo>
                    <a:lnTo>
                      <a:pt x="31" y="333"/>
                    </a:lnTo>
                    <a:lnTo>
                      <a:pt x="0" y="274"/>
                    </a:lnTo>
                    <a:lnTo>
                      <a:pt x="0" y="239"/>
                    </a:lnTo>
                    <a:lnTo>
                      <a:pt x="28" y="222"/>
                    </a:lnTo>
                    <a:lnTo>
                      <a:pt x="136" y="159"/>
                    </a:lnTo>
                    <a:lnTo>
                      <a:pt x="240" y="104"/>
                    </a:lnTo>
                    <a:lnTo>
                      <a:pt x="344" y="52"/>
                    </a:lnTo>
                    <a:lnTo>
                      <a:pt x="365"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782400">
                <a:off x="3196440" y="4932720"/>
                <a:ext cx="96480" cy="268560"/>
              </a:xfrm>
              <a:custGeom>
                <a:avLst/>
                <a:gdLst/>
                <a:ahLst/>
                <a:rect l="l" t="t" r="r" b="b"/>
                <a:pathLst>
                  <a:path w="320" h="846">
                    <a:moveTo>
                      <a:pt x="60" y="98"/>
                    </a:moveTo>
                    <a:lnTo>
                      <a:pt x="18" y="43"/>
                    </a:lnTo>
                    <a:lnTo>
                      <a:pt x="32" y="0"/>
                    </a:lnTo>
                    <a:lnTo>
                      <a:pt x="74" y="0"/>
                    </a:lnTo>
                    <a:lnTo>
                      <a:pt x="122" y="46"/>
                    </a:lnTo>
                    <a:lnTo>
                      <a:pt x="185" y="139"/>
                    </a:lnTo>
                    <a:lnTo>
                      <a:pt x="220" y="230"/>
                    </a:lnTo>
                    <a:lnTo>
                      <a:pt x="251" y="317"/>
                    </a:lnTo>
                    <a:lnTo>
                      <a:pt x="261" y="396"/>
                    </a:lnTo>
                    <a:lnTo>
                      <a:pt x="258" y="438"/>
                    </a:lnTo>
                    <a:lnTo>
                      <a:pt x="226" y="490"/>
                    </a:lnTo>
                    <a:lnTo>
                      <a:pt x="174" y="629"/>
                    </a:lnTo>
                    <a:lnTo>
                      <a:pt x="115" y="708"/>
                    </a:lnTo>
                    <a:lnTo>
                      <a:pt x="101" y="743"/>
                    </a:lnTo>
                    <a:lnTo>
                      <a:pt x="157" y="750"/>
                    </a:lnTo>
                    <a:lnTo>
                      <a:pt x="230" y="750"/>
                    </a:lnTo>
                    <a:lnTo>
                      <a:pt x="320" y="780"/>
                    </a:lnTo>
                    <a:lnTo>
                      <a:pt x="313" y="805"/>
                    </a:lnTo>
                    <a:lnTo>
                      <a:pt x="300" y="832"/>
                    </a:lnTo>
                    <a:lnTo>
                      <a:pt x="272" y="846"/>
                    </a:lnTo>
                    <a:lnTo>
                      <a:pt x="216" y="826"/>
                    </a:lnTo>
                    <a:lnTo>
                      <a:pt x="157" y="795"/>
                    </a:lnTo>
                    <a:lnTo>
                      <a:pt x="74" y="791"/>
                    </a:lnTo>
                    <a:lnTo>
                      <a:pt x="22" y="802"/>
                    </a:lnTo>
                    <a:lnTo>
                      <a:pt x="0" y="785"/>
                    </a:lnTo>
                    <a:lnTo>
                      <a:pt x="0" y="760"/>
                    </a:lnTo>
                    <a:lnTo>
                      <a:pt x="29" y="733"/>
                    </a:lnTo>
                    <a:lnTo>
                      <a:pt x="74" y="687"/>
                    </a:lnTo>
                    <a:lnTo>
                      <a:pt x="153" y="572"/>
                    </a:lnTo>
                    <a:lnTo>
                      <a:pt x="188" y="473"/>
                    </a:lnTo>
                    <a:lnTo>
                      <a:pt x="199" y="375"/>
                    </a:lnTo>
                    <a:lnTo>
                      <a:pt x="196" y="323"/>
                    </a:lnTo>
                    <a:lnTo>
                      <a:pt x="168" y="230"/>
                    </a:lnTo>
                    <a:lnTo>
                      <a:pt x="95" y="129"/>
                    </a:lnTo>
                    <a:lnTo>
                      <a:pt x="43" y="77"/>
                    </a:lnTo>
                    <a:lnTo>
                      <a:pt x="60" y="9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H="1" rot="782400">
                <a:off x="3296880" y="4942800"/>
                <a:ext cx="142560" cy="296280"/>
              </a:xfrm>
              <a:custGeom>
                <a:avLst/>
                <a:gdLst/>
                <a:ahLst/>
                <a:rect l="l" t="t" r="r" b="b"/>
                <a:pathLst>
                  <a:path w="469" h="933">
                    <a:moveTo>
                      <a:pt x="274" y="163"/>
                    </a:moveTo>
                    <a:lnTo>
                      <a:pt x="344" y="73"/>
                    </a:lnTo>
                    <a:lnTo>
                      <a:pt x="406" y="0"/>
                    </a:lnTo>
                    <a:lnTo>
                      <a:pt x="448" y="7"/>
                    </a:lnTo>
                    <a:lnTo>
                      <a:pt x="469" y="38"/>
                    </a:lnTo>
                    <a:lnTo>
                      <a:pt x="469" y="93"/>
                    </a:lnTo>
                    <a:lnTo>
                      <a:pt x="431" y="125"/>
                    </a:lnTo>
                    <a:lnTo>
                      <a:pt x="364" y="167"/>
                    </a:lnTo>
                    <a:lnTo>
                      <a:pt x="312" y="219"/>
                    </a:lnTo>
                    <a:lnTo>
                      <a:pt x="254" y="288"/>
                    </a:lnTo>
                    <a:lnTo>
                      <a:pt x="229" y="340"/>
                    </a:lnTo>
                    <a:lnTo>
                      <a:pt x="202" y="402"/>
                    </a:lnTo>
                    <a:lnTo>
                      <a:pt x="187" y="486"/>
                    </a:lnTo>
                    <a:lnTo>
                      <a:pt x="187" y="561"/>
                    </a:lnTo>
                    <a:lnTo>
                      <a:pt x="202" y="656"/>
                    </a:lnTo>
                    <a:lnTo>
                      <a:pt x="240" y="746"/>
                    </a:lnTo>
                    <a:lnTo>
                      <a:pt x="271" y="798"/>
                    </a:lnTo>
                    <a:lnTo>
                      <a:pt x="292" y="832"/>
                    </a:lnTo>
                    <a:lnTo>
                      <a:pt x="292" y="861"/>
                    </a:lnTo>
                    <a:lnTo>
                      <a:pt x="271" y="870"/>
                    </a:lnTo>
                    <a:lnTo>
                      <a:pt x="222" y="870"/>
                    </a:lnTo>
                    <a:lnTo>
                      <a:pt x="145" y="884"/>
                    </a:lnTo>
                    <a:lnTo>
                      <a:pt x="86" y="905"/>
                    </a:lnTo>
                    <a:lnTo>
                      <a:pt x="52" y="933"/>
                    </a:lnTo>
                    <a:lnTo>
                      <a:pt x="20" y="922"/>
                    </a:lnTo>
                    <a:lnTo>
                      <a:pt x="0" y="884"/>
                    </a:lnTo>
                    <a:lnTo>
                      <a:pt x="3" y="853"/>
                    </a:lnTo>
                    <a:lnTo>
                      <a:pt x="63" y="829"/>
                    </a:lnTo>
                    <a:lnTo>
                      <a:pt x="156" y="823"/>
                    </a:lnTo>
                    <a:lnTo>
                      <a:pt x="243" y="823"/>
                    </a:lnTo>
                    <a:lnTo>
                      <a:pt x="208" y="780"/>
                    </a:lnTo>
                    <a:lnTo>
                      <a:pt x="191" y="728"/>
                    </a:lnTo>
                    <a:lnTo>
                      <a:pt x="167" y="656"/>
                    </a:lnTo>
                    <a:lnTo>
                      <a:pt x="139" y="580"/>
                    </a:lnTo>
                    <a:lnTo>
                      <a:pt x="139" y="489"/>
                    </a:lnTo>
                    <a:lnTo>
                      <a:pt x="145" y="402"/>
                    </a:lnTo>
                    <a:lnTo>
                      <a:pt x="177" y="323"/>
                    </a:lnTo>
                    <a:lnTo>
                      <a:pt x="232" y="219"/>
                    </a:lnTo>
                    <a:lnTo>
                      <a:pt x="274" y="1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2489040" y="4975200"/>
              <a:ext cx="754200" cy="98280"/>
              <a:chOff x="2489040" y="4975200"/>
              <a:chExt cx="754200" cy="98280"/>
            </a:xfrm>
          </p:grpSpPr>
          <p:sp>
            <p:nvSpPr>
              <p:cNvPr id="1315" name=""/>
              <p:cNvSpPr/>
              <p:nvPr/>
            </p:nvSpPr>
            <p:spPr>
              <a:xfrm>
                <a:off x="2489040" y="4975200"/>
                <a:ext cx="59256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081600" y="4975200"/>
                <a:ext cx="16164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17" name=""/>
          <p:cNvGrpSpPr/>
          <p:nvPr/>
        </p:nvGrpSpPr>
        <p:grpSpPr>
          <a:xfrm>
            <a:off x="2836800" y="1567800"/>
            <a:ext cx="1181160" cy="740880"/>
            <a:chOff x="2836800" y="1567800"/>
            <a:chExt cx="1181160" cy="740880"/>
          </a:xfrm>
        </p:grpSpPr>
        <p:grpSp>
          <p:nvGrpSpPr>
            <p:cNvPr id="1318" name=""/>
            <p:cNvGrpSpPr/>
            <p:nvPr/>
          </p:nvGrpSpPr>
          <p:grpSpPr>
            <a:xfrm>
              <a:off x="3452040" y="1567800"/>
              <a:ext cx="565920" cy="740880"/>
              <a:chOff x="3452040" y="1567800"/>
              <a:chExt cx="565920" cy="740880"/>
            </a:xfrm>
          </p:grpSpPr>
          <p:sp>
            <p:nvSpPr>
              <p:cNvPr id="1319" name=""/>
              <p:cNvSpPr/>
              <p:nvPr/>
            </p:nvSpPr>
            <p:spPr>
              <a:xfrm rot="21115200">
                <a:off x="3588120" y="1578600"/>
                <a:ext cx="166680" cy="161640"/>
              </a:xfrm>
              <a:custGeom>
                <a:avLst/>
                <a:gdLst/>
                <a:ahLst/>
                <a:rect l="l" t="t" r="r" b="b"/>
                <a:pathLst>
                  <a:path w="525" h="510">
                    <a:moveTo>
                      <a:pt x="108" y="23"/>
                    </a:moveTo>
                    <a:lnTo>
                      <a:pt x="167" y="0"/>
                    </a:lnTo>
                    <a:lnTo>
                      <a:pt x="209" y="17"/>
                    </a:lnTo>
                    <a:lnTo>
                      <a:pt x="254" y="72"/>
                    </a:lnTo>
                    <a:lnTo>
                      <a:pt x="282" y="152"/>
                    </a:lnTo>
                    <a:lnTo>
                      <a:pt x="285" y="208"/>
                    </a:lnTo>
                    <a:lnTo>
                      <a:pt x="289" y="280"/>
                    </a:lnTo>
                    <a:lnTo>
                      <a:pt x="476" y="277"/>
                    </a:lnTo>
                    <a:lnTo>
                      <a:pt x="525" y="288"/>
                    </a:lnTo>
                    <a:lnTo>
                      <a:pt x="519" y="322"/>
                    </a:lnTo>
                    <a:lnTo>
                      <a:pt x="418" y="308"/>
                    </a:lnTo>
                    <a:lnTo>
                      <a:pt x="285" y="329"/>
                    </a:lnTo>
                    <a:lnTo>
                      <a:pt x="258" y="401"/>
                    </a:lnTo>
                    <a:lnTo>
                      <a:pt x="220" y="464"/>
                    </a:lnTo>
                    <a:lnTo>
                      <a:pt x="174" y="488"/>
                    </a:lnTo>
                    <a:lnTo>
                      <a:pt x="125" y="510"/>
                    </a:lnTo>
                    <a:lnTo>
                      <a:pt x="90" y="496"/>
                    </a:lnTo>
                    <a:lnTo>
                      <a:pt x="41" y="440"/>
                    </a:lnTo>
                    <a:lnTo>
                      <a:pt x="7" y="371"/>
                    </a:lnTo>
                    <a:lnTo>
                      <a:pt x="0" y="312"/>
                    </a:lnTo>
                    <a:lnTo>
                      <a:pt x="18" y="193"/>
                    </a:lnTo>
                    <a:lnTo>
                      <a:pt x="59" y="104"/>
                    </a:lnTo>
                    <a:lnTo>
                      <a:pt x="90" y="52"/>
                    </a:lnTo>
                    <a:lnTo>
                      <a:pt x="128" y="20"/>
                    </a:lnTo>
                    <a:lnTo>
                      <a:pt x="108" y="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rot="21115200">
                <a:off x="3674160" y="1710360"/>
                <a:ext cx="341280" cy="60120"/>
              </a:xfrm>
              <a:custGeom>
                <a:avLst/>
                <a:gdLst/>
                <a:ahLst/>
                <a:rect l="l" t="t" r="r" b="b"/>
                <a:pathLst>
                  <a:path w="1075" h="190">
                    <a:moveTo>
                      <a:pt x="0" y="121"/>
                    </a:moveTo>
                    <a:lnTo>
                      <a:pt x="90" y="91"/>
                    </a:lnTo>
                    <a:lnTo>
                      <a:pt x="282" y="77"/>
                    </a:lnTo>
                    <a:lnTo>
                      <a:pt x="442" y="63"/>
                    </a:lnTo>
                    <a:lnTo>
                      <a:pt x="620" y="35"/>
                    </a:lnTo>
                    <a:lnTo>
                      <a:pt x="751" y="31"/>
                    </a:lnTo>
                    <a:lnTo>
                      <a:pt x="925" y="11"/>
                    </a:lnTo>
                    <a:lnTo>
                      <a:pt x="1072" y="0"/>
                    </a:lnTo>
                    <a:lnTo>
                      <a:pt x="1075" y="22"/>
                    </a:lnTo>
                    <a:lnTo>
                      <a:pt x="1040" y="49"/>
                    </a:lnTo>
                    <a:lnTo>
                      <a:pt x="908" y="49"/>
                    </a:lnTo>
                    <a:lnTo>
                      <a:pt x="919" y="83"/>
                    </a:lnTo>
                    <a:lnTo>
                      <a:pt x="901" y="125"/>
                    </a:lnTo>
                    <a:lnTo>
                      <a:pt x="866" y="152"/>
                    </a:lnTo>
                    <a:lnTo>
                      <a:pt x="811" y="152"/>
                    </a:lnTo>
                    <a:lnTo>
                      <a:pt x="765" y="138"/>
                    </a:lnTo>
                    <a:lnTo>
                      <a:pt x="748" y="94"/>
                    </a:lnTo>
                    <a:lnTo>
                      <a:pt x="748" y="66"/>
                    </a:lnTo>
                    <a:lnTo>
                      <a:pt x="623" y="69"/>
                    </a:lnTo>
                    <a:lnTo>
                      <a:pt x="571" y="83"/>
                    </a:lnTo>
                    <a:lnTo>
                      <a:pt x="466" y="111"/>
                    </a:lnTo>
                    <a:lnTo>
                      <a:pt x="316" y="129"/>
                    </a:lnTo>
                    <a:lnTo>
                      <a:pt x="191" y="132"/>
                    </a:lnTo>
                    <a:lnTo>
                      <a:pt x="108" y="149"/>
                    </a:lnTo>
                    <a:lnTo>
                      <a:pt x="32" y="190"/>
                    </a:lnTo>
                    <a:lnTo>
                      <a:pt x="0" y="149"/>
                    </a:lnTo>
                    <a:lnTo>
                      <a:pt x="21" y="111"/>
                    </a:lnTo>
                    <a:lnTo>
                      <a:pt x="38" y="101"/>
                    </a:lnTo>
                    <a:lnTo>
                      <a:pt x="0" y="121"/>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1" name=""/>
              <p:cNvSpPr/>
              <p:nvPr/>
            </p:nvSpPr>
            <p:spPr>
              <a:xfrm rot="21115200">
                <a:off x="3587040" y="1753200"/>
                <a:ext cx="133560" cy="277920"/>
              </a:xfrm>
              <a:custGeom>
                <a:avLst/>
                <a:gdLst/>
                <a:ahLst/>
                <a:rect l="l" t="t" r="r" b="b"/>
                <a:pathLst>
                  <a:path w="420" h="874">
                    <a:moveTo>
                      <a:pt x="187" y="0"/>
                    </a:moveTo>
                    <a:lnTo>
                      <a:pt x="239" y="9"/>
                    </a:lnTo>
                    <a:lnTo>
                      <a:pt x="301" y="9"/>
                    </a:lnTo>
                    <a:lnTo>
                      <a:pt x="385" y="51"/>
                    </a:lnTo>
                    <a:lnTo>
                      <a:pt x="416" y="135"/>
                    </a:lnTo>
                    <a:lnTo>
                      <a:pt x="420" y="249"/>
                    </a:lnTo>
                    <a:lnTo>
                      <a:pt x="388" y="377"/>
                    </a:lnTo>
                    <a:lnTo>
                      <a:pt x="333" y="499"/>
                    </a:lnTo>
                    <a:lnTo>
                      <a:pt x="292" y="603"/>
                    </a:lnTo>
                    <a:lnTo>
                      <a:pt x="249" y="748"/>
                    </a:lnTo>
                    <a:lnTo>
                      <a:pt x="200" y="835"/>
                    </a:lnTo>
                    <a:lnTo>
                      <a:pt x="139" y="874"/>
                    </a:lnTo>
                    <a:lnTo>
                      <a:pt x="86" y="874"/>
                    </a:lnTo>
                    <a:lnTo>
                      <a:pt x="24" y="835"/>
                    </a:lnTo>
                    <a:lnTo>
                      <a:pt x="0" y="779"/>
                    </a:lnTo>
                    <a:lnTo>
                      <a:pt x="0" y="689"/>
                    </a:lnTo>
                    <a:lnTo>
                      <a:pt x="34" y="571"/>
                    </a:lnTo>
                    <a:lnTo>
                      <a:pt x="63" y="409"/>
                    </a:lnTo>
                    <a:lnTo>
                      <a:pt x="72" y="207"/>
                    </a:lnTo>
                    <a:lnTo>
                      <a:pt x="55" y="55"/>
                    </a:lnTo>
                    <a:lnTo>
                      <a:pt x="107" y="3"/>
                    </a:lnTo>
                    <a:lnTo>
                      <a:pt x="1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rot="21115200">
                <a:off x="3468600" y="1779480"/>
                <a:ext cx="152280" cy="247680"/>
              </a:xfrm>
              <a:custGeom>
                <a:avLst/>
                <a:gdLst/>
                <a:ahLst/>
                <a:rect l="l" t="t" r="r" b="b"/>
                <a:pathLst>
                  <a:path w="480" h="781">
                    <a:moveTo>
                      <a:pt x="365" y="31"/>
                    </a:moveTo>
                    <a:lnTo>
                      <a:pt x="417" y="0"/>
                    </a:lnTo>
                    <a:lnTo>
                      <a:pt x="456" y="0"/>
                    </a:lnTo>
                    <a:lnTo>
                      <a:pt x="480" y="24"/>
                    </a:lnTo>
                    <a:lnTo>
                      <a:pt x="466" y="72"/>
                    </a:lnTo>
                    <a:lnTo>
                      <a:pt x="434" y="104"/>
                    </a:lnTo>
                    <a:lnTo>
                      <a:pt x="376" y="135"/>
                    </a:lnTo>
                    <a:lnTo>
                      <a:pt x="261" y="180"/>
                    </a:lnTo>
                    <a:lnTo>
                      <a:pt x="115" y="260"/>
                    </a:lnTo>
                    <a:lnTo>
                      <a:pt x="60" y="263"/>
                    </a:lnTo>
                    <a:lnTo>
                      <a:pt x="91" y="337"/>
                    </a:lnTo>
                    <a:lnTo>
                      <a:pt x="153" y="416"/>
                    </a:lnTo>
                    <a:lnTo>
                      <a:pt x="205" y="514"/>
                    </a:lnTo>
                    <a:lnTo>
                      <a:pt x="226" y="615"/>
                    </a:lnTo>
                    <a:lnTo>
                      <a:pt x="216" y="645"/>
                    </a:lnTo>
                    <a:lnTo>
                      <a:pt x="185" y="667"/>
                    </a:lnTo>
                    <a:lnTo>
                      <a:pt x="143" y="680"/>
                    </a:lnTo>
                    <a:lnTo>
                      <a:pt x="101" y="711"/>
                    </a:lnTo>
                    <a:lnTo>
                      <a:pt x="84" y="743"/>
                    </a:lnTo>
                    <a:lnTo>
                      <a:pt x="74" y="781"/>
                    </a:lnTo>
                    <a:lnTo>
                      <a:pt x="42" y="781"/>
                    </a:lnTo>
                    <a:lnTo>
                      <a:pt x="31" y="753"/>
                    </a:lnTo>
                    <a:lnTo>
                      <a:pt x="52" y="708"/>
                    </a:lnTo>
                    <a:lnTo>
                      <a:pt x="112" y="677"/>
                    </a:lnTo>
                    <a:lnTo>
                      <a:pt x="147" y="645"/>
                    </a:lnTo>
                    <a:lnTo>
                      <a:pt x="178" y="628"/>
                    </a:lnTo>
                    <a:lnTo>
                      <a:pt x="188" y="597"/>
                    </a:lnTo>
                    <a:lnTo>
                      <a:pt x="174" y="514"/>
                    </a:lnTo>
                    <a:lnTo>
                      <a:pt x="126" y="451"/>
                    </a:lnTo>
                    <a:lnTo>
                      <a:pt x="84" y="396"/>
                    </a:lnTo>
                    <a:lnTo>
                      <a:pt x="31" y="333"/>
                    </a:lnTo>
                    <a:lnTo>
                      <a:pt x="0" y="274"/>
                    </a:lnTo>
                    <a:lnTo>
                      <a:pt x="0" y="239"/>
                    </a:lnTo>
                    <a:lnTo>
                      <a:pt x="28" y="222"/>
                    </a:lnTo>
                    <a:lnTo>
                      <a:pt x="136" y="159"/>
                    </a:lnTo>
                    <a:lnTo>
                      <a:pt x="240" y="104"/>
                    </a:lnTo>
                    <a:lnTo>
                      <a:pt x="344" y="52"/>
                    </a:lnTo>
                    <a:lnTo>
                      <a:pt x="365"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rot="21115200">
                <a:off x="3651840" y="2002680"/>
                <a:ext cx="101520" cy="268200"/>
              </a:xfrm>
              <a:custGeom>
                <a:avLst/>
                <a:gdLst/>
                <a:ahLst/>
                <a:rect l="l" t="t" r="r" b="b"/>
                <a:pathLst>
                  <a:path w="320" h="846">
                    <a:moveTo>
                      <a:pt x="60" y="98"/>
                    </a:moveTo>
                    <a:lnTo>
                      <a:pt x="18" y="43"/>
                    </a:lnTo>
                    <a:lnTo>
                      <a:pt x="32" y="0"/>
                    </a:lnTo>
                    <a:lnTo>
                      <a:pt x="74" y="0"/>
                    </a:lnTo>
                    <a:lnTo>
                      <a:pt x="122" y="46"/>
                    </a:lnTo>
                    <a:lnTo>
                      <a:pt x="185" y="139"/>
                    </a:lnTo>
                    <a:lnTo>
                      <a:pt x="220" y="230"/>
                    </a:lnTo>
                    <a:lnTo>
                      <a:pt x="251" y="317"/>
                    </a:lnTo>
                    <a:lnTo>
                      <a:pt x="261" y="396"/>
                    </a:lnTo>
                    <a:lnTo>
                      <a:pt x="258" y="438"/>
                    </a:lnTo>
                    <a:lnTo>
                      <a:pt x="226" y="490"/>
                    </a:lnTo>
                    <a:lnTo>
                      <a:pt x="174" y="629"/>
                    </a:lnTo>
                    <a:lnTo>
                      <a:pt x="115" y="708"/>
                    </a:lnTo>
                    <a:lnTo>
                      <a:pt x="101" y="743"/>
                    </a:lnTo>
                    <a:lnTo>
                      <a:pt x="157" y="750"/>
                    </a:lnTo>
                    <a:lnTo>
                      <a:pt x="230" y="750"/>
                    </a:lnTo>
                    <a:lnTo>
                      <a:pt x="320" y="780"/>
                    </a:lnTo>
                    <a:lnTo>
                      <a:pt x="313" y="805"/>
                    </a:lnTo>
                    <a:lnTo>
                      <a:pt x="300" y="832"/>
                    </a:lnTo>
                    <a:lnTo>
                      <a:pt x="272" y="846"/>
                    </a:lnTo>
                    <a:lnTo>
                      <a:pt x="216" y="826"/>
                    </a:lnTo>
                    <a:lnTo>
                      <a:pt x="157" y="795"/>
                    </a:lnTo>
                    <a:lnTo>
                      <a:pt x="74" y="791"/>
                    </a:lnTo>
                    <a:lnTo>
                      <a:pt x="22" y="802"/>
                    </a:lnTo>
                    <a:lnTo>
                      <a:pt x="0" y="785"/>
                    </a:lnTo>
                    <a:lnTo>
                      <a:pt x="0" y="760"/>
                    </a:lnTo>
                    <a:lnTo>
                      <a:pt x="29" y="733"/>
                    </a:lnTo>
                    <a:lnTo>
                      <a:pt x="74" y="687"/>
                    </a:lnTo>
                    <a:lnTo>
                      <a:pt x="153" y="572"/>
                    </a:lnTo>
                    <a:lnTo>
                      <a:pt x="188" y="473"/>
                    </a:lnTo>
                    <a:lnTo>
                      <a:pt x="199" y="375"/>
                    </a:lnTo>
                    <a:lnTo>
                      <a:pt x="196" y="323"/>
                    </a:lnTo>
                    <a:lnTo>
                      <a:pt x="168" y="230"/>
                    </a:lnTo>
                    <a:lnTo>
                      <a:pt x="95" y="129"/>
                    </a:lnTo>
                    <a:lnTo>
                      <a:pt x="43" y="77"/>
                    </a:lnTo>
                    <a:lnTo>
                      <a:pt x="60" y="9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rot="21115200">
                <a:off x="3495600" y="2002320"/>
                <a:ext cx="149040" cy="297000"/>
              </a:xfrm>
              <a:custGeom>
                <a:avLst/>
                <a:gdLst/>
                <a:ahLst/>
                <a:rect l="l" t="t" r="r" b="b"/>
                <a:pathLst>
                  <a:path w="469" h="933">
                    <a:moveTo>
                      <a:pt x="274" y="163"/>
                    </a:moveTo>
                    <a:lnTo>
                      <a:pt x="344" y="73"/>
                    </a:lnTo>
                    <a:lnTo>
                      <a:pt x="406" y="0"/>
                    </a:lnTo>
                    <a:lnTo>
                      <a:pt x="448" y="7"/>
                    </a:lnTo>
                    <a:lnTo>
                      <a:pt x="469" y="38"/>
                    </a:lnTo>
                    <a:lnTo>
                      <a:pt x="469" y="93"/>
                    </a:lnTo>
                    <a:lnTo>
                      <a:pt x="431" y="125"/>
                    </a:lnTo>
                    <a:lnTo>
                      <a:pt x="364" y="167"/>
                    </a:lnTo>
                    <a:lnTo>
                      <a:pt x="312" y="219"/>
                    </a:lnTo>
                    <a:lnTo>
                      <a:pt x="254" y="288"/>
                    </a:lnTo>
                    <a:lnTo>
                      <a:pt x="229" y="340"/>
                    </a:lnTo>
                    <a:lnTo>
                      <a:pt x="202" y="402"/>
                    </a:lnTo>
                    <a:lnTo>
                      <a:pt x="187" y="486"/>
                    </a:lnTo>
                    <a:lnTo>
                      <a:pt x="187" y="561"/>
                    </a:lnTo>
                    <a:lnTo>
                      <a:pt x="202" y="656"/>
                    </a:lnTo>
                    <a:lnTo>
                      <a:pt x="240" y="746"/>
                    </a:lnTo>
                    <a:lnTo>
                      <a:pt x="271" y="798"/>
                    </a:lnTo>
                    <a:lnTo>
                      <a:pt x="292" y="832"/>
                    </a:lnTo>
                    <a:lnTo>
                      <a:pt x="292" y="861"/>
                    </a:lnTo>
                    <a:lnTo>
                      <a:pt x="271" y="870"/>
                    </a:lnTo>
                    <a:lnTo>
                      <a:pt x="222" y="870"/>
                    </a:lnTo>
                    <a:lnTo>
                      <a:pt x="145" y="884"/>
                    </a:lnTo>
                    <a:lnTo>
                      <a:pt x="86" y="905"/>
                    </a:lnTo>
                    <a:lnTo>
                      <a:pt x="52" y="933"/>
                    </a:lnTo>
                    <a:lnTo>
                      <a:pt x="20" y="922"/>
                    </a:lnTo>
                    <a:lnTo>
                      <a:pt x="0" y="884"/>
                    </a:lnTo>
                    <a:lnTo>
                      <a:pt x="3" y="853"/>
                    </a:lnTo>
                    <a:lnTo>
                      <a:pt x="63" y="829"/>
                    </a:lnTo>
                    <a:lnTo>
                      <a:pt x="156" y="823"/>
                    </a:lnTo>
                    <a:lnTo>
                      <a:pt x="243" y="823"/>
                    </a:lnTo>
                    <a:lnTo>
                      <a:pt x="208" y="780"/>
                    </a:lnTo>
                    <a:lnTo>
                      <a:pt x="191" y="728"/>
                    </a:lnTo>
                    <a:lnTo>
                      <a:pt x="167" y="656"/>
                    </a:lnTo>
                    <a:lnTo>
                      <a:pt x="139" y="580"/>
                    </a:lnTo>
                    <a:lnTo>
                      <a:pt x="139" y="489"/>
                    </a:lnTo>
                    <a:lnTo>
                      <a:pt x="145" y="402"/>
                    </a:lnTo>
                    <a:lnTo>
                      <a:pt x="177" y="323"/>
                    </a:lnTo>
                    <a:lnTo>
                      <a:pt x="232" y="219"/>
                    </a:lnTo>
                    <a:lnTo>
                      <a:pt x="274" y="1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36800" y="2058840"/>
              <a:ext cx="754200" cy="98640"/>
              <a:chOff x="2836800" y="2058840"/>
              <a:chExt cx="754200" cy="98640"/>
            </a:xfrm>
          </p:grpSpPr>
          <p:sp>
            <p:nvSpPr>
              <p:cNvPr id="1326" name=""/>
              <p:cNvSpPr/>
              <p:nvPr/>
            </p:nvSpPr>
            <p:spPr>
              <a:xfrm>
                <a:off x="2836800" y="2058840"/>
                <a:ext cx="592560" cy="98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429360" y="2058840"/>
                <a:ext cx="161640" cy="98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28" name=""/>
          <p:cNvGrpSpPr/>
          <p:nvPr/>
        </p:nvGrpSpPr>
        <p:grpSpPr>
          <a:xfrm>
            <a:off x="4143240" y="1108080"/>
            <a:ext cx="1254240" cy="657360"/>
            <a:chOff x="4143240" y="1108080"/>
            <a:chExt cx="1254240" cy="657360"/>
          </a:xfrm>
        </p:grpSpPr>
        <p:pic>
          <p:nvPicPr>
            <p:cNvPr id="1329" name="pcs_popular_179" descr=""/>
            <p:cNvPicPr/>
            <p:nvPr/>
          </p:nvPicPr>
          <p:blipFill>
            <a:blip r:embed="rId1"/>
            <a:stretch/>
          </p:blipFill>
          <p:spPr>
            <a:xfrm>
              <a:off x="4835520" y="1108080"/>
              <a:ext cx="561960" cy="657360"/>
            </a:xfrm>
            <a:prstGeom prst="rect">
              <a:avLst/>
            </a:prstGeom>
            <a:ln w="0">
              <a:noFill/>
            </a:ln>
          </p:spPr>
        </p:pic>
        <p:grpSp>
          <p:nvGrpSpPr>
            <p:cNvPr id="1330" name=""/>
            <p:cNvGrpSpPr/>
            <p:nvPr/>
          </p:nvGrpSpPr>
          <p:grpSpPr>
            <a:xfrm>
              <a:off x="4143240" y="1536840"/>
              <a:ext cx="754200" cy="98280"/>
              <a:chOff x="4143240" y="1536840"/>
              <a:chExt cx="754200" cy="98280"/>
            </a:xfrm>
          </p:grpSpPr>
          <p:sp>
            <p:nvSpPr>
              <p:cNvPr id="1331" name=""/>
              <p:cNvSpPr/>
              <p:nvPr/>
            </p:nvSpPr>
            <p:spPr>
              <a:xfrm>
                <a:off x="4143240" y="1536840"/>
                <a:ext cx="59256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735800" y="1536840"/>
                <a:ext cx="16164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33" name=""/>
          <p:cNvGrpSpPr/>
          <p:nvPr/>
        </p:nvGrpSpPr>
        <p:grpSpPr>
          <a:xfrm>
            <a:off x="5135400" y="1459080"/>
            <a:ext cx="1256040" cy="699120"/>
            <a:chOff x="5135400" y="1459080"/>
            <a:chExt cx="1256040" cy="699120"/>
          </a:xfrm>
        </p:grpSpPr>
        <p:grpSp>
          <p:nvGrpSpPr>
            <p:cNvPr id="1334" name=""/>
            <p:cNvGrpSpPr/>
            <p:nvPr/>
          </p:nvGrpSpPr>
          <p:grpSpPr>
            <a:xfrm>
              <a:off x="5779800" y="1459080"/>
              <a:ext cx="611640" cy="699120"/>
              <a:chOff x="5779800" y="1459080"/>
              <a:chExt cx="611640" cy="699120"/>
            </a:xfrm>
          </p:grpSpPr>
          <p:sp>
            <p:nvSpPr>
              <p:cNvPr id="1335" name=""/>
              <p:cNvSpPr/>
              <p:nvPr/>
            </p:nvSpPr>
            <p:spPr>
              <a:xfrm rot="240000">
                <a:off x="5982840" y="1464480"/>
                <a:ext cx="166680" cy="161640"/>
              </a:xfrm>
              <a:custGeom>
                <a:avLst/>
                <a:gdLst/>
                <a:ahLst/>
                <a:rect l="l" t="t" r="r" b="b"/>
                <a:pathLst>
                  <a:path w="525" h="510">
                    <a:moveTo>
                      <a:pt x="108" y="23"/>
                    </a:moveTo>
                    <a:lnTo>
                      <a:pt x="167" y="0"/>
                    </a:lnTo>
                    <a:lnTo>
                      <a:pt x="209" y="17"/>
                    </a:lnTo>
                    <a:lnTo>
                      <a:pt x="254" y="72"/>
                    </a:lnTo>
                    <a:lnTo>
                      <a:pt x="282" y="152"/>
                    </a:lnTo>
                    <a:lnTo>
                      <a:pt x="285" y="208"/>
                    </a:lnTo>
                    <a:lnTo>
                      <a:pt x="289" y="280"/>
                    </a:lnTo>
                    <a:lnTo>
                      <a:pt x="476" y="277"/>
                    </a:lnTo>
                    <a:lnTo>
                      <a:pt x="525" y="288"/>
                    </a:lnTo>
                    <a:lnTo>
                      <a:pt x="519" y="322"/>
                    </a:lnTo>
                    <a:lnTo>
                      <a:pt x="418" y="308"/>
                    </a:lnTo>
                    <a:lnTo>
                      <a:pt x="285" y="329"/>
                    </a:lnTo>
                    <a:lnTo>
                      <a:pt x="258" y="401"/>
                    </a:lnTo>
                    <a:lnTo>
                      <a:pt x="220" y="464"/>
                    </a:lnTo>
                    <a:lnTo>
                      <a:pt x="174" y="488"/>
                    </a:lnTo>
                    <a:lnTo>
                      <a:pt x="125" y="510"/>
                    </a:lnTo>
                    <a:lnTo>
                      <a:pt x="90" y="496"/>
                    </a:lnTo>
                    <a:lnTo>
                      <a:pt x="41" y="440"/>
                    </a:lnTo>
                    <a:lnTo>
                      <a:pt x="7" y="371"/>
                    </a:lnTo>
                    <a:lnTo>
                      <a:pt x="0" y="312"/>
                    </a:lnTo>
                    <a:lnTo>
                      <a:pt x="18" y="193"/>
                    </a:lnTo>
                    <a:lnTo>
                      <a:pt x="59" y="104"/>
                    </a:lnTo>
                    <a:lnTo>
                      <a:pt x="90" y="52"/>
                    </a:lnTo>
                    <a:lnTo>
                      <a:pt x="128" y="20"/>
                    </a:lnTo>
                    <a:lnTo>
                      <a:pt x="108" y="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rot="240000">
                <a:off x="6048360" y="1630800"/>
                <a:ext cx="341280" cy="60120"/>
              </a:xfrm>
              <a:custGeom>
                <a:avLst/>
                <a:gdLst/>
                <a:ahLst/>
                <a:rect l="l" t="t" r="r" b="b"/>
                <a:pathLst>
                  <a:path w="1075" h="190">
                    <a:moveTo>
                      <a:pt x="0" y="121"/>
                    </a:moveTo>
                    <a:lnTo>
                      <a:pt x="90" y="91"/>
                    </a:lnTo>
                    <a:lnTo>
                      <a:pt x="282" y="77"/>
                    </a:lnTo>
                    <a:lnTo>
                      <a:pt x="442" y="63"/>
                    </a:lnTo>
                    <a:lnTo>
                      <a:pt x="620" y="35"/>
                    </a:lnTo>
                    <a:lnTo>
                      <a:pt x="751" y="31"/>
                    </a:lnTo>
                    <a:lnTo>
                      <a:pt x="925" y="11"/>
                    </a:lnTo>
                    <a:lnTo>
                      <a:pt x="1072" y="0"/>
                    </a:lnTo>
                    <a:lnTo>
                      <a:pt x="1075" y="22"/>
                    </a:lnTo>
                    <a:lnTo>
                      <a:pt x="1040" y="49"/>
                    </a:lnTo>
                    <a:lnTo>
                      <a:pt x="908" y="49"/>
                    </a:lnTo>
                    <a:lnTo>
                      <a:pt x="919" y="83"/>
                    </a:lnTo>
                    <a:lnTo>
                      <a:pt x="901" y="125"/>
                    </a:lnTo>
                    <a:lnTo>
                      <a:pt x="866" y="152"/>
                    </a:lnTo>
                    <a:lnTo>
                      <a:pt x="811" y="152"/>
                    </a:lnTo>
                    <a:lnTo>
                      <a:pt x="765" y="138"/>
                    </a:lnTo>
                    <a:lnTo>
                      <a:pt x="748" y="94"/>
                    </a:lnTo>
                    <a:lnTo>
                      <a:pt x="748" y="66"/>
                    </a:lnTo>
                    <a:lnTo>
                      <a:pt x="623" y="69"/>
                    </a:lnTo>
                    <a:lnTo>
                      <a:pt x="571" y="83"/>
                    </a:lnTo>
                    <a:lnTo>
                      <a:pt x="466" y="111"/>
                    </a:lnTo>
                    <a:lnTo>
                      <a:pt x="316" y="129"/>
                    </a:lnTo>
                    <a:lnTo>
                      <a:pt x="191" y="132"/>
                    </a:lnTo>
                    <a:lnTo>
                      <a:pt x="108" y="149"/>
                    </a:lnTo>
                    <a:lnTo>
                      <a:pt x="32" y="190"/>
                    </a:lnTo>
                    <a:lnTo>
                      <a:pt x="0" y="149"/>
                    </a:lnTo>
                    <a:lnTo>
                      <a:pt x="21" y="111"/>
                    </a:lnTo>
                    <a:lnTo>
                      <a:pt x="38" y="101"/>
                    </a:lnTo>
                    <a:lnTo>
                      <a:pt x="0" y="121"/>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7" name=""/>
              <p:cNvSpPr/>
              <p:nvPr/>
            </p:nvSpPr>
            <p:spPr>
              <a:xfrm rot="240000">
                <a:off x="5933520" y="1629720"/>
                <a:ext cx="133560" cy="277920"/>
              </a:xfrm>
              <a:custGeom>
                <a:avLst/>
                <a:gdLst/>
                <a:ahLst/>
                <a:rect l="l" t="t" r="r" b="b"/>
                <a:pathLst>
                  <a:path w="420" h="874">
                    <a:moveTo>
                      <a:pt x="187" y="0"/>
                    </a:moveTo>
                    <a:lnTo>
                      <a:pt x="239" y="9"/>
                    </a:lnTo>
                    <a:lnTo>
                      <a:pt x="301" y="9"/>
                    </a:lnTo>
                    <a:lnTo>
                      <a:pt x="385" y="51"/>
                    </a:lnTo>
                    <a:lnTo>
                      <a:pt x="416" y="135"/>
                    </a:lnTo>
                    <a:lnTo>
                      <a:pt x="420" y="249"/>
                    </a:lnTo>
                    <a:lnTo>
                      <a:pt x="388" y="377"/>
                    </a:lnTo>
                    <a:lnTo>
                      <a:pt x="333" y="499"/>
                    </a:lnTo>
                    <a:lnTo>
                      <a:pt x="292" y="603"/>
                    </a:lnTo>
                    <a:lnTo>
                      <a:pt x="249" y="748"/>
                    </a:lnTo>
                    <a:lnTo>
                      <a:pt x="200" y="835"/>
                    </a:lnTo>
                    <a:lnTo>
                      <a:pt x="139" y="874"/>
                    </a:lnTo>
                    <a:lnTo>
                      <a:pt x="86" y="874"/>
                    </a:lnTo>
                    <a:lnTo>
                      <a:pt x="24" y="835"/>
                    </a:lnTo>
                    <a:lnTo>
                      <a:pt x="0" y="779"/>
                    </a:lnTo>
                    <a:lnTo>
                      <a:pt x="0" y="689"/>
                    </a:lnTo>
                    <a:lnTo>
                      <a:pt x="34" y="571"/>
                    </a:lnTo>
                    <a:lnTo>
                      <a:pt x="63" y="409"/>
                    </a:lnTo>
                    <a:lnTo>
                      <a:pt x="72" y="207"/>
                    </a:lnTo>
                    <a:lnTo>
                      <a:pt x="55" y="55"/>
                    </a:lnTo>
                    <a:lnTo>
                      <a:pt x="107" y="3"/>
                    </a:lnTo>
                    <a:lnTo>
                      <a:pt x="1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rot="240000">
                <a:off x="5815440" y="1633320"/>
                <a:ext cx="152280" cy="247680"/>
              </a:xfrm>
              <a:custGeom>
                <a:avLst/>
                <a:gdLst/>
                <a:ahLst/>
                <a:rect l="l" t="t" r="r" b="b"/>
                <a:pathLst>
                  <a:path w="480" h="781">
                    <a:moveTo>
                      <a:pt x="365" y="31"/>
                    </a:moveTo>
                    <a:lnTo>
                      <a:pt x="417" y="0"/>
                    </a:lnTo>
                    <a:lnTo>
                      <a:pt x="456" y="0"/>
                    </a:lnTo>
                    <a:lnTo>
                      <a:pt x="480" y="24"/>
                    </a:lnTo>
                    <a:lnTo>
                      <a:pt x="466" y="72"/>
                    </a:lnTo>
                    <a:lnTo>
                      <a:pt x="434" y="104"/>
                    </a:lnTo>
                    <a:lnTo>
                      <a:pt x="376" y="135"/>
                    </a:lnTo>
                    <a:lnTo>
                      <a:pt x="261" y="180"/>
                    </a:lnTo>
                    <a:lnTo>
                      <a:pt x="115" y="260"/>
                    </a:lnTo>
                    <a:lnTo>
                      <a:pt x="60" y="263"/>
                    </a:lnTo>
                    <a:lnTo>
                      <a:pt x="91" y="337"/>
                    </a:lnTo>
                    <a:lnTo>
                      <a:pt x="153" y="416"/>
                    </a:lnTo>
                    <a:lnTo>
                      <a:pt x="205" y="514"/>
                    </a:lnTo>
                    <a:lnTo>
                      <a:pt x="226" y="615"/>
                    </a:lnTo>
                    <a:lnTo>
                      <a:pt x="216" y="645"/>
                    </a:lnTo>
                    <a:lnTo>
                      <a:pt x="185" y="667"/>
                    </a:lnTo>
                    <a:lnTo>
                      <a:pt x="143" y="680"/>
                    </a:lnTo>
                    <a:lnTo>
                      <a:pt x="101" y="711"/>
                    </a:lnTo>
                    <a:lnTo>
                      <a:pt x="84" y="743"/>
                    </a:lnTo>
                    <a:lnTo>
                      <a:pt x="74" y="781"/>
                    </a:lnTo>
                    <a:lnTo>
                      <a:pt x="42" y="781"/>
                    </a:lnTo>
                    <a:lnTo>
                      <a:pt x="31" y="753"/>
                    </a:lnTo>
                    <a:lnTo>
                      <a:pt x="52" y="708"/>
                    </a:lnTo>
                    <a:lnTo>
                      <a:pt x="112" y="677"/>
                    </a:lnTo>
                    <a:lnTo>
                      <a:pt x="147" y="645"/>
                    </a:lnTo>
                    <a:lnTo>
                      <a:pt x="178" y="628"/>
                    </a:lnTo>
                    <a:lnTo>
                      <a:pt x="188" y="597"/>
                    </a:lnTo>
                    <a:lnTo>
                      <a:pt x="174" y="514"/>
                    </a:lnTo>
                    <a:lnTo>
                      <a:pt x="126" y="451"/>
                    </a:lnTo>
                    <a:lnTo>
                      <a:pt x="84" y="396"/>
                    </a:lnTo>
                    <a:lnTo>
                      <a:pt x="31" y="333"/>
                    </a:lnTo>
                    <a:lnTo>
                      <a:pt x="0" y="274"/>
                    </a:lnTo>
                    <a:lnTo>
                      <a:pt x="0" y="239"/>
                    </a:lnTo>
                    <a:lnTo>
                      <a:pt x="28" y="222"/>
                    </a:lnTo>
                    <a:lnTo>
                      <a:pt x="136" y="159"/>
                    </a:lnTo>
                    <a:lnTo>
                      <a:pt x="240" y="104"/>
                    </a:lnTo>
                    <a:lnTo>
                      <a:pt x="344" y="52"/>
                    </a:lnTo>
                    <a:lnTo>
                      <a:pt x="365"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rot="240000">
                <a:off x="5946480" y="1884240"/>
                <a:ext cx="101520" cy="268200"/>
              </a:xfrm>
              <a:custGeom>
                <a:avLst/>
                <a:gdLst/>
                <a:ahLst/>
                <a:rect l="l" t="t" r="r" b="b"/>
                <a:pathLst>
                  <a:path w="320" h="846">
                    <a:moveTo>
                      <a:pt x="60" y="98"/>
                    </a:moveTo>
                    <a:lnTo>
                      <a:pt x="18" y="43"/>
                    </a:lnTo>
                    <a:lnTo>
                      <a:pt x="32" y="0"/>
                    </a:lnTo>
                    <a:lnTo>
                      <a:pt x="74" y="0"/>
                    </a:lnTo>
                    <a:lnTo>
                      <a:pt x="122" y="46"/>
                    </a:lnTo>
                    <a:lnTo>
                      <a:pt x="185" y="139"/>
                    </a:lnTo>
                    <a:lnTo>
                      <a:pt x="220" y="230"/>
                    </a:lnTo>
                    <a:lnTo>
                      <a:pt x="251" y="317"/>
                    </a:lnTo>
                    <a:lnTo>
                      <a:pt x="261" y="396"/>
                    </a:lnTo>
                    <a:lnTo>
                      <a:pt x="258" y="438"/>
                    </a:lnTo>
                    <a:lnTo>
                      <a:pt x="226" y="490"/>
                    </a:lnTo>
                    <a:lnTo>
                      <a:pt x="174" y="629"/>
                    </a:lnTo>
                    <a:lnTo>
                      <a:pt x="115" y="708"/>
                    </a:lnTo>
                    <a:lnTo>
                      <a:pt x="101" y="743"/>
                    </a:lnTo>
                    <a:lnTo>
                      <a:pt x="157" y="750"/>
                    </a:lnTo>
                    <a:lnTo>
                      <a:pt x="230" y="750"/>
                    </a:lnTo>
                    <a:lnTo>
                      <a:pt x="320" y="780"/>
                    </a:lnTo>
                    <a:lnTo>
                      <a:pt x="313" y="805"/>
                    </a:lnTo>
                    <a:lnTo>
                      <a:pt x="300" y="832"/>
                    </a:lnTo>
                    <a:lnTo>
                      <a:pt x="272" y="846"/>
                    </a:lnTo>
                    <a:lnTo>
                      <a:pt x="216" y="826"/>
                    </a:lnTo>
                    <a:lnTo>
                      <a:pt x="157" y="795"/>
                    </a:lnTo>
                    <a:lnTo>
                      <a:pt x="74" y="791"/>
                    </a:lnTo>
                    <a:lnTo>
                      <a:pt x="22" y="802"/>
                    </a:lnTo>
                    <a:lnTo>
                      <a:pt x="0" y="785"/>
                    </a:lnTo>
                    <a:lnTo>
                      <a:pt x="0" y="760"/>
                    </a:lnTo>
                    <a:lnTo>
                      <a:pt x="29" y="733"/>
                    </a:lnTo>
                    <a:lnTo>
                      <a:pt x="74" y="687"/>
                    </a:lnTo>
                    <a:lnTo>
                      <a:pt x="153" y="572"/>
                    </a:lnTo>
                    <a:lnTo>
                      <a:pt x="188" y="473"/>
                    </a:lnTo>
                    <a:lnTo>
                      <a:pt x="199" y="375"/>
                    </a:lnTo>
                    <a:lnTo>
                      <a:pt x="196" y="323"/>
                    </a:lnTo>
                    <a:lnTo>
                      <a:pt x="168" y="230"/>
                    </a:lnTo>
                    <a:lnTo>
                      <a:pt x="95" y="129"/>
                    </a:lnTo>
                    <a:lnTo>
                      <a:pt x="43" y="77"/>
                    </a:lnTo>
                    <a:lnTo>
                      <a:pt x="60" y="9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rot="240000">
                <a:off x="5789880" y="1856160"/>
                <a:ext cx="149040" cy="297000"/>
              </a:xfrm>
              <a:custGeom>
                <a:avLst/>
                <a:gdLst/>
                <a:ahLst/>
                <a:rect l="l" t="t" r="r" b="b"/>
                <a:pathLst>
                  <a:path w="469" h="933">
                    <a:moveTo>
                      <a:pt x="274" y="163"/>
                    </a:moveTo>
                    <a:lnTo>
                      <a:pt x="344" y="73"/>
                    </a:lnTo>
                    <a:lnTo>
                      <a:pt x="406" y="0"/>
                    </a:lnTo>
                    <a:lnTo>
                      <a:pt x="448" y="7"/>
                    </a:lnTo>
                    <a:lnTo>
                      <a:pt x="469" y="38"/>
                    </a:lnTo>
                    <a:lnTo>
                      <a:pt x="469" y="93"/>
                    </a:lnTo>
                    <a:lnTo>
                      <a:pt x="431" y="125"/>
                    </a:lnTo>
                    <a:lnTo>
                      <a:pt x="364" y="167"/>
                    </a:lnTo>
                    <a:lnTo>
                      <a:pt x="312" y="219"/>
                    </a:lnTo>
                    <a:lnTo>
                      <a:pt x="254" y="288"/>
                    </a:lnTo>
                    <a:lnTo>
                      <a:pt x="229" y="340"/>
                    </a:lnTo>
                    <a:lnTo>
                      <a:pt x="202" y="402"/>
                    </a:lnTo>
                    <a:lnTo>
                      <a:pt x="187" y="486"/>
                    </a:lnTo>
                    <a:lnTo>
                      <a:pt x="187" y="561"/>
                    </a:lnTo>
                    <a:lnTo>
                      <a:pt x="202" y="656"/>
                    </a:lnTo>
                    <a:lnTo>
                      <a:pt x="240" y="746"/>
                    </a:lnTo>
                    <a:lnTo>
                      <a:pt x="271" y="798"/>
                    </a:lnTo>
                    <a:lnTo>
                      <a:pt x="292" y="832"/>
                    </a:lnTo>
                    <a:lnTo>
                      <a:pt x="292" y="861"/>
                    </a:lnTo>
                    <a:lnTo>
                      <a:pt x="271" y="870"/>
                    </a:lnTo>
                    <a:lnTo>
                      <a:pt x="222" y="870"/>
                    </a:lnTo>
                    <a:lnTo>
                      <a:pt x="145" y="884"/>
                    </a:lnTo>
                    <a:lnTo>
                      <a:pt x="86" y="905"/>
                    </a:lnTo>
                    <a:lnTo>
                      <a:pt x="52" y="933"/>
                    </a:lnTo>
                    <a:lnTo>
                      <a:pt x="20" y="922"/>
                    </a:lnTo>
                    <a:lnTo>
                      <a:pt x="0" y="884"/>
                    </a:lnTo>
                    <a:lnTo>
                      <a:pt x="3" y="853"/>
                    </a:lnTo>
                    <a:lnTo>
                      <a:pt x="63" y="829"/>
                    </a:lnTo>
                    <a:lnTo>
                      <a:pt x="156" y="823"/>
                    </a:lnTo>
                    <a:lnTo>
                      <a:pt x="243" y="823"/>
                    </a:lnTo>
                    <a:lnTo>
                      <a:pt x="208" y="780"/>
                    </a:lnTo>
                    <a:lnTo>
                      <a:pt x="191" y="728"/>
                    </a:lnTo>
                    <a:lnTo>
                      <a:pt x="167" y="656"/>
                    </a:lnTo>
                    <a:lnTo>
                      <a:pt x="139" y="580"/>
                    </a:lnTo>
                    <a:lnTo>
                      <a:pt x="139" y="489"/>
                    </a:lnTo>
                    <a:lnTo>
                      <a:pt x="145" y="402"/>
                    </a:lnTo>
                    <a:lnTo>
                      <a:pt x="177" y="323"/>
                    </a:lnTo>
                    <a:lnTo>
                      <a:pt x="232" y="219"/>
                    </a:lnTo>
                    <a:lnTo>
                      <a:pt x="274" y="1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5135400" y="1889280"/>
              <a:ext cx="754200" cy="98280"/>
              <a:chOff x="5135400" y="1889280"/>
              <a:chExt cx="754200" cy="98280"/>
            </a:xfrm>
          </p:grpSpPr>
          <p:sp>
            <p:nvSpPr>
              <p:cNvPr id="1342" name=""/>
              <p:cNvSpPr/>
              <p:nvPr/>
            </p:nvSpPr>
            <p:spPr>
              <a:xfrm>
                <a:off x="5135400" y="1889280"/>
                <a:ext cx="59256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727960" y="1889280"/>
                <a:ext cx="16164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44" name=""/>
          <p:cNvGrpSpPr/>
          <p:nvPr/>
        </p:nvGrpSpPr>
        <p:grpSpPr>
          <a:xfrm>
            <a:off x="7174080" y="1758960"/>
            <a:ext cx="753480" cy="98280"/>
            <a:chOff x="7174080" y="1758960"/>
            <a:chExt cx="753480" cy="98280"/>
          </a:xfrm>
        </p:grpSpPr>
        <p:sp>
          <p:nvSpPr>
            <p:cNvPr id="1345" name=""/>
            <p:cNvSpPr/>
            <p:nvPr/>
          </p:nvSpPr>
          <p:spPr>
            <a:xfrm>
              <a:off x="7174080" y="1758960"/>
              <a:ext cx="592200" cy="9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766280" y="1758960"/>
              <a:ext cx="161280" cy="98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7" name=""/>
          <p:cNvGrpSpPr/>
          <p:nvPr/>
        </p:nvGrpSpPr>
        <p:grpSpPr>
          <a:xfrm>
            <a:off x="2511360" y="5003640"/>
            <a:ext cx="754200" cy="1190880"/>
            <a:chOff x="2511360" y="5003640"/>
            <a:chExt cx="754200" cy="1190880"/>
          </a:xfrm>
        </p:grpSpPr>
        <p:pic>
          <p:nvPicPr>
            <p:cNvPr id="1348" name="pcs_popular_216" descr=""/>
            <p:cNvPicPr/>
            <p:nvPr/>
          </p:nvPicPr>
          <p:blipFill>
            <a:blip r:embed="rId2"/>
            <a:stretch/>
          </p:blipFill>
          <p:spPr>
            <a:xfrm>
              <a:off x="2576520" y="5003640"/>
              <a:ext cx="333360" cy="939960"/>
            </a:xfrm>
            <a:prstGeom prst="rect">
              <a:avLst/>
            </a:prstGeom>
            <a:ln w="0">
              <a:noFill/>
            </a:ln>
          </p:spPr>
        </p:pic>
        <p:grpSp>
          <p:nvGrpSpPr>
            <p:cNvPr id="1349" name=""/>
            <p:cNvGrpSpPr/>
            <p:nvPr/>
          </p:nvGrpSpPr>
          <p:grpSpPr>
            <a:xfrm>
              <a:off x="2511360" y="6095880"/>
              <a:ext cx="754200" cy="98640"/>
              <a:chOff x="2511360" y="6095880"/>
              <a:chExt cx="754200" cy="98640"/>
            </a:xfrm>
          </p:grpSpPr>
          <p:sp>
            <p:nvSpPr>
              <p:cNvPr id="1350" name=""/>
              <p:cNvSpPr/>
              <p:nvPr/>
            </p:nvSpPr>
            <p:spPr>
              <a:xfrm>
                <a:off x="2511360" y="6095880"/>
                <a:ext cx="592560" cy="98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103920" y="6095880"/>
                <a:ext cx="161640" cy="98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52" name=""/>
          <p:cNvSpPr/>
          <p:nvPr/>
        </p:nvSpPr>
        <p:spPr>
          <a:xfrm>
            <a:off x="784080" y="6075360"/>
            <a:ext cx="1149480" cy="142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AEF4A3EE-6B1F-4074-9389-9D8851F2F3E1}" type="slidenum">
              <a:t>15</a:t>
            </a:fld>
          </a:p>
        </p:txBody>
      </p:sp>
      <p:sp>
        <p:nvSpPr>
          <p:cNvPr id="5" name="PlaceHolder 4"/>
          <p:cNvSpPr>
            <a:spLocks noGrp="1"/>
          </p:cNvSpPr>
          <p:nvPr>
            <p:ph type="dt" idx="1"/>
          </p:nvPr>
        </p:nvSpPr>
        <p:spPr/>
        <p:txBody>
          <a:bodyPr/>
          <a:p>
            <a:fld id="{EF4F7016-1BEE-4F51-9BE9-07923E42F14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353" name=""/>
          <p:cNvGrpSpPr/>
          <p:nvPr/>
        </p:nvGrpSpPr>
        <p:grpSpPr>
          <a:xfrm>
            <a:off x="2666880" y="1346040"/>
            <a:ext cx="4152960" cy="2819520"/>
            <a:chOff x="2666880" y="1346040"/>
            <a:chExt cx="4152960" cy="2819520"/>
          </a:xfrm>
        </p:grpSpPr>
        <p:sp>
          <p:nvSpPr>
            <p:cNvPr id="1354" name=""/>
            <p:cNvSpPr/>
            <p:nvPr/>
          </p:nvSpPr>
          <p:spPr>
            <a:xfrm>
              <a:off x="6388200" y="1346040"/>
              <a:ext cx="431640" cy="38124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666880" y="3784680"/>
              <a:ext cx="432000" cy="3808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56" name=""/>
          <p:cNvGraphicFramePr/>
          <p:nvPr/>
        </p:nvGraphicFramePr>
        <p:xfrm>
          <a:off x="2362320" y="1219320"/>
          <a:ext cx="5124240" cy="3209760"/>
        </p:xfrm>
        <a:graphic>
          <a:graphicData uri="http://schemas.openxmlformats.org/presentationml/2006/ole">
            <p:oleObj r:id="rId1" spid="">
              <p:embed/>
              <p:pic>
                <p:nvPicPr>
                  <p:cNvPr id="1357" name="" descr=""/>
                  <p:cNvPicPr/>
                  <p:nvPr/>
                </p:nvPicPr>
                <p:blipFill>
                  <a:blip r:embed="rId2"/>
                  <a:stretch/>
                </p:blipFill>
                <p:spPr>
                  <a:xfrm>
                    <a:off x="2362320" y="1219320"/>
                    <a:ext cx="5124240" cy="3209760"/>
                  </a:xfrm>
                  <a:prstGeom prst="rect">
                    <a:avLst/>
                  </a:prstGeom>
                  <a:ln w="0">
                    <a:noFill/>
                  </a:ln>
                </p:spPr>
              </p:pic>
            </p:oleObj>
          </a:graphicData>
        </a:graphic>
      </p:graphicFrame>
      <p:sp>
        <p:nvSpPr>
          <p:cNvPr id="13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Forwarding - detail</a:t>
            </a:r>
            <a:endParaRPr b="1" lang="en-US" sz="3600" spc="-1" strike="noStrike">
              <a:solidFill>
                <a:srgbClr val="336699"/>
              </a:solidFill>
              <a:latin typeface="Times New Roman"/>
            </a:endParaRPr>
          </a:p>
        </p:txBody>
      </p:sp>
      <p:grpSp>
        <p:nvGrpSpPr>
          <p:cNvPr id="1359" name=""/>
          <p:cNvGrpSpPr/>
          <p:nvPr/>
        </p:nvGrpSpPr>
        <p:grpSpPr>
          <a:xfrm>
            <a:off x="4508640" y="1130400"/>
            <a:ext cx="3708360" cy="1051200"/>
            <a:chOff x="4508640" y="1130400"/>
            <a:chExt cx="3708360" cy="1051200"/>
          </a:xfrm>
        </p:grpSpPr>
        <p:sp>
          <p:nvSpPr>
            <p:cNvPr id="1360" name=""/>
            <p:cNvSpPr/>
            <p:nvPr/>
          </p:nvSpPr>
          <p:spPr>
            <a:xfrm>
              <a:off x="7074000" y="15746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4.1</a:t>
              </a:r>
              <a:endParaRPr b="0" lang="en-US" sz="1400" spc="-1" strike="noStrike">
                <a:solidFill>
                  <a:srgbClr val="000000"/>
                </a:solidFill>
                <a:latin typeface="Times New Roman"/>
              </a:endParaRPr>
            </a:p>
          </p:txBody>
        </p:sp>
        <p:sp>
          <p:nvSpPr>
            <p:cNvPr id="1361" name=""/>
            <p:cNvSpPr/>
            <p:nvPr/>
          </p:nvSpPr>
          <p:spPr>
            <a:xfrm>
              <a:off x="6540480" y="1714680"/>
              <a:ext cx="546120" cy="37800"/>
            </a:xfrm>
            <a:prstGeom prst="line">
              <a:avLst/>
            </a:prstGeom>
            <a:ln w="64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62" name=""/>
            <p:cNvSpPr/>
            <p:nvPr/>
          </p:nvSpPr>
          <p:spPr>
            <a:xfrm>
              <a:off x="4508640" y="1130400"/>
              <a:ext cx="118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4.50</a:t>
              </a:r>
              <a:endParaRPr b="0" lang="en-US" sz="1400" spc="-1" strike="noStrike">
                <a:solidFill>
                  <a:srgbClr val="000000"/>
                </a:solidFill>
                <a:latin typeface="Times New Roman"/>
              </a:endParaRPr>
            </a:p>
          </p:txBody>
        </p:sp>
        <p:sp>
          <p:nvSpPr>
            <p:cNvPr id="1363" name=""/>
            <p:cNvSpPr/>
            <p:nvPr/>
          </p:nvSpPr>
          <p:spPr>
            <a:xfrm>
              <a:off x="4707000" y="1371600"/>
              <a:ext cx="187200" cy="635040"/>
            </a:xfrm>
            <a:custGeom>
              <a:avLst/>
              <a:gdLst/>
              <a:ahLst/>
              <a:rect l="l" t="t" r="r" b="b"/>
              <a:pathLst>
                <a:path w="118" h="400">
                  <a:moveTo>
                    <a:pt x="115" y="0"/>
                  </a:moveTo>
                  <a:cubicBezTo>
                    <a:pt x="60" y="58"/>
                    <a:pt x="6" y="116"/>
                    <a:pt x="3" y="168"/>
                  </a:cubicBezTo>
                  <a:cubicBezTo>
                    <a:pt x="0" y="220"/>
                    <a:pt x="80" y="273"/>
                    <a:pt x="99" y="312"/>
                  </a:cubicBezTo>
                  <a:cubicBezTo>
                    <a:pt x="118" y="351"/>
                    <a:pt x="112" y="385"/>
                    <a:pt x="115" y="400"/>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4" name=""/>
            <p:cNvSpPr/>
            <p:nvPr/>
          </p:nvSpPr>
          <p:spPr>
            <a:xfrm>
              <a:off x="5587920" y="1905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220.20.4.0/24</a:t>
              </a:r>
              <a:endParaRPr b="0" lang="en-US" sz="1200" spc="-1" strike="noStrike">
                <a:solidFill>
                  <a:srgbClr val="000000"/>
                </a:solidFill>
                <a:latin typeface="Times New Roman"/>
              </a:endParaRPr>
            </a:p>
          </p:txBody>
        </p:sp>
      </p:grpSp>
      <p:grpSp>
        <p:nvGrpSpPr>
          <p:cNvPr id="1365" name=""/>
          <p:cNvGrpSpPr/>
          <p:nvPr/>
        </p:nvGrpSpPr>
        <p:grpSpPr>
          <a:xfrm>
            <a:off x="1333440" y="1130400"/>
            <a:ext cx="2922480" cy="2148480"/>
            <a:chOff x="1333440" y="1130400"/>
            <a:chExt cx="2922480" cy="2148480"/>
          </a:xfrm>
        </p:grpSpPr>
        <p:sp>
          <p:nvSpPr>
            <p:cNvPr id="1366" name=""/>
            <p:cNvSpPr/>
            <p:nvPr/>
          </p:nvSpPr>
          <p:spPr>
            <a:xfrm>
              <a:off x="2921040" y="1130400"/>
              <a:ext cx="120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5.30</a:t>
              </a:r>
              <a:endParaRPr b="0" lang="en-US" sz="1400" spc="-1" strike="noStrike">
                <a:solidFill>
                  <a:srgbClr val="000000"/>
                </a:solidFill>
                <a:latin typeface="Times New Roman"/>
              </a:endParaRPr>
            </a:p>
          </p:txBody>
        </p:sp>
        <p:sp>
          <p:nvSpPr>
            <p:cNvPr id="1367" name=""/>
            <p:cNvSpPr/>
            <p:nvPr/>
          </p:nvSpPr>
          <p:spPr>
            <a:xfrm>
              <a:off x="3936960" y="1308240"/>
              <a:ext cx="318960" cy="901440"/>
            </a:xfrm>
            <a:custGeom>
              <a:avLst/>
              <a:gdLst/>
              <a:ahLst/>
              <a:rect l="l" t="t" r="r" b="b"/>
              <a:pathLst>
                <a:path w="201" h="568">
                  <a:moveTo>
                    <a:pt x="0" y="0"/>
                  </a:moveTo>
                  <a:cubicBezTo>
                    <a:pt x="75" y="60"/>
                    <a:pt x="151" y="120"/>
                    <a:pt x="176" y="184"/>
                  </a:cubicBezTo>
                  <a:cubicBezTo>
                    <a:pt x="201" y="248"/>
                    <a:pt x="159" y="320"/>
                    <a:pt x="152" y="384"/>
                  </a:cubicBezTo>
                  <a:cubicBezTo>
                    <a:pt x="145" y="448"/>
                    <a:pt x="139" y="537"/>
                    <a:pt x="136" y="568"/>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8" name=""/>
            <p:cNvSpPr/>
            <p:nvPr/>
          </p:nvSpPr>
          <p:spPr>
            <a:xfrm>
              <a:off x="1333440" y="2971800"/>
              <a:ext cx="11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5.20</a:t>
              </a:r>
              <a:endParaRPr b="0" lang="en-US" sz="1400" spc="-1" strike="noStrike">
                <a:solidFill>
                  <a:srgbClr val="000000"/>
                </a:solidFill>
                <a:latin typeface="Times New Roman"/>
              </a:endParaRPr>
            </a:p>
          </p:txBody>
        </p:sp>
        <p:sp>
          <p:nvSpPr>
            <p:cNvPr id="1369" name=""/>
            <p:cNvSpPr/>
            <p:nvPr/>
          </p:nvSpPr>
          <p:spPr>
            <a:xfrm>
              <a:off x="2400480" y="2825640"/>
              <a:ext cx="749160" cy="303480"/>
            </a:xfrm>
            <a:custGeom>
              <a:avLst/>
              <a:gdLst/>
              <a:ahLst/>
              <a:rect l="l" t="t" r="r" b="b"/>
              <a:pathLst>
                <a:path w="472" h="191">
                  <a:moveTo>
                    <a:pt x="0" y="180"/>
                  </a:moveTo>
                  <a:cubicBezTo>
                    <a:pt x="52" y="185"/>
                    <a:pt x="105" y="191"/>
                    <a:pt x="152" y="164"/>
                  </a:cubicBezTo>
                  <a:cubicBezTo>
                    <a:pt x="199" y="137"/>
                    <a:pt x="227" y="40"/>
                    <a:pt x="280" y="20"/>
                  </a:cubicBezTo>
                  <a:cubicBezTo>
                    <a:pt x="333" y="0"/>
                    <a:pt x="440" y="40"/>
                    <a:pt x="472" y="44"/>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0" name=""/>
            <p:cNvSpPr/>
            <p:nvPr/>
          </p:nvSpPr>
          <p:spPr>
            <a:xfrm>
              <a:off x="2997360" y="2209680"/>
              <a:ext cx="120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220.20.5.0/24</a:t>
              </a:r>
              <a:endParaRPr b="0" lang="en-US" sz="1200" spc="-1" strike="noStrike">
                <a:solidFill>
                  <a:srgbClr val="000000"/>
                </a:solidFill>
                <a:latin typeface="Times New Roman"/>
              </a:endParaRPr>
            </a:p>
          </p:txBody>
        </p:sp>
      </p:grpSp>
      <p:grpSp>
        <p:nvGrpSpPr>
          <p:cNvPr id="1371" name=""/>
          <p:cNvGrpSpPr/>
          <p:nvPr/>
        </p:nvGrpSpPr>
        <p:grpSpPr>
          <a:xfrm>
            <a:off x="1600200" y="2641680"/>
            <a:ext cx="3860640" cy="1482840"/>
            <a:chOff x="1600200" y="2641680"/>
            <a:chExt cx="3860640" cy="1482840"/>
          </a:xfrm>
        </p:grpSpPr>
        <p:sp>
          <p:nvSpPr>
            <p:cNvPr id="1372" name=""/>
            <p:cNvSpPr/>
            <p:nvPr/>
          </p:nvSpPr>
          <p:spPr>
            <a:xfrm>
              <a:off x="1600200" y="35053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28.16.8.78</a:t>
              </a:r>
              <a:endParaRPr b="0" lang="en-US" sz="1400" spc="-1" strike="noStrike">
                <a:solidFill>
                  <a:srgbClr val="000000"/>
                </a:solidFill>
                <a:latin typeface="Times New Roman"/>
              </a:endParaRPr>
            </a:p>
          </p:txBody>
        </p:sp>
        <p:sp>
          <p:nvSpPr>
            <p:cNvPr id="1373" name=""/>
            <p:cNvSpPr/>
            <p:nvPr/>
          </p:nvSpPr>
          <p:spPr>
            <a:xfrm>
              <a:off x="2666880" y="3657600"/>
              <a:ext cx="381240" cy="228600"/>
            </a:xfrm>
            <a:custGeom>
              <a:avLst/>
              <a:gdLst/>
              <a:ahLst/>
              <a:rect l="l" t="t" r="r" b="b"/>
              <a:pathLst>
                <a:path w="240" h="144">
                  <a:moveTo>
                    <a:pt x="0" y="0"/>
                  </a:moveTo>
                  <a:cubicBezTo>
                    <a:pt x="76" y="12"/>
                    <a:pt x="152" y="24"/>
                    <a:pt x="192" y="48"/>
                  </a:cubicBezTo>
                  <a:cubicBezTo>
                    <a:pt x="232" y="72"/>
                    <a:pt x="232" y="128"/>
                    <a:pt x="240" y="144"/>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4" name=""/>
            <p:cNvSpPr/>
            <p:nvPr/>
          </p:nvSpPr>
          <p:spPr>
            <a:xfrm>
              <a:off x="4203720" y="2641680"/>
              <a:ext cx="125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28.16.4.9</a:t>
              </a:r>
              <a:endParaRPr b="0" lang="en-US" sz="1400" spc="-1" strike="noStrike">
                <a:solidFill>
                  <a:srgbClr val="000000"/>
                </a:solidFill>
                <a:latin typeface="Times New Roman"/>
              </a:endParaRPr>
            </a:p>
          </p:txBody>
        </p:sp>
        <p:sp>
          <p:nvSpPr>
            <p:cNvPr id="1375" name=""/>
            <p:cNvSpPr/>
            <p:nvPr/>
          </p:nvSpPr>
          <p:spPr>
            <a:xfrm>
              <a:off x="3378240" y="2819520"/>
              <a:ext cx="927000" cy="608040"/>
            </a:xfrm>
            <a:custGeom>
              <a:avLst/>
              <a:gdLst/>
              <a:ahLst/>
              <a:rect l="l" t="t" r="r" b="b"/>
              <a:pathLst>
                <a:path w="584" h="383">
                  <a:moveTo>
                    <a:pt x="584" y="0"/>
                  </a:moveTo>
                  <a:cubicBezTo>
                    <a:pt x="492" y="0"/>
                    <a:pt x="401" y="1"/>
                    <a:pt x="328" y="48"/>
                  </a:cubicBezTo>
                  <a:cubicBezTo>
                    <a:pt x="255" y="95"/>
                    <a:pt x="179" y="227"/>
                    <a:pt x="144" y="280"/>
                  </a:cubicBezTo>
                  <a:cubicBezTo>
                    <a:pt x="109" y="333"/>
                    <a:pt x="144" y="353"/>
                    <a:pt x="120" y="368"/>
                  </a:cubicBezTo>
                  <a:cubicBezTo>
                    <a:pt x="96" y="383"/>
                    <a:pt x="20" y="368"/>
                    <a:pt x="0" y="368"/>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6" name=""/>
            <p:cNvSpPr/>
            <p:nvPr/>
          </p:nvSpPr>
          <p:spPr>
            <a:xfrm>
              <a:off x="3683160" y="38480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128.16.0.0/16</a:t>
              </a:r>
              <a:endParaRPr b="0" lang="en-US" sz="1200" spc="-1" strike="noStrike">
                <a:solidFill>
                  <a:srgbClr val="000000"/>
                </a:solidFill>
                <a:latin typeface="Times New Roman"/>
              </a:endParaRPr>
            </a:p>
          </p:txBody>
        </p:sp>
      </p:grpSp>
      <p:grpSp>
        <p:nvGrpSpPr>
          <p:cNvPr id="1377" name=""/>
          <p:cNvGrpSpPr/>
          <p:nvPr/>
        </p:nvGrpSpPr>
        <p:grpSpPr>
          <a:xfrm>
            <a:off x="1427040" y="4876920"/>
            <a:ext cx="2903400" cy="1150920"/>
            <a:chOff x="1427040" y="4876920"/>
            <a:chExt cx="2903400" cy="1150920"/>
          </a:xfrm>
        </p:grpSpPr>
        <p:graphicFrame>
          <p:nvGraphicFramePr>
            <p:cNvPr id="1378" name=""/>
            <p:cNvGraphicFramePr/>
            <p:nvPr/>
          </p:nvGraphicFramePr>
          <p:xfrm>
            <a:off x="1839600" y="4969080"/>
            <a:ext cx="2490840" cy="1058760"/>
          </p:xfrm>
          <a:graphic>
            <a:graphicData uri="http://schemas.openxmlformats.org/presentationml/2006/ole">
              <p:oleObj progId="Word.Document.12" r:id="rId3" spid="">
                <p:embed/>
                <p:pic>
                  <p:nvPicPr>
                    <p:cNvPr id="1379" name="" descr=""/>
                    <p:cNvPicPr/>
                    <p:nvPr/>
                  </p:nvPicPr>
                  <p:blipFill>
                    <a:blip r:embed="rId4"/>
                    <a:stretch/>
                  </p:blipFill>
                  <p:spPr>
                    <a:xfrm>
                      <a:off x="1839600" y="4969080"/>
                      <a:ext cx="2490840" cy="1058760"/>
                    </a:xfrm>
                    <a:prstGeom prst="rect">
                      <a:avLst/>
                    </a:prstGeom>
                    <a:ln w="0">
                      <a:noFill/>
                    </a:ln>
                  </p:spPr>
                </p:pic>
              </p:oleObj>
            </a:graphicData>
          </a:graphic>
        </p:graphicFrame>
        <p:sp>
          <p:nvSpPr>
            <p:cNvPr id="1380" name=""/>
            <p:cNvSpPr/>
            <p:nvPr/>
          </p:nvSpPr>
          <p:spPr>
            <a:xfrm>
              <a:off x="1427040" y="4876920"/>
              <a:ext cx="480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H</a:t>
              </a:r>
              <a:r>
                <a:rPr b="1" lang="en-US" sz="1800" spc="-1" strike="noStrike" baseline="-25000">
                  <a:solidFill>
                    <a:srgbClr val="800080"/>
                  </a:solidFill>
                  <a:latin typeface="Arial"/>
                </a:rPr>
                <a:t>4</a:t>
              </a:r>
              <a:endParaRPr b="0" lang="en-US" sz="1800" spc="-1" strike="noStrike">
                <a:solidFill>
                  <a:srgbClr val="000000"/>
                </a:solidFill>
                <a:latin typeface="Times New Roman"/>
              </a:endParaRPr>
            </a:p>
          </p:txBody>
        </p:sp>
      </p:grpSp>
      <p:sp>
        <p:nvSpPr>
          <p:cNvPr id="1381" name=""/>
          <p:cNvSpPr/>
          <p:nvPr/>
        </p:nvSpPr>
        <p:spPr>
          <a:xfrm>
            <a:off x="6705720" y="1790640"/>
            <a:ext cx="39348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2" name=""/>
          <p:cNvGrpSpPr/>
          <p:nvPr/>
        </p:nvGrpSpPr>
        <p:grpSpPr>
          <a:xfrm>
            <a:off x="4368960" y="1630440"/>
            <a:ext cx="2108160" cy="439560"/>
            <a:chOff x="4368960" y="1630440"/>
            <a:chExt cx="2108160" cy="439560"/>
          </a:xfrm>
        </p:grpSpPr>
        <p:sp>
          <p:nvSpPr>
            <p:cNvPr id="1383" name=""/>
            <p:cNvSpPr/>
            <p:nvPr/>
          </p:nvSpPr>
          <p:spPr>
            <a:xfrm>
              <a:off x="4915080" y="1630440"/>
              <a:ext cx="1562040" cy="414360"/>
            </a:xfrm>
            <a:custGeom>
              <a:avLst/>
              <a:gdLst/>
              <a:ahLst/>
              <a:rect l="l" t="t" r="r" b="b"/>
              <a:pathLst>
                <a:path w="984" h="261">
                  <a:moveTo>
                    <a:pt x="984" y="93"/>
                  </a:moveTo>
                  <a:cubicBezTo>
                    <a:pt x="786" y="46"/>
                    <a:pt x="589" y="0"/>
                    <a:pt x="456" y="13"/>
                  </a:cubicBezTo>
                  <a:cubicBezTo>
                    <a:pt x="323" y="26"/>
                    <a:pt x="260" y="132"/>
                    <a:pt x="184" y="173"/>
                  </a:cubicBezTo>
                  <a:cubicBezTo>
                    <a:pt x="108" y="214"/>
                    <a:pt x="29" y="246"/>
                    <a:pt x="0" y="261"/>
                  </a:cubicBezTo>
                </a:path>
              </a:pathLst>
            </a:custGeom>
            <a:noFill/>
            <a:ln w="28440">
              <a:solidFill>
                <a:srgbClr val="66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4" name=""/>
            <p:cNvSpPr/>
            <p:nvPr/>
          </p:nvSpPr>
          <p:spPr>
            <a:xfrm>
              <a:off x="4368960" y="1968480"/>
              <a:ext cx="39348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2997360" y="1962000"/>
            <a:ext cx="1771560" cy="1111320"/>
            <a:chOff x="2997360" y="1962000"/>
            <a:chExt cx="1771560" cy="1111320"/>
          </a:xfrm>
        </p:grpSpPr>
        <p:grpSp>
          <p:nvGrpSpPr>
            <p:cNvPr id="1386" name=""/>
            <p:cNvGrpSpPr/>
            <p:nvPr/>
          </p:nvGrpSpPr>
          <p:grpSpPr>
            <a:xfrm>
              <a:off x="2997360" y="2165400"/>
              <a:ext cx="1104840" cy="907920"/>
              <a:chOff x="2997360" y="2165400"/>
              <a:chExt cx="1104840" cy="907920"/>
            </a:xfrm>
          </p:grpSpPr>
          <p:sp>
            <p:nvSpPr>
              <p:cNvPr id="1387" name=""/>
              <p:cNvSpPr/>
              <p:nvPr/>
            </p:nvSpPr>
            <p:spPr>
              <a:xfrm>
                <a:off x="2997360" y="2971800"/>
                <a:ext cx="39348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141720" y="2165400"/>
                <a:ext cx="960480" cy="666720"/>
              </a:xfrm>
              <a:custGeom>
                <a:avLst/>
                <a:gdLst/>
                <a:ahLst/>
                <a:rect l="l" t="t" r="r" b="b"/>
                <a:pathLst>
                  <a:path w="605" h="420">
                    <a:moveTo>
                      <a:pt x="605" y="28"/>
                    </a:moveTo>
                    <a:cubicBezTo>
                      <a:pt x="583" y="14"/>
                      <a:pt x="561" y="0"/>
                      <a:pt x="533" y="28"/>
                    </a:cubicBezTo>
                    <a:cubicBezTo>
                      <a:pt x="505" y="56"/>
                      <a:pt x="514" y="151"/>
                      <a:pt x="437" y="196"/>
                    </a:cubicBezTo>
                    <a:cubicBezTo>
                      <a:pt x="360" y="241"/>
                      <a:pt x="138" y="263"/>
                      <a:pt x="69" y="300"/>
                    </a:cubicBezTo>
                    <a:cubicBezTo>
                      <a:pt x="0" y="337"/>
                      <a:pt x="29" y="400"/>
                      <a:pt x="21" y="420"/>
                    </a:cubicBezTo>
                  </a:path>
                </a:pathLst>
              </a:custGeom>
              <a:noFill/>
              <a:ln w="38160">
                <a:solidFill>
                  <a:srgbClr val="66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89" name=""/>
            <p:cNvSpPr/>
            <p:nvPr/>
          </p:nvSpPr>
          <p:spPr>
            <a:xfrm>
              <a:off x="4356000" y="1962000"/>
              <a:ext cx="412920" cy="114480"/>
            </a:xfrm>
            <a:prstGeom prst="rect">
              <a:avLst/>
            </a:prstGeom>
            <a:solidFill>
              <a:srgbClr val="ffffff"/>
            </a:solidFill>
            <a:ln w="648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357800" y="1963800"/>
            <a:ext cx="4587840" cy="4083120"/>
            <a:chOff x="4357800" y="1963800"/>
            <a:chExt cx="4587840" cy="4083120"/>
          </a:xfrm>
        </p:grpSpPr>
        <p:graphicFrame>
          <p:nvGraphicFramePr>
            <p:cNvPr id="1391" name=""/>
            <p:cNvGraphicFramePr/>
            <p:nvPr/>
          </p:nvGraphicFramePr>
          <p:xfrm>
            <a:off x="5334120" y="4648320"/>
            <a:ext cx="3611520" cy="1398600"/>
          </p:xfrm>
          <a:graphic>
            <a:graphicData uri="http://schemas.openxmlformats.org/presentationml/2006/ole">
              <p:oleObj progId="Word.Document.12" r:id="rId5" spid="">
                <p:embed/>
                <p:pic>
                  <p:nvPicPr>
                    <p:cNvPr id="1392" name="" descr=""/>
                    <p:cNvPicPr/>
                    <p:nvPr/>
                  </p:nvPicPr>
                  <p:blipFill>
                    <a:blip r:embed="rId6"/>
                    <a:stretch/>
                  </p:blipFill>
                  <p:spPr>
                    <a:xfrm>
                      <a:off x="5334120" y="4648320"/>
                      <a:ext cx="3611520" cy="1398600"/>
                    </a:xfrm>
                    <a:prstGeom prst="rect">
                      <a:avLst/>
                    </a:prstGeom>
                    <a:ln w="0">
                      <a:noFill/>
                    </a:ln>
                  </p:spPr>
                </p:pic>
              </p:oleObj>
            </a:graphicData>
          </a:graphic>
        </p:graphicFrame>
        <p:sp>
          <p:nvSpPr>
            <p:cNvPr id="1393" name=""/>
            <p:cNvSpPr/>
            <p:nvPr/>
          </p:nvSpPr>
          <p:spPr>
            <a:xfrm>
              <a:off x="4784760" y="4816440"/>
              <a:ext cx="500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R</a:t>
              </a:r>
              <a:r>
                <a:rPr b="1" lang="en-US" sz="1800" spc="-1" strike="noStrike" baseline="-25000">
                  <a:solidFill>
                    <a:srgbClr val="800080"/>
                  </a:solidFill>
                  <a:latin typeface="Arial"/>
                </a:rPr>
                <a:t>2</a:t>
              </a:r>
              <a:endParaRPr b="0" lang="en-US" sz="1800" spc="-1" strike="noStrike">
                <a:solidFill>
                  <a:srgbClr val="000000"/>
                </a:solidFill>
                <a:latin typeface="Times New Roman"/>
              </a:endParaRPr>
            </a:p>
          </p:txBody>
        </p:sp>
        <p:sp>
          <p:nvSpPr>
            <p:cNvPr id="1394" name=""/>
            <p:cNvSpPr/>
            <p:nvPr/>
          </p:nvSpPr>
          <p:spPr>
            <a:xfrm>
              <a:off x="4357800" y="1963800"/>
              <a:ext cx="40644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3CDFAED3-33B8-4D74-B24D-FF44256835F9}" type="slidenum">
              <a:t>16</a:t>
            </a:fld>
          </a:p>
        </p:txBody>
      </p:sp>
      <p:sp>
        <p:nvSpPr>
          <p:cNvPr id="5" name="PlaceHolder 4"/>
          <p:cNvSpPr>
            <a:spLocks noGrp="1"/>
          </p:cNvSpPr>
          <p:nvPr>
            <p:ph type="dt" idx="1"/>
          </p:nvPr>
        </p:nvSpPr>
        <p:spPr/>
        <p:txBody>
          <a:bodyPr/>
          <a:p>
            <a:fld id="{B3471C2C-55A2-4F04-9BF9-8FA0A8B3E24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Forwarding – detail</a:t>
            </a:r>
            <a:endParaRPr b="1" lang="en-US" sz="3600" spc="-1" strike="noStrike">
              <a:solidFill>
                <a:srgbClr val="336699"/>
              </a:solidFill>
              <a:latin typeface="Times New Roman"/>
            </a:endParaRPr>
          </a:p>
        </p:txBody>
      </p:sp>
      <p:sp>
        <p:nvSpPr>
          <p:cNvPr id="1396" name=""/>
          <p:cNvSpPr/>
          <p:nvPr/>
        </p:nvSpPr>
        <p:spPr>
          <a:xfrm>
            <a:off x="1790640" y="4648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R</a:t>
            </a:r>
            <a:r>
              <a:rPr b="1" lang="en-US" sz="1800" spc="-1" strike="noStrike" baseline="-25000">
                <a:solidFill>
                  <a:srgbClr val="800080"/>
                </a:solidFill>
                <a:latin typeface="Arial"/>
              </a:rPr>
              <a:t>1</a:t>
            </a:r>
            <a:endParaRPr b="0" lang="en-US" sz="1800" spc="-1" strike="noStrike">
              <a:solidFill>
                <a:srgbClr val="000000"/>
              </a:solidFill>
              <a:latin typeface="Times New Roman"/>
            </a:endParaRPr>
          </a:p>
        </p:txBody>
      </p:sp>
      <p:graphicFrame>
        <p:nvGraphicFramePr>
          <p:cNvPr id="1397" name=""/>
          <p:cNvGraphicFramePr/>
          <p:nvPr/>
        </p:nvGraphicFramePr>
        <p:xfrm>
          <a:off x="2082960" y="4749840"/>
          <a:ext cx="4165560" cy="1625400"/>
        </p:xfrm>
        <a:graphic>
          <a:graphicData uri="http://schemas.openxmlformats.org/presentationml/2006/ole">
            <p:oleObj progId="Word.Document.12" r:id="rId1" spid="">
              <p:embed/>
              <p:pic>
                <p:nvPicPr>
                  <p:cNvPr id="1398" name="" descr=""/>
                  <p:cNvPicPr/>
                  <p:nvPr/>
                </p:nvPicPr>
                <p:blipFill>
                  <a:blip r:embed="rId2"/>
                  <a:stretch/>
                </p:blipFill>
                <p:spPr>
                  <a:xfrm>
                    <a:off x="2082960" y="4749840"/>
                    <a:ext cx="4165560" cy="1625400"/>
                  </a:xfrm>
                  <a:prstGeom prst="rect">
                    <a:avLst/>
                  </a:prstGeom>
                  <a:ln w="0">
                    <a:noFill/>
                  </a:ln>
                </p:spPr>
              </p:pic>
            </p:oleObj>
          </a:graphicData>
        </a:graphic>
      </p:graphicFrame>
      <p:grpSp>
        <p:nvGrpSpPr>
          <p:cNvPr id="1399" name=""/>
          <p:cNvGrpSpPr/>
          <p:nvPr/>
        </p:nvGrpSpPr>
        <p:grpSpPr>
          <a:xfrm>
            <a:off x="1333440" y="1130400"/>
            <a:ext cx="6883560" cy="3298680"/>
            <a:chOff x="1333440" y="1130400"/>
            <a:chExt cx="6883560" cy="3298680"/>
          </a:xfrm>
        </p:grpSpPr>
        <p:grpSp>
          <p:nvGrpSpPr>
            <p:cNvPr id="1400" name=""/>
            <p:cNvGrpSpPr/>
            <p:nvPr/>
          </p:nvGrpSpPr>
          <p:grpSpPr>
            <a:xfrm>
              <a:off x="2666880" y="1346040"/>
              <a:ext cx="4152960" cy="2819520"/>
              <a:chOff x="2666880" y="1346040"/>
              <a:chExt cx="4152960" cy="2819520"/>
            </a:xfrm>
          </p:grpSpPr>
          <p:sp>
            <p:nvSpPr>
              <p:cNvPr id="1401" name=""/>
              <p:cNvSpPr/>
              <p:nvPr/>
            </p:nvSpPr>
            <p:spPr>
              <a:xfrm>
                <a:off x="6388200" y="1346040"/>
                <a:ext cx="431640" cy="38124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2666880" y="3784680"/>
                <a:ext cx="432000" cy="3808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403" name=""/>
            <p:cNvGraphicFramePr/>
            <p:nvPr/>
          </p:nvGraphicFramePr>
          <p:xfrm>
            <a:off x="2362320" y="1219320"/>
            <a:ext cx="5124240" cy="3209760"/>
          </p:xfrm>
          <a:graphic>
            <a:graphicData uri="http://schemas.openxmlformats.org/presentationml/2006/ole">
              <p:oleObj r:id="rId3" spid="">
                <p:embed/>
                <p:pic>
                  <p:nvPicPr>
                    <p:cNvPr id="1404" name="" descr=""/>
                    <p:cNvPicPr/>
                    <p:nvPr/>
                  </p:nvPicPr>
                  <p:blipFill>
                    <a:blip r:embed="rId4"/>
                    <a:stretch/>
                  </p:blipFill>
                  <p:spPr>
                    <a:xfrm>
                      <a:off x="2362320" y="1219320"/>
                      <a:ext cx="5124240" cy="3209760"/>
                    </a:xfrm>
                    <a:prstGeom prst="rect">
                      <a:avLst/>
                    </a:prstGeom>
                    <a:ln w="0">
                      <a:noFill/>
                    </a:ln>
                  </p:spPr>
                </p:pic>
              </p:oleObj>
            </a:graphicData>
          </a:graphic>
        </p:graphicFrame>
        <p:grpSp>
          <p:nvGrpSpPr>
            <p:cNvPr id="1405" name=""/>
            <p:cNvGrpSpPr/>
            <p:nvPr/>
          </p:nvGrpSpPr>
          <p:grpSpPr>
            <a:xfrm>
              <a:off x="4508640" y="1130400"/>
              <a:ext cx="3708360" cy="1051200"/>
              <a:chOff x="4508640" y="1130400"/>
              <a:chExt cx="3708360" cy="1051200"/>
            </a:xfrm>
          </p:grpSpPr>
          <p:sp>
            <p:nvSpPr>
              <p:cNvPr id="1406" name=""/>
              <p:cNvSpPr/>
              <p:nvPr/>
            </p:nvSpPr>
            <p:spPr>
              <a:xfrm>
                <a:off x="7074000" y="15746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4.1</a:t>
                </a:r>
                <a:endParaRPr b="0" lang="en-US" sz="1400" spc="-1" strike="noStrike">
                  <a:solidFill>
                    <a:srgbClr val="000000"/>
                  </a:solidFill>
                  <a:latin typeface="Times New Roman"/>
                </a:endParaRPr>
              </a:p>
            </p:txBody>
          </p:sp>
          <p:sp>
            <p:nvSpPr>
              <p:cNvPr id="1407" name=""/>
              <p:cNvSpPr/>
              <p:nvPr/>
            </p:nvSpPr>
            <p:spPr>
              <a:xfrm>
                <a:off x="6540480" y="1714680"/>
                <a:ext cx="546120" cy="37800"/>
              </a:xfrm>
              <a:prstGeom prst="line">
                <a:avLst/>
              </a:prstGeom>
              <a:ln w="64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408" name=""/>
              <p:cNvSpPr/>
              <p:nvPr/>
            </p:nvSpPr>
            <p:spPr>
              <a:xfrm>
                <a:off x="4508640" y="1130400"/>
                <a:ext cx="118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4.50</a:t>
                </a:r>
                <a:endParaRPr b="0" lang="en-US" sz="1400" spc="-1" strike="noStrike">
                  <a:solidFill>
                    <a:srgbClr val="000000"/>
                  </a:solidFill>
                  <a:latin typeface="Times New Roman"/>
                </a:endParaRPr>
              </a:p>
            </p:txBody>
          </p:sp>
          <p:sp>
            <p:nvSpPr>
              <p:cNvPr id="1409" name=""/>
              <p:cNvSpPr/>
              <p:nvPr/>
            </p:nvSpPr>
            <p:spPr>
              <a:xfrm>
                <a:off x="4707000" y="1371600"/>
                <a:ext cx="187200" cy="635040"/>
              </a:xfrm>
              <a:custGeom>
                <a:avLst/>
                <a:gdLst/>
                <a:ahLst/>
                <a:rect l="l" t="t" r="r" b="b"/>
                <a:pathLst>
                  <a:path w="118" h="400">
                    <a:moveTo>
                      <a:pt x="115" y="0"/>
                    </a:moveTo>
                    <a:cubicBezTo>
                      <a:pt x="60" y="58"/>
                      <a:pt x="6" y="116"/>
                      <a:pt x="3" y="168"/>
                    </a:cubicBezTo>
                    <a:cubicBezTo>
                      <a:pt x="0" y="220"/>
                      <a:pt x="80" y="273"/>
                      <a:pt x="99" y="312"/>
                    </a:cubicBezTo>
                    <a:cubicBezTo>
                      <a:pt x="118" y="351"/>
                      <a:pt x="112" y="385"/>
                      <a:pt x="115" y="400"/>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0" name=""/>
              <p:cNvSpPr/>
              <p:nvPr/>
            </p:nvSpPr>
            <p:spPr>
              <a:xfrm>
                <a:off x="5587920" y="1905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220.20.4.0/24</a:t>
                </a:r>
                <a:endParaRPr b="0" lang="en-US" sz="1200" spc="-1" strike="noStrike">
                  <a:solidFill>
                    <a:srgbClr val="000000"/>
                  </a:solidFill>
                  <a:latin typeface="Times New Roman"/>
                </a:endParaRPr>
              </a:p>
            </p:txBody>
          </p:sp>
        </p:grpSp>
        <p:grpSp>
          <p:nvGrpSpPr>
            <p:cNvPr id="1411" name=""/>
            <p:cNvGrpSpPr/>
            <p:nvPr/>
          </p:nvGrpSpPr>
          <p:grpSpPr>
            <a:xfrm>
              <a:off x="1333440" y="1130400"/>
              <a:ext cx="2922480" cy="2148480"/>
              <a:chOff x="1333440" y="1130400"/>
              <a:chExt cx="2922480" cy="2148480"/>
            </a:xfrm>
          </p:grpSpPr>
          <p:sp>
            <p:nvSpPr>
              <p:cNvPr id="1412" name=""/>
              <p:cNvSpPr/>
              <p:nvPr/>
            </p:nvSpPr>
            <p:spPr>
              <a:xfrm>
                <a:off x="2921040" y="1130400"/>
                <a:ext cx="120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5.30</a:t>
                </a:r>
                <a:endParaRPr b="0" lang="en-US" sz="1400" spc="-1" strike="noStrike">
                  <a:solidFill>
                    <a:srgbClr val="000000"/>
                  </a:solidFill>
                  <a:latin typeface="Times New Roman"/>
                </a:endParaRPr>
              </a:p>
            </p:txBody>
          </p:sp>
          <p:sp>
            <p:nvSpPr>
              <p:cNvPr id="1413" name=""/>
              <p:cNvSpPr/>
              <p:nvPr/>
            </p:nvSpPr>
            <p:spPr>
              <a:xfrm>
                <a:off x="3936960" y="1308240"/>
                <a:ext cx="318960" cy="901440"/>
              </a:xfrm>
              <a:custGeom>
                <a:avLst/>
                <a:gdLst/>
                <a:ahLst/>
                <a:rect l="l" t="t" r="r" b="b"/>
                <a:pathLst>
                  <a:path w="201" h="568">
                    <a:moveTo>
                      <a:pt x="0" y="0"/>
                    </a:moveTo>
                    <a:cubicBezTo>
                      <a:pt x="75" y="60"/>
                      <a:pt x="151" y="120"/>
                      <a:pt x="176" y="184"/>
                    </a:cubicBezTo>
                    <a:cubicBezTo>
                      <a:pt x="201" y="248"/>
                      <a:pt x="159" y="320"/>
                      <a:pt x="152" y="384"/>
                    </a:cubicBezTo>
                    <a:cubicBezTo>
                      <a:pt x="145" y="448"/>
                      <a:pt x="139" y="537"/>
                      <a:pt x="136" y="568"/>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4" name=""/>
              <p:cNvSpPr/>
              <p:nvPr/>
            </p:nvSpPr>
            <p:spPr>
              <a:xfrm>
                <a:off x="1333440" y="2971800"/>
                <a:ext cx="11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20.20.5.20</a:t>
                </a:r>
                <a:endParaRPr b="0" lang="en-US" sz="1400" spc="-1" strike="noStrike">
                  <a:solidFill>
                    <a:srgbClr val="000000"/>
                  </a:solidFill>
                  <a:latin typeface="Times New Roman"/>
                </a:endParaRPr>
              </a:p>
            </p:txBody>
          </p:sp>
          <p:sp>
            <p:nvSpPr>
              <p:cNvPr id="1415" name=""/>
              <p:cNvSpPr/>
              <p:nvPr/>
            </p:nvSpPr>
            <p:spPr>
              <a:xfrm>
                <a:off x="2400480" y="2825640"/>
                <a:ext cx="749160" cy="303480"/>
              </a:xfrm>
              <a:custGeom>
                <a:avLst/>
                <a:gdLst/>
                <a:ahLst/>
                <a:rect l="l" t="t" r="r" b="b"/>
                <a:pathLst>
                  <a:path w="472" h="191">
                    <a:moveTo>
                      <a:pt x="0" y="180"/>
                    </a:moveTo>
                    <a:cubicBezTo>
                      <a:pt x="52" y="185"/>
                      <a:pt x="105" y="191"/>
                      <a:pt x="152" y="164"/>
                    </a:cubicBezTo>
                    <a:cubicBezTo>
                      <a:pt x="199" y="137"/>
                      <a:pt x="227" y="40"/>
                      <a:pt x="280" y="20"/>
                    </a:cubicBezTo>
                    <a:cubicBezTo>
                      <a:pt x="333" y="0"/>
                      <a:pt x="440" y="40"/>
                      <a:pt x="472" y="44"/>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6" name=""/>
              <p:cNvSpPr/>
              <p:nvPr/>
            </p:nvSpPr>
            <p:spPr>
              <a:xfrm>
                <a:off x="2997360" y="2209680"/>
                <a:ext cx="120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220.20.5.0/24</a:t>
                </a:r>
                <a:endParaRPr b="0" lang="en-US" sz="1200" spc="-1" strike="noStrike">
                  <a:solidFill>
                    <a:srgbClr val="000000"/>
                  </a:solidFill>
                  <a:latin typeface="Times New Roman"/>
                </a:endParaRPr>
              </a:p>
            </p:txBody>
          </p:sp>
        </p:grpSp>
        <p:grpSp>
          <p:nvGrpSpPr>
            <p:cNvPr id="1417" name=""/>
            <p:cNvGrpSpPr/>
            <p:nvPr/>
          </p:nvGrpSpPr>
          <p:grpSpPr>
            <a:xfrm>
              <a:off x="1600200" y="2641680"/>
              <a:ext cx="3860640" cy="1467720"/>
              <a:chOff x="1600200" y="2641680"/>
              <a:chExt cx="3860640" cy="1467720"/>
            </a:xfrm>
          </p:grpSpPr>
          <p:sp>
            <p:nvSpPr>
              <p:cNvPr id="1418" name=""/>
              <p:cNvSpPr/>
              <p:nvPr/>
            </p:nvSpPr>
            <p:spPr>
              <a:xfrm>
                <a:off x="1600200" y="35053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28.16.8.78</a:t>
                </a:r>
                <a:endParaRPr b="0" lang="en-US" sz="1400" spc="-1" strike="noStrike">
                  <a:solidFill>
                    <a:srgbClr val="000000"/>
                  </a:solidFill>
                  <a:latin typeface="Times New Roman"/>
                </a:endParaRPr>
              </a:p>
            </p:txBody>
          </p:sp>
          <p:sp>
            <p:nvSpPr>
              <p:cNvPr id="1419" name=""/>
              <p:cNvSpPr/>
              <p:nvPr/>
            </p:nvSpPr>
            <p:spPr>
              <a:xfrm>
                <a:off x="2666880" y="3657600"/>
                <a:ext cx="381240" cy="228600"/>
              </a:xfrm>
              <a:custGeom>
                <a:avLst/>
                <a:gdLst/>
                <a:ahLst/>
                <a:rect l="l" t="t" r="r" b="b"/>
                <a:pathLst>
                  <a:path w="240" h="144">
                    <a:moveTo>
                      <a:pt x="0" y="0"/>
                    </a:moveTo>
                    <a:cubicBezTo>
                      <a:pt x="76" y="12"/>
                      <a:pt x="152" y="24"/>
                      <a:pt x="192" y="48"/>
                    </a:cubicBezTo>
                    <a:cubicBezTo>
                      <a:pt x="232" y="72"/>
                      <a:pt x="232" y="128"/>
                      <a:pt x="240" y="144"/>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0" name=""/>
              <p:cNvSpPr/>
              <p:nvPr/>
            </p:nvSpPr>
            <p:spPr>
              <a:xfrm>
                <a:off x="4203720" y="2641680"/>
                <a:ext cx="125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28.16.4.9</a:t>
                </a:r>
                <a:endParaRPr b="0" lang="en-US" sz="1400" spc="-1" strike="noStrike">
                  <a:solidFill>
                    <a:srgbClr val="000000"/>
                  </a:solidFill>
                  <a:latin typeface="Times New Roman"/>
                </a:endParaRPr>
              </a:p>
            </p:txBody>
          </p:sp>
          <p:sp>
            <p:nvSpPr>
              <p:cNvPr id="1421" name=""/>
              <p:cNvSpPr/>
              <p:nvPr/>
            </p:nvSpPr>
            <p:spPr>
              <a:xfrm>
                <a:off x="3378240" y="2819520"/>
                <a:ext cx="927000" cy="608040"/>
              </a:xfrm>
              <a:custGeom>
                <a:avLst/>
                <a:gdLst/>
                <a:ahLst/>
                <a:rect l="l" t="t" r="r" b="b"/>
                <a:pathLst>
                  <a:path w="584" h="383">
                    <a:moveTo>
                      <a:pt x="584" y="0"/>
                    </a:moveTo>
                    <a:cubicBezTo>
                      <a:pt x="492" y="0"/>
                      <a:pt x="401" y="1"/>
                      <a:pt x="328" y="48"/>
                    </a:cubicBezTo>
                    <a:cubicBezTo>
                      <a:pt x="255" y="95"/>
                      <a:pt x="179" y="227"/>
                      <a:pt x="144" y="280"/>
                    </a:cubicBezTo>
                    <a:cubicBezTo>
                      <a:pt x="109" y="333"/>
                      <a:pt x="144" y="353"/>
                      <a:pt x="120" y="368"/>
                    </a:cubicBezTo>
                    <a:cubicBezTo>
                      <a:pt x="96" y="383"/>
                      <a:pt x="20" y="368"/>
                      <a:pt x="0" y="368"/>
                    </a:cubicBezTo>
                  </a:path>
                </a:pathLst>
              </a:custGeom>
              <a:noFill/>
              <a:ln w="64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2" name=""/>
              <p:cNvSpPr/>
              <p:nvPr/>
            </p:nvSpPr>
            <p:spPr>
              <a:xfrm>
                <a:off x="3683160" y="384804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3300"/>
                    </a:solidFill>
                    <a:latin typeface="Arial"/>
                  </a:rPr>
                  <a:t>128.16.8.78/16</a:t>
                </a:r>
                <a:endParaRPr b="0" lang="en-US" sz="1100" spc="-1" strike="noStrike">
                  <a:solidFill>
                    <a:srgbClr val="000000"/>
                  </a:solidFill>
                  <a:latin typeface="Times New Roman"/>
                </a:endParaRPr>
              </a:p>
            </p:txBody>
          </p:sp>
        </p:grpSp>
      </p:grpSp>
      <p:sp>
        <p:nvSpPr>
          <p:cNvPr id="1423" name=""/>
          <p:cNvSpPr/>
          <p:nvPr/>
        </p:nvSpPr>
        <p:spPr>
          <a:xfrm>
            <a:off x="2997360" y="2971800"/>
            <a:ext cx="39348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4" name=""/>
          <p:cNvGrpSpPr/>
          <p:nvPr/>
        </p:nvGrpSpPr>
        <p:grpSpPr>
          <a:xfrm>
            <a:off x="2743200" y="2971800"/>
            <a:ext cx="770040" cy="1282680"/>
            <a:chOff x="2743200" y="2971800"/>
            <a:chExt cx="770040" cy="1282680"/>
          </a:xfrm>
        </p:grpSpPr>
        <p:grpSp>
          <p:nvGrpSpPr>
            <p:cNvPr id="1425" name=""/>
            <p:cNvGrpSpPr/>
            <p:nvPr/>
          </p:nvGrpSpPr>
          <p:grpSpPr>
            <a:xfrm>
              <a:off x="2743200" y="3479760"/>
              <a:ext cx="770040" cy="774720"/>
              <a:chOff x="2743200" y="3479760"/>
              <a:chExt cx="770040" cy="774720"/>
            </a:xfrm>
          </p:grpSpPr>
          <p:sp>
            <p:nvSpPr>
              <p:cNvPr id="1426" name=""/>
              <p:cNvSpPr/>
              <p:nvPr/>
            </p:nvSpPr>
            <p:spPr>
              <a:xfrm>
                <a:off x="2743200" y="4152960"/>
                <a:ext cx="393840" cy="1015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3124080" y="3479760"/>
                <a:ext cx="389160" cy="509760"/>
              </a:xfrm>
              <a:custGeom>
                <a:avLst/>
                <a:gdLst/>
                <a:ahLst/>
                <a:rect l="l" t="t" r="r" b="b"/>
                <a:pathLst>
                  <a:path w="245" h="321">
                    <a:moveTo>
                      <a:pt x="144" y="0"/>
                    </a:moveTo>
                    <a:cubicBezTo>
                      <a:pt x="148" y="36"/>
                      <a:pt x="152" y="73"/>
                      <a:pt x="168" y="104"/>
                    </a:cubicBezTo>
                    <a:cubicBezTo>
                      <a:pt x="184" y="135"/>
                      <a:pt x="245" y="151"/>
                      <a:pt x="240" y="184"/>
                    </a:cubicBezTo>
                    <a:cubicBezTo>
                      <a:pt x="235" y="217"/>
                      <a:pt x="176" y="287"/>
                      <a:pt x="136" y="304"/>
                    </a:cubicBezTo>
                    <a:cubicBezTo>
                      <a:pt x="96" y="321"/>
                      <a:pt x="23" y="291"/>
                      <a:pt x="0" y="288"/>
                    </a:cubicBezTo>
                  </a:path>
                </a:pathLst>
              </a:custGeom>
              <a:noFill/>
              <a:ln w="38160">
                <a:solidFill>
                  <a:srgbClr val="66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a:off x="2997360" y="2971800"/>
              <a:ext cx="393480" cy="101520"/>
            </a:xfrm>
            <a:prstGeom prst="rect">
              <a:avLst/>
            </a:prstGeom>
            <a:solidFill>
              <a:srgbClr val="ffffff"/>
            </a:solidFill>
            <a:ln w="648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5879AAE9-5661-4F82-8928-B5E15C55B1F7}" type="slidenum">
              <a:t>17</a:t>
            </a:fld>
          </a:p>
        </p:txBody>
      </p:sp>
      <p:sp>
        <p:nvSpPr>
          <p:cNvPr id="5" name="PlaceHolder 4"/>
          <p:cNvSpPr>
            <a:spLocks noGrp="1"/>
          </p:cNvSpPr>
          <p:nvPr>
            <p:ph type="dt" idx="1"/>
          </p:nvPr>
        </p:nvSpPr>
        <p:spPr/>
        <p:txBody>
          <a:bodyPr/>
          <a:p>
            <a:fld id="{83B347D4-DF5C-4FD4-8F56-35000BC5233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ncapsulation</a:t>
            </a:r>
            <a:endParaRPr b="1" lang="en-US" sz="3600" spc="-1" strike="noStrike">
              <a:solidFill>
                <a:srgbClr val="336699"/>
              </a:solidFill>
              <a:latin typeface="Times New Roman"/>
            </a:endParaRPr>
          </a:p>
        </p:txBody>
      </p:sp>
      <p:grpSp>
        <p:nvGrpSpPr>
          <p:cNvPr id="1430" name=""/>
          <p:cNvGrpSpPr/>
          <p:nvPr/>
        </p:nvGrpSpPr>
        <p:grpSpPr>
          <a:xfrm>
            <a:off x="5683320" y="3376440"/>
            <a:ext cx="1324080" cy="1476360"/>
            <a:chOff x="5683320" y="3376440"/>
            <a:chExt cx="1324080" cy="1476360"/>
          </a:xfrm>
        </p:grpSpPr>
        <p:sp>
          <p:nvSpPr>
            <p:cNvPr id="1431" name=""/>
            <p:cNvSpPr/>
            <p:nvPr/>
          </p:nvSpPr>
          <p:spPr>
            <a:xfrm>
              <a:off x="6750360" y="3376440"/>
              <a:ext cx="22860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Times New Roman"/>
              </a:endParaRPr>
            </a:p>
          </p:txBody>
        </p:sp>
        <p:sp>
          <p:nvSpPr>
            <p:cNvPr id="1432" name=""/>
            <p:cNvSpPr/>
            <p:nvPr/>
          </p:nvSpPr>
          <p:spPr>
            <a:xfrm>
              <a:off x="5683320" y="4367160"/>
              <a:ext cx="1324080" cy="485640"/>
            </a:xfrm>
            <a:prstGeom prst="wedgeRoundRectCallout">
              <a:avLst>
                <a:gd name="adj1" fmla="val 41606"/>
                <a:gd name="adj2" fmla="val -184967"/>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LLC Header (3 bytes)</a:t>
              </a:r>
              <a:endParaRPr b="0" lang="en-US" sz="1400" spc="-1" strike="noStrike">
                <a:solidFill>
                  <a:srgbClr val="000000"/>
                </a:solidFill>
                <a:latin typeface="Times New Roman"/>
              </a:endParaRPr>
            </a:p>
          </p:txBody>
        </p:sp>
      </p:grpSp>
      <p:sp>
        <p:nvSpPr>
          <p:cNvPr id="1433" name=""/>
          <p:cNvSpPr/>
          <p:nvPr/>
        </p:nvSpPr>
        <p:spPr>
          <a:xfrm>
            <a:off x="615960" y="2471760"/>
            <a:ext cx="7772400" cy="5112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rt with an IP datagram</a:t>
            </a:r>
            <a:endParaRPr b="0" lang="en-US" sz="2400" spc="-1" strike="noStrike">
              <a:solidFill>
                <a:srgbClr val="000000"/>
              </a:solidFill>
              <a:latin typeface="Times New Roman"/>
            </a:endParaRPr>
          </a:p>
        </p:txBody>
      </p:sp>
      <p:grpSp>
        <p:nvGrpSpPr>
          <p:cNvPr id="1434" name=""/>
          <p:cNvGrpSpPr/>
          <p:nvPr/>
        </p:nvGrpSpPr>
        <p:grpSpPr>
          <a:xfrm>
            <a:off x="1189080" y="2612880"/>
            <a:ext cx="6387840" cy="1131840"/>
            <a:chOff x="1189080" y="2612880"/>
            <a:chExt cx="6387840" cy="1131840"/>
          </a:xfrm>
        </p:grpSpPr>
        <p:sp>
          <p:nvSpPr>
            <p:cNvPr id="1435" name=""/>
            <p:cNvSpPr/>
            <p:nvPr/>
          </p:nvSpPr>
          <p:spPr>
            <a:xfrm>
              <a:off x="6948360" y="3120840"/>
              <a:ext cx="628560" cy="233280"/>
            </a:xfrm>
            <a:prstGeom prst="rightArrow">
              <a:avLst>
                <a:gd name="adj1" fmla="val 50000"/>
                <a:gd name="adj2" fmla="val 6736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6" name=""/>
            <p:cNvGrpSpPr/>
            <p:nvPr/>
          </p:nvGrpSpPr>
          <p:grpSpPr>
            <a:xfrm>
              <a:off x="1189080" y="3376440"/>
              <a:ext cx="5332320" cy="368280"/>
              <a:chOff x="1189080" y="3376440"/>
              <a:chExt cx="5332320" cy="368280"/>
            </a:xfrm>
          </p:grpSpPr>
          <p:sp>
            <p:nvSpPr>
              <p:cNvPr id="1437" name=""/>
              <p:cNvSpPr/>
              <p:nvPr/>
            </p:nvSpPr>
            <p:spPr>
              <a:xfrm>
                <a:off x="5837400" y="3376440"/>
                <a:ext cx="684000" cy="368280"/>
              </a:xfrm>
              <a:prstGeom prst="rect">
                <a:avLst/>
              </a:prstGeom>
              <a:solidFill>
                <a:srgbClr val="339933"/>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438" name=""/>
              <p:cNvSpPr/>
              <p:nvPr/>
            </p:nvSpPr>
            <p:spPr>
              <a:xfrm>
                <a:off x="1189080" y="3376440"/>
                <a:ext cx="464832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data</a:t>
                </a:r>
                <a:endParaRPr b="0" lang="en-US" sz="1800" spc="-1" strike="noStrike">
                  <a:solidFill>
                    <a:srgbClr val="000000"/>
                  </a:solidFill>
                  <a:latin typeface="Times New Roman"/>
                </a:endParaRPr>
              </a:p>
            </p:txBody>
          </p:sp>
        </p:grpSp>
        <p:sp>
          <p:nvSpPr>
            <p:cNvPr id="1439" name=""/>
            <p:cNvSpPr/>
            <p:nvPr/>
          </p:nvSpPr>
          <p:spPr>
            <a:xfrm>
              <a:off x="5994360" y="2612880"/>
              <a:ext cx="1369800" cy="487080"/>
            </a:xfrm>
            <a:prstGeom prst="wedgeRoundRectCallout">
              <a:avLst>
                <a:gd name="adj1" fmla="val -34356"/>
                <a:gd name="adj2" fmla="val 13241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IP </a:t>
              </a:r>
              <a:br>
                <a:rPr sz="1400"/>
              </a:br>
              <a:r>
                <a:rPr b="0" lang="en-US" sz="1400" spc="-1" strike="noStrike">
                  <a:solidFill>
                    <a:srgbClr val="ff3300"/>
                  </a:solidFill>
                  <a:latin typeface="Times New Roman"/>
                </a:rPr>
                <a:t>Addresses etc.</a:t>
              </a:r>
              <a:endParaRPr b="0" lang="en-US" sz="1400" spc="-1" strike="noStrike">
                <a:solidFill>
                  <a:srgbClr val="000000"/>
                </a:solidFill>
                <a:latin typeface="Times New Roman"/>
              </a:endParaRPr>
            </a:p>
          </p:txBody>
        </p:sp>
      </p:grpSp>
      <p:sp>
        <p:nvSpPr>
          <p:cNvPr id="1440" name=""/>
          <p:cNvSpPr/>
          <p:nvPr/>
        </p:nvSpPr>
        <p:spPr>
          <a:xfrm>
            <a:off x="650880" y="4925880"/>
            <a:ext cx="7772400" cy="952560"/>
          </a:xfrm>
          <a:prstGeom prst="rect">
            <a:avLst/>
          </a:prstGeom>
          <a:noFill/>
          <a:ln w="0">
            <a:noFill/>
          </a:ln>
        </p:spPr>
        <p:style>
          <a:lnRef idx="0"/>
          <a:fillRef idx="0"/>
          <a:effectRef idx="0"/>
          <a:fontRef idx="minor"/>
        </p:style>
        <p:txBody>
          <a:bodyPr lIns="90000" rIns="90000" tIns="46800" bIns="46800" anchor="t">
            <a:normAutofit fontScale="62000"/>
          </a:bodyPr>
          <a:p>
            <a:pPr marL="180000" indent="-1800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dd SNAP and LLC headers</a:t>
            </a:r>
            <a:endParaRPr b="0" lang="en-US" sz="2800" spc="-1" strike="noStrike">
              <a:solidFill>
                <a:srgbClr val="000000"/>
              </a:solidFill>
              <a:latin typeface="Times New Roman"/>
            </a:endParaRPr>
          </a:p>
          <a:p>
            <a:pPr lvl="1" marL="475200" indent="-1771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lumsy way of providing “protocol discrimination”</a:t>
            </a:r>
            <a:endParaRPr b="0" lang="en-US" sz="2400" spc="-1" strike="noStrike">
              <a:solidFill>
                <a:srgbClr val="000000"/>
              </a:solidFill>
              <a:latin typeface="Times New Roman"/>
            </a:endParaRPr>
          </a:p>
          <a:p>
            <a:pPr marL="180000" indent="-1800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lace in Frame</a:t>
            </a:r>
            <a:endParaRPr b="0" lang="en-US" sz="2800" spc="-1" strike="noStrike">
              <a:solidFill>
                <a:srgbClr val="000000"/>
              </a:solidFill>
              <a:latin typeface="Times New Roman"/>
            </a:endParaRPr>
          </a:p>
        </p:txBody>
      </p:sp>
      <p:grpSp>
        <p:nvGrpSpPr>
          <p:cNvPr id="1441" name=""/>
          <p:cNvGrpSpPr/>
          <p:nvPr/>
        </p:nvGrpSpPr>
        <p:grpSpPr>
          <a:xfrm>
            <a:off x="4083120" y="3376440"/>
            <a:ext cx="2666520" cy="1324080"/>
            <a:chOff x="4083120" y="3376440"/>
            <a:chExt cx="2666520" cy="1324080"/>
          </a:xfrm>
        </p:grpSpPr>
        <p:sp>
          <p:nvSpPr>
            <p:cNvPr id="1442" name=""/>
            <p:cNvSpPr/>
            <p:nvPr/>
          </p:nvSpPr>
          <p:spPr>
            <a:xfrm>
              <a:off x="6521400" y="3376440"/>
              <a:ext cx="22824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1443" name=""/>
            <p:cNvSpPr/>
            <p:nvPr/>
          </p:nvSpPr>
          <p:spPr>
            <a:xfrm>
              <a:off x="4083120" y="4214880"/>
              <a:ext cx="1323720" cy="485640"/>
            </a:xfrm>
            <a:prstGeom prst="wedgeRoundRectCallout">
              <a:avLst>
                <a:gd name="adj1" fmla="val 144245"/>
                <a:gd name="adj2" fmla="val -16928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NAP Header (5 bytes)</a:t>
              </a:r>
              <a:endParaRPr b="0" lang="en-US" sz="1400" spc="-1" strike="noStrike">
                <a:solidFill>
                  <a:srgbClr val="000000"/>
                </a:solidFill>
                <a:latin typeface="Times New Roman"/>
              </a:endParaRPr>
            </a:p>
          </p:txBody>
        </p:sp>
      </p:grpSp>
      <p:sp>
        <p:nvSpPr>
          <p:cNvPr id="1444" name=""/>
          <p:cNvSpPr/>
          <p:nvPr/>
        </p:nvSpPr>
        <p:spPr>
          <a:xfrm>
            <a:off x="606600" y="1665360"/>
            <a:ext cx="7772400" cy="511200"/>
          </a:xfrm>
          <a:prstGeom prst="rect">
            <a:avLst/>
          </a:prstGeom>
          <a:noFill/>
          <a:ln w="0">
            <a:noFill/>
          </a:ln>
        </p:spPr>
        <p:style>
          <a:lnRef idx="0"/>
          <a:fillRef idx="0"/>
          <a:effectRef idx="0"/>
          <a:fontRef idx="minor"/>
        </p:style>
        <p:txBody>
          <a:bodyPr lIns="90000" rIns="90000" tIns="46800" bIns="46800" anchor="t">
            <a:normAutofit fontScale="79000"/>
          </a:bodyPr>
          <a:p>
            <a:pPr marL="229320" indent="-2293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or most technologies encapsulation begins in the same w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1CDCFDC5-662B-4189-890B-6881F1788B29}" type="slidenum">
              <a:t>18</a:t>
            </a:fld>
          </a:p>
        </p:txBody>
      </p:sp>
      <p:sp>
        <p:nvSpPr>
          <p:cNvPr id="5" name="PlaceHolder 4"/>
          <p:cNvSpPr>
            <a:spLocks noGrp="1"/>
          </p:cNvSpPr>
          <p:nvPr>
            <p:ph type="dt" idx="1"/>
          </p:nvPr>
        </p:nvSpPr>
        <p:spPr/>
        <p:txBody>
          <a:bodyPr/>
          <a:p>
            <a:fld id="{D3162873-B9F3-4F94-8F6E-998C44CF2FE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445" name=""/>
          <p:cNvGrpSpPr/>
          <p:nvPr/>
        </p:nvGrpSpPr>
        <p:grpSpPr>
          <a:xfrm>
            <a:off x="609480" y="2666880"/>
            <a:ext cx="7626240" cy="988920"/>
            <a:chOff x="609480" y="2666880"/>
            <a:chExt cx="7626240" cy="988920"/>
          </a:xfrm>
        </p:grpSpPr>
        <p:grpSp>
          <p:nvGrpSpPr>
            <p:cNvPr id="1446" name=""/>
            <p:cNvGrpSpPr/>
            <p:nvPr/>
          </p:nvGrpSpPr>
          <p:grpSpPr>
            <a:xfrm>
              <a:off x="609480" y="2666880"/>
              <a:ext cx="7543800" cy="380880"/>
              <a:chOff x="609480" y="2666880"/>
              <a:chExt cx="7543800" cy="380880"/>
            </a:xfrm>
          </p:grpSpPr>
          <p:grpSp>
            <p:nvGrpSpPr>
              <p:cNvPr id="1447" name=""/>
              <p:cNvGrpSpPr/>
              <p:nvPr/>
            </p:nvGrpSpPr>
            <p:grpSpPr>
              <a:xfrm>
                <a:off x="609480" y="2666880"/>
                <a:ext cx="7543800" cy="380880"/>
                <a:chOff x="609480" y="2666880"/>
                <a:chExt cx="7543800" cy="380880"/>
              </a:xfrm>
            </p:grpSpPr>
            <p:sp>
              <p:nvSpPr>
                <p:cNvPr id="1448" name=""/>
                <p:cNvSpPr/>
                <p:nvPr/>
              </p:nvSpPr>
              <p:spPr>
                <a:xfrm>
                  <a:off x="1371240" y="2666880"/>
                  <a:ext cx="5943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09480" y="2666880"/>
                  <a:ext cx="76176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314840" y="2666880"/>
                  <a:ext cx="8384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7314840" y="2666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1452" name=""/>
              <p:cNvSpPr/>
              <p:nvPr/>
            </p:nvSpPr>
            <p:spPr>
              <a:xfrm>
                <a:off x="609480" y="2666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C</a:t>
                </a:r>
                <a:endParaRPr b="0" lang="en-US" sz="1800" spc="-1" strike="noStrike">
                  <a:solidFill>
                    <a:srgbClr val="000000"/>
                  </a:solidFill>
                  <a:latin typeface="Times New Roman"/>
                </a:endParaRPr>
              </a:p>
            </p:txBody>
          </p:sp>
        </p:grpSp>
        <p:sp>
          <p:nvSpPr>
            <p:cNvPr id="1453" name=""/>
            <p:cNvSpPr/>
            <p:nvPr/>
          </p:nvSpPr>
          <p:spPr>
            <a:xfrm>
              <a:off x="6911640" y="3170160"/>
              <a:ext cx="1324080" cy="485640"/>
            </a:xfrm>
            <a:prstGeom prst="wedgeRoundRectCallout">
              <a:avLst>
                <a:gd name="adj1" fmla="val 9472"/>
                <a:gd name="adj2" fmla="val -91175"/>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Ethernet Addresses etc</a:t>
              </a: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sp>
        <p:nvSpPr>
          <p:cNvPr id="1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ncapsulation - Examples</a:t>
            </a:r>
            <a:endParaRPr b="1" lang="en-US" sz="3600" spc="-1" strike="noStrike">
              <a:solidFill>
                <a:srgbClr val="336699"/>
              </a:solidFill>
              <a:latin typeface="Times New Roman"/>
            </a:endParaRPr>
          </a:p>
        </p:txBody>
      </p:sp>
      <p:sp>
        <p:nvSpPr>
          <p:cNvPr id="1455" name=""/>
          <p:cNvSpPr/>
          <p:nvPr/>
        </p:nvSpPr>
        <p:spPr>
          <a:xfrm>
            <a:off x="541440" y="1512720"/>
            <a:ext cx="7772400" cy="5112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thernet – start with basic frame – max. 1500 bytes</a:t>
            </a:r>
            <a:endParaRPr b="0" lang="en-US" sz="2400" spc="-1" strike="noStrike">
              <a:solidFill>
                <a:srgbClr val="000000"/>
              </a:solidFill>
              <a:latin typeface="Times New Roman"/>
            </a:endParaRPr>
          </a:p>
        </p:txBody>
      </p:sp>
      <p:sp>
        <p:nvSpPr>
          <p:cNvPr id="1456" name=""/>
          <p:cNvSpPr/>
          <p:nvPr/>
        </p:nvSpPr>
        <p:spPr>
          <a:xfrm>
            <a:off x="7543800" y="2209680"/>
            <a:ext cx="628560" cy="233640"/>
          </a:xfrm>
          <a:prstGeom prst="rightArrow">
            <a:avLst>
              <a:gd name="adj1" fmla="val 50000"/>
              <a:gd name="adj2" fmla="val 6725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7200" y="3733920"/>
            <a:ext cx="7772400" cy="952560"/>
          </a:xfrm>
          <a:prstGeom prst="rect">
            <a:avLst/>
          </a:prstGeom>
          <a:noFill/>
          <a:ln w="0">
            <a:noFill/>
          </a:ln>
        </p:spPr>
        <p:style>
          <a:lnRef idx="0"/>
          <a:fillRef idx="0"/>
          <a:effectRef idx="0"/>
          <a:fontRef idx="minor"/>
        </p:style>
        <p:txBody>
          <a:bodyPr lIns="90000" rIns="90000" tIns="46800" bIns="46800" anchor="t">
            <a:normAutofit fontScale="99000"/>
          </a:bodyPr>
          <a:p>
            <a:pPr marL="287280" indent="-2872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M – all frames 48 bytes – too small</a:t>
            </a:r>
            <a:endParaRPr b="0" lang="en-US" sz="2800" spc="-1" strike="noStrike">
              <a:solidFill>
                <a:srgbClr val="000000"/>
              </a:solidFill>
              <a:latin typeface="Times New Roman"/>
            </a:endParaRPr>
          </a:p>
          <a:p>
            <a:pPr lvl="1" marL="758880" indent="-2829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t use multiple frames</a:t>
            </a:r>
            <a:endParaRPr b="0" lang="en-US" sz="2400" spc="-1" strike="noStrike">
              <a:solidFill>
                <a:srgbClr val="000000"/>
              </a:solidFill>
              <a:latin typeface="Times New Roman"/>
            </a:endParaRPr>
          </a:p>
        </p:txBody>
      </p:sp>
      <p:grpSp>
        <p:nvGrpSpPr>
          <p:cNvPr id="1458" name=""/>
          <p:cNvGrpSpPr/>
          <p:nvPr/>
        </p:nvGrpSpPr>
        <p:grpSpPr>
          <a:xfrm>
            <a:off x="1371600" y="2666880"/>
            <a:ext cx="5946840" cy="368280"/>
            <a:chOff x="1371600" y="2666880"/>
            <a:chExt cx="5946840" cy="368280"/>
          </a:xfrm>
        </p:grpSpPr>
        <p:sp>
          <p:nvSpPr>
            <p:cNvPr id="1459" name=""/>
            <p:cNvSpPr/>
            <p:nvPr/>
          </p:nvSpPr>
          <p:spPr>
            <a:xfrm>
              <a:off x="7086600" y="2666880"/>
              <a:ext cx="23184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Times New Roman"/>
              </a:endParaRPr>
            </a:p>
          </p:txBody>
        </p:sp>
        <p:sp>
          <p:nvSpPr>
            <p:cNvPr id="1460" name=""/>
            <p:cNvSpPr/>
            <p:nvPr/>
          </p:nvSpPr>
          <p:spPr>
            <a:xfrm>
              <a:off x="6096240" y="2666880"/>
              <a:ext cx="761760" cy="368280"/>
            </a:xfrm>
            <a:prstGeom prst="rect">
              <a:avLst/>
            </a:prstGeom>
            <a:solidFill>
              <a:srgbClr val="339933"/>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461" name=""/>
            <p:cNvSpPr/>
            <p:nvPr/>
          </p:nvSpPr>
          <p:spPr>
            <a:xfrm>
              <a:off x="1371600" y="2666880"/>
              <a:ext cx="472464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data</a:t>
              </a:r>
              <a:endParaRPr b="0" lang="en-US" sz="1800" spc="-1" strike="noStrike">
                <a:solidFill>
                  <a:srgbClr val="000000"/>
                </a:solidFill>
                <a:latin typeface="Times New Roman"/>
              </a:endParaRPr>
            </a:p>
          </p:txBody>
        </p:sp>
        <p:sp>
          <p:nvSpPr>
            <p:cNvPr id="1462" name=""/>
            <p:cNvSpPr/>
            <p:nvPr/>
          </p:nvSpPr>
          <p:spPr>
            <a:xfrm>
              <a:off x="6858000" y="2666880"/>
              <a:ext cx="23184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Times New Roman"/>
              </a:endParaRPr>
            </a:p>
          </p:txBody>
        </p:sp>
      </p:grpSp>
      <p:sp>
        <p:nvSpPr>
          <p:cNvPr id="1463" name=""/>
          <p:cNvSpPr/>
          <p:nvPr/>
        </p:nvSpPr>
        <p:spPr>
          <a:xfrm>
            <a:off x="533520" y="2057400"/>
            <a:ext cx="7772400" cy="511200"/>
          </a:xfrm>
          <a:prstGeom prst="rect">
            <a:avLst/>
          </a:prstGeom>
          <a:noFill/>
          <a:ln w="0">
            <a:noFill/>
          </a:ln>
        </p:spPr>
        <p:style>
          <a:lnRef idx="0"/>
          <a:fillRef idx="0"/>
          <a:effectRef idx="0"/>
          <a:fontRef idx="minor"/>
        </p:style>
        <p:txBody>
          <a:bodyPr lIns="90000" rIns="90000" tIns="46800" bIns="46800" anchor="t">
            <a:normAutofit/>
          </a:bodyPr>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P + SNAP + LLC carried as data (1492 bytes of IP)</a:t>
            </a:r>
            <a:endParaRPr b="0" lang="en-US" sz="2000" spc="-1" strike="noStrike">
              <a:solidFill>
                <a:srgbClr val="000000"/>
              </a:solidFill>
              <a:latin typeface="Times New Roman"/>
            </a:endParaRPr>
          </a:p>
        </p:txBody>
      </p:sp>
      <p:grpSp>
        <p:nvGrpSpPr>
          <p:cNvPr id="1464" name=""/>
          <p:cNvGrpSpPr/>
          <p:nvPr/>
        </p:nvGrpSpPr>
        <p:grpSpPr>
          <a:xfrm>
            <a:off x="1371600" y="4876920"/>
            <a:ext cx="5946840" cy="368280"/>
            <a:chOff x="1371600" y="4876920"/>
            <a:chExt cx="5946840" cy="368280"/>
          </a:xfrm>
        </p:grpSpPr>
        <p:sp>
          <p:nvSpPr>
            <p:cNvPr id="1465" name=""/>
            <p:cNvSpPr/>
            <p:nvPr/>
          </p:nvSpPr>
          <p:spPr>
            <a:xfrm>
              <a:off x="7086600" y="4876920"/>
              <a:ext cx="23184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Times New Roman"/>
              </a:endParaRPr>
            </a:p>
          </p:txBody>
        </p:sp>
        <p:sp>
          <p:nvSpPr>
            <p:cNvPr id="1466" name=""/>
            <p:cNvSpPr/>
            <p:nvPr/>
          </p:nvSpPr>
          <p:spPr>
            <a:xfrm>
              <a:off x="6096240" y="4876920"/>
              <a:ext cx="761760" cy="368280"/>
            </a:xfrm>
            <a:prstGeom prst="rect">
              <a:avLst/>
            </a:prstGeom>
            <a:solidFill>
              <a:srgbClr val="339933"/>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467" name=""/>
            <p:cNvSpPr/>
            <p:nvPr/>
          </p:nvSpPr>
          <p:spPr>
            <a:xfrm>
              <a:off x="1371600" y="4876920"/>
              <a:ext cx="472464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data</a:t>
              </a:r>
              <a:endParaRPr b="0" lang="en-US" sz="1800" spc="-1" strike="noStrike">
                <a:solidFill>
                  <a:srgbClr val="000000"/>
                </a:solidFill>
                <a:latin typeface="Times New Roman"/>
              </a:endParaRPr>
            </a:p>
          </p:txBody>
        </p:sp>
        <p:sp>
          <p:nvSpPr>
            <p:cNvPr id="1468" name=""/>
            <p:cNvSpPr/>
            <p:nvPr/>
          </p:nvSpPr>
          <p:spPr>
            <a:xfrm>
              <a:off x="6858000" y="4876920"/>
              <a:ext cx="23184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Times New Roman"/>
              </a:endParaRPr>
            </a:p>
          </p:txBody>
        </p:sp>
      </p:grpSp>
      <p:grpSp>
        <p:nvGrpSpPr>
          <p:cNvPr id="1469" name=""/>
          <p:cNvGrpSpPr/>
          <p:nvPr/>
        </p:nvGrpSpPr>
        <p:grpSpPr>
          <a:xfrm>
            <a:off x="990720" y="4724280"/>
            <a:ext cx="6324480" cy="685800"/>
            <a:chOff x="990720" y="4724280"/>
            <a:chExt cx="6324480" cy="685800"/>
          </a:xfrm>
        </p:grpSpPr>
        <p:sp>
          <p:nvSpPr>
            <p:cNvPr id="1470" name=""/>
            <p:cNvSpPr/>
            <p:nvPr/>
          </p:nvSpPr>
          <p:spPr>
            <a:xfrm>
              <a:off x="5257800" y="4724280"/>
              <a:ext cx="0" cy="685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124080" y="4724280"/>
              <a:ext cx="0" cy="685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990720" y="4724280"/>
              <a:ext cx="0" cy="685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7315200" y="4724280"/>
              <a:ext cx="0" cy="685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685800" y="5638680"/>
            <a:ext cx="7165800" cy="381240"/>
            <a:chOff x="685800" y="5638680"/>
            <a:chExt cx="7165800" cy="381240"/>
          </a:xfrm>
        </p:grpSpPr>
        <p:sp>
          <p:nvSpPr>
            <p:cNvPr id="1475" name=""/>
            <p:cNvSpPr/>
            <p:nvPr/>
          </p:nvSpPr>
          <p:spPr>
            <a:xfrm>
              <a:off x="7620120" y="5638680"/>
              <a:ext cx="23148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Times New Roman"/>
              </a:endParaRPr>
            </a:p>
          </p:txBody>
        </p:sp>
        <p:sp>
          <p:nvSpPr>
            <p:cNvPr id="1476" name=""/>
            <p:cNvSpPr/>
            <p:nvPr/>
          </p:nvSpPr>
          <p:spPr>
            <a:xfrm>
              <a:off x="6629400" y="5638680"/>
              <a:ext cx="762120" cy="368280"/>
            </a:xfrm>
            <a:prstGeom prst="rect">
              <a:avLst/>
            </a:prstGeom>
            <a:solidFill>
              <a:srgbClr val="339933"/>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477" name=""/>
            <p:cNvSpPr/>
            <p:nvPr/>
          </p:nvSpPr>
          <p:spPr>
            <a:xfrm>
              <a:off x="5791320" y="5638680"/>
              <a:ext cx="838080" cy="37332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7391520" y="5638680"/>
              <a:ext cx="23148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1479" name=""/>
            <p:cNvSpPr/>
            <p:nvPr/>
          </p:nvSpPr>
          <p:spPr>
            <a:xfrm>
              <a:off x="3124080" y="5638680"/>
              <a:ext cx="205740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685800" y="5638680"/>
              <a:ext cx="175248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192240" y="5029200"/>
            <a:ext cx="8721720" cy="990720"/>
            <a:chOff x="192240" y="5029200"/>
            <a:chExt cx="8721720" cy="990720"/>
          </a:xfrm>
        </p:grpSpPr>
        <p:sp>
          <p:nvSpPr>
            <p:cNvPr id="1482" name=""/>
            <p:cNvSpPr/>
            <p:nvPr/>
          </p:nvSpPr>
          <p:spPr>
            <a:xfrm>
              <a:off x="380880" y="5638680"/>
              <a:ext cx="304920" cy="381240"/>
            </a:xfrm>
            <a:prstGeom prst="rect">
              <a:avLst/>
            </a:prstGeom>
            <a:solidFill>
              <a:srgbClr val="66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192240" y="5029200"/>
              <a:ext cx="8721720" cy="990720"/>
              <a:chOff x="192240" y="5029200"/>
              <a:chExt cx="8721720" cy="990720"/>
            </a:xfrm>
          </p:grpSpPr>
          <p:grpSp>
            <p:nvGrpSpPr>
              <p:cNvPr id="1484" name=""/>
              <p:cNvGrpSpPr/>
              <p:nvPr/>
            </p:nvGrpSpPr>
            <p:grpSpPr>
              <a:xfrm>
                <a:off x="2438280" y="5029200"/>
                <a:ext cx="6475680" cy="990720"/>
                <a:chOff x="2438280" y="5029200"/>
                <a:chExt cx="6475680" cy="990720"/>
              </a:xfrm>
            </p:grpSpPr>
            <p:sp>
              <p:nvSpPr>
                <p:cNvPr id="1485" name=""/>
                <p:cNvSpPr/>
                <p:nvPr/>
              </p:nvSpPr>
              <p:spPr>
                <a:xfrm>
                  <a:off x="7848720" y="5638680"/>
                  <a:ext cx="1522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181480" y="5638680"/>
                  <a:ext cx="1526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438280" y="5638680"/>
                  <a:ext cx="1526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543800" y="5029200"/>
                  <a:ext cx="1370160" cy="334800"/>
                </a:xfrm>
                <a:prstGeom prst="wedgeRoundRectCallout">
                  <a:avLst>
                    <a:gd name="adj1" fmla="val -21032"/>
                    <a:gd name="adj2" fmla="val 163268"/>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ATM header.</a:t>
                  </a:r>
                  <a:endParaRPr b="0" lang="en-US" sz="1400" spc="-1" strike="noStrike">
                    <a:solidFill>
                      <a:srgbClr val="000000"/>
                    </a:solidFill>
                    <a:latin typeface="Times New Roman"/>
                  </a:endParaRPr>
                </a:p>
              </p:txBody>
            </p:sp>
          </p:grpSp>
          <p:sp>
            <p:nvSpPr>
              <p:cNvPr id="1489" name=""/>
              <p:cNvSpPr/>
              <p:nvPr/>
            </p:nvSpPr>
            <p:spPr>
              <a:xfrm>
                <a:off x="192240" y="5105520"/>
                <a:ext cx="868320" cy="320400"/>
              </a:xfrm>
              <a:prstGeom prst="wedgeRoundRectCallout">
                <a:avLst>
                  <a:gd name="adj1" fmla="val -13620"/>
                  <a:gd name="adj2" fmla="val 148513"/>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adding</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AB3C33D5-C38F-4883-A783-45CDFD1759E9}" type="slidenum">
              <a:t>19</a:t>
            </a:fld>
          </a:p>
        </p:txBody>
      </p:sp>
      <p:sp>
        <p:nvSpPr>
          <p:cNvPr id="5" name="PlaceHolder 4"/>
          <p:cNvSpPr>
            <a:spLocks noGrp="1"/>
          </p:cNvSpPr>
          <p:nvPr>
            <p:ph type="dt" idx="1"/>
          </p:nvPr>
        </p:nvSpPr>
        <p:spPr/>
        <p:txBody>
          <a:bodyPr/>
          <a:p>
            <a:fld id="{328D1BF5-97DF-472F-9CFC-AB757D1BB33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1" name=""/>
          <p:cNvGrpSpPr/>
          <p:nvPr/>
        </p:nvGrpSpPr>
        <p:grpSpPr>
          <a:xfrm>
            <a:off x="1189080" y="1211400"/>
            <a:ext cx="6178680" cy="1414080"/>
            <a:chOff x="1189080" y="1211400"/>
            <a:chExt cx="6178680" cy="1414080"/>
          </a:xfrm>
        </p:grpSpPr>
        <p:sp>
          <p:nvSpPr>
            <p:cNvPr id="52" name=""/>
            <p:cNvSpPr/>
            <p:nvPr/>
          </p:nvSpPr>
          <p:spPr>
            <a:xfrm>
              <a:off x="6818400" y="1920960"/>
              <a:ext cx="549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154400" y="1854360"/>
              <a:ext cx="1044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1189080" y="2260080"/>
              <a:ext cx="444600" cy="365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654200" y="1255680"/>
              <a:ext cx="2247480" cy="1304640"/>
              <a:chOff x="1654200" y="1255680"/>
              <a:chExt cx="2247480" cy="1304640"/>
            </a:xfrm>
          </p:grpSpPr>
          <p:grpSp>
            <p:nvGrpSpPr>
              <p:cNvPr id="56" name=""/>
              <p:cNvGrpSpPr/>
              <p:nvPr/>
            </p:nvGrpSpPr>
            <p:grpSpPr>
              <a:xfrm>
                <a:off x="1654200" y="1255680"/>
                <a:ext cx="2247480" cy="1304640"/>
                <a:chOff x="1654200" y="1255680"/>
                <a:chExt cx="2247480" cy="1304640"/>
              </a:xfrm>
            </p:grpSpPr>
            <p:sp>
              <p:nvSpPr>
                <p:cNvPr id="57" name=""/>
                <p:cNvSpPr/>
                <p:nvPr/>
              </p:nvSpPr>
              <p:spPr>
                <a:xfrm>
                  <a:off x="1654200" y="12556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54200" y="12556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63280" y="201960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 name=""/>
                <p:cNvSpPr/>
                <p:nvPr/>
              </p:nvSpPr>
              <p:spPr>
                <a:xfrm>
                  <a:off x="1958400" y="231012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 name=""/>
                <p:cNvSpPr/>
                <p:nvPr/>
              </p:nvSpPr>
              <p:spPr>
                <a:xfrm>
                  <a:off x="2473560" y="238464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 name=""/>
                <p:cNvSpPr/>
                <p:nvPr/>
              </p:nvSpPr>
              <p:spPr>
                <a:xfrm>
                  <a:off x="3137040" y="230328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3" name=""/>
                <p:cNvSpPr/>
                <p:nvPr/>
              </p:nvSpPr>
              <p:spPr>
                <a:xfrm>
                  <a:off x="3433320" y="1951920"/>
                  <a:ext cx="163800" cy="2095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53360" y="171540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 name=""/>
                <p:cNvSpPr/>
                <p:nvPr/>
              </p:nvSpPr>
              <p:spPr>
                <a:xfrm>
                  <a:off x="3644280" y="141768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6" name=""/>
                <p:cNvSpPr/>
                <p:nvPr/>
              </p:nvSpPr>
              <p:spPr>
                <a:xfrm>
                  <a:off x="3168360" y="132300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 name=""/>
                <p:cNvSpPr/>
                <p:nvPr/>
              </p:nvSpPr>
              <p:spPr>
                <a:xfrm flipH="1">
                  <a:off x="2801520" y="135684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 name=""/>
                <p:cNvSpPr/>
                <p:nvPr/>
              </p:nvSpPr>
              <p:spPr>
                <a:xfrm flipH="1" flipV="1">
                  <a:off x="2379600" y="141084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9" name=""/>
                <p:cNvSpPr/>
                <p:nvPr/>
              </p:nvSpPr>
              <p:spPr>
                <a:xfrm>
                  <a:off x="1856880" y="168804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70" name=""/>
              <p:cNvSpPr/>
              <p:nvPr/>
            </p:nvSpPr>
            <p:spPr>
              <a:xfrm>
                <a:off x="2338200" y="1625040"/>
                <a:ext cx="107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Backbone Network</a:t>
                </a:r>
                <a:endParaRPr b="0" lang="en-US" sz="1600" spc="-1" strike="noStrike">
                  <a:solidFill>
                    <a:srgbClr val="000000"/>
                  </a:solidFill>
                  <a:latin typeface="Times New Roman"/>
                </a:endParaRPr>
              </a:p>
            </p:txBody>
          </p:sp>
        </p:grpSp>
        <p:grpSp>
          <p:nvGrpSpPr>
            <p:cNvPr id="71" name=""/>
            <p:cNvGrpSpPr/>
            <p:nvPr/>
          </p:nvGrpSpPr>
          <p:grpSpPr>
            <a:xfrm>
              <a:off x="1362240" y="2097000"/>
              <a:ext cx="677520" cy="252360"/>
              <a:chOff x="1362240" y="2097000"/>
              <a:chExt cx="677520" cy="252360"/>
            </a:xfrm>
          </p:grpSpPr>
          <p:sp>
            <p:nvSpPr>
              <p:cNvPr id="72" name=""/>
              <p:cNvSpPr/>
              <p:nvPr/>
            </p:nvSpPr>
            <p:spPr>
              <a:xfrm>
                <a:off x="1362240" y="2097000"/>
                <a:ext cx="67752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428480" y="2152800"/>
                <a:ext cx="40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3920" y="22932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33880" y="2246040"/>
                <a:ext cx="187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35320" y="22834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77760" y="21466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78" name=""/>
            <p:cNvGrpSpPr/>
            <p:nvPr/>
          </p:nvGrpSpPr>
          <p:grpSpPr>
            <a:xfrm>
              <a:off x="5332320" y="1211400"/>
              <a:ext cx="1478160" cy="874440"/>
              <a:chOff x="5332320" y="1211400"/>
              <a:chExt cx="1478160" cy="874440"/>
            </a:xfrm>
          </p:grpSpPr>
          <p:grpSp>
            <p:nvGrpSpPr>
              <p:cNvPr id="79" name=""/>
              <p:cNvGrpSpPr/>
              <p:nvPr/>
            </p:nvGrpSpPr>
            <p:grpSpPr>
              <a:xfrm>
                <a:off x="5332320" y="1211400"/>
                <a:ext cx="1478160" cy="874440"/>
                <a:chOff x="5332320" y="1211400"/>
                <a:chExt cx="1478160" cy="874440"/>
              </a:xfrm>
            </p:grpSpPr>
            <p:sp>
              <p:nvSpPr>
                <p:cNvPr id="80" name=""/>
                <p:cNvSpPr/>
                <p:nvPr/>
              </p:nvSpPr>
              <p:spPr>
                <a:xfrm>
                  <a:off x="5332320" y="121140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2320" y="121140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403960" y="1723320"/>
                  <a:ext cx="87120" cy="18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 name=""/>
                <p:cNvSpPr/>
                <p:nvPr/>
              </p:nvSpPr>
              <p:spPr>
                <a:xfrm>
                  <a:off x="5532480" y="1918080"/>
                  <a:ext cx="35640" cy="900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 name=""/>
                <p:cNvSpPr/>
                <p:nvPr/>
              </p:nvSpPr>
              <p:spPr>
                <a:xfrm>
                  <a:off x="5871240" y="1968120"/>
                  <a:ext cx="25560" cy="36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 name=""/>
                <p:cNvSpPr/>
                <p:nvPr/>
              </p:nvSpPr>
              <p:spPr>
                <a:xfrm>
                  <a:off x="6307560" y="1913760"/>
                  <a:ext cx="10080" cy="4068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6" name=""/>
                <p:cNvSpPr/>
                <p:nvPr/>
              </p:nvSpPr>
              <p:spPr>
                <a:xfrm>
                  <a:off x="6502680" y="1677960"/>
                  <a:ext cx="107640" cy="1404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12920" y="1519560"/>
                  <a:ext cx="51120" cy="54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6641280" y="1320120"/>
                  <a:ext cx="5040" cy="2700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 name=""/>
                <p:cNvSpPr/>
                <p:nvPr/>
              </p:nvSpPr>
              <p:spPr>
                <a:xfrm>
                  <a:off x="6328080" y="1256400"/>
                  <a:ext cx="25560" cy="36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0" name=""/>
                <p:cNvSpPr/>
                <p:nvPr/>
              </p:nvSpPr>
              <p:spPr>
                <a:xfrm flipH="1">
                  <a:off x="6086880" y="1279080"/>
                  <a:ext cx="151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flipH="1" flipV="1">
                  <a:off x="5809680" y="1315080"/>
                  <a:ext cx="460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 name=""/>
                <p:cNvSpPr/>
                <p:nvPr/>
              </p:nvSpPr>
              <p:spPr>
                <a:xfrm>
                  <a:off x="5465520" y="1501200"/>
                  <a:ext cx="5040" cy="316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93" name=""/>
              <p:cNvSpPr/>
              <p:nvPr/>
            </p:nvSpPr>
            <p:spPr>
              <a:xfrm>
                <a:off x="5781960" y="1459080"/>
                <a:ext cx="70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a:t>
                </a:r>
                <a:endParaRPr b="0" lang="en-US" sz="1600" spc="-1" strike="noStrike">
                  <a:solidFill>
                    <a:srgbClr val="000000"/>
                  </a:solidFill>
                  <a:latin typeface="Times New Roman"/>
                </a:endParaRPr>
              </a:p>
            </p:txBody>
          </p:sp>
        </p:grpSp>
        <p:grpSp>
          <p:nvGrpSpPr>
            <p:cNvPr id="94" name=""/>
            <p:cNvGrpSpPr/>
            <p:nvPr/>
          </p:nvGrpSpPr>
          <p:grpSpPr>
            <a:xfrm>
              <a:off x="3600360" y="1682640"/>
              <a:ext cx="677880" cy="252360"/>
              <a:chOff x="3600360" y="1682640"/>
              <a:chExt cx="677880" cy="252360"/>
            </a:xfrm>
          </p:grpSpPr>
          <p:sp>
            <p:nvSpPr>
              <p:cNvPr id="95" name=""/>
              <p:cNvSpPr/>
              <p:nvPr/>
            </p:nvSpPr>
            <p:spPr>
              <a:xfrm>
                <a:off x="3600360" y="168264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666960" y="173844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92400" y="187884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672000" y="183168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73800" y="186912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115880" y="173232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1" name=""/>
            <p:cNvGrpSpPr/>
            <p:nvPr/>
          </p:nvGrpSpPr>
          <p:grpSpPr>
            <a:xfrm>
              <a:off x="4981680" y="1677960"/>
              <a:ext cx="677880" cy="252360"/>
              <a:chOff x="4981680" y="1677960"/>
              <a:chExt cx="677880" cy="252360"/>
            </a:xfrm>
          </p:grpSpPr>
          <p:sp>
            <p:nvSpPr>
              <p:cNvPr id="102" name=""/>
              <p:cNvSpPr/>
              <p:nvPr/>
            </p:nvSpPr>
            <p:spPr>
              <a:xfrm>
                <a:off x="4981680" y="167796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5048280" y="173376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73720" y="18741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053320" y="182700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55120" y="186444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97200" y="172764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8" name=""/>
            <p:cNvGrpSpPr/>
            <p:nvPr/>
          </p:nvGrpSpPr>
          <p:grpSpPr>
            <a:xfrm>
              <a:off x="6243480" y="1752480"/>
              <a:ext cx="677880" cy="252360"/>
              <a:chOff x="6243480" y="1752480"/>
              <a:chExt cx="677880" cy="252360"/>
            </a:xfrm>
          </p:grpSpPr>
          <p:sp>
            <p:nvSpPr>
              <p:cNvPr id="109" name=""/>
              <p:cNvSpPr/>
              <p:nvPr/>
            </p:nvSpPr>
            <p:spPr>
              <a:xfrm>
                <a:off x="6243480" y="17524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6310080" y="18082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35520" y="19486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315120" y="19015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16920" y="19389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59000" y="18021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115" name=""/>
          <p:cNvGrpSpPr/>
          <p:nvPr/>
        </p:nvGrpSpPr>
        <p:grpSpPr>
          <a:xfrm>
            <a:off x="233280" y="2563920"/>
            <a:ext cx="3476880" cy="1606320"/>
            <a:chOff x="233280" y="2563920"/>
            <a:chExt cx="3476880" cy="1606320"/>
          </a:xfrm>
        </p:grpSpPr>
        <p:grpSp>
          <p:nvGrpSpPr>
            <p:cNvPr id="116" name=""/>
            <p:cNvGrpSpPr/>
            <p:nvPr/>
          </p:nvGrpSpPr>
          <p:grpSpPr>
            <a:xfrm>
              <a:off x="233280" y="2606760"/>
              <a:ext cx="3476880" cy="1563480"/>
              <a:chOff x="233280" y="2606760"/>
              <a:chExt cx="3476880" cy="1563480"/>
            </a:xfrm>
          </p:grpSpPr>
          <p:sp>
            <p:nvSpPr>
              <p:cNvPr id="117" name=""/>
              <p:cNvSpPr/>
              <p:nvPr/>
            </p:nvSpPr>
            <p:spPr>
              <a:xfrm>
                <a:off x="2233440" y="3430440"/>
                <a:ext cx="1476720" cy="739800"/>
              </a:xfrm>
              <a:custGeom>
                <a:avLst/>
                <a:gdLst/>
                <a:ahLst/>
                <a:rect l="l" t="t" r="r" b="b"/>
                <a:pathLst>
                  <a:path w="930" h="466">
                    <a:moveTo>
                      <a:pt x="930" y="36"/>
                    </a:moveTo>
                    <a:cubicBezTo>
                      <a:pt x="898" y="40"/>
                      <a:pt x="798" y="0"/>
                      <a:pt x="732" y="61"/>
                    </a:cubicBezTo>
                    <a:cubicBezTo>
                      <a:pt x="666" y="122"/>
                      <a:pt x="609" y="346"/>
                      <a:pt x="535" y="406"/>
                    </a:cubicBezTo>
                    <a:cubicBezTo>
                      <a:pt x="461" y="466"/>
                      <a:pt x="342" y="460"/>
                      <a:pt x="288" y="423"/>
                    </a:cubicBezTo>
                    <a:cubicBezTo>
                      <a:pt x="234" y="386"/>
                      <a:pt x="262" y="231"/>
                      <a:pt x="214" y="184"/>
                    </a:cubicBezTo>
                    <a:cubicBezTo>
                      <a:pt x="166" y="137"/>
                      <a:pt x="36" y="151"/>
                      <a:pt x="0" y="143"/>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233280" y="2606760"/>
                <a:ext cx="2247480" cy="1304640"/>
                <a:chOff x="233280" y="2606760"/>
                <a:chExt cx="2247480" cy="1304640"/>
              </a:xfrm>
            </p:grpSpPr>
            <p:grpSp>
              <p:nvGrpSpPr>
                <p:cNvPr id="119" name=""/>
                <p:cNvGrpSpPr/>
                <p:nvPr/>
              </p:nvGrpSpPr>
              <p:grpSpPr>
                <a:xfrm>
                  <a:off x="233280" y="2606760"/>
                  <a:ext cx="2247480" cy="1304640"/>
                  <a:chOff x="233280" y="2606760"/>
                  <a:chExt cx="2247480" cy="1304640"/>
                </a:xfrm>
              </p:grpSpPr>
              <p:sp>
                <p:nvSpPr>
                  <p:cNvPr id="120" name=""/>
                  <p:cNvSpPr/>
                  <p:nvPr/>
                </p:nvSpPr>
                <p:spPr>
                  <a:xfrm>
                    <a:off x="233280" y="260676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33280" y="260676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360" y="337068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537480" y="366120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4" name=""/>
                  <p:cNvSpPr/>
                  <p:nvPr/>
                </p:nvSpPr>
                <p:spPr>
                  <a:xfrm>
                    <a:off x="1052640" y="373572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1716120" y="365436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6" name=""/>
                  <p:cNvSpPr/>
                  <p:nvPr/>
                </p:nvSpPr>
                <p:spPr>
                  <a:xfrm>
                    <a:off x="2012400" y="3303000"/>
                    <a:ext cx="163800" cy="2095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32440" y="306648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2223360" y="276876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9" name=""/>
                  <p:cNvSpPr/>
                  <p:nvPr/>
                </p:nvSpPr>
                <p:spPr>
                  <a:xfrm>
                    <a:off x="1747440" y="267408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 name=""/>
                  <p:cNvSpPr/>
                  <p:nvPr/>
                </p:nvSpPr>
                <p:spPr>
                  <a:xfrm flipH="1">
                    <a:off x="1380600" y="270792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 name=""/>
                  <p:cNvSpPr/>
                  <p:nvPr/>
                </p:nvSpPr>
                <p:spPr>
                  <a:xfrm flipH="1" flipV="1">
                    <a:off x="958680" y="276192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 name=""/>
                  <p:cNvSpPr/>
                  <p:nvPr/>
                </p:nvSpPr>
                <p:spPr>
                  <a:xfrm>
                    <a:off x="435960" y="303912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3" name=""/>
                <p:cNvSpPr/>
                <p:nvPr/>
              </p:nvSpPr>
              <p:spPr>
                <a:xfrm>
                  <a:off x="917280" y="2976120"/>
                  <a:ext cx="107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Backbone Network</a:t>
                  </a:r>
                  <a:endParaRPr b="0" lang="en-US" sz="1600" spc="-1" strike="noStrike">
                    <a:solidFill>
                      <a:srgbClr val="000000"/>
                    </a:solidFill>
                    <a:latin typeface="Times New Roman"/>
                  </a:endParaRPr>
                </a:p>
              </p:txBody>
            </p:sp>
          </p:grpSp>
          <p:grpSp>
            <p:nvGrpSpPr>
              <p:cNvPr id="134" name=""/>
              <p:cNvGrpSpPr/>
              <p:nvPr/>
            </p:nvGrpSpPr>
            <p:grpSpPr>
              <a:xfrm>
                <a:off x="1716120" y="3517920"/>
                <a:ext cx="677880" cy="252360"/>
                <a:chOff x="1716120" y="3517920"/>
                <a:chExt cx="677880" cy="252360"/>
              </a:xfrm>
            </p:grpSpPr>
            <p:sp>
              <p:nvSpPr>
                <p:cNvPr id="135" name=""/>
                <p:cNvSpPr/>
                <p:nvPr/>
              </p:nvSpPr>
              <p:spPr>
                <a:xfrm>
                  <a:off x="1716120" y="3517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782720" y="3573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108160" y="3714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87760" y="3666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89560" y="3704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31640" y="3567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41" name=""/>
              <p:cNvGrpSpPr/>
              <p:nvPr/>
            </p:nvGrpSpPr>
            <p:grpSpPr>
              <a:xfrm>
                <a:off x="2490840" y="2951280"/>
                <a:ext cx="1106280" cy="745920"/>
                <a:chOff x="2490840" y="2951280"/>
                <a:chExt cx="1106280" cy="745920"/>
              </a:xfrm>
            </p:grpSpPr>
            <p:sp>
              <p:nvSpPr>
                <p:cNvPr id="142" name=""/>
                <p:cNvSpPr/>
                <p:nvPr/>
              </p:nvSpPr>
              <p:spPr>
                <a:xfrm>
                  <a:off x="2651040" y="3438720"/>
                  <a:ext cx="639720" cy="112680"/>
                </a:xfrm>
                <a:custGeom>
                  <a:avLst/>
                  <a:gdLst/>
                  <a:ahLst/>
                  <a:rect l="l" t="t" r="r" b="b"/>
                  <a:pathLst>
                    <a:path w="5203" h="854">
                      <a:moveTo>
                        <a:pt x="4" y="553"/>
                      </a:moveTo>
                      <a:lnTo>
                        <a:pt x="42" y="569"/>
                      </a:lnTo>
                      <a:lnTo>
                        <a:pt x="78" y="584"/>
                      </a:lnTo>
                      <a:lnTo>
                        <a:pt x="115" y="600"/>
                      </a:lnTo>
                      <a:lnTo>
                        <a:pt x="153" y="615"/>
                      </a:lnTo>
                      <a:lnTo>
                        <a:pt x="190" y="628"/>
                      </a:lnTo>
                      <a:lnTo>
                        <a:pt x="228" y="641"/>
                      </a:lnTo>
                      <a:lnTo>
                        <a:pt x="266" y="654"/>
                      </a:lnTo>
                      <a:lnTo>
                        <a:pt x="304" y="665"/>
                      </a:lnTo>
                      <a:lnTo>
                        <a:pt x="341" y="678"/>
                      </a:lnTo>
                      <a:lnTo>
                        <a:pt x="380" y="688"/>
                      </a:lnTo>
                      <a:lnTo>
                        <a:pt x="419" y="700"/>
                      </a:lnTo>
                      <a:lnTo>
                        <a:pt x="456" y="710"/>
                      </a:lnTo>
                      <a:lnTo>
                        <a:pt x="495" y="718"/>
                      </a:lnTo>
                      <a:lnTo>
                        <a:pt x="534" y="728"/>
                      </a:lnTo>
                      <a:lnTo>
                        <a:pt x="573" y="737"/>
                      </a:lnTo>
                      <a:lnTo>
                        <a:pt x="612" y="744"/>
                      </a:lnTo>
                      <a:lnTo>
                        <a:pt x="651" y="753"/>
                      </a:lnTo>
                      <a:lnTo>
                        <a:pt x="690" y="760"/>
                      </a:lnTo>
                      <a:lnTo>
                        <a:pt x="729" y="767"/>
                      </a:lnTo>
                      <a:lnTo>
                        <a:pt x="769" y="775"/>
                      </a:lnTo>
                      <a:lnTo>
                        <a:pt x="808" y="782"/>
                      </a:lnTo>
                      <a:lnTo>
                        <a:pt x="847" y="787"/>
                      </a:lnTo>
                      <a:lnTo>
                        <a:pt x="887" y="793"/>
                      </a:lnTo>
                      <a:lnTo>
                        <a:pt x="926" y="799"/>
                      </a:lnTo>
                      <a:lnTo>
                        <a:pt x="966" y="805"/>
                      </a:lnTo>
                      <a:lnTo>
                        <a:pt x="1007" y="811"/>
                      </a:lnTo>
                      <a:lnTo>
                        <a:pt x="1045" y="815"/>
                      </a:lnTo>
                      <a:lnTo>
                        <a:pt x="1086" y="821"/>
                      </a:lnTo>
                      <a:lnTo>
                        <a:pt x="1126" y="825"/>
                      </a:lnTo>
                      <a:lnTo>
                        <a:pt x="1166" y="829"/>
                      </a:lnTo>
                      <a:lnTo>
                        <a:pt x="1207" y="834"/>
                      </a:lnTo>
                      <a:lnTo>
                        <a:pt x="1247" y="838"/>
                      </a:lnTo>
                      <a:lnTo>
                        <a:pt x="1297" y="842"/>
                      </a:lnTo>
                      <a:lnTo>
                        <a:pt x="1349" y="847"/>
                      </a:lnTo>
                      <a:lnTo>
                        <a:pt x="1400" y="849"/>
                      </a:lnTo>
                      <a:lnTo>
                        <a:pt x="1450" y="852"/>
                      </a:lnTo>
                      <a:lnTo>
                        <a:pt x="1500" y="854"/>
                      </a:lnTo>
                      <a:lnTo>
                        <a:pt x="1551" y="854"/>
                      </a:lnTo>
                      <a:lnTo>
                        <a:pt x="1601" y="854"/>
                      </a:lnTo>
                      <a:lnTo>
                        <a:pt x="1650" y="854"/>
                      </a:lnTo>
                      <a:lnTo>
                        <a:pt x="1701" y="852"/>
                      </a:lnTo>
                      <a:lnTo>
                        <a:pt x="1751" y="851"/>
                      </a:lnTo>
                      <a:lnTo>
                        <a:pt x="1800" y="849"/>
                      </a:lnTo>
                      <a:lnTo>
                        <a:pt x="1850" y="847"/>
                      </a:lnTo>
                      <a:lnTo>
                        <a:pt x="1901" y="844"/>
                      </a:lnTo>
                      <a:lnTo>
                        <a:pt x="1950" y="839"/>
                      </a:lnTo>
                      <a:lnTo>
                        <a:pt x="2000" y="835"/>
                      </a:lnTo>
                      <a:lnTo>
                        <a:pt x="2049" y="831"/>
                      </a:lnTo>
                      <a:lnTo>
                        <a:pt x="2099" y="826"/>
                      </a:lnTo>
                      <a:lnTo>
                        <a:pt x="2148" y="822"/>
                      </a:lnTo>
                      <a:lnTo>
                        <a:pt x="2199" y="816"/>
                      </a:lnTo>
                      <a:lnTo>
                        <a:pt x="2248" y="811"/>
                      </a:lnTo>
                      <a:lnTo>
                        <a:pt x="2298" y="805"/>
                      </a:lnTo>
                      <a:lnTo>
                        <a:pt x="2347" y="799"/>
                      </a:lnTo>
                      <a:lnTo>
                        <a:pt x="2398" y="793"/>
                      </a:lnTo>
                      <a:lnTo>
                        <a:pt x="2447" y="786"/>
                      </a:lnTo>
                      <a:lnTo>
                        <a:pt x="2497" y="780"/>
                      </a:lnTo>
                      <a:lnTo>
                        <a:pt x="2547" y="775"/>
                      </a:lnTo>
                      <a:lnTo>
                        <a:pt x="2596" y="767"/>
                      </a:lnTo>
                      <a:lnTo>
                        <a:pt x="2647" y="762"/>
                      </a:lnTo>
                      <a:lnTo>
                        <a:pt x="2697" y="756"/>
                      </a:lnTo>
                      <a:lnTo>
                        <a:pt x="2746" y="749"/>
                      </a:lnTo>
                      <a:lnTo>
                        <a:pt x="2796" y="743"/>
                      </a:lnTo>
                      <a:lnTo>
                        <a:pt x="2847" y="737"/>
                      </a:lnTo>
                      <a:lnTo>
                        <a:pt x="2923" y="728"/>
                      </a:lnTo>
                      <a:lnTo>
                        <a:pt x="3001" y="718"/>
                      </a:lnTo>
                      <a:lnTo>
                        <a:pt x="3077" y="707"/>
                      </a:lnTo>
                      <a:lnTo>
                        <a:pt x="3154" y="695"/>
                      </a:lnTo>
                      <a:lnTo>
                        <a:pt x="3230" y="684"/>
                      </a:lnTo>
                      <a:lnTo>
                        <a:pt x="3306" y="671"/>
                      </a:lnTo>
                      <a:lnTo>
                        <a:pt x="3381" y="656"/>
                      </a:lnTo>
                      <a:lnTo>
                        <a:pt x="3456" y="642"/>
                      </a:lnTo>
                      <a:lnTo>
                        <a:pt x="3532" y="626"/>
                      </a:lnTo>
                      <a:lnTo>
                        <a:pt x="3607" y="610"/>
                      </a:lnTo>
                      <a:lnTo>
                        <a:pt x="3682" y="593"/>
                      </a:lnTo>
                      <a:lnTo>
                        <a:pt x="3755" y="576"/>
                      </a:lnTo>
                      <a:lnTo>
                        <a:pt x="3830" y="557"/>
                      </a:lnTo>
                      <a:lnTo>
                        <a:pt x="3904" y="538"/>
                      </a:lnTo>
                      <a:lnTo>
                        <a:pt x="3977" y="518"/>
                      </a:lnTo>
                      <a:lnTo>
                        <a:pt x="4051" y="497"/>
                      </a:lnTo>
                      <a:lnTo>
                        <a:pt x="4124" y="475"/>
                      </a:lnTo>
                      <a:lnTo>
                        <a:pt x="4198" y="452"/>
                      </a:lnTo>
                      <a:lnTo>
                        <a:pt x="4270" y="429"/>
                      </a:lnTo>
                      <a:lnTo>
                        <a:pt x="4342" y="404"/>
                      </a:lnTo>
                      <a:lnTo>
                        <a:pt x="4414" y="379"/>
                      </a:lnTo>
                      <a:lnTo>
                        <a:pt x="4486" y="353"/>
                      </a:lnTo>
                      <a:lnTo>
                        <a:pt x="4556" y="327"/>
                      </a:lnTo>
                      <a:lnTo>
                        <a:pt x="4628" y="298"/>
                      </a:lnTo>
                      <a:lnTo>
                        <a:pt x="4699" y="271"/>
                      </a:lnTo>
                      <a:lnTo>
                        <a:pt x="4769" y="240"/>
                      </a:lnTo>
                      <a:lnTo>
                        <a:pt x="4838" y="210"/>
                      </a:lnTo>
                      <a:lnTo>
                        <a:pt x="4909" y="178"/>
                      </a:lnTo>
                      <a:lnTo>
                        <a:pt x="4978" y="147"/>
                      </a:lnTo>
                      <a:lnTo>
                        <a:pt x="5047" y="114"/>
                      </a:lnTo>
                      <a:lnTo>
                        <a:pt x="5116" y="79"/>
                      </a:lnTo>
                      <a:lnTo>
                        <a:pt x="5184" y="44"/>
                      </a:lnTo>
                      <a:lnTo>
                        <a:pt x="5193" y="40"/>
                      </a:lnTo>
                      <a:lnTo>
                        <a:pt x="5200" y="34"/>
                      </a:lnTo>
                      <a:lnTo>
                        <a:pt x="5203" y="26"/>
                      </a:lnTo>
                      <a:lnTo>
                        <a:pt x="5201" y="16"/>
                      </a:lnTo>
                      <a:lnTo>
                        <a:pt x="5197" y="8"/>
                      </a:lnTo>
                      <a:lnTo>
                        <a:pt x="5191" y="3"/>
                      </a:lnTo>
                      <a:lnTo>
                        <a:pt x="5182" y="0"/>
                      </a:lnTo>
                      <a:lnTo>
                        <a:pt x="5174" y="0"/>
                      </a:lnTo>
                      <a:lnTo>
                        <a:pt x="5129" y="16"/>
                      </a:lnTo>
                      <a:lnTo>
                        <a:pt x="5086" y="32"/>
                      </a:lnTo>
                      <a:lnTo>
                        <a:pt x="5043" y="47"/>
                      </a:lnTo>
                      <a:lnTo>
                        <a:pt x="4998" y="63"/>
                      </a:lnTo>
                      <a:lnTo>
                        <a:pt x="4955" y="79"/>
                      </a:lnTo>
                      <a:lnTo>
                        <a:pt x="4912" y="95"/>
                      </a:lnTo>
                      <a:lnTo>
                        <a:pt x="4869" y="112"/>
                      </a:lnTo>
                      <a:lnTo>
                        <a:pt x="4825" y="128"/>
                      </a:lnTo>
                      <a:lnTo>
                        <a:pt x="4782" y="145"/>
                      </a:lnTo>
                      <a:lnTo>
                        <a:pt x="4739" y="161"/>
                      </a:lnTo>
                      <a:lnTo>
                        <a:pt x="4696" y="177"/>
                      </a:lnTo>
                      <a:lnTo>
                        <a:pt x="4653" y="194"/>
                      </a:lnTo>
                      <a:lnTo>
                        <a:pt x="4609" y="210"/>
                      </a:lnTo>
                      <a:lnTo>
                        <a:pt x="4566" y="227"/>
                      </a:lnTo>
                      <a:lnTo>
                        <a:pt x="4523" y="243"/>
                      </a:lnTo>
                      <a:lnTo>
                        <a:pt x="4478" y="259"/>
                      </a:lnTo>
                      <a:lnTo>
                        <a:pt x="4435" y="275"/>
                      </a:lnTo>
                      <a:lnTo>
                        <a:pt x="4392" y="291"/>
                      </a:lnTo>
                      <a:lnTo>
                        <a:pt x="4347" y="307"/>
                      </a:lnTo>
                      <a:lnTo>
                        <a:pt x="4304" y="321"/>
                      </a:lnTo>
                      <a:lnTo>
                        <a:pt x="4259" y="337"/>
                      </a:lnTo>
                      <a:lnTo>
                        <a:pt x="4215" y="351"/>
                      </a:lnTo>
                      <a:lnTo>
                        <a:pt x="4170" y="366"/>
                      </a:lnTo>
                      <a:lnTo>
                        <a:pt x="4126" y="380"/>
                      </a:lnTo>
                      <a:lnTo>
                        <a:pt x="4081" y="394"/>
                      </a:lnTo>
                      <a:lnTo>
                        <a:pt x="4035" y="407"/>
                      </a:lnTo>
                      <a:lnTo>
                        <a:pt x="3990" y="420"/>
                      </a:lnTo>
                      <a:lnTo>
                        <a:pt x="3944" y="433"/>
                      </a:lnTo>
                      <a:lnTo>
                        <a:pt x="3898" y="445"/>
                      </a:lnTo>
                      <a:lnTo>
                        <a:pt x="3850" y="458"/>
                      </a:lnTo>
                      <a:lnTo>
                        <a:pt x="3804" y="469"/>
                      </a:lnTo>
                      <a:lnTo>
                        <a:pt x="3757" y="479"/>
                      </a:lnTo>
                      <a:lnTo>
                        <a:pt x="3698" y="492"/>
                      </a:lnTo>
                      <a:lnTo>
                        <a:pt x="3640" y="505"/>
                      </a:lnTo>
                      <a:lnTo>
                        <a:pt x="3581" y="518"/>
                      </a:lnTo>
                      <a:lnTo>
                        <a:pt x="3524" y="530"/>
                      </a:lnTo>
                      <a:lnTo>
                        <a:pt x="3467" y="543"/>
                      </a:lnTo>
                      <a:lnTo>
                        <a:pt x="3410" y="554"/>
                      </a:lnTo>
                      <a:lnTo>
                        <a:pt x="3354" y="566"/>
                      </a:lnTo>
                      <a:lnTo>
                        <a:pt x="3296" y="577"/>
                      </a:lnTo>
                      <a:lnTo>
                        <a:pt x="3240" y="587"/>
                      </a:lnTo>
                      <a:lnTo>
                        <a:pt x="3182" y="599"/>
                      </a:lnTo>
                      <a:lnTo>
                        <a:pt x="3126" y="607"/>
                      </a:lnTo>
                      <a:lnTo>
                        <a:pt x="3069" y="618"/>
                      </a:lnTo>
                      <a:lnTo>
                        <a:pt x="3012" y="626"/>
                      </a:lnTo>
                      <a:lnTo>
                        <a:pt x="2955" y="633"/>
                      </a:lnTo>
                      <a:lnTo>
                        <a:pt x="2897" y="641"/>
                      </a:lnTo>
                      <a:lnTo>
                        <a:pt x="2838" y="648"/>
                      </a:lnTo>
                      <a:lnTo>
                        <a:pt x="2788" y="654"/>
                      </a:lnTo>
                      <a:lnTo>
                        <a:pt x="2739" y="659"/>
                      </a:lnTo>
                      <a:lnTo>
                        <a:pt x="2688" y="665"/>
                      </a:lnTo>
                      <a:lnTo>
                        <a:pt x="2639" y="671"/>
                      </a:lnTo>
                      <a:lnTo>
                        <a:pt x="2591" y="677"/>
                      </a:lnTo>
                      <a:lnTo>
                        <a:pt x="2540" y="684"/>
                      </a:lnTo>
                      <a:lnTo>
                        <a:pt x="2491" y="690"/>
                      </a:lnTo>
                      <a:lnTo>
                        <a:pt x="2442" y="697"/>
                      </a:lnTo>
                      <a:lnTo>
                        <a:pt x="2393" y="703"/>
                      </a:lnTo>
                      <a:lnTo>
                        <a:pt x="2344" y="710"/>
                      </a:lnTo>
                      <a:lnTo>
                        <a:pt x="2294" y="715"/>
                      </a:lnTo>
                      <a:lnTo>
                        <a:pt x="2245" y="721"/>
                      </a:lnTo>
                      <a:lnTo>
                        <a:pt x="2196" y="728"/>
                      </a:lnTo>
                      <a:lnTo>
                        <a:pt x="2147" y="734"/>
                      </a:lnTo>
                      <a:lnTo>
                        <a:pt x="2098" y="740"/>
                      </a:lnTo>
                      <a:lnTo>
                        <a:pt x="2049" y="744"/>
                      </a:lnTo>
                      <a:lnTo>
                        <a:pt x="1999" y="750"/>
                      </a:lnTo>
                      <a:lnTo>
                        <a:pt x="1950" y="754"/>
                      </a:lnTo>
                      <a:lnTo>
                        <a:pt x="1901" y="759"/>
                      </a:lnTo>
                      <a:lnTo>
                        <a:pt x="1852" y="763"/>
                      </a:lnTo>
                      <a:lnTo>
                        <a:pt x="1803" y="767"/>
                      </a:lnTo>
                      <a:lnTo>
                        <a:pt x="1752" y="770"/>
                      </a:lnTo>
                      <a:lnTo>
                        <a:pt x="1703" y="773"/>
                      </a:lnTo>
                      <a:lnTo>
                        <a:pt x="1655" y="775"/>
                      </a:lnTo>
                      <a:lnTo>
                        <a:pt x="1604" y="776"/>
                      </a:lnTo>
                      <a:lnTo>
                        <a:pt x="1555" y="777"/>
                      </a:lnTo>
                      <a:lnTo>
                        <a:pt x="1505" y="777"/>
                      </a:lnTo>
                      <a:lnTo>
                        <a:pt x="1456" y="777"/>
                      </a:lnTo>
                      <a:lnTo>
                        <a:pt x="1405" y="776"/>
                      </a:lnTo>
                      <a:lnTo>
                        <a:pt x="1356" y="773"/>
                      </a:lnTo>
                      <a:lnTo>
                        <a:pt x="1306" y="772"/>
                      </a:lnTo>
                      <a:lnTo>
                        <a:pt x="1256" y="767"/>
                      </a:lnTo>
                      <a:lnTo>
                        <a:pt x="1215" y="764"/>
                      </a:lnTo>
                      <a:lnTo>
                        <a:pt x="1176" y="760"/>
                      </a:lnTo>
                      <a:lnTo>
                        <a:pt x="1136" y="757"/>
                      </a:lnTo>
                      <a:lnTo>
                        <a:pt x="1097" y="753"/>
                      </a:lnTo>
                      <a:lnTo>
                        <a:pt x="1057" y="750"/>
                      </a:lnTo>
                      <a:lnTo>
                        <a:pt x="1017" y="746"/>
                      </a:lnTo>
                      <a:lnTo>
                        <a:pt x="978" y="741"/>
                      </a:lnTo>
                      <a:lnTo>
                        <a:pt x="937" y="737"/>
                      </a:lnTo>
                      <a:lnTo>
                        <a:pt x="899" y="733"/>
                      </a:lnTo>
                      <a:lnTo>
                        <a:pt x="860" y="728"/>
                      </a:lnTo>
                      <a:lnTo>
                        <a:pt x="819" y="723"/>
                      </a:lnTo>
                      <a:lnTo>
                        <a:pt x="780" y="718"/>
                      </a:lnTo>
                      <a:lnTo>
                        <a:pt x="742" y="713"/>
                      </a:lnTo>
                      <a:lnTo>
                        <a:pt x="701" y="707"/>
                      </a:lnTo>
                      <a:lnTo>
                        <a:pt x="662" y="701"/>
                      </a:lnTo>
                      <a:lnTo>
                        <a:pt x="624" y="694"/>
                      </a:lnTo>
                      <a:lnTo>
                        <a:pt x="585" y="688"/>
                      </a:lnTo>
                      <a:lnTo>
                        <a:pt x="546" y="681"/>
                      </a:lnTo>
                      <a:lnTo>
                        <a:pt x="507" y="674"/>
                      </a:lnTo>
                      <a:lnTo>
                        <a:pt x="468" y="667"/>
                      </a:lnTo>
                      <a:lnTo>
                        <a:pt x="429" y="658"/>
                      </a:lnTo>
                      <a:lnTo>
                        <a:pt x="390" y="649"/>
                      </a:lnTo>
                      <a:lnTo>
                        <a:pt x="351" y="641"/>
                      </a:lnTo>
                      <a:lnTo>
                        <a:pt x="314" y="631"/>
                      </a:lnTo>
                      <a:lnTo>
                        <a:pt x="275" y="622"/>
                      </a:lnTo>
                      <a:lnTo>
                        <a:pt x="236" y="612"/>
                      </a:lnTo>
                      <a:lnTo>
                        <a:pt x="199" y="600"/>
                      </a:lnTo>
                      <a:lnTo>
                        <a:pt x="160" y="590"/>
                      </a:lnTo>
                      <a:lnTo>
                        <a:pt x="122" y="577"/>
                      </a:lnTo>
                      <a:lnTo>
                        <a:pt x="84" y="566"/>
                      </a:lnTo>
                      <a:lnTo>
                        <a:pt x="46" y="553"/>
                      </a:lnTo>
                      <a:lnTo>
                        <a:pt x="9" y="540"/>
                      </a:lnTo>
                      <a:lnTo>
                        <a:pt x="9" y="540"/>
                      </a:lnTo>
                      <a:lnTo>
                        <a:pt x="6" y="540"/>
                      </a:lnTo>
                      <a:lnTo>
                        <a:pt x="3" y="541"/>
                      </a:lnTo>
                      <a:lnTo>
                        <a:pt x="1" y="544"/>
                      </a:lnTo>
                      <a:lnTo>
                        <a:pt x="0" y="546"/>
                      </a:lnTo>
                      <a:lnTo>
                        <a:pt x="0" y="548"/>
                      </a:lnTo>
                      <a:lnTo>
                        <a:pt x="1" y="550"/>
                      </a:lnTo>
                      <a:lnTo>
                        <a:pt x="3" y="551"/>
                      </a:lnTo>
                      <a:lnTo>
                        <a:pt x="4" y="553"/>
                      </a:lnTo>
                      <a:lnTo>
                        <a:pt x="4" y="55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43120" y="3459240"/>
                  <a:ext cx="603360" cy="183960"/>
                </a:xfrm>
                <a:custGeom>
                  <a:avLst/>
                  <a:gdLst/>
                  <a:ahLst/>
                  <a:rect l="l" t="t" r="r" b="b"/>
                  <a:pathLst>
                    <a:path w="4895" h="1393">
                      <a:moveTo>
                        <a:pt x="5" y="386"/>
                      </a:moveTo>
                      <a:lnTo>
                        <a:pt x="45" y="422"/>
                      </a:lnTo>
                      <a:lnTo>
                        <a:pt x="84" y="461"/>
                      </a:lnTo>
                      <a:lnTo>
                        <a:pt x="121" y="501"/>
                      </a:lnTo>
                      <a:lnTo>
                        <a:pt x="159" y="543"/>
                      </a:lnTo>
                      <a:lnTo>
                        <a:pt x="193" y="585"/>
                      </a:lnTo>
                      <a:lnTo>
                        <a:pt x="229" y="626"/>
                      </a:lnTo>
                      <a:lnTo>
                        <a:pt x="264" y="670"/>
                      </a:lnTo>
                      <a:lnTo>
                        <a:pt x="298" y="713"/>
                      </a:lnTo>
                      <a:lnTo>
                        <a:pt x="334" y="756"/>
                      </a:lnTo>
                      <a:lnTo>
                        <a:pt x="370" y="798"/>
                      </a:lnTo>
                      <a:lnTo>
                        <a:pt x="408" y="840"/>
                      </a:lnTo>
                      <a:lnTo>
                        <a:pt x="445" y="880"/>
                      </a:lnTo>
                      <a:lnTo>
                        <a:pt x="486" y="917"/>
                      </a:lnTo>
                      <a:lnTo>
                        <a:pt x="529" y="955"/>
                      </a:lnTo>
                      <a:lnTo>
                        <a:pt x="572" y="989"/>
                      </a:lnTo>
                      <a:lnTo>
                        <a:pt x="620" y="1021"/>
                      </a:lnTo>
                      <a:lnTo>
                        <a:pt x="663" y="1048"/>
                      </a:lnTo>
                      <a:lnTo>
                        <a:pt x="705" y="1076"/>
                      </a:lnTo>
                      <a:lnTo>
                        <a:pt x="746" y="1105"/>
                      </a:lnTo>
                      <a:lnTo>
                        <a:pt x="788" y="1132"/>
                      </a:lnTo>
                      <a:lnTo>
                        <a:pt x="830" y="1159"/>
                      </a:lnTo>
                      <a:lnTo>
                        <a:pt x="870" y="1187"/>
                      </a:lnTo>
                      <a:lnTo>
                        <a:pt x="912" y="1213"/>
                      </a:lnTo>
                      <a:lnTo>
                        <a:pt x="954" y="1237"/>
                      </a:lnTo>
                      <a:lnTo>
                        <a:pt x="995" y="1261"/>
                      </a:lnTo>
                      <a:lnTo>
                        <a:pt x="1039" y="1283"/>
                      </a:lnTo>
                      <a:lnTo>
                        <a:pt x="1082" y="1303"/>
                      </a:lnTo>
                      <a:lnTo>
                        <a:pt x="1126" y="1323"/>
                      </a:lnTo>
                      <a:lnTo>
                        <a:pt x="1171" y="1339"/>
                      </a:lnTo>
                      <a:lnTo>
                        <a:pt x="1219" y="1354"/>
                      </a:lnTo>
                      <a:lnTo>
                        <a:pt x="1266" y="1367"/>
                      </a:lnTo>
                      <a:lnTo>
                        <a:pt x="1315" y="1375"/>
                      </a:lnTo>
                      <a:lnTo>
                        <a:pt x="1345" y="1380"/>
                      </a:lnTo>
                      <a:lnTo>
                        <a:pt x="1377" y="1384"/>
                      </a:lnTo>
                      <a:lnTo>
                        <a:pt x="1407" y="1387"/>
                      </a:lnTo>
                      <a:lnTo>
                        <a:pt x="1438" y="1390"/>
                      </a:lnTo>
                      <a:lnTo>
                        <a:pt x="1468" y="1391"/>
                      </a:lnTo>
                      <a:lnTo>
                        <a:pt x="1498" y="1391"/>
                      </a:lnTo>
                      <a:lnTo>
                        <a:pt x="1528" y="1393"/>
                      </a:lnTo>
                      <a:lnTo>
                        <a:pt x="1558" y="1393"/>
                      </a:lnTo>
                      <a:lnTo>
                        <a:pt x="1589" y="1391"/>
                      </a:lnTo>
                      <a:lnTo>
                        <a:pt x="1619" y="1390"/>
                      </a:lnTo>
                      <a:lnTo>
                        <a:pt x="1648" y="1388"/>
                      </a:lnTo>
                      <a:lnTo>
                        <a:pt x="1678" y="1385"/>
                      </a:lnTo>
                      <a:lnTo>
                        <a:pt x="1708" y="1382"/>
                      </a:lnTo>
                      <a:lnTo>
                        <a:pt x="1737" y="1378"/>
                      </a:lnTo>
                      <a:lnTo>
                        <a:pt x="1767" y="1375"/>
                      </a:lnTo>
                      <a:lnTo>
                        <a:pt x="1796" y="1369"/>
                      </a:lnTo>
                      <a:lnTo>
                        <a:pt x="1826" y="1365"/>
                      </a:lnTo>
                      <a:lnTo>
                        <a:pt x="1855" y="1359"/>
                      </a:lnTo>
                      <a:lnTo>
                        <a:pt x="1884" y="1354"/>
                      </a:lnTo>
                      <a:lnTo>
                        <a:pt x="1914" y="1348"/>
                      </a:lnTo>
                      <a:lnTo>
                        <a:pt x="1943" y="1341"/>
                      </a:lnTo>
                      <a:lnTo>
                        <a:pt x="1972" y="1333"/>
                      </a:lnTo>
                      <a:lnTo>
                        <a:pt x="2001" y="1326"/>
                      </a:lnTo>
                      <a:lnTo>
                        <a:pt x="2031" y="1318"/>
                      </a:lnTo>
                      <a:lnTo>
                        <a:pt x="2060" y="1310"/>
                      </a:lnTo>
                      <a:lnTo>
                        <a:pt x="2088" y="1302"/>
                      </a:lnTo>
                      <a:lnTo>
                        <a:pt x="2117" y="1293"/>
                      </a:lnTo>
                      <a:lnTo>
                        <a:pt x="2146" y="1283"/>
                      </a:lnTo>
                      <a:lnTo>
                        <a:pt x="2175" y="1274"/>
                      </a:lnTo>
                      <a:lnTo>
                        <a:pt x="2204" y="1264"/>
                      </a:lnTo>
                      <a:lnTo>
                        <a:pt x="2232" y="1254"/>
                      </a:lnTo>
                      <a:lnTo>
                        <a:pt x="2261" y="1244"/>
                      </a:lnTo>
                      <a:lnTo>
                        <a:pt x="2299" y="1231"/>
                      </a:lnTo>
                      <a:lnTo>
                        <a:pt x="2335" y="1218"/>
                      </a:lnTo>
                      <a:lnTo>
                        <a:pt x="2372" y="1207"/>
                      </a:lnTo>
                      <a:lnTo>
                        <a:pt x="2409" y="1195"/>
                      </a:lnTo>
                      <a:lnTo>
                        <a:pt x="2447" y="1182"/>
                      </a:lnTo>
                      <a:lnTo>
                        <a:pt x="2484" y="1172"/>
                      </a:lnTo>
                      <a:lnTo>
                        <a:pt x="2522" y="1161"/>
                      </a:lnTo>
                      <a:lnTo>
                        <a:pt x="2559" y="1151"/>
                      </a:lnTo>
                      <a:lnTo>
                        <a:pt x="2597" y="1141"/>
                      </a:lnTo>
                      <a:lnTo>
                        <a:pt x="2634" y="1130"/>
                      </a:lnTo>
                      <a:lnTo>
                        <a:pt x="2672" y="1122"/>
                      </a:lnTo>
                      <a:lnTo>
                        <a:pt x="2710" y="1113"/>
                      </a:lnTo>
                      <a:lnTo>
                        <a:pt x="2748" y="1105"/>
                      </a:lnTo>
                      <a:lnTo>
                        <a:pt x="2785" y="1096"/>
                      </a:lnTo>
                      <a:lnTo>
                        <a:pt x="2824" y="1089"/>
                      </a:lnTo>
                      <a:lnTo>
                        <a:pt x="2862" y="1081"/>
                      </a:lnTo>
                      <a:lnTo>
                        <a:pt x="2901" y="1076"/>
                      </a:lnTo>
                      <a:lnTo>
                        <a:pt x="2938" y="1069"/>
                      </a:lnTo>
                      <a:lnTo>
                        <a:pt x="2977" y="1063"/>
                      </a:lnTo>
                      <a:lnTo>
                        <a:pt x="3016" y="1058"/>
                      </a:lnTo>
                      <a:lnTo>
                        <a:pt x="3055" y="1053"/>
                      </a:lnTo>
                      <a:lnTo>
                        <a:pt x="3092" y="1048"/>
                      </a:lnTo>
                      <a:lnTo>
                        <a:pt x="3131" y="1045"/>
                      </a:lnTo>
                      <a:lnTo>
                        <a:pt x="3170" y="1041"/>
                      </a:lnTo>
                      <a:lnTo>
                        <a:pt x="3209" y="1038"/>
                      </a:lnTo>
                      <a:lnTo>
                        <a:pt x="3248" y="1037"/>
                      </a:lnTo>
                      <a:lnTo>
                        <a:pt x="3286" y="1035"/>
                      </a:lnTo>
                      <a:lnTo>
                        <a:pt x="3325" y="1034"/>
                      </a:lnTo>
                      <a:lnTo>
                        <a:pt x="3364" y="1033"/>
                      </a:lnTo>
                      <a:lnTo>
                        <a:pt x="3404" y="1033"/>
                      </a:lnTo>
                      <a:lnTo>
                        <a:pt x="3443" y="1033"/>
                      </a:lnTo>
                      <a:lnTo>
                        <a:pt x="3482" y="1034"/>
                      </a:lnTo>
                      <a:lnTo>
                        <a:pt x="3502" y="1034"/>
                      </a:lnTo>
                      <a:lnTo>
                        <a:pt x="3523" y="1033"/>
                      </a:lnTo>
                      <a:lnTo>
                        <a:pt x="3541" y="1030"/>
                      </a:lnTo>
                      <a:lnTo>
                        <a:pt x="3561" y="1025"/>
                      </a:lnTo>
                      <a:lnTo>
                        <a:pt x="3580" y="1020"/>
                      </a:lnTo>
                      <a:lnTo>
                        <a:pt x="3600" y="1012"/>
                      </a:lnTo>
                      <a:lnTo>
                        <a:pt x="3618" y="1004"/>
                      </a:lnTo>
                      <a:lnTo>
                        <a:pt x="3636" y="994"/>
                      </a:lnTo>
                      <a:lnTo>
                        <a:pt x="3698" y="956"/>
                      </a:lnTo>
                      <a:lnTo>
                        <a:pt x="3756" y="916"/>
                      </a:lnTo>
                      <a:lnTo>
                        <a:pt x="3812" y="873"/>
                      </a:lnTo>
                      <a:lnTo>
                        <a:pt x="3867" y="829"/>
                      </a:lnTo>
                      <a:lnTo>
                        <a:pt x="3920" y="785"/>
                      </a:lnTo>
                      <a:lnTo>
                        <a:pt x="3970" y="737"/>
                      </a:lnTo>
                      <a:lnTo>
                        <a:pt x="4021" y="691"/>
                      </a:lnTo>
                      <a:lnTo>
                        <a:pt x="4071" y="642"/>
                      </a:lnTo>
                      <a:lnTo>
                        <a:pt x="4122" y="595"/>
                      </a:lnTo>
                      <a:lnTo>
                        <a:pt x="4172" y="547"/>
                      </a:lnTo>
                      <a:lnTo>
                        <a:pt x="4222" y="498"/>
                      </a:lnTo>
                      <a:lnTo>
                        <a:pt x="4274" y="452"/>
                      </a:lnTo>
                      <a:lnTo>
                        <a:pt x="4328" y="405"/>
                      </a:lnTo>
                      <a:lnTo>
                        <a:pt x="4384" y="360"/>
                      </a:lnTo>
                      <a:lnTo>
                        <a:pt x="4441" y="315"/>
                      </a:lnTo>
                      <a:lnTo>
                        <a:pt x="4502" y="274"/>
                      </a:lnTo>
                      <a:lnTo>
                        <a:pt x="4525" y="259"/>
                      </a:lnTo>
                      <a:lnTo>
                        <a:pt x="4548" y="243"/>
                      </a:lnTo>
                      <a:lnTo>
                        <a:pt x="4571" y="229"/>
                      </a:lnTo>
                      <a:lnTo>
                        <a:pt x="4594" y="215"/>
                      </a:lnTo>
                      <a:lnTo>
                        <a:pt x="4617" y="200"/>
                      </a:lnTo>
                      <a:lnTo>
                        <a:pt x="4640" y="187"/>
                      </a:lnTo>
                      <a:lnTo>
                        <a:pt x="4663" y="173"/>
                      </a:lnTo>
                      <a:lnTo>
                        <a:pt x="4688" y="160"/>
                      </a:lnTo>
                      <a:lnTo>
                        <a:pt x="4711" y="146"/>
                      </a:lnTo>
                      <a:lnTo>
                        <a:pt x="4734" y="133"/>
                      </a:lnTo>
                      <a:lnTo>
                        <a:pt x="4757" y="120"/>
                      </a:lnTo>
                      <a:lnTo>
                        <a:pt x="4780" y="107"/>
                      </a:lnTo>
                      <a:lnTo>
                        <a:pt x="4803" y="94"/>
                      </a:lnTo>
                      <a:lnTo>
                        <a:pt x="4826" y="81"/>
                      </a:lnTo>
                      <a:lnTo>
                        <a:pt x="4849" y="68"/>
                      </a:lnTo>
                      <a:lnTo>
                        <a:pt x="4872" y="55"/>
                      </a:lnTo>
                      <a:lnTo>
                        <a:pt x="4885" y="49"/>
                      </a:lnTo>
                      <a:lnTo>
                        <a:pt x="4893" y="43"/>
                      </a:lnTo>
                      <a:lnTo>
                        <a:pt x="4895" y="35"/>
                      </a:lnTo>
                      <a:lnTo>
                        <a:pt x="4892" y="23"/>
                      </a:lnTo>
                      <a:lnTo>
                        <a:pt x="4888" y="16"/>
                      </a:lnTo>
                      <a:lnTo>
                        <a:pt x="4882" y="10"/>
                      </a:lnTo>
                      <a:lnTo>
                        <a:pt x="4876" y="6"/>
                      </a:lnTo>
                      <a:lnTo>
                        <a:pt x="4870" y="3"/>
                      </a:lnTo>
                      <a:lnTo>
                        <a:pt x="4863" y="0"/>
                      </a:lnTo>
                      <a:lnTo>
                        <a:pt x="4856" y="0"/>
                      </a:lnTo>
                      <a:lnTo>
                        <a:pt x="4847" y="2"/>
                      </a:lnTo>
                      <a:lnTo>
                        <a:pt x="4840" y="4"/>
                      </a:lnTo>
                      <a:lnTo>
                        <a:pt x="4771" y="26"/>
                      </a:lnTo>
                      <a:lnTo>
                        <a:pt x="4703" y="52"/>
                      </a:lnTo>
                      <a:lnTo>
                        <a:pt x="4640" y="81"/>
                      </a:lnTo>
                      <a:lnTo>
                        <a:pt x="4577" y="112"/>
                      </a:lnTo>
                      <a:lnTo>
                        <a:pt x="4516" y="148"/>
                      </a:lnTo>
                      <a:lnTo>
                        <a:pt x="4457" y="187"/>
                      </a:lnTo>
                      <a:lnTo>
                        <a:pt x="4400" y="228"/>
                      </a:lnTo>
                      <a:lnTo>
                        <a:pt x="4343" y="269"/>
                      </a:lnTo>
                      <a:lnTo>
                        <a:pt x="4289" y="314"/>
                      </a:lnTo>
                      <a:lnTo>
                        <a:pt x="4234" y="360"/>
                      </a:lnTo>
                      <a:lnTo>
                        <a:pt x="4181" y="408"/>
                      </a:lnTo>
                      <a:lnTo>
                        <a:pt x="4127" y="457"/>
                      </a:lnTo>
                      <a:lnTo>
                        <a:pt x="4074" y="506"/>
                      </a:lnTo>
                      <a:lnTo>
                        <a:pt x="4021" y="554"/>
                      </a:lnTo>
                      <a:lnTo>
                        <a:pt x="3966" y="603"/>
                      </a:lnTo>
                      <a:lnTo>
                        <a:pt x="3913" y="652"/>
                      </a:lnTo>
                      <a:lnTo>
                        <a:pt x="3888" y="674"/>
                      </a:lnTo>
                      <a:lnTo>
                        <a:pt x="3864" y="696"/>
                      </a:lnTo>
                      <a:lnTo>
                        <a:pt x="3839" y="719"/>
                      </a:lnTo>
                      <a:lnTo>
                        <a:pt x="3815" y="740"/>
                      </a:lnTo>
                      <a:lnTo>
                        <a:pt x="3790" y="762"/>
                      </a:lnTo>
                      <a:lnTo>
                        <a:pt x="3766" y="783"/>
                      </a:lnTo>
                      <a:lnTo>
                        <a:pt x="3740" y="804"/>
                      </a:lnTo>
                      <a:lnTo>
                        <a:pt x="3716" y="824"/>
                      </a:lnTo>
                      <a:lnTo>
                        <a:pt x="3688" y="842"/>
                      </a:lnTo>
                      <a:lnTo>
                        <a:pt x="3662" y="860"/>
                      </a:lnTo>
                      <a:lnTo>
                        <a:pt x="3635" y="876"/>
                      </a:lnTo>
                      <a:lnTo>
                        <a:pt x="3606" y="891"/>
                      </a:lnTo>
                      <a:lnTo>
                        <a:pt x="3577" y="904"/>
                      </a:lnTo>
                      <a:lnTo>
                        <a:pt x="3547" y="914"/>
                      </a:lnTo>
                      <a:lnTo>
                        <a:pt x="3515" y="923"/>
                      </a:lnTo>
                      <a:lnTo>
                        <a:pt x="3484" y="930"/>
                      </a:lnTo>
                      <a:lnTo>
                        <a:pt x="3433" y="927"/>
                      </a:lnTo>
                      <a:lnTo>
                        <a:pt x="3383" y="926"/>
                      </a:lnTo>
                      <a:lnTo>
                        <a:pt x="3332" y="926"/>
                      </a:lnTo>
                      <a:lnTo>
                        <a:pt x="3282" y="927"/>
                      </a:lnTo>
                      <a:lnTo>
                        <a:pt x="3232" y="929"/>
                      </a:lnTo>
                      <a:lnTo>
                        <a:pt x="3181" y="933"/>
                      </a:lnTo>
                      <a:lnTo>
                        <a:pt x="3132" y="936"/>
                      </a:lnTo>
                      <a:lnTo>
                        <a:pt x="3082" y="942"/>
                      </a:lnTo>
                      <a:lnTo>
                        <a:pt x="3033" y="948"/>
                      </a:lnTo>
                      <a:lnTo>
                        <a:pt x="2983" y="955"/>
                      </a:lnTo>
                      <a:lnTo>
                        <a:pt x="2934" y="962"/>
                      </a:lnTo>
                      <a:lnTo>
                        <a:pt x="2885" y="971"/>
                      </a:lnTo>
                      <a:lnTo>
                        <a:pt x="2836" y="979"/>
                      </a:lnTo>
                      <a:lnTo>
                        <a:pt x="2787" y="989"/>
                      </a:lnTo>
                      <a:lnTo>
                        <a:pt x="2738" y="999"/>
                      </a:lnTo>
                      <a:lnTo>
                        <a:pt x="2689" y="1011"/>
                      </a:lnTo>
                      <a:lnTo>
                        <a:pt x="2640" y="1022"/>
                      </a:lnTo>
                      <a:lnTo>
                        <a:pt x="2591" y="1035"/>
                      </a:lnTo>
                      <a:lnTo>
                        <a:pt x="2542" y="1047"/>
                      </a:lnTo>
                      <a:lnTo>
                        <a:pt x="2493" y="1061"/>
                      </a:lnTo>
                      <a:lnTo>
                        <a:pt x="2444" y="1074"/>
                      </a:lnTo>
                      <a:lnTo>
                        <a:pt x="2397" y="1089"/>
                      </a:lnTo>
                      <a:lnTo>
                        <a:pt x="2348" y="1103"/>
                      </a:lnTo>
                      <a:lnTo>
                        <a:pt x="2299" y="1117"/>
                      </a:lnTo>
                      <a:lnTo>
                        <a:pt x="2251" y="1132"/>
                      </a:lnTo>
                      <a:lnTo>
                        <a:pt x="2202" y="1146"/>
                      </a:lnTo>
                      <a:lnTo>
                        <a:pt x="2153" y="1162"/>
                      </a:lnTo>
                      <a:lnTo>
                        <a:pt x="2106" y="1177"/>
                      </a:lnTo>
                      <a:lnTo>
                        <a:pt x="2057" y="1192"/>
                      </a:lnTo>
                      <a:lnTo>
                        <a:pt x="2008" y="1208"/>
                      </a:lnTo>
                      <a:lnTo>
                        <a:pt x="1960" y="1223"/>
                      </a:lnTo>
                      <a:lnTo>
                        <a:pt x="1911" y="1238"/>
                      </a:lnTo>
                      <a:lnTo>
                        <a:pt x="1877" y="1249"/>
                      </a:lnTo>
                      <a:lnTo>
                        <a:pt x="1842" y="1257"/>
                      </a:lnTo>
                      <a:lnTo>
                        <a:pt x="1806" y="1266"/>
                      </a:lnTo>
                      <a:lnTo>
                        <a:pt x="1772" y="1273"/>
                      </a:lnTo>
                      <a:lnTo>
                        <a:pt x="1736" y="1279"/>
                      </a:lnTo>
                      <a:lnTo>
                        <a:pt x="1701" y="1283"/>
                      </a:lnTo>
                      <a:lnTo>
                        <a:pt x="1665" y="1287"/>
                      </a:lnTo>
                      <a:lnTo>
                        <a:pt x="1629" y="1290"/>
                      </a:lnTo>
                      <a:lnTo>
                        <a:pt x="1594" y="1293"/>
                      </a:lnTo>
                      <a:lnTo>
                        <a:pt x="1558" y="1295"/>
                      </a:lnTo>
                      <a:lnTo>
                        <a:pt x="1522" y="1295"/>
                      </a:lnTo>
                      <a:lnTo>
                        <a:pt x="1486" y="1295"/>
                      </a:lnTo>
                      <a:lnTo>
                        <a:pt x="1450" y="1293"/>
                      </a:lnTo>
                      <a:lnTo>
                        <a:pt x="1414" y="1292"/>
                      </a:lnTo>
                      <a:lnTo>
                        <a:pt x="1378" y="1290"/>
                      </a:lnTo>
                      <a:lnTo>
                        <a:pt x="1342" y="1287"/>
                      </a:lnTo>
                      <a:lnTo>
                        <a:pt x="1302" y="1283"/>
                      </a:lnTo>
                      <a:lnTo>
                        <a:pt x="1263" y="1276"/>
                      </a:lnTo>
                      <a:lnTo>
                        <a:pt x="1224" y="1267"/>
                      </a:lnTo>
                      <a:lnTo>
                        <a:pt x="1187" y="1256"/>
                      </a:lnTo>
                      <a:lnTo>
                        <a:pt x="1151" y="1243"/>
                      </a:lnTo>
                      <a:lnTo>
                        <a:pt x="1114" y="1227"/>
                      </a:lnTo>
                      <a:lnTo>
                        <a:pt x="1079" y="1211"/>
                      </a:lnTo>
                      <a:lnTo>
                        <a:pt x="1043" y="1194"/>
                      </a:lnTo>
                      <a:lnTo>
                        <a:pt x="1008" y="1175"/>
                      </a:lnTo>
                      <a:lnTo>
                        <a:pt x="972" y="1155"/>
                      </a:lnTo>
                      <a:lnTo>
                        <a:pt x="938" y="1135"/>
                      </a:lnTo>
                      <a:lnTo>
                        <a:pt x="903" y="1115"/>
                      </a:lnTo>
                      <a:lnTo>
                        <a:pt x="869" y="1093"/>
                      </a:lnTo>
                      <a:lnTo>
                        <a:pt x="834" y="1073"/>
                      </a:lnTo>
                      <a:lnTo>
                        <a:pt x="800" y="1051"/>
                      </a:lnTo>
                      <a:lnTo>
                        <a:pt x="765" y="1031"/>
                      </a:lnTo>
                      <a:lnTo>
                        <a:pt x="715" y="1001"/>
                      </a:lnTo>
                      <a:lnTo>
                        <a:pt x="667" y="969"/>
                      </a:lnTo>
                      <a:lnTo>
                        <a:pt x="621" y="935"/>
                      </a:lnTo>
                      <a:lnTo>
                        <a:pt x="578" y="899"/>
                      </a:lnTo>
                      <a:lnTo>
                        <a:pt x="535" y="861"/>
                      </a:lnTo>
                      <a:lnTo>
                        <a:pt x="493" y="822"/>
                      </a:lnTo>
                      <a:lnTo>
                        <a:pt x="453" y="783"/>
                      </a:lnTo>
                      <a:lnTo>
                        <a:pt x="412" y="743"/>
                      </a:lnTo>
                      <a:lnTo>
                        <a:pt x="373" y="701"/>
                      </a:lnTo>
                      <a:lnTo>
                        <a:pt x="334" y="661"/>
                      </a:lnTo>
                      <a:lnTo>
                        <a:pt x="294" y="619"/>
                      </a:lnTo>
                      <a:lnTo>
                        <a:pt x="255" y="578"/>
                      </a:lnTo>
                      <a:lnTo>
                        <a:pt x="215" y="536"/>
                      </a:lnTo>
                      <a:lnTo>
                        <a:pt x="175" y="495"/>
                      </a:lnTo>
                      <a:lnTo>
                        <a:pt x="133" y="455"/>
                      </a:lnTo>
                      <a:lnTo>
                        <a:pt x="90" y="415"/>
                      </a:lnTo>
                      <a:lnTo>
                        <a:pt x="81" y="408"/>
                      </a:lnTo>
                      <a:lnTo>
                        <a:pt x="71" y="402"/>
                      </a:lnTo>
                      <a:lnTo>
                        <a:pt x="62" y="396"/>
                      </a:lnTo>
                      <a:lnTo>
                        <a:pt x="52" y="390"/>
                      </a:lnTo>
                      <a:lnTo>
                        <a:pt x="41" y="386"/>
                      </a:lnTo>
                      <a:lnTo>
                        <a:pt x="31" y="382"/>
                      </a:lnTo>
                      <a:lnTo>
                        <a:pt x="19" y="379"/>
                      </a:lnTo>
                      <a:lnTo>
                        <a:pt x="9" y="374"/>
                      </a:lnTo>
                      <a:lnTo>
                        <a:pt x="8" y="374"/>
                      </a:lnTo>
                      <a:lnTo>
                        <a:pt x="6" y="374"/>
                      </a:lnTo>
                      <a:lnTo>
                        <a:pt x="3" y="376"/>
                      </a:lnTo>
                      <a:lnTo>
                        <a:pt x="2" y="377"/>
                      </a:lnTo>
                      <a:lnTo>
                        <a:pt x="0" y="380"/>
                      </a:lnTo>
                      <a:lnTo>
                        <a:pt x="2" y="382"/>
                      </a:lnTo>
                      <a:lnTo>
                        <a:pt x="3" y="385"/>
                      </a:lnTo>
                      <a:lnTo>
                        <a:pt x="5" y="386"/>
                      </a:lnTo>
                      <a:lnTo>
                        <a:pt x="5" y="38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6040" y="2951280"/>
                  <a:ext cx="384120" cy="482400"/>
                </a:xfrm>
                <a:custGeom>
                  <a:avLst/>
                  <a:gdLst/>
                  <a:ahLst/>
                  <a:rect l="l" t="t" r="r" b="b"/>
                  <a:pathLst>
                    <a:path w="3119" h="3661">
                      <a:moveTo>
                        <a:pt x="19" y="3502"/>
                      </a:moveTo>
                      <a:lnTo>
                        <a:pt x="82" y="3389"/>
                      </a:lnTo>
                      <a:lnTo>
                        <a:pt x="140" y="3272"/>
                      </a:lnTo>
                      <a:lnTo>
                        <a:pt x="190" y="3154"/>
                      </a:lnTo>
                      <a:lnTo>
                        <a:pt x="235" y="3034"/>
                      </a:lnTo>
                      <a:lnTo>
                        <a:pt x="274" y="2912"/>
                      </a:lnTo>
                      <a:lnTo>
                        <a:pt x="308" y="2788"/>
                      </a:lnTo>
                      <a:lnTo>
                        <a:pt x="337" y="2663"/>
                      </a:lnTo>
                      <a:lnTo>
                        <a:pt x="363" y="2536"/>
                      </a:lnTo>
                      <a:lnTo>
                        <a:pt x="386" y="2409"/>
                      </a:lnTo>
                      <a:lnTo>
                        <a:pt x="406" y="2281"/>
                      </a:lnTo>
                      <a:lnTo>
                        <a:pt x="425" y="2152"/>
                      </a:lnTo>
                      <a:lnTo>
                        <a:pt x="441" y="2022"/>
                      </a:lnTo>
                      <a:lnTo>
                        <a:pt x="457" y="1892"/>
                      </a:lnTo>
                      <a:lnTo>
                        <a:pt x="473" y="1763"/>
                      </a:lnTo>
                      <a:lnTo>
                        <a:pt x="488" y="1633"/>
                      </a:lnTo>
                      <a:lnTo>
                        <a:pt x="504" y="1504"/>
                      </a:lnTo>
                      <a:lnTo>
                        <a:pt x="517" y="1412"/>
                      </a:lnTo>
                      <a:lnTo>
                        <a:pt x="532" y="1319"/>
                      </a:lnTo>
                      <a:lnTo>
                        <a:pt x="547" y="1227"/>
                      </a:lnTo>
                      <a:lnTo>
                        <a:pt x="563" y="1137"/>
                      </a:lnTo>
                      <a:lnTo>
                        <a:pt x="581" y="1047"/>
                      </a:lnTo>
                      <a:lnTo>
                        <a:pt x="599" y="957"/>
                      </a:lnTo>
                      <a:lnTo>
                        <a:pt x="617" y="866"/>
                      </a:lnTo>
                      <a:lnTo>
                        <a:pt x="635" y="777"/>
                      </a:lnTo>
                      <a:lnTo>
                        <a:pt x="653" y="687"/>
                      </a:lnTo>
                      <a:lnTo>
                        <a:pt x="670" y="598"/>
                      </a:lnTo>
                      <a:lnTo>
                        <a:pt x="686" y="507"/>
                      </a:lnTo>
                      <a:lnTo>
                        <a:pt x="702" y="418"/>
                      </a:lnTo>
                      <a:lnTo>
                        <a:pt x="716" y="327"/>
                      </a:lnTo>
                      <a:lnTo>
                        <a:pt x="729" y="237"/>
                      </a:lnTo>
                      <a:lnTo>
                        <a:pt x="740" y="146"/>
                      </a:lnTo>
                      <a:lnTo>
                        <a:pt x="749" y="55"/>
                      </a:lnTo>
                      <a:lnTo>
                        <a:pt x="749" y="52"/>
                      </a:lnTo>
                      <a:lnTo>
                        <a:pt x="750" y="47"/>
                      </a:lnTo>
                      <a:lnTo>
                        <a:pt x="752" y="42"/>
                      </a:lnTo>
                      <a:lnTo>
                        <a:pt x="755" y="39"/>
                      </a:lnTo>
                      <a:lnTo>
                        <a:pt x="759" y="39"/>
                      </a:lnTo>
                      <a:lnTo>
                        <a:pt x="762" y="42"/>
                      </a:lnTo>
                      <a:lnTo>
                        <a:pt x="763" y="44"/>
                      </a:lnTo>
                      <a:lnTo>
                        <a:pt x="763" y="45"/>
                      </a:lnTo>
                      <a:lnTo>
                        <a:pt x="782" y="120"/>
                      </a:lnTo>
                      <a:lnTo>
                        <a:pt x="801" y="195"/>
                      </a:lnTo>
                      <a:lnTo>
                        <a:pt x="822" y="268"/>
                      </a:lnTo>
                      <a:lnTo>
                        <a:pt x="844" y="342"/>
                      </a:lnTo>
                      <a:lnTo>
                        <a:pt x="867" y="414"/>
                      </a:lnTo>
                      <a:lnTo>
                        <a:pt x="893" y="486"/>
                      </a:lnTo>
                      <a:lnTo>
                        <a:pt x="919" y="558"/>
                      </a:lnTo>
                      <a:lnTo>
                        <a:pt x="948" y="628"/>
                      </a:lnTo>
                      <a:lnTo>
                        <a:pt x="977" y="700"/>
                      </a:lnTo>
                      <a:lnTo>
                        <a:pt x="1008" y="769"/>
                      </a:lnTo>
                      <a:lnTo>
                        <a:pt x="1040" y="840"/>
                      </a:lnTo>
                      <a:lnTo>
                        <a:pt x="1074" y="909"/>
                      </a:lnTo>
                      <a:lnTo>
                        <a:pt x="1110" y="978"/>
                      </a:lnTo>
                      <a:lnTo>
                        <a:pt x="1148" y="1046"/>
                      </a:lnTo>
                      <a:lnTo>
                        <a:pt x="1187" y="1115"/>
                      </a:lnTo>
                      <a:lnTo>
                        <a:pt x="1227" y="1183"/>
                      </a:lnTo>
                      <a:lnTo>
                        <a:pt x="1257" y="1232"/>
                      </a:lnTo>
                      <a:lnTo>
                        <a:pt x="1289" y="1278"/>
                      </a:lnTo>
                      <a:lnTo>
                        <a:pt x="1322" y="1322"/>
                      </a:lnTo>
                      <a:lnTo>
                        <a:pt x="1355" y="1365"/>
                      </a:lnTo>
                      <a:lnTo>
                        <a:pt x="1390" y="1409"/>
                      </a:lnTo>
                      <a:lnTo>
                        <a:pt x="1426" y="1450"/>
                      </a:lnTo>
                      <a:lnTo>
                        <a:pt x="1462" y="1491"/>
                      </a:lnTo>
                      <a:lnTo>
                        <a:pt x="1498" y="1531"/>
                      </a:lnTo>
                      <a:lnTo>
                        <a:pt x="1535" y="1571"/>
                      </a:lnTo>
                      <a:lnTo>
                        <a:pt x="1573" y="1610"/>
                      </a:lnTo>
                      <a:lnTo>
                        <a:pt x="1610" y="1651"/>
                      </a:lnTo>
                      <a:lnTo>
                        <a:pt x="1649" y="1689"/>
                      </a:lnTo>
                      <a:lnTo>
                        <a:pt x="1686" y="1730"/>
                      </a:lnTo>
                      <a:lnTo>
                        <a:pt x="1725" y="1770"/>
                      </a:lnTo>
                      <a:lnTo>
                        <a:pt x="1763" y="1810"/>
                      </a:lnTo>
                      <a:lnTo>
                        <a:pt x="1800" y="1852"/>
                      </a:lnTo>
                      <a:lnTo>
                        <a:pt x="1836" y="1894"/>
                      </a:lnTo>
                      <a:lnTo>
                        <a:pt x="1874" y="1934"/>
                      </a:lnTo>
                      <a:lnTo>
                        <a:pt x="1910" y="1975"/>
                      </a:lnTo>
                      <a:lnTo>
                        <a:pt x="1946" y="2016"/>
                      </a:lnTo>
                      <a:lnTo>
                        <a:pt x="1982" y="2057"/>
                      </a:lnTo>
                      <a:lnTo>
                        <a:pt x="2016" y="2097"/>
                      </a:lnTo>
                      <a:lnTo>
                        <a:pt x="2052" y="2137"/>
                      </a:lnTo>
                      <a:lnTo>
                        <a:pt x="2088" y="2178"/>
                      </a:lnTo>
                      <a:lnTo>
                        <a:pt x="2123" y="2218"/>
                      </a:lnTo>
                      <a:lnTo>
                        <a:pt x="2159" y="2257"/>
                      </a:lnTo>
                      <a:lnTo>
                        <a:pt x="2193" y="2297"/>
                      </a:lnTo>
                      <a:lnTo>
                        <a:pt x="2228" y="2337"/>
                      </a:lnTo>
                      <a:lnTo>
                        <a:pt x="2264" y="2378"/>
                      </a:lnTo>
                      <a:lnTo>
                        <a:pt x="2298" y="2418"/>
                      </a:lnTo>
                      <a:lnTo>
                        <a:pt x="2333" y="2457"/>
                      </a:lnTo>
                      <a:lnTo>
                        <a:pt x="2368" y="2497"/>
                      </a:lnTo>
                      <a:lnTo>
                        <a:pt x="2404" y="2538"/>
                      </a:lnTo>
                      <a:lnTo>
                        <a:pt x="2438" y="2578"/>
                      </a:lnTo>
                      <a:lnTo>
                        <a:pt x="2473" y="2618"/>
                      </a:lnTo>
                      <a:lnTo>
                        <a:pt x="2507" y="2657"/>
                      </a:lnTo>
                      <a:lnTo>
                        <a:pt x="2542" y="2697"/>
                      </a:lnTo>
                      <a:lnTo>
                        <a:pt x="2578" y="2738"/>
                      </a:lnTo>
                      <a:lnTo>
                        <a:pt x="2612" y="2778"/>
                      </a:lnTo>
                      <a:lnTo>
                        <a:pt x="2647" y="2818"/>
                      </a:lnTo>
                      <a:lnTo>
                        <a:pt x="2683" y="2860"/>
                      </a:lnTo>
                      <a:lnTo>
                        <a:pt x="2717" y="2900"/>
                      </a:lnTo>
                      <a:lnTo>
                        <a:pt x="2752" y="2941"/>
                      </a:lnTo>
                      <a:lnTo>
                        <a:pt x="2788" y="2983"/>
                      </a:lnTo>
                      <a:lnTo>
                        <a:pt x="2824" y="3023"/>
                      </a:lnTo>
                      <a:lnTo>
                        <a:pt x="2859" y="3065"/>
                      </a:lnTo>
                      <a:lnTo>
                        <a:pt x="2895" y="3106"/>
                      </a:lnTo>
                      <a:lnTo>
                        <a:pt x="2931" y="3148"/>
                      </a:lnTo>
                      <a:lnTo>
                        <a:pt x="2941" y="3160"/>
                      </a:lnTo>
                      <a:lnTo>
                        <a:pt x="2952" y="3173"/>
                      </a:lnTo>
                      <a:lnTo>
                        <a:pt x="2964" y="3184"/>
                      </a:lnTo>
                      <a:lnTo>
                        <a:pt x="2974" y="3196"/>
                      </a:lnTo>
                      <a:lnTo>
                        <a:pt x="2982" y="3206"/>
                      </a:lnTo>
                      <a:lnTo>
                        <a:pt x="2990" y="3216"/>
                      </a:lnTo>
                      <a:lnTo>
                        <a:pt x="2994" y="3223"/>
                      </a:lnTo>
                      <a:lnTo>
                        <a:pt x="2995" y="3230"/>
                      </a:lnTo>
                      <a:lnTo>
                        <a:pt x="2991" y="3243"/>
                      </a:lnTo>
                      <a:lnTo>
                        <a:pt x="2977" y="3256"/>
                      </a:lnTo>
                      <a:lnTo>
                        <a:pt x="2957" y="3269"/>
                      </a:lnTo>
                      <a:lnTo>
                        <a:pt x="2929" y="3282"/>
                      </a:lnTo>
                      <a:lnTo>
                        <a:pt x="2895" y="3296"/>
                      </a:lnTo>
                      <a:lnTo>
                        <a:pt x="2856" y="3309"/>
                      </a:lnTo>
                      <a:lnTo>
                        <a:pt x="2814" y="3322"/>
                      </a:lnTo>
                      <a:lnTo>
                        <a:pt x="2768" y="3335"/>
                      </a:lnTo>
                      <a:lnTo>
                        <a:pt x="2719" y="3348"/>
                      </a:lnTo>
                      <a:lnTo>
                        <a:pt x="2669" y="3360"/>
                      </a:lnTo>
                      <a:lnTo>
                        <a:pt x="2617" y="3371"/>
                      </a:lnTo>
                      <a:lnTo>
                        <a:pt x="2566" y="3381"/>
                      </a:lnTo>
                      <a:lnTo>
                        <a:pt x="2516" y="3391"/>
                      </a:lnTo>
                      <a:lnTo>
                        <a:pt x="2467" y="3400"/>
                      </a:lnTo>
                      <a:lnTo>
                        <a:pt x="2421" y="3407"/>
                      </a:lnTo>
                      <a:lnTo>
                        <a:pt x="2379" y="3414"/>
                      </a:lnTo>
                      <a:lnTo>
                        <a:pt x="2339" y="3420"/>
                      </a:lnTo>
                      <a:lnTo>
                        <a:pt x="2298" y="3426"/>
                      </a:lnTo>
                      <a:lnTo>
                        <a:pt x="2258" y="3432"/>
                      </a:lnTo>
                      <a:lnTo>
                        <a:pt x="2219" y="3438"/>
                      </a:lnTo>
                      <a:lnTo>
                        <a:pt x="2179" y="3442"/>
                      </a:lnTo>
                      <a:lnTo>
                        <a:pt x="2139" y="3448"/>
                      </a:lnTo>
                      <a:lnTo>
                        <a:pt x="2100" y="3452"/>
                      </a:lnTo>
                      <a:lnTo>
                        <a:pt x="2059" y="3456"/>
                      </a:lnTo>
                      <a:lnTo>
                        <a:pt x="2021" y="3461"/>
                      </a:lnTo>
                      <a:lnTo>
                        <a:pt x="1980" y="3465"/>
                      </a:lnTo>
                      <a:lnTo>
                        <a:pt x="1941" y="3469"/>
                      </a:lnTo>
                      <a:lnTo>
                        <a:pt x="1901" y="3472"/>
                      </a:lnTo>
                      <a:lnTo>
                        <a:pt x="1862" y="3476"/>
                      </a:lnTo>
                      <a:lnTo>
                        <a:pt x="1823" y="3481"/>
                      </a:lnTo>
                      <a:lnTo>
                        <a:pt x="1783" y="3484"/>
                      </a:lnTo>
                      <a:lnTo>
                        <a:pt x="1744" y="3486"/>
                      </a:lnTo>
                      <a:lnTo>
                        <a:pt x="1705" y="3489"/>
                      </a:lnTo>
                      <a:lnTo>
                        <a:pt x="1665" y="3494"/>
                      </a:lnTo>
                      <a:lnTo>
                        <a:pt x="1626" y="3497"/>
                      </a:lnTo>
                      <a:lnTo>
                        <a:pt x="1587" y="3499"/>
                      </a:lnTo>
                      <a:lnTo>
                        <a:pt x="1547" y="3501"/>
                      </a:lnTo>
                      <a:lnTo>
                        <a:pt x="1508" y="3504"/>
                      </a:lnTo>
                      <a:lnTo>
                        <a:pt x="1468" y="3507"/>
                      </a:lnTo>
                      <a:lnTo>
                        <a:pt x="1429" y="3510"/>
                      </a:lnTo>
                      <a:lnTo>
                        <a:pt x="1390" y="3511"/>
                      </a:lnTo>
                      <a:lnTo>
                        <a:pt x="1350" y="3514"/>
                      </a:lnTo>
                      <a:lnTo>
                        <a:pt x="1311" y="3517"/>
                      </a:lnTo>
                      <a:lnTo>
                        <a:pt x="1270" y="3518"/>
                      </a:lnTo>
                      <a:lnTo>
                        <a:pt x="1231" y="3521"/>
                      </a:lnTo>
                      <a:lnTo>
                        <a:pt x="1191" y="3522"/>
                      </a:lnTo>
                      <a:lnTo>
                        <a:pt x="1152" y="3525"/>
                      </a:lnTo>
                      <a:lnTo>
                        <a:pt x="1112" y="3527"/>
                      </a:lnTo>
                      <a:lnTo>
                        <a:pt x="1100" y="3527"/>
                      </a:lnTo>
                      <a:lnTo>
                        <a:pt x="1089" y="3531"/>
                      </a:lnTo>
                      <a:lnTo>
                        <a:pt x="1077" y="3535"/>
                      </a:lnTo>
                      <a:lnTo>
                        <a:pt x="1069" y="3543"/>
                      </a:lnTo>
                      <a:lnTo>
                        <a:pt x="1060" y="3551"/>
                      </a:lnTo>
                      <a:lnTo>
                        <a:pt x="1054" y="3561"/>
                      </a:lnTo>
                      <a:lnTo>
                        <a:pt x="1050" y="3573"/>
                      </a:lnTo>
                      <a:lnTo>
                        <a:pt x="1049" y="3584"/>
                      </a:lnTo>
                      <a:lnTo>
                        <a:pt x="1049" y="3596"/>
                      </a:lnTo>
                      <a:lnTo>
                        <a:pt x="1053" y="3607"/>
                      </a:lnTo>
                      <a:lnTo>
                        <a:pt x="1057" y="3619"/>
                      </a:lnTo>
                      <a:lnTo>
                        <a:pt x="1064" y="3628"/>
                      </a:lnTo>
                      <a:lnTo>
                        <a:pt x="1073" y="3636"/>
                      </a:lnTo>
                      <a:lnTo>
                        <a:pt x="1083" y="3642"/>
                      </a:lnTo>
                      <a:lnTo>
                        <a:pt x="1095" y="3646"/>
                      </a:lnTo>
                      <a:lnTo>
                        <a:pt x="1106" y="3648"/>
                      </a:lnTo>
                      <a:lnTo>
                        <a:pt x="1146" y="3652"/>
                      </a:lnTo>
                      <a:lnTo>
                        <a:pt x="1188" y="3655"/>
                      </a:lnTo>
                      <a:lnTo>
                        <a:pt x="1229" y="3658"/>
                      </a:lnTo>
                      <a:lnTo>
                        <a:pt x="1269" y="3659"/>
                      </a:lnTo>
                      <a:lnTo>
                        <a:pt x="1309" y="3661"/>
                      </a:lnTo>
                      <a:lnTo>
                        <a:pt x="1350" y="3661"/>
                      </a:lnTo>
                      <a:lnTo>
                        <a:pt x="1390" y="3661"/>
                      </a:lnTo>
                      <a:lnTo>
                        <a:pt x="1432" y="3661"/>
                      </a:lnTo>
                      <a:lnTo>
                        <a:pt x="1472" y="3659"/>
                      </a:lnTo>
                      <a:lnTo>
                        <a:pt x="1512" y="3658"/>
                      </a:lnTo>
                      <a:lnTo>
                        <a:pt x="1553" y="3655"/>
                      </a:lnTo>
                      <a:lnTo>
                        <a:pt x="1593" y="3654"/>
                      </a:lnTo>
                      <a:lnTo>
                        <a:pt x="1633" y="3649"/>
                      </a:lnTo>
                      <a:lnTo>
                        <a:pt x="1674" y="3646"/>
                      </a:lnTo>
                      <a:lnTo>
                        <a:pt x="1714" y="3642"/>
                      </a:lnTo>
                      <a:lnTo>
                        <a:pt x="1754" y="3638"/>
                      </a:lnTo>
                      <a:lnTo>
                        <a:pt x="1794" y="3633"/>
                      </a:lnTo>
                      <a:lnTo>
                        <a:pt x="1836" y="3629"/>
                      </a:lnTo>
                      <a:lnTo>
                        <a:pt x="1877" y="3623"/>
                      </a:lnTo>
                      <a:lnTo>
                        <a:pt x="1917" y="3618"/>
                      </a:lnTo>
                      <a:lnTo>
                        <a:pt x="1957" y="3612"/>
                      </a:lnTo>
                      <a:lnTo>
                        <a:pt x="1998" y="3606"/>
                      </a:lnTo>
                      <a:lnTo>
                        <a:pt x="2038" y="3600"/>
                      </a:lnTo>
                      <a:lnTo>
                        <a:pt x="2080" y="3594"/>
                      </a:lnTo>
                      <a:lnTo>
                        <a:pt x="2120" y="3589"/>
                      </a:lnTo>
                      <a:lnTo>
                        <a:pt x="2160" y="3582"/>
                      </a:lnTo>
                      <a:lnTo>
                        <a:pt x="2202" y="3576"/>
                      </a:lnTo>
                      <a:lnTo>
                        <a:pt x="2242" y="3569"/>
                      </a:lnTo>
                      <a:lnTo>
                        <a:pt x="2283" y="3563"/>
                      </a:lnTo>
                      <a:lnTo>
                        <a:pt x="2324" y="3557"/>
                      </a:lnTo>
                      <a:lnTo>
                        <a:pt x="2365" y="3550"/>
                      </a:lnTo>
                      <a:lnTo>
                        <a:pt x="2406" y="3544"/>
                      </a:lnTo>
                      <a:lnTo>
                        <a:pt x="2448" y="3538"/>
                      </a:lnTo>
                      <a:lnTo>
                        <a:pt x="2490" y="3531"/>
                      </a:lnTo>
                      <a:lnTo>
                        <a:pt x="2530" y="3522"/>
                      </a:lnTo>
                      <a:lnTo>
                        <a:pt x="2572" y="3515"/>
                      </a:lnTo>
                      <a:lnTo>
                        <a:pt x="2612" y="3507"/>
                      </a:lnTo>
                      <a:lnTo>
                        <a:pt x="2653" y="3497"/>
                      </a:lnTo>
                      <a:lnTo>
                        <a:pt x="2693" y="3486"/>
                      </a:lnTo>
                      <a:lnTo>
                        <a:pt x="2733" y="3475"/>
                      </a:lnTo>
                      <a:lnTo>
                        <a:pt x="2774" y="3463"/>
                      </a:lnTo>
                      <a:lnTo>
                        <a:pt x="2813" y="3450"/>
                      </a:lnTo>
                      <a:lnTo>
                        <a:pt x="2851" y="3438"/>
                      </a:lnTo>
                      <a:lnTo>
                        <a:pt x="2890" y="3422"/>
                      </a:lnTo>
                      <a:lnTo>
                        <a:pt x="2929" y="3406"/>
                      </a:lnTo>
                      <a:lnTo>
                        <a:pt x="2967" y="3390"/>
                      </a:lnTo>
                      <a:lnTo>
                        <a:pt x="3004" y="3371"/>
                      </a:lnTo>
                      <a:lnTo>
                        <a:pt x="3041" y="3353"/>
                      </a:lnTo>
                      <a:lnTo>
                        <a:pt x="3044" y="3351"/>
                      </a:lnTo>
                      <a:lnTo>
                        <a:pt x="3053" y="3345"/>
                      </a:lnTo>
                      <a:lnTo>
                        <a:pt x="3066" y="3335"/>
                      </a:lnTo>
                      <a:lnTo>
                        <a:pt x="3080" y="3322"/>
                      </a:lnTo>
                      <a:lnTo>
                        <a:pt x="3093" y="3305"/>
                      </a:lnTo>
                      <a:lnTo>
                        <a:pt x="3106" y="3286"/>
                      </a:lnTo>
                      <a:lnTo>
                        <a:pt x="3115" y="3263"/>
                      </a:lnTo>
                      <a:lnTo>
                        <a:pt x="3119" y="3237"/>
                      </a:lnTo>
                      <a:lnTo>
                        <a:pt x="3118" y="3220"/>
                      </a:lnTo>
                      <a:lnTo>
                        <a:pt x="3113" y="3199"/>
                      </a:lnTo>
                      <a:lnTo>
                        <a:pt x="3106" y="3175"/>
                      </a:lnTo>
                      <a:lnTo>
                        <a:pt x="3096" y="3151"/>
                      </a:lnTo>
                      <a:lnTo>
                        <a:pt x="3086" y="3127"/>
                      </a:lnTo>
                      <a:lnTo>
                        <a:pt x="3073" y="3103"/>
                      </a:lnTo>
                      <a:lnTo>
                        <a:pt x="3062" y="3082"/>
                      </a:lnTo>
                      <a:lnTo>
                        <a:pt x="3049" y="3063"/>
                      </a:lnTo>
                      <a:lnTo>
                        <a:pt x="3020" y="3026"/>
                      </a:lnTo>
                      <a:lnTo>
                        <a:pt x="2990" y="2990"/>
                      </a:lnTo>
                      <a:lnTo>
                        <a:pt x="2961" y="2952"/>
                      </a:lnTo>
                      <a:lnTo>
                        <a:pt x="2931" y="2918"/>
                      </a:lnTo>
                      <a:lnTo>
                        <a:pt x="2902" y="2882"/>
                      </a:lnTo>
                      <a:lnTo>
                        <a:pt x="2872" y="2846"/>
                      </a:lnTo>
                      <a:lnTo>
                        <a:pt x="2843" y="2811"/>
                      </a:lnTo>
                      <a:lnTo>
                        <a:pt x="2813" y="2777"/>
                      </a:lnTo>
                      <a:lnTo>
                        <a:pt x="2782" y="2742"/>
                      </a:lnTo>
                      <a:lnTo>
                        <a:pt x="2752" y="2707"/>
                      </a:lnTo>
                      <a:lnTo>
                        <a:pt x="2723" y="2674"/>
                      </a:lnTo>
                      <a:lnTo>
                        <a:pt x="2693" y="2640"/>
                      </a:lnTo>
                      <a:lnTo>
                        <a:pt x="2663" y="2607"/>
                      </a:lnTo>
                      <a:lnTo>
                        <a:pt x="2633" y="2574"/>
                      </a:lnTo>
                      <a:lnTo>
                        <a:pt x="2602" y="2540"/>
                      </a:lnTo>
                      <a:lnTo>
                        <a:pt x="2572" y="2506"/>
                      </a:lnTo>
                      <a:lnTo>
                        <a:pt x="2542" y="2473"/>
                      </a:lnTo>
                      <a:lnTo>
                        <a:pt x="2512" y="2440"/>
                      </a:lnTo>
                      <a:lnTo>
                        <a:pt x="2480" y="2407"/>
                      </a:lnTo>
                      <a:lnTo>
                        <a:pt x="2450" y="2373"/>
                      </a:lnTo>
                      <a:lnTo>
                        <a:pt x="2419" y="2340"/>
                      </a:lnTo>
                      <a:lnTo>
                        <a:pt x="2389" y="2307"/>
                      </a:lnTo>
                      <a:lnTo>
                        <a:pt x="2359" y="2274"/>
                      </a:lnTo>
                      <a:lnTo>
                        <a:pt x="2329" y="2240"/>
                      </a:lnTo>
                      <a:lnTo>
                        <a:pt x="2297" y="2206"/>
                      </a:lnTo>
                      <a:lnTo>
                        <a:pt x="2267" y="2172"/>
                      </a:lnTo>
                      <a:lnTo>
                        <a:pt x="2237" y="2137"/>
                      </a:lnTo>
                      <a:lnTo>
                        <a:pt x="2206" y="2104"/>
                      </a:lnTo>
                      <a:lnTo>
                        <a:pt x="2176" y="2068"/>
                      </a:lnTo>
                      <a:lnTo>
                        <a:pt x="2144" y="2034"/>
                      </a:lnTo>
                      <a:lnTo>
                        <a:pt x="2114" y="1999"/>
                      </a:lnTo>
                      <a:lnTo>
                        <a:pt x="2084" y="1963"/>
                      </a:lnTo>
                      <a:lnTo>
                        <a:pt x="2036" y="1908"/>
                      </a:lnTo>
                      <a:lnTo>
                        <a:pt x="1987" y="1855"/>
                      </a:lnTo>
                      <a:lnTo>
                        <a:pt x="1938" y="1805"/>
                      </a:lnTo>
                      <a:lnTo>
                        <a:pt x="1890" y="1754"/>
                      </a:lnTo>
                      <a:lnTo>
                        <a:pt x="1839" y="1704"/>
                      </a:lnTo>
                      <a:lnTo>
                        <a:pt x="1790" y="1655"/>
                      </a:lnTo>
                      <a:lnTo>
                        <a:pt x="1740" y="1606"/>
                      </a:lnTo>
                      <a:lnTo>
                        <a:pt x="1691" y="1557"/>
                      </a:lnTo>
                      <a:lnTo>
                        <a:pt x="1642" y="1508"/>
                      </a:lnTo>
                      <a:lnTo>
                        <a:pt x="1593" y="1459"/>
                      </a:lnTo>
                      <a:lnTo>
                        <a:pt x="1544" y="1407"/>
                      </a:lnTo>
                      <a:lnTo>
                        <a:pt x="1498" y="1355"/>
                      </a:lnTo>
                      <a:lnTo>
                        <a:pt x="1452" y="1301"/>
                      </a:lnTo>
                      <a:lnTo>
                        <a:pt x="1407" y="1246"/>
                      </a:lnTo>
                      <a:lnTo>
                        <a:pt x="1362" y="1187"/>
                      </a:lnTo>
                      <a:lnTo>
                        <a:pt x="1321" y="1126"/>
                      </a:lnTo>
                      <a:lnTo>
                        <a:pt x="1279" y="1062"/>
                      </a:lnTo>
                      <a:lnTo>
                        <a:pt x="1239" y="997"/>
                      </a:lnTo>
                      <a:lnTo>
                        <a:pt x="1198" y="934"/>
                      </a:lnTo>
                      <a:lnTo>
                        <a:pt x="1161" y="869"/>
                      </a:lnTo>
                      <a:lnTo>
                        <a:pt x="1125" y="804"/>
                      </a:lnTo>
                      <a:lnTo>
                        <a:pt x="1089" y="739"/>
                      </a:lnTo>
                      <a:lnTo>
                        <a:pt x="1056" y="673"/>
                      </a:lnTo>
                      <a:lnTo>
                        <a:pt x="1024" y="608"/>
                      </a:lnTo>
                      <a:lnTo>
                        <a:pt x="992" y="542"/>
                      </a:lnTo>
                      <a:lnTo>
                        <a:pt x="964" y="476"/>
                      </a:lnTo>
                      <a:lnTo>
                        <a:pt x="935" y="408"/>
                      </a:lnTo>
                      <a:lnTo>
                        <a:pt x="909" y="340"/>
                      </a:lnTo>
                      <a:lnTo>
                        <a:pt x="884" y="271"/>
                      </a:lnTo>
                      <a:lnTo>
                        <a:pt x="860" y="202"/>
                      </a:lnTo>
                      <a:lnTo>
                        <a:pt x="838" y="131"/>
                      </a:lnTo>
                      <a:lnTo>
                        <a:pt x="818" y="61"/>
                      </a:lnTo>
                      <a:lnTo>
                        <a:pt x="817" y="54"/>
                      </a:lnTo>
                      <a:lnTo>
                        <a:pt x="810" y="38"/>
                      </a:lnTo>
                      <a:lnTo>
                        <a:pt x="799" y="21"/>
                      </a:lnTo>
                      <a:lnTo>
                        <a:pt x="786" y="8"/>
                      </a:lnTo>
                      <a:lnTo>
                        <a:pt x="781" y="6"/>
                      </a:lnTo>
                      <a:lnTo>
                        <a:pt x="774" y="5"/>
                      </a:lnTo>
                      <a:lnTo>
                        <a:pt x="768" y="3"/>
                      </a:lnTo>
                      <a:lnTo>
                        <a:pt x="762" y="2"/>
                      </a:lnTo>
                      <a:lnTo>
                        <a:pt x="756" y="2"/>
                      </a:lnTo>
                      <a:lnTo>
                        <a:pt x="750" y="0"/>
                      </a:lnTo>
                      <a:lnTo>
                        <a:pt x="745" y="2"/>
                      </a:lnTo>
                      <a:lnTo>
                        <a:pt x="740" y="2"/>
                      </a:lnTo>
                      <a:lnTo>
                        <a:pt x="726" y="6"/>
                      </a:lnTo>
                      <a:lnTo>
                        <a:pt x="716" y="12"/>
                      </a:lnTo>
                      <a:lnTo>
                        <a:pt x="710" y="21"/>
                      </a:lnTo>
                      <a:lnTo>
                        <a:pt x="706" y="31"/>
                      </a:lnTo>
                      <a:lnTo>
                        <a:pt x="677" y="156"/>
                      </a:lnTo>
                      <a:lnTo>
                        <a:pt x="650" y="280"/>
                      </a:lnTo>
                      <a:lnTo>
                        <a:pt x="624" y="402"/>
                      </a:lnTo>
                      <a:lnTo>
                        <a:pt x="596" y="523"/>
                      </a:lnTo>
                      <a:lnTo>
                        <a:pt x="570" y="644"/>
                      </a:lnTo>
                      <a:lnTo>
                        <a:pt x="543" y="766"/>
                      </a:lnTo>
                      <a:lnTo>
                        <a:pt x="516" y="890"/>
                      </a:lnTo>
                      <a:lnTo>
                        <a:pt x="488" y="1017"/>
                      </a:lnTo>
                      <a:lnTo>
                        <a:pt x="475" y="1077"/>
                      </a:lnTo>
                      <a:lnTo>
                        <a:pt x="464" y="1138"/>
                      </a:lnTo>
                      <a:lnTo>
                        <a:pt x="454" y="1197"/>
                      </a:lnTo>
                      <a:lnTo>
                        <a:pt x="444" y="1255"/>
                      </a:lnTo>
                      <a:lnTo>
                        <a:pt x="434" y="1314"/>
                      </a:lnTo>
                      <a:lnTo>
                        <a:pt x="425" y="1371"/>
                      </a:lnTo>
                      <a:lnTo>
                        <a:pt x="416" y="1430"/>
                      </a:lnTo>
                      <a:lnTo>
                        <a:pt x="408" y="1491"/>
                      </a:lnTo>
                      <a:lnTo>
                        <a:pt x="390" y="1619"/>
                      </a:lnTo>
                      <a:lnTo>
                        <a:pt x="376" y="1749"/>
                      </a:lnTo>
                      <a:lnTo>
                        <a:pt x="360" y="1877"/>
                      </a:lnTo>
                      <a:lnTo>
                        <a:pt x="346" y="2005"/>
                      </a:lnTo>
                      <a:lnTo>
                        <a:pt x="330" y="2133"/>
                      </a:lnTo>
                      <a:lnTo>
                        <a:pt x="314" y="2261"/>
                      </a:lnTo>
                      <a:lnTo>
                        <a:pt x="298" y="2388"/>
                      </a:lnTo>
                      <a:lnTo>
                        <a:pt x="278" y="2515"/>
                      </a:lnTo>
                      <a:lnTo>
                        <a:pt x="258" y="2640"/>
                      </a:lnTo>
                      <a:lnTo>
                        <a:pt x="234" y="2765"/>
                      </a:lnTo>
                      <a:lnTo>
                        <a:pt x="206" y="2889"/>
                      </a:lnTo>
                      <a:lnTo>
                        <a:pt x="175" y="3013"/>
                      </a:lnTo>
                      <a:lnTo>
                        <a:pt x="139" y="3134"/>
                      </a:lnTo>
                      <a:lnTo>
                        <a:pt x="98" y="3255"/>
                      </a:lnTo>
                      <a:lnTo>
                        <a:pt x="54" y="3374"/>
                      </a:lnTo>
                      <a:lnTo>
                        <a:pt x="2" y="3492"/>
                      </a:lnTo>
                      <a:lnTo>
                        <a:pt x="2" y="3492"/>
                      </a:lnTo>
                      <a:lnTo>
                        <a:pt x="0" y="3495"/>
                      </a:lnTo>
                      <a:lnTo>
                        <a:pt x="0" y="3499"/>
                      </a:lnTo>
                      <a:lnTo>
                        <a:pt x="2" y="3502"/>
                      </a:lnTo>
                      <a:lnTo>
                        <a:pt x="5" y="3505"/>
                      </a:lnTo>
                      <a:lnTo>
                        <a:pt x="9" y="3507"/>
                      </a:lnTo>
                      <a:lnTo>
                        <a:pt x="13" y="3507"/>
                      </a:lnTo>
                      <a:lnTo>
                        <a:pt x="16" y="3505"/>
                      </a:lnTo>
                      <a:lnTo>
                        <a:pt x="19" y="3502"/>
                      </a:lnTo>
                      <a:lnTo>
                        <a:pt x="19" y="3502"/>
                      </a:lnTo>
                      <a:close/>
                    </a:path>
                  </a:pathLst>
                </a:custGeom>
                <a:solidFill>
                  <a:srgbClr val="339933"/>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84240" y="3409920"/>
                  <a:ext cx="87480" cy="125640"/>
                </a:xfrm>
                <a:custGeom>
                  <a:avLst/>
                  <a:gdLst/>
                  <a:ahLst/>
                  <a:rect l="l" t="t" r="r" b="b"/>
                  <a:pathLst>
                    <a:path w="709" h="945">
                      <a:moveTo>
                        <a:pt x="380" y="940"/>
                      </a:moveTo>
                      <a:lnTo>
                        <a:pt x="402" y="886"/>
                      </a:lnTo>
                      <a:lnTo>
                        <a:pt x="426" y="828"/>
                      </a:lnTo>
                      <a:lnTo>
                        <a:pt x="451" y="765"/>
                      </a:lnTo>
                      <a:lnTo>
                        <a:pt x="475" y="700"/>
                      </a:lnTo>
                      <a:lnTo>
                        <a:pt x="501" y="634"/>
                      </a:lnTo>
                      <a:lnTo>
                        <a:pt x="527" y="567"/>
                      </a:lnTo>
                      <a:lnTo>
                        <a:pt x="553" y="501"/>
                      </a:lnTo>
                      <a:lnTo>
                        <a:pt x="578" y="438"/>
                      </a:lnTo>
                      <a:lnTo>
                        <a:pt x="602" y="376"/>
                      </a:lnTo>
                      <a:lnTo>
                        <a:pt x="624" y="318"/>
                      </a:lnTo>
                      <a:lnTo>
                        <a:pt x="644" y="265"/>
                      </a:lnTo>
                      <a:lnTo>
                        <a:pt x="661" y="218"/>
                      </a:lnTo>
                      <a:lnTo>
                        <a:pt x="677" y="177"/>
                      </a:lnTo>
                      <a:lnTo>
                        <a:pt x="688" y="146"/>
                      </a:lnTo>
                      <a:lnTo>
                        <a:pt x="699" y="121"/>
                      </a:lnTo>
                      <a:lnTo>
                        <a:pt x="703" y="108"/>
                      </a:lnTo>
                      <a:lnTo>
                        <a:pt x="707" y="92"/>
                      </a:lnTo>
                      <a:lnTo>
                        <a:pt x="709" y="78"/>
                      </a:lnTo>
                      <a:lnTo>
                        <a:pt x="707" y="66"/>
                      </a:lnTo>
                      <a:lnTo>
                        <a:pt x="703" y="55"/>
                      </a:lnTo>
                      <a:lnTo>
                        <a:pt x="696" y="45"/>
                      </a:lnTo>
                      <a:lnTo>
                        <a:pt x="684" y="38"/>
                      </a:lnTo>
                      <a:lnTo>
                        <a:pt x="670" y="32"/>
                      </a:lnTo>
                      <a:lnTo>
                        <a:pt x="651" y="28"/>
                      </a:lnTo>
                      <a:lnTo>
                        <a:pt x="637" y="26"/>
                      </a:lnTo>
                      <a:lnTo>
                        <a:pt x="615" y="23"/>
                      </a:lnTo>
                      <a:lnTo>
                        <a:pt x="586" y="20"/>
                      </a:lnTo>
                      <a:lnTo>
                        <a:pt x="550" y="16"/>
                      </a:lnTo>
                      <a:lnTo>
                        <a:pt x="511" y="13"/>
                      </a:lnTo>
                      <a:lnTo>
                        <a:pt x="467" y="10"/>
                      </a:lnTo>
                      <a:lnTo>
                        <a:pt x="421" y="6"/>
                      </a:lnTo>
                      <a:lnTo>
                        <a:pt x="372" y="4"/>
                      </a:lnTo>
                      <a:lnTo>
                        <a:pt x="321" y="2"/>
                      </a:lnTo>
                      <a:lnTo>
                        <a:pt x="272" y="0"/>
                      </a:lnTo>
                      <a:lnTo>
                        <a:pt x="223" y="0"/>
                      </a:lnTo>
                      <a:lnTo>
                        <a:pt x="176" y="2"/>
                      </a:lnTo>
                      <a:lnTo>
                        <a:pt x="133" y="3"/>
                      </a:lnTo>
                      <a:lnTo>
                        <a:pt x="92" y="7"/>
                      </a:lnTo>
                      <a:lnTo>
                        <a:pt x="58" y="13"/>
                      </a:lnTo>
                      <a:lnTo>
                        <a:pt x="29" y="20"/>
                      </a:lnTo>
                      <a:lnTo>
                        <a:pt x="15" y="29"/>
                      </a:lnTo>
                      <a:lnTo>
                        <a:pt x="5" y="42"/>
                      </a:lnTo>
                      <a:lnTo>
                        <a:pt x="0" y="58"/>
                      </a:lnTo>
                      <a:lnTo>
                        <a:pt x="3" y="75"/>
                      </a:lnTo>
                      <a:lnTo>
                        <a:pt x="6" y="84"/>
                      </a:lnTo>
                      <a:lnTo>
                        <a:pt x="12" y="89"/>
                      </a:lnTo>
                      <a:lnTo>
                        <a:pt x="17" y="95"/>
                      </a:lnTo>
                      <a:lnTo>
                        <a:pt x="25" y="100"/>
                      </a:lnTo>
                      <a:lnTo>
                        <a:pt x="33" y="102"/>
                      </a:lnTo>
                      <a:lnTo>
                        <a:pt x="41" y="104"/>
                      </a:lnTo>
                      <a:lnTo>
                        <a:pt x="49" y="104"/>
                      </a:lnTo>
                      <a:lnTo>
                        <a:pt x="58" y="101"/>
                      </a:lnTo>
                      <a:lnTo>
                        <a:pt x="84" y="94"/>
                      </a:lnTo>
                      <a:lnTo>
                        <a:pt x="117" y="87"/>
                      </a:lnTo>
                      <a:lnTo>
                        <a:pt x="154" y="82"/>
                      </a:lnTo>
                      <a:lnTo>
                        <a:pt x="197" y="78"/>
                      </a:lnTo>
                      <a:lnTo>
                        <a:pt x="244" y="74"/>
                      </a:lnTo>
                      <a:lnTo>
                        <a:pt x="293" y="72"/>
                      </a:lnTo>
                      <a:lnTo>
                        <a:pt x="341" y="71"/>
                      </a:lnTo>
                      <a:lnTo>
                        <a:pt x="392" y="71"/>
                      </a:lnTo>
                      <a:lnTo>
                        <a:pt x="439" y="72"/>
                      </a:lnTo>
                      <a:lnTo>
                        <a:pt x="484" y="74"/>
                      </a:lnTo>
                      <a:lnTo>
                        <a:pt x="524" y="76"/>
                      </a:lnTo>
                      <a:lnTo>
                        <a:pt x="560" y="82"/>
                      </a:lnTo>
                      <a:lnTo>
                        <a:pt x="591" y="88"/>
                      </a:lnTo>
                      <a:lnTo>
                        <a:pt x="612" y="95"/>
                      </a:lnTo>
                      <a:lnTo>
                        <a:pt x="627" y="102"/>
                      </a:lnTo>
                      <a:lnTo>
                        <a:pt x="629" y="112"/>
                      </a:lnTo>
                      <a:lnTo>
                        <a:pt x="627" y="127"/>
                      </a:lnTo>
                      <a:lnTo>
                        <a:pt x="619" y="151"/>
                      </a:lnTo>
                      <a:lnTo>
                        <a:pt x="608" y="184"/>
                      </a:lnTo>
                      <a:lnTo>
                        <a:pt x="595" y="225"/>
                      </a:lnTo>
                      <a:lnTo>
                        <a:pt x="580" y="271"/>
                      </a:lnTo>
                      <a:lnTo>
                        <a:pt x="563" y="323"/>
                      </a:lnTo>
                      <a:lnTo>
                        <a:pt x="543" y="380"/>
                      </a:lnTo>
                      <a:lnTo>
                        <a:pt x="523" y="441"/>
                      </a:lnTo>
                      <a:lnTo>
                        <a:pt x="503" y="503"/>
                      </a:lnTo>
                      <a:lnTo>
                        <a:pt x="481" y="567"/>
                      </a:lnTo>
                      <a:lnTo>
                        <a:pt x="460" y="634"/>
                      </a:lnTo>
                      <a:lnTo>
                        <a:pt x="439" y="699"/>
                      </a:lnTo>
                      <a:lnTo>
                        <a:pt x="419" y="762"/>
                      </a:lnTo>
                      <a:lnTo>
                        <a:pt x="400" y="824"/>
                      </a:lnTo>
                      <a:lnTo>
                        <a:pt x="383" y="883"/>
                      </a:lnTo>
                      <a:lnTo>
                        <a:pt x="369" y="938"/>
                      </a:lnTo>
                      <a:lnTo>
                        <a:pt x="369" y="938"/>
                      </a:lnTo>
                      <a:lnTo>
                        <a:pt x="369" y="939"/>
                      </a:lnTo>
                      <a:lnTo>
                        <a:pt x="369" y="940"/>
                      </a:lnTo>
                      <a:lnTo>
                        <a:pt x="370" y="943"/>
                      </a:lnTo>
                      <a:lnTo>
                        <a:pt x="372" y="945"/>
                      </a:lnTo>
                      <a:lnTo>
                        <a:pt x="375" y="945"/>
                      </a:lnTo>
                      <a:lnTo>
                        <a:pt x="376" y="943"/>
                      </a:lnTo>
                      <a:lnTo>
                        <a:pt x="379" y="942"/>
                      </a:lnTo>
                      <a:lnTo>
                        <a:pt x="380" y="940"/>
                      </a:lnTo>
                      <a:lnTo>
                        <a:pt x="380" y="940"/>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914560" y="3451320"/>
                  <a:ext cx="55440" cy="55440"/>
                </a:xfrm>
                <a:custGeom>
                  <a:avLst/>
                  <a:gdLst/>
                  <a:ahLst/>
                  <a:rect l="l" t="t" r="r" b="b"/>
                  <a:pathLst>
                    <a:path w="461" h="425">
                      <a:moveTo>
                        <a:pt x="431" y="0"/>
                      </a:moveTo>
                      <a:lnTo>
                        <a:pt x="398" y="10"/>
                      </a:lnTo>
                      <a:lnTo>
                        <a:pt x="362" y="22"/>
                      </a:lnTo>
                      <a:lnTo>
                        <a:pt x="327" y="36"/>
                      </a:lnTo>
                      <a:lnTo>
                        <a:pt x="291" y="54"/>
                      </a:lnTo>
                      <a:lnTo>
                        <a:pt x="254" y="72"/>
                      </a:lnTo>
                      <a:lnTo>
                        <a:pt x="219" y="92"/>
                      </a:lnTo>
                      <a:lnTo>
                        <a:pt x="185" y="114"/>
                      </a:lnTo>
                      <a:lnTo>
                        <a:pt x="151" y="136"/>
                      </a:lnTo>
                      <a:lnTo>
                        <a:pt x="120" y="157"/>
                      </a:lnTo>
                      <a:lnTo>
                        <a:pt x="92" y="180"/>
                      </a:lnTo>
                      <a:lnTo>
                        <a:pt x="66" y="203"/>
                      </a:lnTo>
                      <a:lnTo>
                        <a:pt x="45" y="225"/>
                      </a:lnTo>
                      <a:lnTo>
                        <a:pt x="26" y="245"/>
                      </a:lnTo>
                      <a:lnTo>
                        <a:pt x="12" y="265"/>
                      </a:lnTo>
                      <a:lnTo>
                        <a:pt x="3" y="284"/>
                      </a:lnTo>
                      <a:lnTo>
                        <a:pt x="0" y="300"/>
                      </a:lnTo>
                      <a:lnTo>
                        <a:pt x="0" y="323"/>
                      </a:lnTo>
                      <a:lnTo>
                        <a:pt x="5" y="343"/>
                      </a:lnTo>
                      <a:lnTo>
                        <a:pt x="10" y="360"/>
                      </a:lnTo>
                      <a:lnTo>
                        <a:pt x="19" y="376"/>
                      </a:lnTo>
                      <a:lnTo>
                        <a:pt x="32" y="388"/>
                      </a:lnTo>
                      <a:lnTo>
                        <a:pt x="48" y="399"/>
                      </a:lnTo>
                      <a:lnTo>
                        <a:pt x="66" y="408"/>
                      </a:lnTo>
                      <a:lnTo>
                        <a:pt x="90" y="414"/>
                      </a:lnTo>
                      <a:lnTo>
                        <a:pt x="101" y="416"/>
                      </a:lnTo>
                      <a:lnTo>
                        <a:pt x="114" y="419"/>
                      </a:lnTo>
                      <a:lnTo>
                        <a:pt x="127" y="421"/>
                      </a:lnTo>
                      <a:lnTo>
                        <a:pt x="140" y="424"/>
                      </a:lnTo>
                      <a:lnTo>
                        <a:pt x="153" y="425"/>
                      </a:lnTo>
                      <a:lnTo>
                        <a:pt x="166" y="425"/>
                      </a:lnTo>
                      <a:lnTo>
                        <a:pt x="180" y="425"/>
                      </a:lnTo>
                      <a:lnTo>
                        <a:pt x="195" y="424"/>
                      </a:lnTo>
                      <a:lnTo>
                        <a:pt x="210" y="422"/>
                      </a:lnTo>
                      <a:lnTo>
                        <a:pt x="225" y="418"/>
                      </a:lnTo>
                      <a:lnTo>
                        <a:pt x="241" y="414"/>
                      </a:lnTo>
                      <a:lnTo>
                        <a:pt x="258" y="406"/>
                      </a:lnTo>
                      <a:lnTo>
                        <a:pt x="274" y="396"/>
                      </a:lnTo>
                      <a:lnTo>
                        <a:pt x="293" y="386"/>
                      </a:lnTo>
                      <a:lnTo>
                        <a:pt x="310" y="373"/>
                      </a:lnTo>
                      <a:lnTo>
                        <a:pt x="329" y="357"/>
                      </a:lnTo>
                      <a:lnTo>
                        <a:pt x="366" y="323"/>
                      </a:lnTo>
                      <a:lnTo>
                        <a:pt x="401" y="287"/>
                      </a:lnTo>
                      <a:lnTo>
                        <a:pt x="431" y="248"/>
                      </a:lnTo>
                      <a:lnTo>
                        <a:pt x="451" y="209"/>
                      </a:lnTo>
                      <a:lnTo>
                        <a:pt x="461" y="170"/>
                      </a:lnTo>
                      <a:lnTo>
                        <a:pt x="458" y="130"/>
                      </a:lnTo>
                      <a:lnTo>
                        <a:pt x="438" y="90"/>
                      </a:lnTo>
                      <a:lnTo>
                        <a:pt x="399" y="51"/>
                      </a:lnTo>
                      <a:lnTo>
                        <a:pt x="390" y="49"/>
                      </a:lnTo>
                      <a:lnTo>
                        <a:pt x="382" y="49"/>
                      </a:lnTo>
                      <a:lnTo>
                        <a:pt x="373" y="54"/>
                      </a:lnTo>
                      <a:lnTo>
                        <a:pt x="369" y="61"/>
                      </a:lnTo>
                      <a:lnTo>
                        <a:pt x="366" y="69"/>
                      </a:lnTo>
                      <a:lnTo>
                        <a:pt x="367" y="78"/>
                      </a:lnTo>
                      <a:lnTo>
                        <a:pt x="370" y="85"/>
                      </a:lnTo>
                      <a:lnTo>
                        <a:pt x="378" y="91"/>
                      </a:lnTo>
                      <a:lnTo>
                        <a:pt x="392" y="118"/>
                      </a:lnTo>
                      <a:lnTo>
                        <a:pt x="395" y="146"/>
                      </a:lnTo>
                      <a:lnTo>
                        <a:pt x="389" y="175"/>
                      </a:lnTo>
                      <a:lnTo>
                        <a:pt x="376" y="202"/>
                      </a:lnTo>
                      <a:lnTo>
                        <a:pt x="359" y="228"/>
                      </a:lnTo>
                      <a:lnTo>
                        <a:pt x="337" y="254"/>
                      </a:lnTo>
                      <a:lnTo>
                        <a:pt x="316" y="277"/>
                      </a:lnTo>
                      <a:lnTo>
                        <a:pt x="295" y="297"/>
                      </a:lnTo>
                      <a:lnTo>
                        <a:pt x="277" y="311"/>
                      </a:lnTo>
                      <a:lnTo>
                        <a:pt x="252" y="326"/>
                      </a:lnTo>
                      <a:lnTo>
                        <a:pt x="223" y="340"/>
                      </a:lnTo>
                      <a:lnTo>
                        <a:pt x="192" y="352"/>
                      </a:lnTo>
                      <a:lnTo>
                        <a:pt x="160" y="362"/>
                      </a:lnTo>
                      <a:lnTo>
                        <a:pt x="130" y="367"/>
                      </a:lnTo>
                      <a:lnTo>
                        <a:pt x="102" y="369"/>
                      </a:lnTo>
                      <a:lnTo>
                        <a:pt x="79" y="365"/>
                      </a:lnTo>
                      <a:lnTo>
                        <a:pt x="64" y="356"/>
                      </a:lnTo>
                      <a:lnTo>
                        <a:pt x="54" y="346"/>
                      </a:lnTo>
                      <a:lnTo>
                        <a:pt x="48" y="334"/>
                      </a:lnTo>
                      <a:lnTo>
                        <a:pt x="45" y="323"/>
                      </a:lnTo>
                      <a:lnTo>
                        <a:pt x="46" y="313"/>
                      </a:lnTo>
                      <a:lnTo>
                        <a:pt x="48" y="303"/>
                      </a:lnTo>
                      <a:lnTo>
                        <a:pt x="51" y="295"/>
                      </a:lnTo>
                      <a:lnTo>
                        <a:pt x="54" y="291"/>
                      </a:lnTo>
                      <a:lnTo>
                        <a:pt x="72" y="267"/>
                      </a:lnTo>
                      <a:lnTo>
                        <a:pt x="92" y="244"/>
                      </a:lnTo>
                      <a:lnTo>
                        <a:pt x="113" y="221"/>
                      </a:lnTo>
                      <a:lnTo>
                        <a:pt x="134" y="199"/>
                      </a:lnTo>
                      <a:lnTo>
                        <a:pt x="156" y="177"/>
                      </a:lnTo>
                      <a:lnTo>
                        <a:pt x="177" y="157"/>
                      </a:lnTo>
                      <a:lnTo>
                        <a:pt x="200" y="139"/>
                      </a:lnTo>
                      <a:lnTo>
                        <a:pt x="223" y="120"/>
                      </a:lnTo>
                      <a:lnTo>
                        <a:pt x="248" y="103"/>
                      </a:lnTo>
                      <a:lnTo>
                        <a:pt x="272" y="87"/>
                      </a:lnTo>
                      <a:lnTo>
                        <a:pt x="298" y="71"/>
                      </a:lnTo>
                      <a:lnTo>
                        <a:pt x="324" y="58"/>
                      </a:lnTo>
                      <a:lnTo>
                        <a:pt x="350" y="45"/>
                      </a:lnTo>
                      <a:lnTo>
                        <a:pt x="378" y="33"/>
                      </a:lnTo>
                      <a:lnTo>
                        <a:pt x="406" y="22"/>
                      </a:lnTo>
                      <a:lnTo>
                        <a:pt x="435" y="13"/>
                      </a:lnTo>
                      <a:lnTo>
                        <a:pt x="437" y="12"/>
                      </a:lnTo>
                      <a:lnTo>
                        <a:pt x="439" y="10"/>
                      </a:lnTo>
                      <a:lnTo>
                        <a:pt x="439" y="8"/>
                      </a:lnTo>
                      <a:lnTo>
                        <a:pt x="439" y="5"/>
                      </a:lnTo>
                      <a:lnTo>
                        <a:pt x="438" y="2"/>
                      </a:lnTo>
                      <a:lnTo>
                        <a:pt x="435" y="0"/>
                      </a:lnTo>
                      <a:lnTo>
                        <a:pt x="434" y="0"/>
                      </a:lnTo>
                      <a:lnTo>
                        <a:pt x="431" y="0"/>
                      </a:lnTo>
                      <a:lnTo>
                        <a:pt x="43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 name=""/>
                <p:cNvSpPr/>
                <p:nvPr/>
              </p:nvSpPr>
              <p:spPr>
                <a:xfrm>
                  <a:off x="2884320" y="3500640"/>
                  <a:ext cx="81000" cy="37800"/>
                </a:xfrm>
                <a:custGeom>
                  <a:avLst/>
                  <a:gdLst/>
                  <a:ahLst/>
                  <a:rect l="l" t="t" r="r" b="b"/>
                  <a:pathLst>
                    <a:path w="656" h="286">
                      <a:moveTo>
                        <a:pt x="20" y="276"/>
                      </a:moveTo>
                      <a:lnTo>
                        <a:pt x="30" y="275"/>
                      </a:lnTo>
                      <a:lnTo>
                        <a:pt x="40" y="273"/>
                      </a:lnTo>
                      <a:lnTo>
                        <a:pt x="51" y="272"/>
                      </a:lnTo>
                      <a:lnTo>
                        <a:pt x="60" y="269"/>
                      </a:lnTo>
                      <a:lnTo>
                        <a:pt x="85" y="255"/>
                      </a:lnTo>
                      <a:lnTo>
                        <a:pt x="111" y="240"/>
                      </a:lnTo>
                      <a:lnTo>
                        <a:pt x="135" y="224"/>
                      </a:lnTo>
                      <a:lnTo>
                        <a:pt x="159" y="208"/>
                      </a:lnTo>
                      <a:lnTo>
                        <a:pt x="184" y="193"/>
                      </a:lnTo>
                      <a:lnTo>
                        <a:pt x="208" y="177"/>
                      </a:lnTo>
                      <a:lnTo>
                        <a:pt x="233" y="162"/>
                      </a:lnTo>
                      <a:lnTo>
                        <a:pt x="257" y="148"/>
                      </a:lnTo>
                      <a:lnTo>
                        <a:pt x="282" y="135"/>
                      </a:lnTo>
                      <a:lnTo>
                        <a:pt x="308" y="124"/>
                      </a:lnTo>
                      <a:lnTo>
                        <a:pt x="334" y="113"/>
                      </a:lnTo>
                      <a:lnTo>
                        <a:pt x="361" y="105"/>
                      </a:lnTo>
                      <a:lnTo>
                        <a:pt x="388" y="100"/>
                      </a:lnTo>
                      <a:lnTo>
                        <a:pt x="417" y="98"/>
                      </a:lnTo>
                      <a:lnTo>
                        <a:pt x="446" y="98"/>
                      </a:lnTo>
                      <a:lnTo>
                        <a:pt x="476" y="100"/>
                      </a:lnTo>
                      <a:lnTo>
                        <a:pt x="505" y="103"/>
                      </a:lnTo>
                      <a:lnTo>
                        <a:pt x="476" y="89"/>
                      </a:lnTo>
                      <a:lnTo>
                        <a:pt x="501" y="115"/>
                      </a:lnTo>
                      <a:lnTo>
                        <a:pt x="509" y="126"/>
                      </a:lnTo>
                      <a:lnTo>
                        <a:pt x="521" y="135"/>
                      </a:lnTo>
                      <a:lnTo>
                        <a:pt x="531" y="144"/>
                      </a:lnTo>
                      <a:lnTo>
                        <a:pt x="544" y="152"/>
                      </a:lnTo>
                      <a:lnTo>
                        <a:pt x="555" y="160"/>
                      </a:lnTo>
                      <a:lnTo>
                        <a:pt x="566" y="168"/>
                      </a:lnTo>
                      <a:lnTo>
                        <a:pt x="577" y="177"/>
                      </a:lnTo>
                      <a:lnTo>
                        <a:pt x="586" y="187"/>
                      </a:lnTo>
                      <a:lnTo>
                        <a:pt x="591" y="193"/>
                      </a:lnTo>
                      <a:lnTo>
                        <a:pt x="599" y="197"/>
                      </a:lnTo>
                      <a:lnTo>
                        <a:pt x="606" y="200"/>
                      </a:lnTo>
                      <a:lnTo>
                        <a:pt x="613" y="201"/>
                      </a:lnTo>
                      <a:lnTo>
                        <a:pt x="622" y="201"/>
                      </a:lnTo>
                      <a:lnTo>
                        <a:pt x="629" y="198"/>
                      </a:lnTo>
                      <a:lnTo>
                        <a:pt x="636" y="196"/>
                      </a:lnTo>
                      <a:lnTo>
                        <a:pt x="643" y="191"/>
                      </a:lnTo>
                      <a:lnTo>
                        <a:pt x="652" y="178"/>
                      </a:lnTo>
                      <a:lnTo>
                        <a:pt x="656" y="164"/>
                      </a:lnTo>
                      <a:lnTo>
                        <a:pt x="653" y="149"/>
                      </a:lnTo>
                      <a:lnTo>
                        <a:pt x="646" y="135"/>
                      </a:lnTo>
                      <a:lnTo>
                        <a:pt x="642" y="125"/>
                      </a:lnTo>
                      <a:lnTo>
                        <a:pt x="636" y="115"/>
                      </a:lnTo>
                      <a:lnTo>
                        <a:pt x="629" y="108"/>
                      </a:lnTo>
                      <a:lnTo>
                        <a:pt x="622" y="99"/>
                      </a:lnTo>
                      <a:lnTo>
                        <a:pt x="615" y="93"/>
                      </a:lnTo>
                      <a:lnTo>
                        <a:pt x="604" y="86"/>
                      </a:lnTo>
                      <a:lnTo>
                        <a:pt x="596" y="82"/>
                      </a:lnTo>
                      <a:lnTo>
                        <a:pt x="586" y="76"/>
                      </a:lnTo>
                      <a:lnTo>
                        <a:pt x="541" y="31"/>
                      </a:lnTo>
                      <a:lnTo>
                        <a:pt x="535" y="26"/>
                      </a:lnTo>
                      <a:lnTo>
                        <a:pt x="528" y="21"/>
                      </a:lnTo>
                      <a:lnTo>
                        <a:pt x="521" y="17"/>
                      </a:lnTo>
                      <a:lnTo>
                        <a:pt x="512" y="16"/>
                      </a:lnTo>
                      <a:lnTo>
                        <a:pt x="460" y="1"/>
                      </a:lnTo>
                      <a:lnTo>
                        <a:pt x="424" y="0"/>
                      </a:lnTo>
                      <a:lnTo>
                        <a:pt x="390" y="3"/>
                      </a:lnTo>
                      <a:lnTo>
                        <a:pt x="355" y="7"/>
                      </a:lnTo>
                      <a:lnTo>
                        <a:pt x="324" y="16"/>
                      </a:lnTo>
                      <a:lnTo>
                        <a:pt x="292" y="26"/>
                      </a:lnTo>
                      <a:lnTo>
                        <a:pt x="262" y="40"/>
                      </a:lnTo>
                      <a:lnTo>
                        <a:pt x="233" y="54"/>
                      </a:lnTo>
                      <a:lnTo>
                        <a:pt x="204" y="73"/>
                      </a:lnTo>
                      <a:lnTo>
                        <a:pt x="177" y="92"/>
                      </a:lnTo>
                      <a:lnTo>
                        <a:pt x="151" y="112"/>
                      </a:lnTo>
                      <a:lnTo>
                        <a:pt x="125" y="135"/>
                      </a:lnTo>
                      <a:lnTo>
                        <a:pt x="100" y="158"/>
                      </a:lnTo>
                      <a:lnTo>
                        <a:pt x="76" y="183"/>
                      </a:lnTo>
                      <a:lnTo>
                        <a:pt x="53" y="207"/>
                      </a:lnTo>
                      <a:lnTo>
                        <a:pt x="30" y="232"/>
                      </a:lnTo>
                      <a:lnTo>
                        <a:pt x="7" y="257"/>
                      </a:lnTo>
                      <a:lnTo>
                        <a:pt x="7" y="257"/>
                      </a:lnTo>
                      <a:lnTo>
                        <a:pt x="1" y="262"/>
                      </a:lnTo>
                      <a:lnTo>
                        <a:pt x="0" y="268"/>
                      </a:lnTo>
                      <a:lnTo>
                        <a:pt x="0" y="273"/>
                      </a:lnTo>
                      <a:lnTo>
                        <a:pt x="1" y="279"/>
                      </a:lnTo>
                      <a:lnTo>
                        <a:pt x="5" y="283"/>
                      </a:lnTo>
                      <a:lnTo>
                        <a:pt x="11" y="286"/>
                      </a:lnTo>
                      <a:lnTo>
                        <a:pt x="17" y="286"/>
                      </a:lnTo>
                      <a:lnTo>
                        <a:pt x="23" y="283"/>
                      </a:lnTo>
                      <a:lnTo>
                        <a:pt x="20" y="27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2994120" y="3448080"/>
                  <a:ext cx="50760" cy="58680"/>
                </a:xfrm>
                <a:custGeom>
                  <a:avLst/>
                  <a:gdLst/>
                  <a:ahLst/>
                  <a:rect l="l" t="t" r="r" b="b"/>
                  <a:pathLst>
                    <a:path w="418" h="449">
                      <a:moveTo>
                        <a:pt x="398" y="0"/>
                      </a:moveTo>
                      <a:lnTo>
                        <a:pt x="365" y="7"/>
                      </a:lnTo>
                      <a:lnTo>
                        <a:pt x="329" y="19"/>
                      </a:lnTo>
                      <a:lnTo>
                        <a:pt x="293" y="33"/>
                      </a:lnTo>
                      <a:lnTo>
                        <a:pt x="257" y="51"/>
                      </a:lnTo>
                      <a:lnTo>
                        <a:pt x="221" y="69"/>
                      </a:lnTo>
                      <a:lnTo>
                        <a:pt x="186" y="92"/>
                      </a:lnTo>
                      <a:lnTo>
                        <a:pt x="153" y="115"/>
                      </a:lnTo>
                      <a:lnTo>
                        <a:pt x="121" y="140"/>
                      </a:lnTo>
                      <a:lnTo>
                        <a:pt x="92" y="166"/>
                      </a:lnTo>
                      <a:lnTo>
                        <a:pt x="66" y="192"/>
                      </a:lnTo>
                      <a:lnTo>
                        <a:pt x="43" y="218"/>
                      </a:lnTo>
                      <a:lnTo>
                        <a:pt x="25" y="243"/>
                      </a:lnTo>
                      <a:lnTo>
                        <a:pt x="12" y="268"/>
                      </a:lnTo>
                      <a:lnTo>
                        <a:pt x="3" y="292"/>
                      </a:lnTo>
                      <a:lnTo>
                        <a:pt x="0" y="315"/>
                      </a:lnTo>
                      <a:lnTo>
                        <a:pt x="3" y="336"/>
                      </a:lnTo>
                      <a:lnTo>
                        <a:pt x="16" y="367"/>
                      </a:lnTo>
                      <a:lnTo>
                        <a:pt x="30" y="390"/>
                      </a:lnTo>
                      <a:lnTo>
                        <a:pt x="48" y="409"/>
                      </a:lnTo>
                      <a:lnTo>
                        <a:pt x="66" y="423"/>
                      </a:lnTo>
                      <a:lnTo>
                        <a:pt x="87" y="434"/>
                      </a:lnTo>
                      <a:lnTo>
                        <a:pt x="108" y="441"/>
                      </a:lnTo>
                      <a:lnTo>
                        <a:pt x="130" y="445"/>
                      </a:lnTo>
                      <a:lnTo>
                        <a:pt x="153" y="448"/>
                      </a:lnTo>
                      <a:lnTo>
                        <a:pt x="179" y="449"/>
                      </a:lnTo>
                      <a:lnTo>
                        <a:pt x="205" y="447"/>
                      </a:lnTo>
                      <a:lnTo>
                        <a:pt x="229" y="441"/>
                      </a:lnTo>
                      <a:lnTo>
                        <a:pt x="252" y="432"/>
                      </a:lnTo>
                      <a:lnTo>
                        <a:pt x="274" y="419"/>
                      </a:lnTo>
                      <a:lnTo>
                        <a:pt x="294" y="405"/>
                      </a:lnTo>
                      <a:lnTo>
                        <a:pt x="313" y="387"/>
                      </a:lnTo>
                      <a:lnTo>
                        <a:pt x="331" y="369"/>
                      </a:lnTo>
                      <a:lnTo>
                        <a:pt x="347" y="347"/>
                      </a:lnTo>
                      <a:lnTo>
                        <a:pt x="362" y="326"/>
                      </a:lnTo>
                      <a:lnTo>
                        <a:pt x="375" y="301"/>
                      </a:lnTo>
                      <a:lnTo>
                        <a:pt x="388" y="277"/>
                      </a:lnTo>
                      <a:lnTo>
                        <a:pt x="396" y="251"/>
                      </a:lnTo>
                      <a:lnTo>
                        <a:pt x="405" y="226"/>
                      </a:lnTo>
                      <a:lnTo>
                        <a:pt x="412" y="200"/>
                      </a:lnTo>
                      <a:lnTo>
                        <a:pt x="416" y="174"/>
                      </a:lnTo>
                      <a:lnTo>
                        <a:pt x="418" y="159"/>
                      </a:lnTo>
                      <a:lnTo>
                        <a:pt x="413" y="146"/>
                      </a:lnTo>
                      <a:lnTo>
                        <a:pt x="405" y="133"/>
                      </a:lnTo>
                      <a:lnTo>
                        <a:pt x="392" y="125"/>
                      </a:lnTo>
                      <a:lnTo>
                        <a:pt x="385" y="124"/>
                      </a:lnTo>
                      <a:lnTo>
                        <a:pt x="376" y="124"/>
                      </a:lnTo>
                      <a:lnTo>
                        <a:pt x="369" y="125"/>
                      </a:lnTo>
                      <a:lnTo>
                        <a:pt x="363" y="128"/>
                      </a:lnTo>
                      <a:lnTo>
                        <a:pt x="356" y="133"/>
                      </a:lnTo>
                      <a:lnTo>
                        <a:pt x="350" y="138"/>
                      </a:lnTo>
                      <a:lnTo>
                        <a:pt x="346" y="144"/>
                      </a:lnTo>
                      <a:lnTo>
                        <a:pt x="343" y="151"/>
                      </a:lnTo>
                      <a:lnTo>
                        <a:pt x="336" y="171"/>
                      </a:lnTo>
                      <a:lnTo>
                        <a:pt x="326" y="193"/>
                      </a:lnTo>
                      <a:lnTo>
                        <a:pt x="314" y="216"/>
                      </a:lnTo>
                      <a:lnTo>
                        <a:pt x="301" y="241"/>
                      </a:lnTo>
                      <a:lnTo>
                        <a:pt x="287" y="264"/>
                      </a:lnTo>
                      <a:lnTo>
                        <a:pt x="270" y="288"/>
                      </a:lnTo>
                      <a:lnTo>
                        <a:pt x="252" y="310"/>
                      </a:lnTo>
                      <a:lnTo>
                        <a:pt x="235" y="331"/>
                      </a:lnTo>
                      <a:lnTo>
                        <a:pt x="215" y="349"/>
                      </a:lnTo>
                      <a:lnTo>
                        <a:pt x="195" y="363"/>
                      </a:lnTo>
                      <a:lnTo>
                        <a:pt x="174" y="375"/>
                      </a:lnTo>
                      <a:lnTo>
                        <a:pt x="154" y="380"/>
                      </a:lnTo>
                      <a:lnTo>
                        <a:pt x="134" y="382"/>
                      </a:lnTo>
                      <a:lnTo>
                        <a:pt x="113" y="377"/>
                      </a:lnTo>
                      <a:lnTo>
                        <a:pt x="94" y="366"/>
                      </a:lnTo>
                      <a:lnTo>
                        <a:pt x="74" y="347"/>
                      </a:lnTo>
                      <a:lnTo>
                        <a:pt x="65" y="331"/>
                      </a:lnTo>
                      <a:lnTo>
                        <a:pt x="64" y="314"/>
                      </a:lnTo>
                      <a:lnTo>
                        <a:pt x="68" y="292"/>
                      </a:lnTo>
                      <a:lnTo>
                        <a:pt x="78" y="269"/>
                      </a:lnTo>
                      <a:lnTo>
                        <a:pt x="92" y="245"/>
                      </a:lnTo>
                      <a:lnTo>
                        <a:pt x="111" y="220"/>
                      </a:lnTo>
                      <a:lnTo>
                        <a:pt x="133" y="193"/>
                      </a:lnTo>
                      <a:lnTo>
                        <a:pt x="159" y="167"/>
                      </a:lnTo>
                      <a:lnTo>
                        <a:pt x="186" y="141"/>
                      </a:lnTo>
                      <a:lnTo>
                        <a:pt x="216" y="117"/>
                      </a:lnTo>
                      <a:lnTo>
                        <a:pt x="246" y="94"/>
                      </a:lnTo>
                      <a:lnTo>
                        <a:pt x="278" y="71"/>
                      </a:lnTo>
                      <a:lnTo>
                        <a:pt x="310" y="52"/>
                      </a:lnTo>
                      <a:lnTo>
                        <a:pt x="342" y="35"/>
                      </a:lnTo>
                      <a:lnTo>
                        <a:pt x="372" y="22"/>
                      </a:lnTo>
                      <a:lnTo>
                        <a:pt x="401" y="12"/>
                      </a:lnTo>
                      <a:lnTo>
                        <a:pt x="402" y="10"/>
                      </a:lnTo>
                      <a:lnTo>
                        <a:pt x="403" y="9"/>
                      </a:lnTo>
                      <a:lnTo>
                        <a:pt x="403" y="6"/>
                      </a:lnTo>
                      <a:lnTo>
                        <a:pt x="403" y="4"/>
                      </a:lnTo>
                      <a:lnTo>
                        <a:pt x="403" y="3"/>
                      </a:lnTo>
                      <a:lnTo>
                        <a:pt x="402" y="0"/>
                      </a:lnTo>
                      <a:lnTo>
                        <a:pt x="399" y="0"/>
                      </a:lnTo>
                      <a:lnTo>
                        <a:pt x="398" y="0"/>
                      </a:lnTo>
                      <a:lnTo>
                        <a:pt x="39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3043080" y="3441600"/>
                  <a:ext cx="65160" cy="20880"/>
                </a:xfrm>
                <a:custGeom>
                  <a:avLst/>
                  <a:gdLst/>
                  <a:ahLst/>
                  <a:rect l="l" t="t" r="r" b="b"/>
                  <a:pathLst>
                    <a:path w="532" h="159">
                      <a:moveTo>
                        <a:pt x="10" y="119"/>
                      </a:moveTo>
                      <a:lnTo>
                        <a:pt x="33" y="116"/>
                      </a:lnTo>
                      <a:lnTo>
                        <a:pt x="57" y="111"/>
                      </a:lnTo>
                      <a:lnTo>
                        <a:pt x="82" y="104"/>
                      </a:lnTo>
                      <a:lnTo>
                        <a:pt x="106" y="95"/>
                      </a:lnTo>
                      <a:lnTo>
                        <a:pt x="128" y="87"/>
                      </a:lnTo>
                      <a:lnTo>
                        <a:pt x="145" y="77"/>
                      </a:lnTo>
                      <a:lnTo>
                        <a:pt x="157" y="68"/>
                      </a:lnTo>
                      <a:lnTo>
                        <a:pt x="162" y="58"/>
                      </a:lnTo>
                      <a:lnTo>
                        <a:pt x="168" y="45"/>
                      </a:lnTo>
                      <a:lnTo>
                        <a:pt x="175" y="41"/>
                      </a:lnTo>
                      <a:lnTo>
                        <a:pt x="183" y="44"/>
                      </a:lnTo>
                      <a:lnTo>
                        <a:pt x="188" y="54"/>
                      </a:lnTo>
                      <a:lnTo>
                        <a:pt x="191" y="67"/>
                      </a:lnTo>
                      <a:lnTo>
                        <a:pt x="190" y="83"/>
                      </a:lnTo>
                      <a:lnTo>
                        <a:pt x="185" y="97"/>
                      </a:lnTo>
                      <a:lnTo>
                        <a:pt x="185" y="113"/>
                      </a:lnTo>
                      <a:lnTo>
                        <a:pt x="187" y="120"/>
                      </a:lnTo>
                      <a:lnTo>
                        <a:pt x="191" y="130"/>
                      </a:lnTo>
                      <a:lnTo>
                        <a:pt x="195" y="139"/>
                      </a:lnTo>
                      <a:lnTo>
                        <a:pt x="201" y="146"/>
                      </a:lnTo>
                      <a:lnTo>
                        <a:pt x="210" y="152"/>
                      </a:lnTo>
                      <a:lnTo>
                        <a:pt x="219" y="155"/>
                      </a:lnTo>
                      <a:lnTo>
                        <a:pt x="230" y="153"/>
                      </a:lnTo>
                      <a:lnTo>
                        <a:pt x="243" y="146"/>
                      </a:lnTo>
                      <a:lnTo>
                        <a:pt x="256" y="137"/>
                      </a:lnTo>
                      <a:lnTo>
                        <a:pt x="270" y="129"/>
                      </a:lnTo>
                      <a:lnTo>
                        <a:pt x="285" y="123"/>
                      </a:lnTo>
                      <a:lnTo>
                        <a:pt x="299" y="119"/>
                      </a:lnTo>
                      <a:lnTo>
                        <a:pt x="311" y="116"/>
                      </a:lnTo>
                      <a:lnTo>
                        <a:pt x="322" y="116"/>
                      </a:lnTo>
                      <a:lnTo>
                        <a:pt x="331" y="119"/>
                      </a:lnTo>
                      <a:lnTo>
                        <a:pt x="337" y="124"/>
                      </a:lnTo>
                      <a:lnTo>
                        <a:pt x="342" y="137"/>
                      </a:lnTo>
                      <a:lnTo>
                        <a:pt x="347" y="149"/>
                      </a:lnTo>
                      <a:lnTo>
                        <a:pt x="351" y="156"/>
                      </a:lnTo>
                      <a:lnTo>
                        <a:pt x="364" y="159"/>
                      </a:lnTo>
                      <a:lnTo>
                        <a:pt x="373" y="157"/>
                      </a:lnTo>
                      <a:lnTo>
                        <a:pt x="381" y="153"/>
                      </a:lnTo>
                      <a:lnTo>
                        <a:pt x="388" y="146"/>
                      </a:lnTo>
                      <a:lnTo>
                        <a:pt x="396" y="140"/>
                      </a:lnTo>
                      <a:lnTo>
                        <a:pt x="401" y="134"/>
                      </a:lnTo>
                      <a:lnTo>
                        <a:pt x="407" y="131"/>
                      </a:lnTo>
                      <a:lnTo>
                        <a:pt x="411" y="133"/>
                      </a:lnTo>
                      <a:lnTo>
                        <a:pt x="416" y="140"/>
                      </a:lnTo>
                      <a:lnTo>
                        <a:pt x="422" y="144"/>
                      </a:lnTo>
                      <a:lnTo>
                        <a:pt x="433" y="143"/>
                      </a:lnTo>
                      <a:lnTo>
                        <a:pt x="449" y="139"/>
                      </a:lnTo>
                      <a:lnTo>
                        <a:pt x="466" y="131"/>
                      </a:lnTo>
                      <a:lnTo>
                        <a:pt x="482" y="123"/>
                      </a:lnTo>
                      <a:lnTo>
                        <a:pt x="498" y="116"/>
                      </a:lnTo>
                      <a:lnTo>
                        <a:pt x="509" y="111"/>
                      </a:lnTo>
                      <a:lnTo>
                        <a:pt x="515" y="111"/>
                      </a:lnTo>
                      <a:lnTo>
                        <a:pt x="521" y="114"/>
                      </a:lnTo>
                      <a:lnTo>
                        <a:pt x="528" y="116"/>
                      </a:lnTo>
                      <a:lnTo>
                        <a:pt x="532" y="114"/>
                      </a:lnTo>
                      <a:lnTo>
                        <a:pt x="532" y="106"/>
                      </a:lnTo>
                      <a:lnTo>
                        <a:pt x="528" y="95"/>
                      </a:lnTo>
                      <a:lnTo>
                        <a:pt x="522" y="87"/>
                      </a:lnTo>
                      <a:lnTo>
                        <a:pt x="512" y="81"/>
                      </a:lnTo>
                      <a:lnTo>
                        <a:pt x="494" y="78"/>
                      </a:lnTo>
                      <a:lnTo>
                        <a:pt x="482" y="77"/>
                      </a:lnTo>
                      <a:lnTo>
                        <a:pt x="468" y="78"/>
                      </a:lnTo>
                      <a:lnTo>
                        <a:pt x="455" y="78"/>
                      </a:lnTo>
                      <a:lnTo>
                        <a:pt x="440" y="81"/>
                      </a:lnTo>
                      <a:lnTo>
                        <a:pt x="427" y="83"/>
                      </a:lnTo>
                      <a:lnTo>
                        <a:pt x="414" y="84"/>
                      </a:lnTo>
                      <a:lnTo>
                        <a:pt x="404" y="84"/>
                      </a:lnTo>
                      <a:lnTo>
                        <a:pt x="396" y="84"/>
                      </a:lnTo>
                      <a:lnTo>
                        <a:pt x="386" y="81"/>
                      </a:lnTo>
                      <a:lnTo>
                        <a:pt x="380" y="72"/>
                      </a:lnTo>
                      <a:lnTo>
                        <a:pt x="377" y="61"/>
                      </a:lnTo>
                      <a:lnTo>
                        <a:pt x="377" y="47"/>
                      </a:lnTo>
                      <a:lnTo>
                        <a:pt x="375" y="35"/>
                      </a:lnTo>
                      <a:lnTo>
                        <a:pt x="368" y="29"/>
                      </a:lnTo>
                      <a:lnTo>
                        <a:pt x="357" y="26"/>
                      </a:lnTo>
                      <a:lnTo>
                        <a:pt x="344" y="28"/>
                      </a:lnTo>
                      <a:lnTo>
                        <a:pt x="328" y="31"/>
                      </a:lnTo>
                      <a:lnTo>
                        <a:pt x="314" y="35"/>
                      </a:lnTo>
                      <a:lnTo>
                        <a:pt x="299" y="41"/>
                      </a:lnTo>
                      <a:lnTo>
                        <a:pt x="289" y="45"/>
                      </a:lnTo>
                      <a:lnTo>
                        <a:pt x="273" y="52"/>
                      </a:lnTo>
                      <a:lnTo>
                        <a:pt x="263" y="59"/>
                      </a:lnTo>
                      <a:lnTo>
                        <a:pt x="257" y="65"/>
                      </a:lnTo>
                      <a:lnTo>
                        <a:pt x="256" y="67"/>
                      </a:lnTo>
                      <a:lnTo>
                        <a:pt x="255" y="67"/>
                      </a:lnTo>
                      <a:lnTo>
                        <a:pt x="250" y="65"/>
                      </a:lnTo>
                      <a:lnTo>
                        <a:pt x="249" y="59"/>
                      </a:lnTo>
                      <a:lnTo>
                        <a:pt x="252" y="44"/>
                      </a:lnTo>
                      <a:lnTo>
                        <a:pt x="253" y="34"/>
                      </a:lnTo>
                      <a:lnTo>
                        <a:pt x="250" y="25"/>
                      </a:lnTo>
                      <a:lnTo>
                        <a:pt x="243" y="18"/>
                      </a:lnTo>
                      <a:lnTo>
                        <a:pt x="234" y="11"/>
                      </a:lnTo>
                      <a:lnTo>
                        <a:pt x="224" y="6"/>
                      </a:lnTo>
                      <a:lnTo>
                        <a:pt x="216" y="3"/>
                      </a:lnTo>
                      <a:lnTo>
                        <a:pt x="208" y="0"/>
                      </a:lnTo>
                      <a:lnTo>
                        <a:pt x="204" y="0"/>
                      </a:lnTo>
                      <a:lnTo>
                        <a:pt x="203" y="0"/>
                      </a:lnTo>
                      <a:lnTo>
                        <a:pt x="197" y="0"/>
                      </a:lnTo>
                      <a:lnTo>
                        <a:pt x="190" y="0"/>
                      </a:lnTo>
                      <a:lnTo>
                        <a:pt x="181" y="0"/>
                      </a:lnTo>
                      <a:lnTo>
                        <a:pt x="171" y="2"/>
                      </a:lnTo>
                      <a:lnTo>
                        <a:pt x="159" y="3"/>
                      </a:lnTo>
                      <a:lnTo>
                        <a:pt x="149" y="5"/>
                      </a:lnTo>
                      <a:lnTo>
                        <a:pt x="139" y="9"/>
                      </a:lnTo>
                      <a:lnTo>
                        <a:pt x="126" y="16"/>
                      </a:lnTo>
                      <a:lnTo>
                        <a:pt x="108" y="29"/>
                      </a:lnTo>
                      <a:lnTo>
                        <a:pt x="85" y="45"/>
                      </a:lnTo>
                      <a:lnTo>
                        <a:pt x="62" y="62"/>
                      </a:lnTo>
                      <a:lnTo>
                        <a:pt x="39" y="78"/>
                      </a:lnTo>
                      <a:lnTo>
                        <a:pt x="20" y="93"/>
                      </a:lnTo>
                      <a:lnTo>
                        <a:pt x="7" y="103"/>
                      </a:lnTo>
                      <a:lnTo>
                        <a:pt x="3" y="106"/>
                      </a:lnTo>
                      <a:lnTo>
                        <a:pt x="3" y="106"/>
                      </a:lnTo>
                      <a:lnTo>
                        <a:pt x="1" y="107"/>
                      </a:lnTo>
                      <a:lnTo>
                        <a:pt x="0" y="110"/>
                      </a:lnTo>
                      <a:lnTo>
                        <a:pt x="0" y="113"/>
                      </a:lnTo>
                      <a:lnTo>
                        <a:pt x="1" y="116"/>
                      </a:lnTo>
                      <a:lnTo>
                        <a:pt x="3" y="117"/>
                      </a:lnTo>
                      <a:lnTo>
                        <a:pt x="5" y="119"/>
                      </a:lnTo>
                      <a:lnTo>
                        <a:pt x="7" y="119"/>
                      </a:lnTo>
                      <a:lnTo>
                        <a:pt x="10" y="119"/>
                      </a:lnTo>
                      <a:lnTo>
                        <a:pt x="10" y="11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 name=""/>
                <p:cNvSpPr/>
                <p:nvPr/>
              </p:nvSpPr>
              <p:spPr>
                <a:xfrm>
                  <a:off x="3044880" y="3467160"/>
                  <a:ext cx="48960" cy="15840"/>
                </a:xfrm>
                <a:custGeom>
                  <a:avLst/>
                  <a:gdLst/>
                  <a:ahLst/>
                  <a:rect l="l" t="t" r="r" b="b"/>
                  <a:pathLst>
                    <a:path w="396" h="127">
                      <a:moveTo>
                        <a:pt x="10" y="65"/>
                      </a:moveTo>
                      <a:lnTo>
                        <a:pt x="15" y="64"/>
                      </a:lnTo>
                      <a:lnTo>
                        <a:pt x="22" y="61"/>
                      </a:lnTo>
                      <a:lnTo>
                        <a:pt x="29" y="56"/>
                      </a:lnTo>
                      <a:lnTo>
                        <a:pt x="38" y="52"/>
                      </a:lnTo>
                      <a:lnTo>
                        <a:pt x="46" y="48"/>
                      </a:lnTo>
                      <a:lnTo>
                        <a:pt x="55" y="45"/>
                      </a:lnTo>
                      <a:lnTo>
                        <a:pt x="62" y="43"/>
                      </a:lnTo>
                      <a:lnTo>
                        <a:pt x="68" y="43"/>
                      </a:lnTo>
                      <a:lnTo>
                        <a:pt x="74" y="48"/>
                      </a:lnTo>
                      <a:lnTo>
                        <a:pt x="71" y="56"/>
                      </a:lnTo>
                      <a:lnTo>
                        <a:pt x="68" y="71"/>
                      </a:lnTo>
                      <a:lnTo>
                        <a:pt x="69" y="88"/>
                      </a:lnTo>
                      <a:lnTo>
                        <a:pt x="74" y="97"/>
                      </a:lnTo>
                      <a:lnTo>
                        <a:pt x="79" y="104"/>
                      </a:lnTo>
                      <a:lnTo>
                        <a:pt x="85" y="110"/>
                      </a:lnTo>
                      <a:lnTo>
                        <a:pt x="94" y="113"/>
                      </a:lnTo>
                      <a:lnTo>
                        <a:pt x="101" y="115"/>
                      </a:lnTo>
                      <a:lnTo>
                        <a:pt x="111" y="115"/>
                      </a:lnTo>
                      <a:lnTo>
                        <a:pt x="120" y="114"/>
                      </a:lnTo>
                      <a:lnTo>
                        <a:pt x="130" y="111"/>
                      </a:lnTo>
                      <a:lnTo>
                        <a:pt x="141" y="107"/>
                      </a:lnTo>
                      <a:lnTo>
                        <a:pt x="159" y="101"/>
                      </a:lnTo>
                      <a:lnTo>
                        <a:pt x="176" y="94"/>
                      </a:lnTo>
                      <a:lnTo>
                        <a:pt x="196" y="88"/>
                      </a:lnTo>
                      <a:lnTo>
                        <a:pt x="215" y="85"/>
                      </a:lnTo>
                      <a:lnTo>
                        <a:pt x="232" y="84"/>
                      </a:lnTo>
                      <a:lnTo>
                        <a:pt x="246" y="87"/>
                      </a:lnTo>
                      <a:lnTo>
                        <a:pt x="257" y="95"/>
                      </a:lnTo>
                      <a:lnTo>
                        <a:pt x="265" y="105"/>
                      </a:lnTo>
                      <a:lnTo>
                        <a:pt x="275" y="114"/>
                      </a:lnTo>
                      <a:lnTo>
                        <a:pt x="285" y="120"/>
                      </a:lnTo>
                      <a:lnTo>
                        <a:pt x="297" y="124"/>
                      </a:lnTo>
                      <a:lnTo>
                        <a:pt x="310" y="127"/>
                      </a:lnTo>
                      <a:lnTo>
                        <a:pt x="323" y="127"/>
                      </a:lnTo>
                      <a:lnTo>
                        <a:pt x="336" y="127"/>
                      </a:lnTo>
                      <a:lnTo>
                        <a:pt x="349" y="124"/>
                      </a:lnTo>
                      <a:lnTo>
                        <a:pt x="362" y="121"/>
                      </a:lnTo>
                      <a:lnTo>
                        <a:pt x="373" y="117"/>
                      </a:lnTo>
                      <a:lnTo>
                        <a:pt x="385" y="113"/>
                      </a:lnTo>
                      <a:lnTo>
                        <a:pt x="392" y="107"/>
                      </a:lnTo>
                      <a:lnTo>
                        <a:pt x="396" y="102"/>
                      </a:lnTo>
                      <a:lnTo>
                        <a:pt x="396" y="98"/>
                      </a:lnTo>
                      <a:lnTo>
                        <a:pt x="392" y="94"/>
                      </a:lnTo>
                      <a:lnTo>
                        <a:pt x="380" y="90"/>
                      </a:lnTo>
                      <a:lnTo>
                        <a:pt x="362" y="85"/>
                      </a:lnTo>
                      <a:lnTo>
                        <a:pt x="356" y="82"/>
                      </a:lnTo>
                      <a:lnTo>
                        <a:pt x="353" y="75"/>
                      </a:lnTo>
                      <a:lnTo>
                        <a:pt x="344" y="56"/>
                      </a:lnTo>
                      <a:lnTo>
                        <a:pt x="324" y="33"/>
                      </a:lnTo>
                      <a:lnTo>
                        <a:pt x="297" y="23"/>
                      </a:lnTo>
                      <a:lnTo>
                        <a:pt x="268" y="25"/>
                      </a:lnTo>
                      <a:lnTo>
                        <a:pt x="238" y="30"/>
                      </a:lnTo>
                      <a:lnTo>
                        <a:pt x="210" y="39"/>
                      </a:lnTo>
                      <a:lnTo>
                        <a:pt x="189" y="46"/>
                      </a:lnTo>
                      <a:lnTo>
                        <a:pt x="176" y="49"/>
                      </a:lnTo>
                      <a:lnTo>
                        <a:pt x="173" y="43"/>
                      </a:lnTo>
                      <a:lnTo>
                        <a:pt x="177" y="28"/>
                      </a:lnTo>
                      <a:lnTo>
                        <a:pt x="174" y="19"/>
                      </a:lnTo>
                      <a:lnTo>
                        <a:pt x="167" y="16"/>
                      </a:lnTo>
                      <a:lnTo>
                        <a:pt x="156" y="19"/>
                      </a:lnTo>
                      <a:lnTo>
                        <a:pt x="143" y="25"/>
                      </a:lnTo>
                      <a:lnTo>
                        <a:pt x="131" y="32"/>
                      </a:lnTo>
                      <a:lnTo>
                        <a:pt x="120" y="39"/>
                      </a:lnTo>
                      <a:lnTo>
                        <a:pt x="113" y="45"/>
                      </a:lnTo>
                      <a:lnTo>
                        <a:pt x="104" y="46"/>
                      </a:lnTo>
                      <a:lnTo>
                        <a:pt x="100" y="39"/>
                      </a:lnTo>
                      <a:lnTo>
                        <a:pt x="100" y="26"/>
                      </a:lnTo>
                      <a:lnTo>
                        <a:pt x="104" y="12"/>
                      </a:lnTo>
                      <a:lnTo>
                        <a:pt x="104" y="3"/>
                      </a:lnTo>
                      <a:lnTo>
                        <a:pt x="97" y="0"/>
                      </a:lnTo>
                      <a:lnTo>
                        <a:pt x="85" y="0"/>
                      </a:lnTo>
                      <a:lnTo>
                        <a:pt x="75" y="3"/>
                      </a:lnTo>
                      <a:lnTo>
                        <a:pt x="72" y="5"/>
                      </a:lnTo>
                      <a:lnTo>
                        <a:pt x="65" y="7"/>
                      </a:lnTo>
                      <a:lnTo>
                        <a:pt x="55" y="13"/>
                      </a:lnTo>
                      <a:lnTo>
                        <a:pt x="43" y="20"/>
                      </a:lnTo>
                      <a:lnTo>
                        <a:pt x="30" y="28"/>
                      </a:lnTo>
                      <a:lnTo>
                        <a:pt x="19" y="36"/>
                      </a:lnTo>
                      <a:lnTo>
                        <a:pt x="9" y="45"/>
                      </a:lnTo>
                      <a:lnTo>
                        <a:pt x="3" y="54"/>
                      </a:lnTo>
                      <a:lnTo>
                        <a:pt x="3" y="54"/>
                      </a:lnTo>
                      <a:lnTo>
                        <a:pt x="2" y="56"/>
                      </a:lnTo>
                      <a:lnTo>
                        <a:pt x="0" y="58"/>
                      </a:lnTo>
                      <a:lnTo>
                        <a:pt x="0" y="61"/>
                      </a:lnTo>
                      <a:lnTo>
                        <a:pt x="2" y="64"/>
                      </a:lnTo>
                      <a:lnTo>
                        <a:pt x="3" y="65"/>
                      </a:lnTo>
                      <a:lnTo>
                        <a:pt x="5" y="66"/>
                      </a:lnTo>
                      <a:lnTo>
                        <a:pt x="7" y="66"/>
                      </a:lnTo>
                      <a:lnTo>
                        <a:pt x="10" y="65"/>
                      </a:lnTo>
                      <a:lnTo>
                        <a:pt x="10" y="6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a:off x="2971800" y="3500640"/>
                  <a:ext cx="69840" cy="29880"/>
                </a:xfrm>
                <a:custGeom>
                  <a:avLst/>
                  <a:gdLst/>
                  <a:ahLst/>
                  <a:rect l="l" t="t" r="r" b="b"/>
                  <a:pathLst>
                    <a:path w="567" h="227">
                      <a:moveTo>
                        <a:pt x="17" y="224"/>
                      </a:moveTo>
                      <a:lnTo>
                        <a:pt x="42" y="201"/>
                      </a:lnTo>
                      <a:lnTo>
                        <a:pt x="69" y="179"/>
                      </a:lnTo>
                      <a:lnTo>
                        <a:pt x="98" y="159"/>
                      </a:lnTo>
                      <a:lnTo>
                        <a:pt x="128" y="139"/>
                      </a:lnTo>
                      <a:lnTo>
                        <a:pt x="160" y="123"/>
                      </a:lnTo>
                      <a:lnTo>
                        <a:pt x="193" y="108"/>
                      </a:lnTo>
                      <a:lnTo>
                        <a:pt x="226" y="95"/>
                      </a:lnTo>
                      <a:lnTo>
                        <a:pt x="259" y="87"/>
                      </a:lnTo>
                      <a:lnTo>
                        <a:pt x="294" y="81"/>
                      </a:lnTo>
                      <a:lnTo>
                        <a:pt x="327" y="78"/>
                      </a:lnTo>
                      <a:lnTo>
                        <a:pt x="361" y="78"/>
                      </a:lnTo>
                      <a:lnTo>
                        <a:pt x="394" y="84"/>
                      </a:lnTo>
                      <a:lnTo>
                        <a:pt x="426" y="93"/>
                      </a:lnTo>
                      <a:lnTo>
                        <a:pt x="458" y="107"/>
                      </a:lnTo>
                      <a:lnTo>
                        <a:pt x="488" y="126"/>
                      </a:lnTo>
                      <a:lnTo>
                        <a:pt x="517" y="150"/>
                      </a:lnTo>
                      <a:lnTo>
                        <a:pt x="526" y="157"/>
                      </a:lnTo>
                      <a:lnTo>
                        <a:pt x="536" y="160"/>
                      </a:lnTo>
                      <a:lnTo>
                        <a:pt x="546" y="159"/>
                      </a:lnTo>
                      <a:lnTo>
                        <a:pt x="556" y="155"/>
                      </a:lnTo>
                      <a:lnTo>
                        <a:pt x="563" y="146"/>
                      </a:lnTo>
                      <a:lnTo>
                        <a:pt x="567" y="134"/>
                      </a:lnTo>
                      <a:lnTo>
                        <a:pt x="566" y="124"/>
                      </a:lnTo>
                      <a:lnTo>
                        <a:pt x="560" y="114"/>
                      </a:lnTo>
                      <a:lnTo>
                        <a:pt x="547" y="91"/>
                      </a:lnTo>
                      <a:lnTo>
                        <a:pt x="533" y="72"/>
                      </a:lnTo>
                      <a:lnTo>
                        <a:pt x="514" y="55"/>
                      </a:lnTo>
                      <a:lnTo>
                        <a:pt x="494" y="41"/>
                      </a:lnTo>
                      <a:lnTo>
                        <a:pt x="472" y="28"/>
                      </a:lnTo>
                      <a:lnTo>
                        <a:pt x="449" y="19"/>
                      </a:lnTo>
                      <a:lnTo>
                        <a:pt x="426" y="12"/>
                      </a:lnTo>
                      <a:lnTo>
                        <a:pt x="402" y="8"/>
                      </a:lnTo>
                      <a:lnTo>
                        <a:pt x="377" y="3"/>
                      </a:lnTo>
                      <a:lnTo>
                        <a:pt x="354" y="2"/>
                      </a:lnTo>
                      <a:lnTo>
                        <a:pt x="330" y="0"/>
                      </a:lnTo>
                      <a:lnTo>
                        <a:pt x="305" y="0"/>
                      </a:lnTo>
                      <a:lnTo>
                        <a:pt x="281" y="3"/>
                      </a:lnTo>
                      <a:lnTo>
                        <a:pt x="258" y="8"/>
                      </a:lnTo>
                      <a:lnTo>
                        <a:pt x="233" y="15"/>
                      </a:lnTo>
                      <a:lnTo>
                        <a:pt x="210" y="23"/>
                      </a:lnTo>
                      <a:lnTo>
                        <a:pt x="178" y="36"/>
                      </a:lnTo>
                      <a:lnTo>
                        <a:pt x="148" y="52"/>
                      </a:lnTo>
                      <a:lnTo>
                        <a:pt x="118" y="70"/>
                      </a:lnTo>
                      <a:lnTo>
                        <a:pt x="89" y="88"/>
                      </a:lnTo>
                      <a:lnTo>
                        <a:pt x="63" y="110"/>
                      </a:lnTo>
                      <a:lnTo>
                        <a:pt x="39" y="136"/>
                      </a:lnTo>
                      <a:lnTo>
                        <a:pt x="19" y="163"/>
                      </a:lnTo>
                      <a:lnTo>
                        <a:pt x="1" y="195"/>
                      </a:lnTo>
                      <a:lnTo>
                        <a:pt x="0" y="199"/>
                      </a:lnTo>
                      <a:lnTo>
                        <a:pt x="1" y="205"/>
                      </a:lnTo>
                      <a:lnTo>
                        <a:pt x="4" y="212"/>
                      </a:lnTo>
                      <a:lnTo>
                        <a:pt x="6" y="218"/>
                      </a:lnTo>
                      <a:lnTo>
                        <a:pt x="6" y="218"/>
                      </a:lnTo>
                      <a:lnTo>
                        <a:pt x="6" y="221"/>
                      </a:lnTo>
                      <a:lnTo>
                        <a:pt x="6" y="222"/>
                      </a:lnTo>
                      <a:lnTo>
                        <a:pt x="7" y="225"/>
                      </a:lnTo>
                      <a:lnTo>
                        <a:pt x="9" y="227"/>
                      </a:lnTo>
                      <a:lnTo>
                        <a:pt x="11" y="227"/>
                      </a:lnTo>
                      <a:lnTo>
                        <a:pt x="13" y="227"/>
                      </a:lnTo>
                      <a:lnTo>
                        <a:pt x="16" y="225"/>
                      </a:lnTo>
                      <a:lnTo>
                        <a:pt x="17" y="224"/>
                      </a:lnTo>
                      <a:lnTo>
                        <a:pt x="17" y="2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 name=""/>
                <p:cNvSpPr/>
                <p:nvPr/>
              </p:nvSpPr>
              <p:spPr>
                <a:xfrm>
                  <a:off x="3173400" y="3521160"/>
                  <a:ext cx="423720" cy="41400"/>
                </a:xfrm>
                <a:custGeom>
                  <a:avLst/>
                  <a:gdLst/>
                  <a:ahLst/>
                  <a:rect l="l" t="t" r="r" b="b"/>
                  <a:pathLst>
                    <a:path w="3436" h="314">
                      <a:moveTo>
                        <a:pt x="5" y="256"/>
                      </a:moveTo>
                      <a:lnTo>
                        <a:pt x="28" y="268"/>
                      </a:lnTo>
                      <a:lnTo>
                        <a:pt x="49" y="278"/>
                      </a:lnTo>
                      <a:lnTo>
                        <a:pt x="72" y="289"/>
                      </a:lnTo>
                      <a:lnTo>
                        <a:pt x="95" y="299"/>
                      </a:lnTo>
                      <a:lnTo>
                        <a:pt x="120" y="308"/>
                      </a:lnTo>
                      <a:lnTo>
                        <a:pt x="146" y="312"/>
                      </a:lnTo>
                      <a:lnTo>
                        <a:pt x="173" y="314"/>
                      </a:lnTo>
                      <a:lnTo>
                        <a:pt x="203" y="310"/>
                      </a:lnTo>
                      <a:lnTo>
                        <a:pt x="262" y="297"/>
                      </a:lnTo>
                      <a:lnTo>
                        <a:pt x="321" y="284"/>
                      </a:lnTo>
                      <a:lnTo>
                        <a:pt x="379" y="269"/>
                      </a:lnTo>
                      <a:lnTo>
                        <a:pt x="437" y="255"/>
                      </a:lnTo>
                      <a:lnTo>
                        <a:pt x="493" y="240"/>
                      </a:lnTo>
                      <a:lnTo>
                        <a:pt x="549" y="225"/>
                      </a:lnTo>
                      <a:lnTo>
                        <a:pt x="605" y="209"/>
                      </a:lnTo>
                      <a:lnTo>
                        <a:pt x="660" y="194"/>
                      </a:lnTo>
                      <a:lnTo>
                        <a:pt x="716" y="179"/>
                      </a:lnTo>
                      <a:lnTo>
                        <a:pt x="772" y="163"/>
                      </a:lnTo>
                      <a:lnTo>
                        <a:pt x="827" y="148"/>
                      </a:lnTo>
                      <a:lnTo>
                        <a:pt x="884" y="132"/>
                      </a:lnTo>
                      <a:lnTo>
                        <a:pt x="941" y="118"/>
                      </a:lnTo>
                      <a:lnTo>
                        <a:pt x="998" y="105"/>
                      </a:lnTo>
                      <a:lnTo>
                        <a:pt x="1057" y="92"/>
                      </a:lnTo>
                      <a:lnTo>
                        <a:pt x="1116" y="79"/>
                      </a:lnTo>
                      <a:lnTo>
                        <a:pt x="1144" y="73"/>
                      </a:lnTo>
                      <a:lnTo>
                        <a:pt x="1169" y="71"/>
                      </a:lnTo>
                      <a:lnTo>
                        <a:pt x="1197" y="69"/>
                      </a:lnTo>
                      <a:lnTo>
                        <a:pt x="1224" y="71"/>
                      </a:lnTo>
                      <a:lnTo>
                        <a:pt x="1250" y="73"/>
                      </a:lnTo>
                      <a:lnTo>
                        <a:pt x="1277" y="78"/>
                      </a:lnTo>
                      <a:lnTo>
                        <a:pt x="1303" y="86"/>
                      </a:lnTo>
                      <a:lnTo>
                        <a:pt x="1329" y="96"/>
                      </a:lnTo>
                      <a:lnTo>
                        <a:pt x="1351" y="111"/>
                      </a:lnTo>
                      <a:lnTo>
                        <a:pt x="1368" y="130"/>
                      </a:lnTo>
                      <a:lnTo>
                        <a:pt x="1383" y="151"/>
                      </a:lnTo>
                      <a:lnTo>
                        <a:pt x="1394" y="174"/>
                      </a:lnTo>
                      <a:lnTo>
                        <a:pt x="1406" y="199"/>
                      </a:lnTo>
                      <a:lnTo>
                        <a:pt x="1419" y="220"/>
                      </a:lnTo>
                      <a:lnTo>
                        <a:pt x="1434" y="239"/>
                      </a:lnTo>
                      <a:lnTo>
                        <a:pt x="1456" y="253"/>
                      </a:lnTo>
                      <a:lnTo>
                        <a:pt x="1511" y="275"/>
                      </a:lnTo>
                      <a:lnTo>
                        <a:pt x="1568" y="289"/>
                      </a:lnTo>
                      <a:lnTo>
                        <a:pt x="1629" y="298"/>
                      </a:lnTo>
                      <a:lnTo>
                        <a:pt x="1692" y="301"/>
                      </a:lnTo>
                      <a:lnTo>
                        <a:pt x="1757" y="298"/>
                      </a:lnTo>
                      <a:lnTo>
                        <a:pt x="1822" y="291"/>
                      </a:lnTo>
                      <a:lnTo>
                        <a:pt x="1885" y="281"/>
                      </a:lnTo>
                      <a:lnTo>
                        <a:pt x="1949" y="268"/>
                      </a:lnTo>
                      <a:lnTo>
                        <a:pt x="2009" y="253"/>
                      </a:lnTo>
                      <a:lnTo>
                        <a:pt x="2067" y="238"/>
                      </a:lnTo>
                      <a:lnTo>
                        <a:pt x="2120" y="222"/>
                      </a:lnTo>
                      <a:lnTo>
                        <a:pt x="2169" y="206"/>
                      </a:lnTo>
                      <a:lnTo>
                        <a:pt x="2212" y="191"/>
                      </a:lnTo>
                      <a:lnTo>
                        <a:pt x="2248" y="180"/>
                      </a:lnTo>
                      <a:lnTo>
                        <a:pt x="2277" y="171"/>
                      </a:lnTo>
                      <a:lnTo>
                        <a:pt x="2297" y="166"/>
                      </a:lnTo>
                      <a:lnTo>
                        <a:pt x="2324" y="161"/>
                      </a:lnTo>
                      <a:lnTo>
                        <a:pt x="2346" y="163"/>
                      </a:lnTo>
                      <a:lnTo>
                        <a:pt x="2362" y="168"/>
                      </a:lnTo>
                      <a:lnTo>
                        <a:pt x="2375" y="179"/>
                      </a:lnTo>
                      <a:lnTo>
                        <a:pt x="2385" y="190"/>
                      </a:lnTo>
                      <a:lnTo>
                        <a:pt x="2396" y="203"/>
                      </a:lnTo>
                      <a:lnTo>
                        <a:pt x="2409" y="216"/>
                      </a:lnTo>
                      <a:lnTo>
                        <a:pt x="2425" y="229"/>
                      </a:lnTo>
                      <a:lnTo>
                        <a:pt x="2445" y="239"/>
                      </a:lnTo>
                      <a:lnTo>
                        <a:pt x="2468" y="246"/>
                      </a:lnTo>
                      <a:lnTo>
                        <a:pt x="2494" y="253"/>
                      </a:lnTo>
                      <a:lnTo>
                        <a:pt x="2522" y="261"/>
                      </a:lnTo>
                      <a:lnTo>
                        <a:pt x="2552" y="266"/>
                      </a:lnTo>
                      <a:lnTo>
                        <a:pt x="2584" y="271"/>
                      </a:lnTo>
                      <a:lnTo>
                        <a:pt x="2617" y="275"/>
                      </a:lnTo>
                      <a:lnTo>
                        <a:pt x="2653" y="278"/>
                      </a:lnTo>
                      <a:lnTo>
                        <a:pt x="2689" y="279"/>
                      </a:lnTo>
                      <a:lnTo>
                        <a:pt x="2726" y="281"/>
                      </a:lnTo>
                      <a:lnTo>
                        <a:pt x="2764" y="282"/>
                      </a:lnTo>
                      <a:lnTo>
                        <a:pt x="2802" y="282"/>
                      </a:lnTo>
                      <a:lnTo>
                        <a:pt x="2843" y="282"/>
                      </a:lnTo>
                      <a:lnTo>
                        <a:pt x="2882" y="282"/>
                      </a:lnTo>
                      <a:lnTo>
                        <a:pt x="2922" y="281"/>
                      </a:lnTo>
                      <a:lnTo>
                        <a:pt x="2961" y="279"/>
                      </a:lnTo>
                      <a:lnTo>
                        <a:pt x="3000" y="276"/>
                      </a:lnTo>
                      <a:lnTo>
                        <a:pt x="3037" y="275"/>
                      </a:lnTo>
                      <a:lnTo>
                        <a:pt x="3075" y="272"/>
                      </a:lnTo>
                      <a:lnTo>
                        <a:pt x="3112" y="269"/>
                      </a:lnTo>
                      <a:lnTo>
                        <a:pt x="3147" y="268"/>
                      </a:lnTo>
                      <a:lnTo>
                        <a:pt x="3180" y="265"/>
                      </a:lnTo>
                      <a:lnTo>
                        <a:pt x="3211" y="262"/>
                      </a:lnTo>
                      <a:lnTo>
                        <a:pt x="3242" y="259"/>
                      </a:lnTo>
                      <a:lnTo>
                        <a:pt x="3269" y="256"/>
                      </a:lnTo>
                      <a:lnTo>
                        <a:pt x="3295" y="253"/>
                      </a:lnTo>
                      <a:lnTo>
                        <a:pt x="3318" y="251"/>
                      </a:lnTo>
                      <a:lnTo>
                        <a:pt x="3338" y="248"/>
                      </a:lnTo>
                      <a:lnTo>
                        <a:pt x="3355" y="245"/>
                      </a:lnTo>
                      <a:lnTo>
                        <a:pt x="3370" y="243"/>
                      </a:lnTo>
                      <a:lnTo>
                        <a:pt x="3380" y="242"/>
                      </a:lnTo>
                      <a:lnTo>
                        <a:pt x="3387" y="240"/>
                      </a:lnTo>
                      <a:lnTo>
                        <a:pt x="3397" y="239"/>
                      </a:lnTo>
                      <a:lnTo>
                        <a:pt x="3407" y="236"/>
                      </a:lnTo>
                      <a:lnTo>
                        <a:pt x="3416" y="230"/>
                      </a:lnTo>
                      <a:lnTo>
                        <a:pt x="3423" y="225"/>
                      </a:lnTo>
                      <a:lnTo>
                        <a:pt x="3429" y="216"/>
                      </a:lnTo>
                      <a:lnTo>
                        <a:pt x="3433" y="207"/>
                      </a:lnTo>
                      <a:lnTo>
                        <a:pt x="3435" y="197"/>
                      </a:lnTo>
                      <a:lnTo>
                        <a:pt x="3436" y="187"/>
                      </a:lnTo>
                      <a:lnTo>
                        <a:pt x="3435" y="177"/>
                      </a:lnTo>
                      <a:lnTo>
                        <a:pt x="3430" y="168"/>
                      </a:lnTo>
                      <a:lnTo>
                        <a:pt x="3424" y="160"/>
                      </a:lnTo>
                      <a:lnTo>
                        <a:pt x="3417" y="153"/>
                      </a:lnTo>
                      <a:lnTo>
                        <a:pt x="3410" y="147"/>
                      </a:lnTo>
                      <a:lnTo>
                        <a:pt x="3401" y="143"/>
                      </a:lnTo>
                      <a:lnTo>
                        <a:pt x="3391" y="141"/>
                      </a:lnTo>
                      <a:lnTo>
                        <a:pt x="3381" y="141"/>
                      </a:lnTo>
                      <a:lnTo>
                        <a:pt x="3324" y="138"/>
                      </a:lnTo>
                      <a:lnTo>
                        <a:pt x="3260" y="138"/>
                      </a:lnTo>
                      <a:lnTo>
                        <a:pt x="3193" y="140"/>
                      </a:lnTo>
                      <a:lnTo>
                        <a:pt x="3124" y="143"/>
                      </a:lnTo>
                      <a:lnTo>
                        <a:pt x="3053" y="147"/>
                      </a:lnTo>
                      <a:lnTo>
                        <a:pt x="2982" y="151"/>
                      </a:lnTo>
                      <a:lnTo>
                        <a:pt x="2912" y="155"/>
                      </a:lnTo>
                      <a:lnTo>
                        <a:pt x="2843" y="160"/>
                      </a:lnTo>
                      <a:lnTo>
                        <a:pt x="2776" y="164"/>
                      </a:lnTo>
                      <a:lnTo>
                        <a:pt x="2716" y="167"/>
                      </a:lnTo>
                      <a:lnTo>
                        <a:pt x="2660" y="167"/>
                      </a:lnTo>
                      <a:lnTo>
                        <a:pt x="2611" y="167"/>
                      </a:lnTo>
                      <a:lnTo>
                        <a:pt x="2568" y="163"/>
                      </a:lnTo>
                      <a:lnTo>
                        <a:pt x="2535" y="157"/>
                      </a:lnTo>
                      <a:lnTo>
                        <a:pt x="2512" y="147"/>
                      </a:lnTo>
                      <a:lnTo>
                        <a:pt x="2499" y="134"/>
                      </a:lnTo>
                      <a:lnTo>
                        <a:pt x="2483" y="107"/>
                      </a:lnTo>
                      <a:lnTo>
                        <a:pt x="2461" y="83"/>
                      </a:lnTo>
                      <a:lnTo>
                        <a:pt x="2435" y="68"/>
                      </a:lnTo>
                      <a:lnTo>
                        <a:pt x="2406" y="56"/>
                      </a:lnTo>
                      <a:lnTo>
                        <a:pt x="2375" y="49"/>
                      </a:lnTo>
                      <a:lnTo>
                        <a:pt x="2342" y="46"/>
                      </a:lnTo>
                      <a:lnTo>
                        <a:pt x="2307" y="47"/>
                      </a:lnTo>
                      <a:lnTo>
                        <a:pt x="2271" y="53"/>
                      </a:lnTo>
                      <a:lnTo>
                        <a:pt x="2234" y="60"/>
                      </a:lnTo>
                      <a:lnTo>
                        <a:pt x="2196" y="69"/>
                      </a:lnTo>
                      <a:lnTo>
                        <a:pt x="2160" y="78"/>
                      </a:lnTo>
                      <a:lnTo>
                        <a:pt x="2123" y="86"/>
                      </a:lnTo>
                      <a:lnTo>
                        <a:pt x="2088" y="95"/>
                      </a:lnTo>
                      <a:lnTo>
                        <a:pt x="2052" y="105"/>
                      </a:lnTo>
                      <a:lnTo>
                        <a:pt x="2016" y="114"/>
                      </a:lnTo>
                      <a:lnTo>
                        <a:pt x="1982" y="124"/>
                      </a:lnTo>
                      <a:lnTo>
                        <a:pt x="1946" y="134"/>
                      </a:lnTo>
                      <a:lnTo>
                        <a:pt x="1911" y="144"/>
                      </a:lnTo>
                      <a:lnTo>
                        <a:pt x="1877" y="153"/>
                      </a:lnTo>
                      <a:lnTo>
                        <a:pt x="1841" y="163"/>
                      </a:lnTo>
                      <a:lnTo>
                        <a:pt x="1805" y="173"/>
                      </a:lnTo>
                      <a:lnTo>
                        <a:pt x="1769" y="181"/>
                      </a:lnTo>
                      <a:lnTo>
                        <a:pt x="1733" y="191"/>
                      </a:lnTo>
                      <a:lnTo>
                        <a:pt x="1695" y="200"/>
                      </a:lnTo>
                      <a:lnTo>
                        <a:pt x="1671" y="204"/>
                      </a:lnTo>
                      <a:lnTo>
                        <a:pt x="1646" y="207"/>
                      </a:lnTo>
                      <a:lnTo>
                        <a:pt x="1625" y="206"/>
                      </a:lnTo>
                      <a:lnTo>
                        <a:pt x="1603" y="203"/>
                      </a:lnTo>
                      <a:lnTo>
                        <a:pt x="1583" y="197"/>
                      </a:lnTo>
                      <a:lnTo>
                        <a:pt x="1564" y="190"/>
                      </a:lnTo>
                      <a:lnTo>
                        <a:pt x="1545" y="181"/>
                      </a:lnTo>
                      <a:lnTo>
                        <a:pt x="1528" y="171"/>
                      </a:lnTo>
                      <a:lnTo>
                        <a:pt x="1511" y="158"/>
                      </a:lnTo>
                      <a:lnTo>
                        <a:pt x="1495" y="145"/>
                      </a:lnTo>
                      <a:lnTo>
                        <a:pt x="1479" y="131"/>
                      </a:lnTo>
                      <a:lnTo>
                        <a:pt x="1463" y="117"/>
                      </a:lnTo>
                      <a:lnTo>
                        <a:pt x="1447" y="101"/>
                      </a:lnTo>
                      <a:lnTo>
                        <a:pt x="1432" y="85"/>
                      </a:lnTo>
                      <a:lnTo>
                        <a:pt x="1416" y="69"/>
                      </a:lnTo>
                      <a:lnTo>
                        <a:pt x="1400" y="53"/>
                      </a:lnTo>
                      <a:lnTo>
                        <a:pt x="1385" y="40"/>
                      </a:lnTo>
                      <a:lnTo>
                        <a:pt x="1370" y="30"/>
                      </a:lnTo>
                      <a:lnTo>
                        <a:pt x="1352" y="20"/>
                      </a:lnTo>
                      <a:lnTo>
                        <a:pt x="1335" y="13"/>
                      </a:lnTo>
                      <a:lnTo>
                        <a:pt x="1318" y="9"/>
                      </a:lnTo>
                      <a:lnTo>
                        <a:pt x="1299" y="4"/>
                      </a:lnTo>
                      <a:lnTo>
                        <a:pt x="1279" y="1"/>
                      </a:lnTo>
                      <a:lnTo>
                        <a:pt x="1260" y="0"/>
                      </a:lnTo>
                      <a:lnTo>
                        <a:pt x="1240" y="0"/>
                      </a:lnTo>
                      <a:lnTo>
                        <a:pt x="1220" y="0"/>
                      </a:lnTo>
                      <a:lnTo>
                        <a:pt x="1200" y="3"/>
                      </a:lnTo>
                      <a:lnTo>
                        <a:pt x="1180" y="4"/>
                      </a:lnTo>
                      <a:lnTo>
                        <a:pt x="1159" y="7"/>
                      </a:lnTo>
                      <a:lnTo>
                        <a:pt x="1139" y="11"/>
                      </a:lnTo>
                      <a:lnTo>
                        <a:pt x="1119" y="16"/>
                      </a:lnTo>
                      <a:lnTo>
                        <a:pt x="1100" y="20"/>
                      </a:lnTo>
                      <a:lnTo>
                        <a:pt x="1043" y="35"/>
                      </a:lnTo>
                      <a:lnTo>
                        <a:pt x="985" y="50"/>
                      </a:lnTo>
                      <a:lnTo>
                        <a:pt x="928" y="68"/>
                      </a:lnTo>
                      <a:lnTo>
                        <a:pt x="871" y="83"/>
                      </a:lnTo>
                      <a:lnTo>
                        <a:pt x="817" y="101"/>
                      </a:lnTo>
                      <a:lnTo>
                        <a:pt x="761" y="119"/>
                      </a:lnTo>
                      <a:lnTo>
                        <a:pt x="706" y="137"/>
                      </a:lnTo>
                      <a:lnTo>
                        <a:pt x="650" y="154"/>
                      </a:lnTo>
                      <a:lnTo>
                        <a:pt x="595" y="173"/>
                      </a:lnTo>
                      <a:lnTo>
                        <a:pt x="539" y="190"/>
                      </a:lnTo>
                      <a:lnTo>
                        <a:pt x="484" y="207"/>
                      </a:lnTo>
                      <a:lnTo>
                        <a:pt x="428" y="225"/>
                      </a:lnTo>
                      <a:lnTo>
                        <a:pt x="372" y="240"/>
                      </a:lnTo>
                      <a:lnTo>
                        <a:pt x="314" y="256"/>
                      </a:lnTo>
                      <a:lnTo>
                        <a:pt x="257" y="272"/>
                      </a:lnTo>
                      <a:lnTo>
                        <a:pt x="198" y="287"/>
                      </a:lnTo>
                      <a:lnTo>
                        <a:pt x="172" y="291"/>
                      </a:lnTo>
                      <a:lnTo>
                        <a:pt x="147" y="291"/>
                      </a:lnTo>
                      <a:lnTo>
                        <a:pt x="124" y="288"/>
                      </a:lnTo>
                      <a:lnTo>
                        <a:pt x="100" y="282"/>
                      </a:lnTo>
                      <a:lnTo>
                        <a:pt x="77" y="275"/>
                      </a:lnTo>
                      <a:lnTo>
                        <a:pt x="54" y="266"/>
                      </a:lnTo>
                      <a:lnTo>
                        <a:pt x="32" y="256"/>
                      </a:lnTo>
                      <a:lnTo>
                        <a:pt x="9" y="246"/>
                      </a:lnTo>
                      <a:lnTo>
                        <a:pt x="9" y="246"/>
                      </a:lnTo>
                      <a:lnTo>
                        <a:pt x="6" y="245"/>
                      </a:lnTo>
                      <a:lnTo>
                        <a:pt x="5" y="245"/>
                      </a:lnTo>
                      <a:lnTo>
                        <a:pt x="3" y="248"/>
                      </a:lnTo>
                      <a:lnTo>
                        <a:pt x="2" y="249"/>
                      </a:lnTo>
                      <a:lnTo>
                        <a:pt x="0" y="251"/>
                      </a:lnTo>
                      <a:lnTo>
                        <a:pt x="2" y="253"/>
                      </a:lnTo>
                      <a:lnTo>
                        <a:pt x="3" y="255"/>
                      </a:lnTo>
                      <a:lnTo>
                        <a:pt x="5" y="256"/>
                      </a:lnTo>
                      <a:lnTo>
                        <a:pt x="5" y="256"/>
                      </a:lnTo>
                      <a:close/>
                    </a:path>
                  </a:pathLst>
                </a:custGeom>
                <a:solidFill>
                  <a:srgbClr val="3366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 name=""/>
                <p:cNvSpPr/>
                <p:nvPr/>
              </p:nvSpPr>
              <p:spPr>
                <a:xfrm>
                  <a:off x="3114720" y="3581280"/>
                  <a:ext cx="341280" cy="51120"/>
                </a:xfrm>
                <a:custGeom>
                  <a:avLst/>
                  <a:gdLst/>
                  <a:ahLst/>
                  <a:rect l="l" t="t" r="r" b="b"/>
                  <a:pathLst>
                    <a:path w="2766" h="380">
                      <a:moveTo>
                        <a:pt x="3" y="227"/>
                      </a:moveTo>
                      <a:lnTo>
                        <a:pt x="26" y="238"/>
                      </a:lnTo>
                      <a:lnTo>
                        <a:pt x="49" y="245"/>
                      </a:lnTo>
                      <a:lnTo>
                        <a:pt x="72" y="252"/>
                      </a:lnTo>
                      <a:lnTo>
                        <a:pt x="95" y="258"/>
                      </a:lnTo>
                      <a:lnTo>
                        <a:pt x="118" y="262"/>
                      </a:lnTo>
                      <a:lnTo>
                        <a:pt x="142" y="265"/>
                      </a:lnTo>
                      <a:lnTo>
                        <a:pt x="167" y="266"/>
                      </a:lnTo>
                      <a:lnTo>
                        <a:pt x="190" y="268"/>
                      </a:lnTo>
                      <a:lnTo>
                        <a:pt x="214" y="269"/>
                      </a:lnTo>
                      <a:lnTo>
                        <a:pt x="239" y="269"/>
                      </a:lnTo>
                      <a:lnTo>
                        <a:pt x="263" y="268"/>
                      </a:lnTo>
                      <a:lnTo>
                        <a:pt x="288" y="268"/>
                      </a:lnTo>
                      <a:lnTo>
                        <a:pt x="312" y="266"/>
                      </a:lnTo>
                      <a:lnTo>
                        <a:pt x="335" y="265"/>
                      </a:lnTo>
                      <a:lnTo>
                        <a:pt x="360" y="262"/>
                      </a:lnTo>
                      <a:lnTo>
                        <a:pt x="384" y="261"/>
                      </a:lnTo>
                      <a:lnTo>
                        <a:pt x="422" y="258"/>
                      </a:lnTo>
                      <a:lnTo>
                        <a:pt x="459" y="255"/>
                      </a:lnTo>
                      <a:lnTo>
                        <a:pt x="498" y="251"/>
                      </a:lnTo>
                      <a:lnTo>
                        <a:pt x="536" y="246"/>
                      </a:lnTo>
                      <a:lnTo>
                        <a:pt x="576" y="242"/>
                      </a:lnTo>
                      <a:lnTo>
                        <a:pt x="615" y="238"/>
                      </a:lnTo>
                      <a:lnTo>
                        <a:pt x="654" y="232"/>
                      </a:lnTo>
                      <a:lnTo>
                        <a:pt x="694" y="226"/>
                      </a:lnTo>
                      <a:lnTo>
                        <a:pt x="733" y="220"/>
                      </a:lnTo>
                      <a:lnTo>
                        <a:pt x="773" y="215"/>
                      </a:lnTo>
                      <a:lnTo>
                        <a:pt x="812" y="207"/>
                      </a:lnTo>
                      <a:lnTo>
                        <a:pt x="851" y="202"/>
                      </a:lnTo>
                      <a:lnTo>
                        <a:pt x="888" y="194"/>
                      </a:lnTo>
                      <a:lnTo>
                        <a:pt x="927" y="189"/>
                      </a:lnTo>
                      <a:lnTo>
                        <a:pt x="963" y="181"/>
                      </a:lnTo>
                      <a:lnTo>
                        <a:pt x="1001" y="176"/>
                      </a:lnTo>
                      <a:lnTo>
                        <a:pt x="1035" y="168"/>
                      </a:lnTo>
                      <a:lnTo>
                        <a:pt x="1071" y="161"/>
                      </a:lnTo>
                      <a:lnTo>
                        <a:pt x="1104" y="155"/>
                      </a:lnTo>
                      <a:lnTo>
                        <a:pt x="1137" y="150"/>
                      </a:lnTo>
                      <a:lnTo>
                        <a:pt x="1168" y="143"/>
                      </a:lnTo>
                      <a:lnTo>
                        <a:pt x="1198" y="137"/>
                      </a:lnTo>
                      <a:lnTo>
                        <a:pt x="1227" y="131"/>
                      </a:lnTo>
                      <a:lnTo>
                        <a:pt x="1254" y="125"/>
                      </a:lnTo>
                      <a:lnTo>
                        <a:pt x="1279" y="121"/>
                      </a:lnTo>
                      <a:lnTo>
                        <a:pt x="1303" y="115"/>
                      </a:lnTo>
                      <a:lnTo>
                        <a:pt x="1325" y="111"/>
                      </a:lnTo>
                      <a:lnTo>
                        <a:pt x="1345" y="107"/>
                      </a:lnTo>
                      <a:lnTo>
                        <a:pt x="1362" y="104"/>
                      </a:lnTo>
                      <a:lnTo>
                        <a:pt x="1378" y="99"/>
                      </a:lnTo>
                      <a:lnTo>
                        <a:pt x="1391" y="98"/>
                      </a:lnTo>
                      <a:lnTo>
                        <a:pt x="1402" y="95"/>
                      </a:lnTo>
                      <a:lnTo>
                        <a:pt x="1438" y="88"/>
                      </a:lnTo>
                      <a:lnTo>
                        <a:pt x="1471" y="79"/>
                      </a:lnTo>
                      <a:lnTo>
                        <a:pt x="1502" y="73"/>
                      </a:lnTo>
                      <a:lnTo>
                        <a:pt x="1526" y="69"/>
                      </a:lnTo>
                      <a:lnTo>
                        <a:pt x="1548" y="68"/>
                      </a:lnTo>
                      <a:lnTo>
                        <a:pt x="1564" y="71"/>
                      </a:lnTo>
                      <a:lnTo>
                        <a:pt x="1575" y="78"/>
                      </a:lnTo>
                      <a:lnTo>
                        <a:pt x="1581" y="91"/>
                      </a:lnTo>
                      <a:lnTo>
                        <a:pt x="1585" y="111"/>
                      </a:lnTo>
                      <a:lnTo>
                        <a:pt x="1595" y="141"/>
                      </a:lnTo>
                      <a:lnTo>
                        <a:pt x="1610" y="174"/>
                      </a:lnTo>
                      <a:lnTo>
                        <a:pt x="1630" y="209"/>
                      </a:lnTo>
                      <a:lnTo>
                        <a:pt x="1659" y="243"/>
                      </a:lnTo>
                      <a:lnTo>
                        <a:pt x="1696" y="271"/>
                      </a:lnTo>
                      <a:lnTo>
                        <a:pt x="1744" y="291"/>
                      </a:lnTo>
                      <a:lnTo>
                        <a:pt x="1803" y="298"/>
                      </a:lnTo>
                      <a:lnTo>
                        <a:pt x="1859" y="297"/>
                      </a:lnTo>
                      <a:lnTo>
                        <a:pt x="1911" y="294"/>
                      </a:lnTo>
                      <a:lnTo>
                        <a:pt x="1963" y="289"/>
                      </a:lnTo>
                      <a:lnTo>
                        <a:pt x="2011" y="284"/>
                      </a:lnTo>
                      <a:lnTo>
                        <a:pt x="2060" y="278"/>
                      </a:lnTo>
                      <a:lnTo>
                        <a:pt x="2108" y="272"/>
                      </a:lnTo>
                      <a:lnTo>
                        <a:pt x="2157" y="268"/>
                      </a:lnTo>
                      <a:lnTo>
                        <a:pt x="2206" y="263"/>
                      </a:lnTo>
                      <a:lnTo>
                        <a:pt x="2256" y="263"/>
                      </a:lnTo>
                      <a:lnTo>
                        <a:pt x="2310" y="266"/>
                      </a:lnTo>
                      <a:lnTo>
                        <a:pt x="2364" y="272"/>
                      </a:lnTo>
                      <a:lnTo>
                        <a:pt x="2423" y="282"/>
                      </a:lnTo>
                      <a:lnTo>
                        <a:pt x="2485" y="297"/>
                      </a:lnTo>
                      <a:lnTo>
                        <a:pt x="2551" y="317"/>
                      </a:lnTo>
                      <a:lnTo>
                        <a:pt x="2623" y="344"/>
                      </a:lnTo>
                      <a:lnTo>
                        <a:pt x="2700" y="377"/>
                      </a:lnTo>
                      <a:lnTo>
                        <a:pt x="2710" y="380"/>
                      </a:lnTo>
                      <a:lnTo>
                        <a:pt x="2720" y="380"/>
                      </a:lnTo>
                      <a:lnTo>
                        <a:pt x="2730" y="379"/>
                      </a:lnTo>
                      <a:lnTo>
                        <a:pt x="2739" y="374"/>
                      </a:lnTo>
                      <a:lnTo>
                        <a:pt x="2747" y="367"/>
                      </a:lnTo>
                      <a:lnTo>
                        <a:pt x="2755" y="360"/>
                      </a:lnTo>
                      <a:lnTo>
                        <a:pt x="2760" y="351"/>
                      </a:lnTo>
                      <a:lnTo>
                        <a:pt x="2765" y="341"/>
                      </a:lnTo>
                      <a:lnTo>
                        <a:pt x="2766" y="331"/>
                      </a:lnTo>
                      <a:lnTo>
                        <a:pt x="2766" y="321"/>
                      </a:lnTo>
                      <a:lnTo>
                        <a:pt x="2763" y="311"/>
                      </a:lnTo>
                      <a:lnTo>
                        <a:pt x="2760" y="302"/>
                      </a:lnTo>
                      <a:lnTo>
                        <a:pt x="2755" y="294"/>
                      </a:lnTo>
                      <a:lnTo>
                        <a:pt x="2747" y="287"/>
                      </a:lnTo>
                      <a:lnTo>
                        <a:pt x="2739" y="282"/>
                      </a:lnTo>
                      <a:lnTo>
                        <a:pt x="2729" y="278"/>
                      </a:lnTo>
                      <a:lnTo>
                        <a:pt x="2674" y="255"/>
                      </a:lnTo>
                      <a:lnTo>
                        <a:pt x="2621" y="235"/>
                      </a:lnTo>
                      <a:lnTo>
                        <a:pt x="2566" y="217"/>
                      </a:lnTo>
                      <a:lnTo>
                        <a:pt x="2513" y="202"/>
                      </a:lnTo>
                      <a:lnTo>
                        <a:pt x="2458" y="189"/>
                      </a:lnTo>
                      <a:lnTo>
                        <a:pt x="2403" y="177"/>
                      </a:lnTo>
                      <a:lnTo>
                        <a:pt x="2348" y="168"/>
                      </a:lnTo>
                      <a:lnTo>
                        <a:pt x="2294" y="161"/>
                      </a:lnTo>
                      <a:lnTo>
                        <a:pt x="2238" y="158"/>
                      </a:lnTo>
                      <a:lnTo>
                        <a:pt x="2180" y="157"/>
                      </a:lnTo>
                      <a:lnTo>
                        <a:pt x="2122" y="158"/>
                      </a:lnTo>
                      <a:lnTo>
                        <a:pt x="2065" y="161"/>
                      </a:lnTo>
                      <a:lnTo>
                        <a:pt x="2006" y="167"/>
                      </a:lnTo>
                      <a:lnTo>
                        <a:pt x="1945" y="176"/>
                      </a:lnTo>
                      <a:lnTo>
                        <a:pt x="1883" y="187"/>
                      </a:lnTo>
                      <a:lnTo>
                        <a:pt x="1820" y="202"/>
                      </a:lnTo>
                      <a:lnTo>
                        <a:pt x="1807" y="203"/>
                      </a:lnTo>
                      <a:lnTo>
                        <a:pt x="1794" y="204"/>
                      </a:lnTo>
                      <a:lnTo>
                        <a:pt x="1781" y="204"/>
                      </a:lnTo>
                      <a:lnTo>
                        <a:pt x="1770" y="203"/>
                      </a:lnTo>
                      <a:lnTo>
                        <a:pt x="1757" y="200"/>
                      </a:lnTo>
                      <a:lnTo>
                        <a:pt x="1745" y="196"/>
                      </a:lnTo>
                      <a:lnTo>
                        <a:pt x="1735" y="190"/>
                      </a:lnTo>
                      <a:lnTo>
                        <a:pt x="1725" y="183"/>
                      </a:lnTo>
                      <a:lnTo>
                        <a:pt x="1702" y="157"/>
                      </a:lnTo>
                      <a:lnTo>
                        <a:pt x="1682" y="127"/>
                      </a:lnTo>
                      <a:lnTo>
                        <a:pt x="1666" y="95"/>
                      </a:lnTo>
                      <a:lnTo>
                        <a:pt x="1649" y="65"/>
                      </a:lnTo>
                      <a:lnTo>
                        <a:pt x="1630" y="37"/>
                      </a:lnTo>
                      <a:lnTo>
                        <a:pt x="1605" y="16"/>
                      </a:lnTo>
                      <a:lnTo>
                        <a:pt x="1572" y="3"/>
                      </a:lnTo>
                      <a:lnTo>
                        <a:pt x="1529" y="0"/>
                      </a:lnTo>
                      <a:lnTo>
                        <a:pt x="1482" y="4"/>
                      </a:lnTo>
                      <a:lnTo>
                        <a:pt x="1433" y="10"/>
                      </a:lnTo>
                      <a:lnTo>
                        <a:pt x="1385" y="17"/>
                      </a:lnTo>
                      <a:lnTo>
                        <a:pt x="1338" y="24"/>
                      </a:lnTo>
                      <a:lnTo>
                        <a:pt x="1290" y="33"/>
                      </a:lnTo>
                      <a:lnTo>
                        <a:pt x="1243" y="42"/>
                      </a:lnTo>
                      <a:lnTo>
                        <a:pt x="1195" y="52"/>
                      </a:lnTo>
                      <a:lnTo>
                        <a:pt x="1148" y="63"/>
                      </a:lnTo>
                      <a:lnTo>
                        <a:pt x="1100" y="75"/>
                      </a:lnTo>
                      <a:lnTo>
                        <a:pt x="1054" y="85"/>
                      </a:lnTo>
                      <a:lnTo>
                        <a:pt x="1006" y="98"/>
                      </a:lnTo>
                      <a:lnTo>
                        <a:pt x="959" y="109"/>
                      </a:lnTo>
                      <a:lnTo>
                        <a:pt x="911" y="121"/>
                      </a:lnTo>
                      <a:lnTo>
                        <a:pt x="865" y="132"/>
                      </a:lnTo>
                      <a:lnTo>
                        <a:pt x="818" y="144"/>
                      </a:lnTo>
                      <a:lnTo>
                        <a:pt x="770" y="155"/>
                      </a:lnTo>
                      <a:lnTo>
                        <a:pt x="723" y="167"/>
                      </a:lnTo>
                      <a:lnTo>
                        <a:pt x="677" y="177"/>
                      </a:lnTo>
                      <a:lnTo>
                        <a:pt x="629" y="187"/>
                      </a:lnTo>
                      <a:lnTo>
                        <a:pt x="582" y="197"/>
                      </a:lnTo>
                      <a:lnTo>
                        <a:pt x="534" y="206"/>
                      </a:lnTo>
                      <a:lnTo>
                        <a:pt x="487" y="213"/>
                      </a:lnTo>
                      <a:lnTo>
                        <a:pt x="439" y="219"/>
                      </a:lnTo>
                      <a:lnTo>
                        <a:pt x="392" y="225"/>
                      </a:lnTo>
                      <a:lnTo>
                        <a:pt x="344" y="229"/>
                      </a:lnTo>
                      <a:lnTo>
                        <a:pt x="296" y="232"/>
                      </a:lnTo>
                      <a:lnTo>
                        <a:pt x="249" y="233"/>
                      </a:lnTo>
                      <a:lnTo>
                        <a:pt x="201" y="233"/>
                      </a:lnTo>
                      <a:lnTo>
                        <a:pt x="154" y="232"/>
                      </a:lnTo>
                      <a:lnTo>
                        <a:pt x="105" y="229"/>
                      </a:lnTo>
                      <a:lnTo>
                        <a:pt x="57" y="223"/>
                      </a:lnTo>
                      <a:lnTo>
                        <a:pt x="8" y="216"/>
                      </a:lnTo>
                      <a:lnTo>
                        <a:pt x="8" y="216"/>
                      </a:lnTo>
                      <a:lnTo>
                        <a:pt x="6" y="216"/>
                      </a:lnTo>
                      <a:lnTo>
                        <a:pt x="4" y="216"/>
                      </a:lnTo>
                      <a:lnTo>
                        <a:pt x="1" y="217"/>
                      </a:lnTo>
                      <a:lnTo>
                        <a:pt x="0" y="219"/>
                      </a:lnTo>
                      <a:lnTo>
                        <a:pt x="0" y="222"/>
                      </a:lnTo>
                      <a:lnTo>
                        <a:pt x="0" y="223"/>
                      </a:lnTo>
                      <a:lnTo>
                        <a:pt x="1" y="226"/>
                      </a:lnTo>
                      <a:lnTo>
                        <a:pt x="3" y="227"/>
                      </a:lnTo>
                      <a:lnTo>
                        <a:pt x="3" y="227"/>
                      </a:lnTo>
                      <a:close/>
                    </a:path>
                  </a:pathLst>
                </a:custGeom>
                <a:solidFill>
                  <a:srgbClr val="3366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 name=""/>
                <p:cNvSpPr/>
                <p:nvPr/>
              </p:nvSpPr>
              <p:spPr>
                <a:xfrm>
                  <a:off x="2576520" y="3570480"/>
                  <a:ext cx="106200" cy="90360"/>
                </a:xfrm>
                <a:custGeom>
                  <a:avLst/>
                  <a:gdLst/>
                  <a:ahLst/>
                  <a:rect l="l" t="t" r="r" b="b"/>
                  <a:pathLst>
                    <a:path w="863" h="698">
                      <a:moveTo>
                        <a:pt x="862" y="358"/>
                      </a:moveTo>
                      <a:lnTo>
                        <a:pt x="849" y="327"/>
                      </a:lnTo>
                      <a:lnTo>
                        <a:pt x="836" y="295"/>
                      </a:lnTo>
                      <a:lnTo>
                        <a:pt x="821" y="265"/>
                      </a:lnTo>
                      <a:lnTo>
                        <a:pt x="805" y="235"/>
                      </a:lnTo>
                      <a:lnTo>
                        <a:pt x="788" y="207"/>
                      </a:lnTo>
                      <a:lnTo>
                        <a:pt x="769" y="180"/>
                      </a:lnTo>
                      <a:lnTo>
                        <a:pt x="749" y="155"/>
                      </a:lnTo>
                      <a:lnTo>
                        <a:pt x="726" y="131"/>
                      </a:lnTo>
                      <a:lnTo>
                        <a:pt x="702" y="109"/>
                      </a:lnTo>
                      <a:lnTo>
                        <a:pt x="676" y="88"/>
                      </a:lnTo>
                      <a:lnTo>
                        <a:pt x="646" y="69"/>
                      </a:lnTo>
                      <a:lnTo>
                        <a:pt x="614" y="53"/>
                      </a:lnTo>
                      <a:lnTo>
                        <a:pt x="579" y="37"/>
                      </a:lnTo>
                      <a:lnTo>
                        <a:pt x="542" y="24"/>
                      </a:lnTo>
                      <a:lnTo>
                        <a:pt x="500" y="14"/>
                      </a:lnTo>
                      <a:lnTo>
                        <a:pt x="455" y="6"/>
                      </a:lnTo>
                      <a:lnTo>
                        <a:pt x="409" y="1"/>
                      </a:lnTo>
                      <a:lnTo>
                        <a:pt x="365" y="0"/>
                      </a:lnTo>
                      <a:lnTo>
                        <a:pt x="322" y="3"/>
                      </a:lnTo>
                      <a:lnTo>
                        <a:pt x="281" y="11"/>
                      </a:lnTo>
                      <a:lnTo>
                        <a:pt x="241" y="21"/>
                      </a:lnTo>
                      <a:lnTo>
                        <a:pt x="203" y="37"/>
                      </a:lnTo>
                      <a:lnTo>
                        <a:pt x="169" y="55"/>
                      </a:lnTo>
                      <a:lnTo>
                        <a:pt x="136" y="76"/>
                      </a:lnTo>
                      <a:lnTo>
                        <a:pt x="107" y="99"/>
                      </a:lnTo>
                      <a:lnTo>
                        <a:pt x="80" y="127"/>
                      </a:lnTo>
                      <a:lnTo>
                        <a:pt x="57" y="155"/>
                      </a:lnTo>
                      <a:lnTo>
                        <a:pt x="38" y="187"/>
                      </a:lnTo>
                      <a:lnTo>
                        <a:pt x="22" y="220"/>
                      </a:lnTo>
                      <a:lnTo>
                        <a:pt x="11" y="255"/>
                      </a:lnTo>
                      <a:lnTo>
                        <a:pt x="3" y="292"/>
                      </a:lnTo>
                      <a:lnTo>
                        <a:pt x="0" y="330"/>
                      </a:lnTo>
                      <a:lnTo>
                        <a:pt x="2" y="367"/>
                      </a:lnTo>
                      <a:lnTo>
                        <a:pt x="8" y="404"/>
                      </a:lnTo>
                      <a:lnTo>
                        <a:pt x="15" y="439"/>
                      </a:lnTo>
                      <a:lnTo>
                        <a:pt x="26" y="471"/>
                      </a:lnTo>
                      <a:lnTo>
                        <a:pt x="39" y="502"/>
                      </a:lnTo>
                      <a:lnTo>
                        <a:pt x="57" y="531"/>
                      </a:lnTo>
                      <a:lnTo>
                        <a:pt x="74" y="557"/>
                      </a:lnTo>
                      <a:lnTo>
                        <a:pt x="94" y="582"/>
                      </a:lnTo>
                      <a:lnTo>
                        <a:pt x="116" y="605"/>
                      </a:lnTo>
                      <a:lnTo>
                        <a:pt x="139" y="625"/>
                      </a:lnTo>
                      <a:lnTo>
                        <a:pt x="162" y="642"/>
                      </a:lnTo>
                      <a:lnTo>
                        <a:pt x="186" y="658"/>
                      </a:lnTo>
                      <a:lnTo>
                        <a:pt x="212" y="671"/>
                      </a:lnTo>
                      <a:lnTo>
                        <a:pt x="237" y="682"/>
                      </a:lnTo>
                      <a:lnTo>
                        <a:pt x="262" y="690"/>
                      </a:lnTo>
                      <a:lnTo>
                        <a:pt x="287" y="695"/>
                      </a:lnTo>
                      <a:lnTo>
                        <a:pt x="313" y="698"/>
                      </a:lnTo>
                      <a:lnTo>
                        <a:pt x="339" y="698"/>
                      </a:lnTo>
                      <a:lnTo>
                        <a:pt x="365" y="695"/>
                      </a:lnTo>
                      <a:lnTo>
                        <a:pt x="391" y="690"/>
                      </a:lnTo>
                      <a:lnTo>
                        <a:pt x="417" y="682"/>
                      </a:lnTo>
                      <a:lnTo>
                        <a:pt x="442" y="674"/>
                      </a:lnTo>
                      <a:lnTo>
                        <a:pt x="466" y="662"/>
                      </a:lnTo>
                      <a:lnTo>
                        <a:pt x="487" y="649"/>
                      </a:lnTo>
                      <a:lnTo>
                        <a:pt x="507" y="635"/>
                      </a:lnTo>
                      <a:lnTo>
                        <a:pt x="523" y="619"/>
                      </a:lnTo>
                      <a:lnTo>
                        <a:pt x="538" y="603"/>
                      </a:lnTo>
                      <a:lnTo>
                        <a:pt x="548" y="586"/>
                      </a:lnTo>
                      <a:lnTo>
                        <a:pt x="555" y="567"/>
                      </a:lnTo>
                      <a:lnTo>
                        <a:pt x="556" y="548"/>
                      </a:lnTo>
                      <a:lnTo>
                        <a:pt x="553" y="528"/>
                      </a:lnTo>
                      <a:lnTo>
                        <a:pt x="546" y="510"/>
                      </a:lnTo>
                      <a:lnTo>
                        <a:pt x="527" y="478"/>
                      </a:lnTo>
                      <a:lnTo>
                        <a:pt x="516" y="458"/>
                      </a:lnTo>
                      <a:lnTo>
                        <a:pt x="506" y="448"/>
                      </a:lnTo>
                      <a:lnTo>
                        <a:pt x="500" y="445"/>
                      </a:lnTo>
                      <a:lnTo>
                        <a:pt x="494" y="451"/>
                      </a:lnTo>
                      <a:lnTo>
                        <a:pt x="487" y="461"/>
                      </a:lnTo>
                      <a:lnTo>
                        <a:pt x="476" y="474"/>
                      </a:lnTo>
                      <a:lnTo>
                        <a:pt x="461" y="488"/>
                      </a:lnTo>
                      <a:lnTo>
                        <a:pt x="453" y="495"/>
                      </a:lnTo>
                      <a:lnTo>
                        <a:pt x="441" y="501"/>
                      </a:lnTo>
                      <a:lnTo>
                        <a:pt x="431" y="507"/>
                      </a:lnTo>
                      <a:lnTo>
                        <a:pt x="419" y="512"/>
                      </a:lnTo>
                      <a:lnTo>
                        <a:pt x="406" y="517"/>
                      </a:lnTo>
                      <a:lnTo>
                        <a:pt x="394" y="520"/>
                      </a:lnTo>
                      <a:lnTo>
                        <a:pt x="379" y="523"/>
                      </a:lnTo>
                      <a:lnTo>
                        <a:pt x="365" y="524"/>
                      </a:lnTo>
                      <a:lnTo>
                        <a:pt x="349" y="524"/>
                      </a:lnTo>
                      <a:lnTo>
                        <a:pt x="334" y="523"/>
                      </a:lnTo>
                      <a:lnTo>
                        <a:pt x="317" y="520"/>
                      </a:lnTo>
                      <a:lnTo>
                        <a:pt x="301" y="515"/>
                      </a:lnTo>
                      <a:lnTo>
                        <a:pt x="284" y="511"/>
                      </a:lnTo>
                      <a:lnTo>
                        <a:pt x="265" y="504"/>
                      </a:lnTo>
                      <a:lnTo>
                        <a:pt x="248" y="494"/>
                      </a:lnTo>
                      <a:lnTo>
                        <a:pt x="229" y="484"/>
                      </a:lnTo>
                      <a:lnTo>
                        <a:pt x="193" y="458"/>
                      </a:lnTo>
                      <a:lnTo>
                        <a:pt x="162" y="426"/>
                      </a:lnTo>
                      <a:lnTo>
                        <a:pt x="139" y="390"/>
                      </a:lnTo>
                      <a:lnTo>
                        <a:pt x="127" y="351"/>
                      </a:lnTo>
                      <a:lnTo>
                        <a:pt x="130" y="308"/>
                      </a:lnTo>
                      <a:lnTo>
                        <a:pt x="152" y="262"/>
                      </a:lnTo>
                      <a:lnTo>
                        <a:pt x="195" y="216"/>
                      </a:lnTo>
                      <a:lnTo>
                        <a:pt x="262" y="167"/>
                      </a:lnTo>
                      <a:lnTo>
                        <a:pt x="303" y="145"/>
                      </a:lnTo>
                      <a:lnTo>
                        <a:pt x="345" y="131"/>
                      </a:lnTo>
                      <a:lnTo>
                        <a:pt x="386" y="121"/>
                      </a:lnTo>
                      <a:lnTo>
                        <a:pt x="430" y="116"/>
                      </a:lnTo>
                      <a:lnTo>
                        <a:pt x="471" y="118"/>
                      </a:lnTo>
                      <a:lnTo>
                        <a:pt x="512" y="124"/>
                      </a:lnTo>
                      <a:lnTo>
                        <a:pt x="552" y="132"/>
                      </a:lnTo>
                      <a:lnTo>
                        <a:pt x="592" y="147"/>
                      </a:lnTo>
                      <a:lnTo>
                        <a:pt x="631" y="165"/>
                      </a:lnTo>
                      <a:lnTo>
                        <a:pt x="667" y="187"/>
                      </a:lnTo>
                      <a:lnTo>
                        <a:pt x="702" y="211"/>
                      </a:lnTo>
                      <a:lnTo>
                        <a:pt x="735" y="239"/>
                      </a:lnTo>
                      <a:lnTo>
                        <a:pt x="765" y="269"/>
                      </a:lnTo>
                      <a:lnTo>
                        <a:pt x="794" y="301"/>
                      </a:lnTo>
                      <a:lnTo>
                        <a:pt x="818" y="335"/>
                      </a:lnTo>
                      <a:lnTo>
                        <a:pt x="840" y="371"/>
                      </a:lnTo>
                      <a:lnTo>
                        <a:pt x="844" y="374"/>
                      </a:lnTo>
                      <a:lnTo>
                        <a:pt x="849" y="377"/>
                      </a:lnTo>
                      <a:lnTo>
                        <a:pt x="853" y="377"/>
                      </a:lnTo>
                      <a:lnTo>
                        <a:pt x="857" y="374"/>
                      </a:lnTo>
                      <a:lnTo>
                        <a:pt x="860" y="371"/>
                      </a:lnTo>
                      <a:lnTo>
                        <a:pt x="863" y="367"/>
                      </a:lnTo>
                      <a:lnTo>
                        <a:pt x="863" y="363"/>
                      </a:lnTo>
                      <a:lnTo>
                        <a:pt x="862" y="358"/>
                      </a:lnTo>
                      <a:lnTo>
                        <a:pt x="862" y="358"/>
                      </a:lnTo>
                      <a:close/>
                    </a:path>
                  </a:pathLst>
                </a:custGeom>
                <a:solidFill>
                  <a:srgbClr val="3366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a:off x="2670120" y="3622680"/>
                  <a:ext cx="93600" cy="74520"/>
                </a:xfrm>
                <a:custGeom>
                  <a:avLst/>
                  <a:gdLst/>
                  <a:ahLst/>
                  <a:rect l="l" t="t" r="r" b="b"/>
                  <a:pathLst>
                    <a:path w="768" h="570">
                      <a:moveTo>
                        <a:pt x="766" y="312"/>
                      </a:moveTo>
                      <a:lnTo>
                        <a:pt x="751" y="278"/>
                      </a:lnTo>
                      <a:lnTo>
                        <a:pt x="732" y="243"/>
                      </a:lnTo>
                      <a:lnTo>
                        <a:pt x="710" y="211"/>
                      </a:lnTo>
                      <a:lnTo>
                        <a:pt x="686" y="181"/>
                      </a:lnTo>
                      <a:lnTo>
                        <a:pt x="661" y="152"/>
                      </a:lnTo>
                      <a:lnTo>
                        <a:pt x="633" y="125"/>
                      </a:lnTo>
                      <a:lnTo>
                        <a:pt x="604" y="100"/>
                      </a:lnTo>
                      <a:lnTo>
                        <a:pt x="574" y="77"/>
                      </a:lnTo>
                      <a:lnTo>
                        <a:pt x="542" y="57"/>
                      </a:lnTo>
                      <a:lnTo>
                        <a:pt x="509" y="40"/>
                      </a:lnTo>
                      <a:lnTo>
                        <a:pt x="474" y="26"/>
                      </a:lnTo>
                      <a:lnTo>
                        <a:pt x="440" y="14"/>
                      </a:lnTo>
                      <a:lnTo>
                        <a:pt x="404" y="5"/>
                      </a:lnTo>
                      <a:lnTo>
                        <a:pt x="369" y="1"/>
                      </a:lnTo>
                      <a:lnTo>
                        <a:pt x="333" y="0"/>
                      </a:lnTo>
                      <a:lnTo>
                        <a:pt x="297" y="1"/>
                      </a:lnTo>
                      <a:lnTo>
                        <a:pt x="237" y="10"/>
                      </a:lnTo>
                      <a:lnTo>
                        <a:pt x="193" y="17"/>
                      </a:lnTo>
                      <a:lnTo>
                        <a:pt x="165" y="23"/>
                      </a:lnTo>
                      <a:lnTo>
                        <a:pt x="147" y="30"/>
                      </a:lnTo>
                      <a:lnTo>
                        <a:pt x="139" y="34"/>
                      </a:lnTo>
                      <a:lnTo>
                        <a:pt x="137" y="39"/>
                      </a:lnTo>
                      <a:lnTo>
                        <a:pt x="137" y="40"/>
                      </a:lnTo>
                      <a:lnTo>
                        <a:pt x="139" y="41"/>
                      </a:lnTo>
                      <a:lnTo>
                        <a:pt x="104" y="64"/>
                      </a:lnTo>
                      <a:lnTo>
                        <a:pt x="74" y="90"/>
                      </a:lnTo>
                      <a:lnTo>
                        <a:pt x="48" y="119"/>
                      </a:lnTo>
                      <a:lnTo>
                        <a:pt x="28" y="152"/>
                      </a:lnTo>
                      <a:lnTo>
                        <a:pt x="13" y="187"/>
                      </a:lnTo>
                      <a:lnTo>
                        <a:pt x="3" y="226"/>
                      </a:lnTo>
                      <a:lnTo>
                        <a:pt x="0" y="266"/>
                      </a:lnTo>
                      <a:lnTo>
                        <a:pt x="5" y="311"/>
                      </a:lnTo>
                      <a:lnTo>
                        <a:pt x="12" y="342"/>
                      </a:lnTo>
                      <a:lnTo>
                        <a:pt x="23" y="373"/>
                      </a:lnTo>
                      <a:lnTo>
                        <a:pt x="38" y="403"/>
                      </a:lnTo>
                      <a:lnTo>
                        <a:pt x="55" y="430"/>
                      </a:lnTo>
                      <a:lnTo>
                        <a:pt x="75" y="458"/>
                      </a:lnTo>
                      <a:lnTo>
                        <a:pt x="98" y="483"/>
                      </a:lnTo>
                      <a:lnTo>
                        <a:pt x="123" y="505"/>
                      </a:lnTo>
                      <a:lnTo>
                        <a:pt x="150" y="525"/>
                      </a:lnTo>
                      <a:lnTo>
                        <a:pt x="178" y="543"/>
                      </a:lnTo>
                      <a:lnTo>
                        <a:pt x="208" y="555"/>
                      </a:lnTo>
                      <a:lnTo>
                        <a:pt x="238" y="564"/>
                      </a:lnTo>
                      <a:lnTo>
                        <a:pt x="270" y="570"/>
                      </a:lnTo>
                      <a:lnTo>
                        <a:pt x="301" y="570"/>
                      </a:lnTo>
                      <a:lnTo>
                        <a:pt x="333" y="566"/>
                      </a:lnTo>
                      <a:lnTo>
                        <a:pt x="365" y="557"/>
                      </a:lnTo>
                      <a:lnTo>
                        <a:pt x="396" y="541"/>
                      </a:lnTo>
                      <a:lnTo>
                        <a:pt x="408" y="537"/>
                      </a:lnTo>
                      <a:lnTo>
                        <a:pt x="418" y="531"/>
                      </a:lnTo>
                      <a:lnTo>
                        <a:pt x="425" y="524"/>
                      </a:lnTo>
                      <a:lnTo>
                        <a:pt x="432" y="515"/>
                      </a:lnTo>
                      <a:lnTo>
                        <a:pt x="437" y="505"/>
                      </a:lnTo>
                      <a:lnTo>
                        <a:pt x="440" y="495"/>
                      </a:lnTo>
                      <a:lnTo>
                        <a:pt x="440" y="483"/>
                      </a:lnTo>
                      <a:lnTo>
                        <a:pt x="438" y="472"/>
                      </a:lnTo>
                      <a:lnTo>
                        <a:pt x="434" y="462"/>
                      </a:lnTo>
                      <a:lnTo>
                        <a:pt x="427" y="452"/>
                      </a:lnTo>
                      <a:lnTo>
                        <a:pt x="419" y="443"/>
                      </a:lnTo>
                      <a:lnTo>
                        <a:pt x="409" y="437"/>
                      </a:lnTo>
                      <a:lnTo>
                        <a:pt x="399" y="433"/>
                      </a:lnTo>
                      <a:lnTo>
                        <a:pt x="389" y="430"/>
                      </a:lnTo>
                      <a:lnTo>
                        <a:pt x="378" y="430"/>
                      </a:lnTo>
                      <a:lnTo>
                        <a:pt x="366" y="433"/>
                      </a:lnTo>
                      <a:lnTo>
                        <a:pt x="347" y="437"/>
                      </a:lnTo>
                      <a:lnTo>
                        <a:pt x="329" y="439"/>
                      </a:lnTo>
                      <a:lnTo>
                        <a:pt x="309" y="437"/>
                      </a:lnTo>
                      <a:lnTo>
                        <a:pt x="288" y="436"/>
                      </a:lnTo>
                      <a:lnTo>
                        <a:pt x="268" y="432"/>
                      </a:lnTo>
                      <a:lnTo>
                        <a:pt x="250" y="424"/>
                      </a:lnTo>
                      <a:lnTo>
                        <a:pt x="231" y="417"/>
                      </a:lnTo>
                      <a:lnTo>
                        <a:pt x="212" y="407"/>
                      </a:lnTo>
                      <a:lnTo>
                        <a:pt x="196" y="397"/>
                      </a:lnTo>
                      <a:lnTo>
                        <a:pt x="180" y="384"/>
                      </a:lnTo>
                      <a:lnTo>
                        <a:pt x="167" y="371"/>
                      </a:lnTo>
                      <a:lnTo>
                        <a:pt x="154" y="357"/>
                      </a:lnTo>
                      <a:lnTo>
                        <a:pt x="146" y="341"/>
                      </a:lnTo>
                      <a:lnTo>
                        <a:pt x="139" y="324"/>
                      </a:lnTo>
                      <a:lnTo>
                        <a:pt x="136" y="306"/>
                      </a:lnTo>
                      <a:lnTo>
                        <a:pt x="134" y="288"/>
                      </a:lnTo>
                      <a:lnTo>
                        <a:pt x="143" y="252"/>
                      </a:lnTo>
                      <a:lnTo>
                        <a:pt x="162" y="221"/>
                      </a:lnTo>
                      <a:lnTo>
                        <a:pt x="186" y="194"/>
                      </a:lnTo>
                      <a:lnTo>
                        <a:pt x="216" y="171"/>
                      </a:lnTo>
                      <a:lnTo>
                        <a:pt x="245" y="154"/>
                      </a:lnTo>
                      <a:lnTo>
                        <a:pt x="270" y="139"/>
                      </a:lnTo>
                      <a:lnTo>
                        <a:pt x="287" y="132"/>
                      </a:lnTo>
                      <a:lnTo>
                        <a:pt x="294" y="129"/>
                      </a:lnTo>
                      <a:lnTo>
                        <a:pt x="294" y="128"/>
                      </a:lnTo>
                      <a:lnTo>
                        <a:pt x="293" y="126"/>
                      </a:lnTo>
                      <a:lnTo>
                        <a:pt x="291" y="126"/>
                      </a:lnTo>
                      <a:lnTo>
                        <a:pt x="291" y="125"/>
                      </a:lnTo>
                      <a:lnTo>
                        <a:pt x="324" y="122"/>
                      </a:lnTo>
                      <a:lnTo>
                        <a:pt x="358" y="122"/>
                      </a:lnTo>
                      <a:lnTo>
                        <a:pt x="391" y="124"/>
                      </a:lnTo>
                      <a:lnTo>
                        <a:pt x="422" y="128"/>
                      </a:lnTo>
                      <a:lnTo>
                        <a:pt x="454" y="134"/>
                      </a:lnTo>
                      <a:lnTo>
                        <a:pt x="486" y="142"/>
                      </a:lnTo>
                      <a:lnTo>
                        <a:pt x="516" y="152"/>
                      </a:lnTo>
                      <a:lnTo>
                        <a:pt x="546" y="165"/>
                      </a:lnTo>
                      <a:lnTo>
                        <a:pt x="575" y="180"/>
                      </a:lnTo>
                      <a:lnTo>
                        <a:pt x="602" y="196"/>
                      </a:lnTo>
                      <a:lnTo>
                        <a:pt x="630" y="214"/>
                      </a:lnTo>
                      <a:lnTo>
                        <a:pt x="656" y="233"/>
                      </a:lnTo>
                      <a:lnTo>
                        <a:pt x="680" y="255"/>
                      </a:lnTo>
                      <a:lnTo>
                        <a:pt x="705" y="278"/>
                      </a:lnTo>
                      <a:lnTo>
                        <a:pt x="726" y="301"/>
                      </a:lnTo>
                      <a:lnTo>
                        <a:pt x="748" y="327"/>
                      </a:lnTo>
                      <a:lnTo>
                        <a:pt x="751" y="329"/>
                      </a:lnTo>
                      <a:lnTo>
                        <a:pt x="755" y="331"/>
                      </a:lnTo>
                      <a:lnTo>
                        <a:pt x="759" y="331"/>
                      </a:lnTo>
                      <a:lnTo>
                        <a:pt x="762" y="329"/>
                      </a:lnTo>
                      <a:lnTo>
                        <a:pt x="765" y="327"/>
                      </a:lnTo>
                      <a:lnTo>
                        <a:pt x="768" y="322"/>
                      </a:lnTo>
                      <a:lnTo>
                        <a:pt x="768" y="316"/>
                      </a:lnTo>
                      <a:lnTo>
                        <a:pt x="766" y="312"/>
                      </a:lnTo>
                      <a:lnTo>
                        <a:pt x="766" y="312"/>
                      </a:lnTo>
                      <a:close/>
                    </a:path>
                  </a:pathLst>
                </a:custGeom>
                <a:solidFill>
                  <a:srgbClr val="3366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 name=""/>
                <p:cNvSpPr/>
                <p:nvPr/>
              </p:nvSpPr>
              <p:spPr>
                <a:xfrm>
                  <a:off x="2490840" y="3521160"/>
                  <a:ext cx="106200" cy="84240"/>
                </a:xfrm>
                <a:custGeom>
                  <a:avLst/>
                  <a:gdLst/>
                  <a:ahLst/>
                  <a:rect l="l" t="t" r="r" b="b"/>
                  <a:pathLst>
                    <a:path w="867" h="641">
                      <a:moveTo>
                        <a:pt x="864" y="184"/>
                      </a:moveTo>
                      <a:lnTo>
                        <a:pt x="827" y="145"/>
                      </a:lnTo>
                      <a:lnTo>
                        <a:pt x="783" y="111"/>
                      </a:lnTo>
                      <a:lnTo>
                        <a:pt x="737" y="79"/>
                      </a:lnTo>
                      <a:lnTo>
                        <a:pt x="688" y="55"/>
                      </a:lnTo>
                      <a:lnTo>
                        <a:pt x="637" y="33"/>
                      </a:lnTo>
                      <a:lnTo>
                        <a:pt x="582" y="17"/>
                      </a:lnTo>
                      <a:lnTo>
                        <a:pt x="527" y="6"/>
                      </a:lnTo>
                      <a:lnTo>
                        <a:pt x="471" y="0"/>
                      </a:lnTo>
                      <a:lnTo>
                        <a:pt x="415" y="0"/>
                      </a:lnTo>
                      <a:lnTo>
                        <a:pt x="360" y="6"/>
                      </a:lnTo>
                      <a:lnTo>
                        <a:pt x="305" y="17"/>
                      </a:lnTo>
                      <a:lnTo>
                        <a:pt x="253" y="33"/>
                      </a:lnTo>
                      <a:lnTo>
                        <a:pt x="203" y="56"/>
                      </a:lnTo>
                      <a:lnTo>
                        <a:pt x="156" y="85"/>
                      </a:lnTo>
                      <a:lnTo>
                        <a:pt x="112" y="121"/>
                      </a:lnTo>
                      <a:lnTo>
                        <a:pt x="73" y="163"/>
                      </a:lnTo>
                      <a:lnTo>
                        <a:pt x="50" y="194"/>
                      </a:lnTo>
                      <a:lnTo>
                        <a:pt x="32" y="226"/>
                      </a:lnTo>
                      <a:lnTo>
                        <a:pt x="16" y="261"/>
                      </a:lnTo>
                      <a:lnTo>
                        <a:pt x="6" y="297"/>
                      </a:lnTo>
                      <a:lnTo>
                        <a:pt x="0" y="335"/>
                      </a:lnTo>
                      <a:lnTo>
                        <a:pt x="1" y="376"/>
                      </a:lnTo>
                      <a:lnTo>
                        <a:pt x="7" y="419"/>
                      </a:lnTo>
                      <a:lnTo>
                        <a:pt x="20" y="466"/>
                      </a:lnTo>
                      <a:lnTo>
                        <a:pt x="29" y="489"/>
                      </a:lnTo>
                      <a:lnTo>
                        <a:pt x="40" y="511"/>
                      </a:lnTo>
                      <a:lnTo>
                        <a:pt x="55" y="530"/>
                      </a:lnTo>
                      <a:lnTo>
                        <a:pt x="71" y="547"/>
                      </a:lnTo>
                      <a:lnTo>
                        <a:pt x="88" y="563"/>
                      </a:lnTo>
                      <a:lnTo>
                        <a:pt x="108" y="577"/>
                      </a:lnTo>
                      <a:lnTo>
                        <a:pt x="128" y="590"/>
                      </a:lnTo>
                      <a:lnTo>
                        <a:pt x="150" y="600"/>
                      </a:lnTo>
                      <a:lnTo>
                        <a:pt x="173" y="610"/>
                      </a:lnTo>
                      <a:lnTo>
                        <a:pt x="196" y="619"/>
                      </a:lnTo>
                      <a:lnTo>
                        <a:pt x="220" y="625"/>
                      </a:lnTo>
                      <a:lnTo>
                        <a:pt x="245" y="631"/>
                      </a:lnTo>
                      <a:lnTo>
                        <a:pt x="268" y="635"/>
                      </a:lnTo>
                      <a:lnTo>
                        <a:pt x="292" y="638"/>
                      </a:lnTo>
                      <a:lnTo>
                        <a:pt x="317" y="639"/>
                      </a:lnTo>
                      <a:lnTo>
                        <a:pt x="340" y="641"/>
                      </a:lnTo>
                      <a:lnTo>
                        <a:pt x="364" y="639"/>
                      </a:lnTo>
                      <a:lnTo>
                        <a:pt x="389" y="635"/>
                      </a:lnTo>
                      <a:lnTo>
                        <a:pt x="413" y="629"/>
                      </a:lnTo>
                      <a:lnTo>
                        <a:pt x="436" y="619"/>
                      </a:lnTo>
                      <a:lnTo>
                        <a:pt x="459" y="608"/>
                      </a:lnTo>
                      <a:lnTo>
                        <a:pt x="482" y="595"/>
                      </a:lnTo>
                      <a:lnTo>
                        <a:pt x="503" y="579"/>
                      </a:lnTo>
                      <a:lnTo>
                        <a:pt x="521" y="561"/>
                      </a:lnTo>
                      <a:lnTo>
                        <a:pt x="539" y="543"/>
                      </a:lnTo>
                      <a:lnTo>
                        <a:pt x="553" y="523"/>
                      </a:lnTo>
                      <a:lnTo>
                        <a:pt x="565" y="501"/>
                      </a:lnTo>
                      <a:lnTo>
                        <a:pt x="575" y="478"/>
                      </a:lnTo>
                      <a:lnTo>
                        <a:pt x="580" y="453"/>
                      </a:lnTo>
                      <a:lnTo>
                        <a:pt x="582" y="428"/>
                      </a:lnTo>
                      <a:lnTo>
                        <a:pt x="580" y="402"/>
                      </a:lnTo>
                      <a:lnTo>
                        <a:pt x="575" y="374"/>
                      </a:lnTo>
                      <a:lnTo>
                        <a:pt x="572" y="364"/>
                      </a:lnTo>
                      <a:lnTo>
                        <a:pt x="567" y="354"/>
                      </a:lnTo>
                      <a:lnTo>
                        <a:pt x="563" y="345"/>
                      </a:lnTo>
                      <a:lnTo>
                        <a:pt x="559" y="338"/>
                      </a:lnTo>
                      <a:lnTo>
                        <a:pt x="553" y="331"/>
                      </a:lnTo>
                      <a:lnTo>
                        <a:pt x="547" y="325"/>
                      </a:lnTo>
                      <a:lnTo>
                        <a:pt x="540" y="322"/>
                      </a:lnTo>
                      <a:lnTo>
                        <a:pt x="531" y="320"/>
                      </a:lnTo>
                      <a:lnTo>
                        <a:pt x="524" y="320"/>
                      </a:lnTo>
                      <a:lnTo>
                        <a:pt x="516" y="321"/>
                      </a:lnTo>
                      <a:lnTo>
                        <a:pt x="508" y="324"/>
                      </a:lnTo>
                      <a:lnTo>
                        <a:pt x="500" y="328"/>
                      </a:lnTo>
                      <a:lnTo>
                        <a:pt x="493" y="334"/>
                      </a:lnTo>
                      <a:lnTo>
                        <a:pt x="485" y="341"/>
                      </a:lnTo>
                      <a:lnTo>
                        <a:pt x="480" y="351"/>
                      </a:lnTo>
                      <a:lnTo>
                        <a:pt x="475" y="363"/>
                      </a:lnTo>
                      <a:lnTo>
                        <a:pt x="467" y="383"/>
                      </a:lnTo>
                      <a:lnTo>
                        <a:pt x="455" y="403"/>
                      </a:lnTo>
                      <a:lnTo>
                        <a:pt x="439" y="422"/>
                      </a:lnTo>
                      <a:lnTo>
                        <a:pt x="421" y="439"/>
                      </a:lnTo>
                      <a:lnTo>
                        <a:pt x="400" y="453"/>
                      </a:lnTo>
                      <a:lnTo>
                        <a:pt x="377" y="466"/>
                      </a:lnTo>
                      <a:lnTo>
                        <a:pt x="353" y="476"/>
                      </a:lnTo>
                      <a:lnTo>
                        <a:pt x="327" y="484"/>
                      </a:lnTo>
                      <a:lnTo>
                        <a:pt x="301" y="488"/>
                      </a:lnTo>
                      <a:lnTo>
                        <a:pt x="275" y="488"/>
                      </a:lnTo>
                      <a:lnTo>
                        <a:pt x="249" y="485"/>
                      </a:lnTo>
                      <a:lnTo>
                        <a:pt x="225" y="476"/>
                      </a:lnTo>
                      <a:lnTo>
                        <a:pt x="202" y="464"/>
                      </a:lnTo>
                      <a:lnTo>
                        <a:pt x="181" y="446"/>
                      </a:lnTo>
                      <a:lnTo>
                        <a:pt x="163" y="423"/>
                      </a:lnTo>
                      <a:lnTo>
                        <a:pt x="147" y="394"/>
                      </a:lnTo>
                      <a:lnTo>
                        <a:pt x="138" y="366"/>
                      </a:lnTo>
                      <a:lnTo>
                        <a:pt x="138" y="338"/>
                      </a:lnTo>
                      <a:lnTo>
                        <a:pt x="145" y="309"/>
                      </a:lnTo>
                      <a:lnTo>
                        <a:pt x="158" y="281"/>
                      </a:lnTo>
                      <a:lnTo>
                        <a:pt x="177" y="253"/>
                      </a:lnTo>
                      <a:lnTo>
                        <a:pt x="202" y="227"/>
                      </a:lnTo>
                      <a:lnTo>
                        <a:pt x="229" y="203"/>
                      </a:lnTo>
                      <a:lnTo>
                        <a:pt x="261" y="180"/>
                      </a:lnTo>
                      <a:lnTo>
                        <a:pt x="295" y="158"/>
                      </a:lnTo>
                      <a:lnTo>
                        <a:pt x="333" y="140"/>
                      </a:lnTo>
                      <a:lnTo>
                        <a:pt x="370" y="124"/>
                      </a:lnTo>
                      <a:lnTo>
                        <a:pt x="409" y="112"/>
                      </a:lnTo>
                      <a:lnTo>
                        <a:pt x="448" y="102"/>
                      </a:lnTo>
                      <a:lnTo>
                        <a:pt x="485" y="96"/>
                      </a:lnTo>
                      <a:lnTo>
                        <a:pt x="521" y="95"/>
                      </a:lnTo>
                      <a:lnTo>
                        <a:pt x="556" y="98"/>
                      </a:lnTo>
                      <a:lnTo>
                        <a:pt x="575" y="101"/>
                      </a:lnTo>
                      <a:lnTo>
                        <a:pt x="593" y="104"/>
                      </a:lnTo>
                      <a:lnTo>
                        <a:pt x="613" y="108"/>
                      </a:lnTo>
                      <a:lnTo>
                        <a:pt x="632" y="111"/>
                      </a:lnTo>
                      <a:lnTo>
                        <a:pt x="652" y="114"/>
                      </a:lnTo>
                      <a:lnTo>
                        <a:pt x="671" y="118"/>
                      </a:lnTo>
                      <a:lnTo>
                        <a:pt x="690" y="122"/>
                      </a:lnTo>
                      <a:lnTo>
                        <a:pt x="709" y="128"/>
                      </a:lnTo>
                      <a:lnTo>
                        <a:pt x="727" y="134"/>
                      </a:lnTo>
                      <a:lnTo>
                        <a:pt x="746" y="140"/>
                      </a:lnTo>
                      <a:lnTo>
                        <a:pt x="765" y="147"/>
                      </a:lnTo>
                      <a:lnTo>
                        <a:pt x="782" y="155"/>
                      </a:lnTo>
                      <a:lnTo>
                        <a:pt x="799" y="165"/>
                      </a:lnTo>
                      <a:lnTo>
                        <a:pt x="817" y="176"/>
                      </a:lnTo>
                      <a:lnTo>
                        <a:pt x="832" y="189"/>
                      </a:lnTo>
                      <a:lnTo>
                        <a:pt x="848" y="201"/>
                      </a:lnTo>
                      <a:lnTo>
                        <a:pt x="853" y="204"/>
                      </a:lnTo>
                      <a:lnTo>
                        <a:pt x="857" y="204"/>
                      </a:lnTo>
                      <a:lnTo>
                        <a:pt x="860" y="204"/>
                      </a:lnTo>
                      <a:lnTo>
                        <a:pt x="864" y="201"/>
                      </a:lnTo>
                      <a:lnTo>
                        <a:pt x="867" y="197"/>
                      </a:lnTo>
                      <a:lnTo>
                        <a:pt x="867" y="193"/>
                      </a:lnTo>
                      <a:lnTo>
                        <a:pt x="867" y="189"/>
                      </a:lnTo>
                      <a:lnTo>
                        <a:pt x="864" y="184"/>
                      </a:lnTo>
                      <a:lnTo>
                        <a:pt x="864" y="184"/>
                      </a:lnTo>
                      <a:close/>
                    </a:path>
                  </a:pathLst>
                </a:custGeom>
                <a:solidFill>
                  <a:srgbClr val="3366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57" name=""/>
            <p:cNvGrpSpPr/>
            <p:nvPr/>
          </p:nvGrpSpPr>
          <p:grpSpPr>
            <a:xfrm>
              <a:off x="757080" y="2563920"/>
              <a:ext cx="677880" cy="252360"/>
              <a:chOff x="757080" y="2563920"/>
              <a:chExt cx="677880" cy="252360"/>
            </a:xfrm>
          </p:grpSpPr>
          <p:sp>
            <p:nvSpPr>
              <p:cNvPr id="158" name=""/>
              <p:cNvSpPr/>
              <p:nvPr/>
            </p:nvSpPr>
            <p:spPr>
              <a:xfrm>
                <a:off x="757080" y="2563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823680" y="2619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49120" y="2760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28720" y="2712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30520" y="2750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72600" y="2613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164" name=""/>
          <p:cNvGrpSpPr/>
          <p:nvPr/>
        </p:nvGrpSpPr>
        <p:grpSpPr>
          <a:xfrm>
            <a:off x="3314880" y="2533680"/>
            <a:ext cx="2530440" cy="1495440"/>
            <a:chOff x="3314880" y="2533680"/>
            <a:chExt cx="2530440" cy="1495440"/>
          </a:xfrm>
        </p:grpSpPr>
        <p:sp>
          <p:nvSpPr>
            <p:cNvPr id="165" name=""/>
            <p:cNvSpPr/>
            <p:nvPr/>
          </p:nvSpPr>
          <p:spPr>
            <a:xfrm>
              <a:off x="5075280" y="3448080"/>
              <a:ext cx="770040" cy="581040"/>
            </a:xfrm>
            <a:custGeom>
              <a:avLst/>
              <a:gdLst/>
              <a:ahLst/>
              <a:rect l="l" t="t" r="r" b="b"/>
              <a:pathLst>
                <a:path w="485" h="366">
                  <a:moveTo>
                    <a:pt x="49" y="0"/>
                  </a:moveTo>
                  <a:cubicBezTo>
                    <a:pt x="24" y="76"/>
                    <a:pt x="0" y="153"/>
                    <a:pt x="61" y="180"/>
                  </a:cubicBezTo>
                  <a:cubicBezTo>
                    <a:pt x="122" y="207"/>
                    <a:pt x="345" y="131"/>
                    <a:pt x="415" y="162"/>
                  </a:cubicBezTo>
                  <a:cubicBezTo>
                    <a:pt x="485" y="193"/>
                    <a:pt x="470" y="332"/>
                    <a:pt x="481" y="36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3314880" y="2533680"/>
              <a:ext cx="1752480" cy="1076400"/>
              <a:chOff x="3314880" y="2533680"/>
              <a:chExt cx="1752480" cy="1076400"/>
            </a:xfrm>
          </p:grpSpPr>
          <p:sp>
            <p:nvSpPr>
              <p:cNvPr id="167" name=""/>
              <p:cNvSpPr/>
              <p:nvPr/>
            </p:nvSpPr>
            <p:spPr>
              <a:xfrm>
                <a:off x="3314880" y="253368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14880" y="253368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99840" y="3163680"/>
                <a:ext cx="103320" cy="2232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3552120" y="3403800"/>
                <a:ext cx="42480" cy="1116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3953880" y="3465000"/>
                <a:ext cx="30240" cy="4428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2" name=""/>
              <p:cNvSpPr/>
              <p:nvPr/>
            </p:nvSpPr>
            <p:spPr>
              <a:xfrm>
                <a:off x="4471200" y="3398040"/>
                <a:ext cx="11880" cy="500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3" name=""/>
              <p:cNvSpPr/>
              <p:nvPr/>
            </p:nvSpPr>
            <p:spPr>
              <a:xfrm>
                <a:off x="4702320" y="3108240"/>
                <a:ext cx="127800" cy="1728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951800" y="2912760"/>
                <a:ext cx="60840" cy="666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4866480" y="2667240"/>
                <a:ext cx="6120" cy="3348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4495320" y="2589120"/>
                <a:ext cx="30240" cy="4428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 name=""/>
              <p:cNvSpPr/>
              <p:nvPr/>
            </p:nvSpPr>
            <p:spPr>
              <a:xfrm flipH="1">
                <a:off x="4209480" y="2617200"/>
                <a:ext cx="18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 name=""/>
              <p:cNvSpPr/>
              <p:nvPr/>
            </p:nvSpPr>
            <p:spPr>
              <a:xfrm flipH="1" flipV="1">
                <a:off x="3880800" y="2661480"/>
                <a:ext cx="54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3472920" y="2890440"/>
                <a:ext cx="5760" cy="388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80" name=""/>
            <p:cNvGrpSpPr/>
            <p:nvPr/>
          </p:nvGrpSpPr>
          <p:grpSpPr>
            <a:xfrm>
              <a:off x="3397320" y="3367080"/>
              <a:ext cx="677880" cy="252360"/>
              <a:chOff x="3397320" y="3367080"/>
              <a:chExt cx="677880" cy="252360"/>
            </a:xfrm>
          </p:grpSpPr>
          <p:sp>
            <p:nvSpPr>
              <p:cNvPr id="181" name=""/>
              <p:cNvSpPr/>
              <p:nvPr/>
            </p:nvSpPr>
            <p:spPr>
              <a:xfrm>
                <a:off x="3397320" y="3367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463920" y="3422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9360" y="3563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8960" y="3516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70760" y="3553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12840" y="3416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87" name=""/>
            <p:cNvSpPr/>
            <p:nvPr/>
          </p:nvSpPr>
          <p:spPr>
            <a:xfrm>
              <a:off x="3705120" y="2762280"/>
              <a:ext cx="1038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ransit Network</a:t>
              </a:r>
              <a:endParaRPr b="0" lang="en-US" sz="1600" spc="-1" strike="noStrike">
                <a:solidFill>
                  <a:srgbClr val="000000"/>
                </a:solidFill>
                <a:latin typeface="Times New Roman"/>
              </a:endParaRPr>
            </a:p>
          </p:txBody>
        </p:sp>
        <p:grpSp>
          <p:nvGrpSpPr>
            <p:cNvPr id="188" name=""/>
            <p:cNvGrpSpPr/>
            <p:nvPr/>
          </p:nvGrpSpPr>
          <p:grpSpPr>
            <a:xfrm>
              <a:off x="4743360" y="3228840"/>
              <a:ext cx="677880" cy="252720"/>
              <a:chOff x="4743360" y="3228840"/>
              <a:chExt cx="677880" cy="252720"/>
            </a:xfrm>
          </p:grpSpPr>
          <p:sp>
            <p:nvSpPr>
              <p:cNvPr id="189" name=""/>
              <p:cNvSpPr/>
              <p:nvPr/>
            </p:nvSpPr>
            <p:spPr>
              <a:xfrm>
                <a:off x="4743360" y="3228840"/>
                <a:ext cx="677880" cy="252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4809600" y="3278160"/>
                <a:ext cx="597600" cy="147600"/>
                <a:chOff x="4809600" y="3278160"/>
                <a:chExt cx="597600" cy="147600"/>
              </a:xfrm>
            </p:grpSpPr>
            <p:sp>
              <p:nvSpPr>
                <p:cNvPr id="191" name=""/>
                <p:cNvSpPr/>
                <p:nvPr/>
              </p:nvSpPr>
              <p:spPr>
                <a:xfrm flipH="1">
                  <a:off x="4809600" y="328464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35400" y="34257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15000" y="3378240"/>
                  <a:ext cx="1886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16440" y="3414600"/>
                  <a:ext cx="1872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59240" y="3278160"/>
                  <a:ext cx="147960" cy="81000"/>
                </a:xfrm>
                <a:prstGeom prst="rect">
                  <a:avLst/>
                </a:prstGeom>
                <a:solidFill>
                  <a:srgbClr val="00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grpSp>
        <p:nvGrpSpPr>
          <p:cNvPr id="196" name=""/>
          <p:cNvGrpSpPr/>
          <p:nvPr/>
        </p:nvGrpSpPr>
        <p:grpSpPr>
          <a:xfrm>
            <a:off x="4572000" y="3962520"/>
            <a:ext cx="3983040" cy="1784880"/>
            <a:chOff x="4572000" y="3962520"/>
            <a:chExt cx="3983040" cy="1784880"/>
          </a:xfrm>
        </p:grpSpPr>
        <p:sp>
          <p:nvSpPr>
            <p:cNvPr id="197" name=""/>
            <p:cNvSpPr/>
            <p:nvPr/>
          </p:nvSpPr>
          <p:spPr>
            <a:xfrm>
              <a:off x="777240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19920" y="4191120"/>
              <a:ext cx="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7712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8148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5486400" y="3962520"/>
              <a:ext cx="677880" cy="252360"/>
              <a:chOff x="5486400" y="3962520"/>
              <a:chExt cx="677880" cy="252360"/>
            </a:xfrm>
          </p:grpSpPr>
          <p:sp>
            <p:nvSpPr>
              <p:cNvPr id="202" name=""/>
              <p:cNvSpPr/>
              <p:nvPr/>
            </p:nvSpPr>
            <p:spPr>
              <a:xfrm>
                <a:off x="5486400" y="39625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553000" y="40183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878440" y="41587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558040" y="41115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59840" y="41490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01920" y="40122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208" name=""/>
            <p:cNvSpPr/>
            <p:nvPr/>
          </p:nvSpPr>
          <p:spPr>
            <a:xfrm>
              <a:off x="4572000" y="4495680"/>
              <a:ext cx="38862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5943600" y="4648320"/>
              <a:ext cx="2590920" cy="1099080"/>
              <a:chOff x="5943600" y="4648320"/>
              <a:chExt cx="2590920" cy="1099080"/>
            </a:xfrm>
          </p:grpSpPr>
          <p:sp>
            <p:nvSpPr>
              <p:cNvPr id="210" name=""/>
              <p:cNvSpPr/>
              <p:nvPr/>
            </p:nvSpPr>
            <p:spPr>
              <a:xfrm>
                <a:off x="6638760" y="5092560"/>
                <a:ext cx="33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6019920" y="4648320"/>
                <a:ext cx="662040" cy="763560"/>
                <a:chOff x="6019920" y="4648320"/>
                <a:chExt cx="662040" cy="763560"/>
              </a:xfrm>
            </p:grpSpPr>
            <p:sp>
              <p:nvSpPr>
                <p:cNvPr id="212" name=""/>
                <p:cNvSpPr/>
                <p:nvPr/>
              </p:nvSpPr>
              <p:spPr>
                <a:xfrm>
                  <a:off x="6019920" y="4648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19920" y="4648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019920" y="4648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72120" y="4708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6" name=""/>
                <p:cNvSpPr/>
                <p:nvPr/>
              </p:nvSpPr>
              <p:spPr>
                <a:xfrm>
                  <a:off x="6019920" y="4800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75240" y="4692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8" name=""/>
                <p:cNvSpPr/>
                <p:nvPr/>
              </p:nvSpPr>
              <p:spPr>
                <a:xfrm>
                  <a:off x="6375240" y="4764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a:off x="6375240" y="4861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0" name=""/>
                <p:cNvSpPr/>
                <p:nvPr/>
              </p:nvSpPr>
              <p:spPr>
                <a:xfrm>
                  <a:off x="6375240" y="4933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1" name=""/>
                <p:cNvSpPr/>
                <p:nvPr/>
              </p:nvSpPr>
              <p:spPr>
                <a:xfrm>
                  <a:off x="6375240" y="4797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2" name=""/>
                <p:cNvSpPr/>
                <p:nvPr/>
              </p:nvSpPr>
              <p:spPr>
                <a:xfrm>
                  <a:off x="646236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 name=""/>
                <p:cNvSpPr/>
                <p:nvPr/>
              </p:nvSpPr>
              <p:spPr>
                <a:xfrm>
                  <a:off x="6539040" y="4797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4" name=""/>
                <p:cNvSpPr/>
                <p:nvPr/>
              </p:nvSpPr>
              <p:spPr>
                <a:xfrm>
                  <a:off x="662616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5" name=""/>
                <p:cNvSpPr/>
                <p:nvPr/>
              </p:nvSpPr>
              <p:spPr>
                <a:xfrm>
                  <a:off x="6375240" y="4989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6" name=""/>
                <p:cNvSpPr/>
                <p:nvPr/>
              </p:nvSpPr>
              <p:spPr>
                <a:xfrm>
                  <a:off x="646236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7" name=""/>
                <p:cNvSpPr/>
                <p:nvPr/>
              </p:nvSpPr>
              <p:spPr>
                <a:xfrm>
                  <a:off x="6539040" y="4989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8" name=""/>
                <p:cNvSpPr/>
                <p:nvPr/>
              </p:nvSpPr>
              <p:spPr>
                <a:xfrm>
                  <a:off x="662616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9" name=""/>
                <p:cNvSpPr/>
                <p:nvPr/>
              </p:nvSpPr>
              <p:spPr>
                <a:xfrm>
                  <a:off x="6354360" y="5146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54360" y="4648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6864480" y="4870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943600" y="541008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rvers: WWW, Email, DNS</a:t>
                </a:r>
                <a:endParaRPr b="0" lang="en-US" sz="1600" spc="-1" strike="noStrike">
                  <a:solidFill>
                    <a:srgbClr val="000000"/>
                  </a:solidFill>
                  <a:latin typeface="Times New Roman"/>
                </a:endParaRPr>
              </a:p>
            </p:txBody>
          </p:sp>
        </p:grpSp>
        <p:grpSp>
          <p:nvGrpSpPr>
            <p:cNvPr id="233" name=""/>
            <p:cNvGrpSpPr/>
            <p:nvPr/>
          </p:nvGrpSpPr>
          <p:grpSpPr>
            <a:xfrm>
              <a:off x="4619520" y="4699080"/>
              <a:ext cx="828720" cy="555480"/>
              <a:chOff x="4619520" y="4699080"/>
              <a:chExt cx="828720" cy="555480"/>
            </a:xfrm>
          </p:grpSpPr>
          <p:grpSp>
            <p:nvGrpSpPr>
              <p:cNvPr id="234" name=""/>
              <p:cNvGrpSpPr/>
              <p:nvPr/>
            </p:nvGrpSpPr>
            <p:grpSpPr>
              <a:xfrm>
                <a:off x="4686480" y="4699080"/>
                <a:ext cx="677880" cy="252360"/>
                <a:chOff x="4686480" y="4699080"/>
                <a:chExt cx="677880" cy="252360"/>
              </a:xfrm>
            </p:grpSpPr>
            <p:sp>
              <p:nvSpPr>
                <p:cNvPr id="235" name=""/>
                <p:cNvSpPr/>
                <p:nvPr/>
              </p:nvSpPr>
              <p:spPr>
                <a:xfrm>
                  <a:off x="4686480" y="4699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4753080" y="4754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78520" y="4895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58120" y="4848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59920" y="4885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02000" y="4748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241" name=""/>
              <p:cNvSpPr/>
              <p:nvPr/>
            </p:nvSpPr>
            <p:spPr>
              <a:xfrm>
                <a:off x="4619520" y="4886280"/>
                <a:ext cx="8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outer</a:t>
                </a:r>
                <a:endParaRPr b="0" lang="en-US" sz="1800" spc="-1" strike="noStrike">
                  <a:solidFill>
                    <a:srgbClr val="000000"/>
                  </a:solidFill>
                  <a:latin typeface="Times New Roman"/>
                </a:endParaRPr>
              </a:p>
            </p:txBody>
          </p:sp>
        </p:grpSp>
        <p:grpSp>
          <p:nvGrpSpPr>
            <p:cNvPr id="242" name=""/>
            <p:cNvGrpSpPr/>
            <p:nvPr/>
          </p:nvGrpSpPr>
          <p:grpSpPr>
            <a:xfrm>
              <a:off x="7315200" y="4648320"/>
              <a:ext cx="1239840" cy="763560"/>
              <a:chOff x="7315200" y="4648320"/>
              <a:chExt cx="1239840" cy="763560"/>
            </a:xfrm>
          </p:grpSpPr>
          <p:sp>
            <p:nvSpPr>
              <p:cNvPr id="243" name=""/>
              <p:cNvSpPr/>
              <p:nvPr/>
            </p:nvSpPr>
            <p:spPr>
              <a:xfrm>
                <a:off x="7934400" y="5092560"/>
                <a:ext cx="33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7315200" y="4648320"/>
                <a:ext cx="662040" cy="763560"/>
                <a:chOff x="7315200" y="4648320"/>
                <a:chExt cx="662040" cy="763560"/>
              </a:xfrm>
            </p:grpSpPr>
            <p:sp>
              <p:nvSpPr>
                <p:cNvPr id="245" name=""/>
                <p:cNvSpPr/>
                <p:nvPr/>
              </p:nvSpPr>
              <p:spPr>
                <a:xfrm>
                  <a:off x="7315200" y="4648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4648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15200" y="4648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67400" y="4708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9" name=""/>
                <p:cNvSpPr/>
                <p:nvPr/>
              </p:nvSpPr>
              <p:spPr>
                <a:xfrm>
                  <a:off x="7315200" y="4800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670520" y="4692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1" name=""/>
                <p:cNvSpPr/>
                <p:nvPr/>
              </p:nvSpPr>
              <p:spPr>
                <a:xfrm>
                  <a:off x="7670520" y="4764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7670520" y="4861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3" name=""/>
                <p:cNvSpPr/>
                <p:nvPr/>
              </p:nvSpPr>
              <p:spPr>
                <a:xfrm>
                  <a:off x="7670520" y="4933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4" name=""/>
                <p:cNvSpPr/>
                <p:nvPr/>
              </p:nvSpPr>
              <p:spPr>
                <a:xfrm>
                  <a:off x="7670520" y="4797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775764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6" name=""/>
                <p:cNvSpPr/>
                <p:nvPr/>
              </p:nvSpPr>
              <p:spPr>
                <a:xfrm>
                  <a:off x="7834320" y="4797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7" name=""/>
                <p:cNvSpPr/>
                <p:nvPr/>
              </p:nvSpPr>
              <p:spPr>
                <a:xfrm>
                  <a:off x="792144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8" name=""/>
                <p:cNvSpPr/>
                <p:nvPr/>
              </p:nvSpPr>
              <p:spPr>
                <a:xfrm>
                  <a:off x="7670520" y="4989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9" name=""/>
                <p:cNvSpPr/>
                <p:nvPr/>
              </p:nvSpPr>
              <p:spPr>
                <a:xfrm>
                  <a:off x="775764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7834320" y="4989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1" name=""/>
                <p:cNvSpPr/>
                <p:nvPr/>
              </p:nvSpPr>
              <p:spPr>
                <a:xfrm>
                  <a:off x="792144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2" name=""/>
                <p:cNvSpPr/>
                <p:nvPr/>
              </p:nvSpPr>
              <p:spPr>
                <a:xfrm>
                  <a:off x="7649640" y="5146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649640" y="4648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8159760" y="4870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5" name=""/>
          <p:cNvSpPr/>
          <p:nvPr/>
        </p:nvSpPr>
        <p:spPr>
          <a:xfrm>
            <a:off x="4495680" y="3809880"/>
            <a:ext cx="4114800" cy="213372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72000" y="5638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a:t>
            </a:r>
            <a:endParaRPr b="0" lang="en-US" sz="1600" spc="-1" strike="noStrike">
              <a:solidFill>
                <a:srgbClr val="000000"/>
              </a:solidFill>
              <a:latin typeface="Times New Roman"/>
            </a:endParaRPr>
          </a:p>
        </p:txBody>
      </p:sp>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 an example</a:t>
            </a:r>
            <a:endParaRPr b="1" lang="en-US" sz="3600" spc="-1" strike="noStrike">
              <a:solidFill>
                <a:srgbClr val="336699"/>
              </a:solidFill>
              <a:latin typeface="Times New Roman"/>
            </a:endParaRPr>
          </a:p>
        </p:txBody>
      </p:sp>
      <p:grpSp>
        <p:nvGrpSpPr>
          <p:cNvPr id="268" name=""/>
          <p:cNvGrpSpPr/>
          <p:nvPr/>
        </p:nvGrpSpPr>
        <p:grpSpPr>
          <a:xfrm>
            <a:off x="7162920" y="1219320"/>
            <a:ext cx="1447560" cy="1099080"/>
            <a:chOff x="7162920" y="1219320"/>
            <a:chExt cx="1447560" cy="1099080"/>
          </a:xfrm>
        </p:grpSpPr>
        <p:sp>
          <p:nvSpPr>
            <p:cNvPr id="269" name=""/>
            <p:cNvSpPr/>
            <p:nvPr/>
          </p:nvSpPr>
          <p:spPr>
            <a:xfrm>
              <a:off x="7858080" y="1663560"/>
              <a:ext cx="33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7238880" y="1219320"/>
              <a:ext cx="662040" cy="763560"/>
              <a:chOff x="7238880" y="1219320"/>
              <a:chExt cx="662040" cy="763560"/>
            </a:xfrm>
          </p:grpSpPr>
          <p:sp>
            <p:nvSpPr>
              <p:cNvPr id="271" name=""/>
              <p:cNvSpPr/>
              <p:nvPr/>
            </p:nvSpPr>
            <p:spPr>
              <a:xfrm>
                <a:off x="7238880" y="1219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238880" y="1219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38880" y="1219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291080" y="1279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5" name=""/>
              <p:cNvSpPr/>
              <p:nvPr/>
            </p:nvSpPr>
            <p:spPr>
              <a:xfrm>
                <a:off x="7238880" y="1371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94200" y="1263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 name=""/>
              <p:cNvSpPr/>
              <p:nvPr/>
            </p:nvSpPr>
            <p:spPr>
              <a:xfrm>
                <a:off x="7594200" y="1335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 name=""/>
              <p:cNvSpPr/>
              <p:nvPr/>
            </p:nvSpPr>
            <p:spPr>
              <a:xfrm>
                <a:off x="7594200" y="1432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 name=""/>
              <p:cNvSpPr/>
              <p:nvPr/>
            </p:nvSpPr>
            <p:spPr>
              <a:xfrm>
                <a:off x="7594200" y="1504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0" name=""/>
              <p:cNvSpPr/>
              <p:nvPr/>
            </p:nvSpPr>
            <p:spPr>
              <a:xfrm>
                <a:off x="7594200" y="1368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 name=""/>
              <p:cNvSpPr/>
              <p:nvPr/>
            </p:nvSpPr>
            <p:spPr>
              <a:xfrm>
                <a:off x="76813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7758000" y="1368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3" name=""/>
              <p:cNvSpPr/>
              <p:nvPr/>
            </p:nvSpPr>
            <p:spPr>
              <a:xfrm>
                <a:off x="78451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4" name=""/>
              <p:cNvSpPr/>
              <p:nvPr/>
            </p:nvSpPr>
            <p:spPr>
              <a:xfrm>
                <a:off x="7594200" y="1560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76813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 name=""/>
              <p:cNvSpPr/>
              <p:nvPr/>
            </p:nvSpPr>
            <p:spPr>
              <a:xfrm>
                <a:off x="7758000" y="1560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7" name=""/>
              <p:cNvSpPr/>
              <p:nvPr/>
            </p:nvSpPr>
            <p:spPr>
              <a:xfrm>
                <a:off x="78451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7573320" y="1717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573320" y="1219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8083440" y="1441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162920" y="19810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WWW Server</a:t>
              </a:r>
              <a:endParaRPr b="0" lang="en-US" sz="1600" spc="-1" strike="noStrike">
                <a:solidFill>
                  <a:srgbClr val="000000"/>
                </a:solidFill>
                <a:latin typeface="Times New Roman"/>
              </a:endParaRPr>
            </a:p>
          </p:txBody>
        </p:sp>
      </p:grpSp>
      <p:grpSp>
        <p:nvGrpSpPr>
          <p:cNvPr id="292" name=""/>
          <p:cNvGrpSpPr/>
          <p:nvPr/>
        </p:nvGrpSpPr>
        <p:grpSpPr>
          <a:xfrm>
            <a:off x="192240" y="4240080"/>
            <a:ext cx="4225680" cy="2131200"/>
            <a:chOff x="192240" y="4240080"/>
            <a:chExt cx="4225680" cy="2131200"/>
          </a:xfrm>
        </p:grpSpPr>
        <p:sp>
          <p:nvSpPr>
            <p:cNvPr id="293" name=""/>
            <p:cNvSpPr/>
            <p:nvPr/>
          </p:nvSpPr>
          <p:spPr>
            <a:xfrm>
              <a:off x="1179360" y="467532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665440" y="4587840"/>
              <a:ext cx="1752480" cy="1076400"/>
              <a:chOff x="2665440" y="4587840"/>
              <a:chExt cx="1752480" cy="1076400"/>
            </a:xfrm>
          </p:grpSpPr>
          <p:sp>
            <p:nvSpPr>
              <p:cNvPr id="295" name=""/>
              <p:cNvSpPr/>
              <p:nvPr/>
            </p:nvSpPr>
            <p:spPr>
              <a:xfrm>
                <a:off x="2665440" y="458784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665440" y="458784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50400" y="5217840"/>
                <a:ext cx="103320" cy="2232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2902680" y="5457960"/>
                <a:ext cx="42480" cy="1116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3304440" y="5519160"/>
                <a:ext cx="30240" cy="4428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3821760" y="5452200"/>
                <a:ext cx="11880" cy="500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1" name=""/>
              <p:cNvSpPr/>
              <p:nvPr/>
            </p:nvSpPr>
            <p:spPr>
              <a:xfrm>
                <a:off x="4052880" y="5162400"/>
                <a:ext cx="127800" cy="1728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02360" y="4966920"/>
                <a:ext cx="60840" cy="666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4217040" y="4721400"/>
                <a:ext cx="6120" cy="3348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845880" y="4643280"/>
                <a:ext cx="30240" cy="4428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flipH="1">
                <a:off x="3560040" y="4671360"/>
                <a:ext cx="18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 name=""/>
              <p:cNvSpPr/>
              <p:nvPr/>
            </p:nvSpPr>
            <p:spPr>
              <a:xfrm flipH="1" flipV="1">
                <a:off x="3231360" y="4715640"/>
                <a:ext cx="54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7" name=""/>
              <p:cNvSpPr/>
              <p:nvPr/>
            </p:nvSpPr>
            <p:spPr>
              <a:xfrm>
                <a:off x="2823480" y="4944600"/>
                <a:ext cx="5760" cy="388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308" name=""/>
            <p:cNvSpPr/>
            <p:nvPr/>
          </p:nvSpPr>
          <p:spPr>
            <a:xfrm>
              <a:off x="3009960" y="4743360"/>
              <a:ext cx="1117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Access Network</a:t>
              </a:r>
              <a:endParaRPr b="0" lang="en-US" sz="1600" spc="-1" strike="noStrike">
                <a:solidFill>
                  <a:srgbClr val="000000"/>
                </a:solidFill>
                <a:latin typeface="Times New Roman"/>
              </a:endParaRPr>
            </a:p>
          </p:txBody>
        </p:sp>
        <p:grpSp>
          <p:nvGrpSpPr>
            <p:cNvPr id="309" name=""/>
            <p:cNvGrpSpPr/>
            <p:nvPr/>
          </p:nvGrpSpPr>
          <p:grpSpPr>
            <a:xfrm>
              <a:off x="192240" y="4240080"/>
              <a:ext cx="1008000" cy="1023120"/>
              <a:chOff x="192240" y="4240080"/>
              <a:chExt cx="1008000" cy="1023120"/>
            </a:xfrm>
          </p:grpSpPr>
          <p:grpSp>
            <p:nvGrpSpPr>
              <p:cNvPr id="310" name=""/>
              <p:cNvGrpSpPr/>
              <p:nvPr/>
            </p:nvGrpSpPr>
            <p:grpSpPr>
              <a:xfrm>
                <a:off x="192240" y="4240080"/>
                <a:ext cx="1008000" cy="671760"/>
                <a:chOff x="192240" y="4240080"/>
                <a:chExt cx="1008000" cy="671760"/>
              </a:xfrm>
            </p:grpSpPr>
            <p:sp>
              <p:nvSpPr>
                <p:cNvPr id="311" name=""/>
                <p:cNvSpPr/>
                <p:nvPr/>
              </p:nvSpPr>
              <p:spPr>
                <a:xfrm flipH="1">
                  <a:off x="349200" y="4768200"/>
                  <a:ext cx="630720" cy="2232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 name=""/>
                <p:cNvSpPr/>
                <p:nvPr/>
              </p:nvSpPr>
              <p:spPr>
                <a:xfrm flipH="1">
                  <a:off x="294120" y="4809960"/>
                  <a:ext cx="740880" cy="2628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3" name=""/>
                <p:cNvSpPr/>
                <p:nvPr/>
              </p:nvSpPr>
              <p:spPr>
                <a:xfrm flipH="1">
                  <a:off x="238680" y="4855320"/>
                  <a:ext cx="847080" cy="2232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flipH="1">
                  <a:off x="192240" y="4240080"/>
                  <a:ext cx="100800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33440" y="4311720"/>
                  <a:ext cx="411120" cy="298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433440" y="4364640"/>
                  <a:ext cx="741240" cy="37728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49200" y="4768200"/>
                  <a:ext cx="630720" cy="2232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flipH="1">
                  <a:off x="294120" y="4809960"/>
                  <a:ext cx="740880" cy="2628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9" name=""/>
                <p:cNvSpPr/>
                <p:nvPr/>
              </p:nvSpPr>
              <p:spPr>
                <a:xfrm flipH="1">
                  <a:off x="238680" y="4855320"/>
                  <a:ext cx="847080" cy="2232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 name=""/>
                <p:cNvSpPr/>
                <p:nvPr/>
              </p:nvSpPr>
              <p:spPr>
                <a:xfrm flipH="1">
                  <a:off x="192240" y="4240080"/>
                  <a:ext cx="100800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983880" y="4768200"/>
                  <a:ext cx="122760" cy="90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 name=""/>
                <p:cNvSpPr/>
                <p:nvPr/>
              </p:nvSpPr>
              <p:spPr>
                <a:xfrm flipH="1">
                  <a:off x="433440" y="4311720"/>
                  <a:ext cx="411120" cy="29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1009440" y="4364640"/>
                  <a:ext cx="16524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flipH="1">
                  <a:off x="433440" y="4681440"/>
                  <a:ext cx="411120" cy="60120"/>
                </a:xfrm>
                <a:prstGeom prst="rect">
                  <a:avLst/>
                </a:prstGeom>
                <a:no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25" name=""/>
              <p:cNvSpPr/>
              <p:nvPr/>
            </p:nvSpPr>
            <p:spPr>
              <a:xfrm flipH="1">
                <a:off x="362160" y="49258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C</a:t>
                </a:r>
                <a:endParaRPr b="0" lang="en-US" sz="1600" spc="-1" strike="noStrike">
                  <a:solidFill>
                    <a:srgbClr val="000000"/>
                  </a:solidFill>
                  <a:latin typeface="Times New Roman"/>
                </a:endParaRPr>
              </a:p>
            </p:txBody>
          </p:sp>
        </p:grpSp>
        <p:sp>
          <p:nvSpPr>
            <p:cNvPr id="326" name=""/>
            <p:cNvSpPr/>
            <p:nvPr/>
          </p:nvSpPr>
          <p:spPr>
            <a:xfrm>
              <a:off x="1384200" y="4707000"/>
              <a:ext cx="709560" cy="853920"/>
            </a:xfrm>
            <a:custGeom>
              <a:avLst/>
              <a:gdLst/>
              <a:ahLst/>
              <a:rect l="l" t="t" r="r" b="b"/>
              <a:pathLst>
                <a:path w="447" h="538">
                  <a:moveTo>
                    <a:pt x="0" y="0"/>
                  </a:moveTo>
                  <a:cubicBezTo>
                    <a:pt x="36" y="14"/>
                    <a:pt x="178" y="4"/>
                    <a:pt x="215" y="82"/>
                  </a:cubicBezTo>
                  <a:cubicBezTo>
                    <a:pt x="252" y="160"/>
                    <a:pt x="184" y="398"/>
                    <a:pt x="223" y="468"/>
                  </a:cubicBezTo>
                  <a:cubicBezTo>
                    <a:pt x="262" y="538"/>
                    <a:pt x="351" y="526"/>
                    <a:pt x="447" y="5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03520" y="4406760"/>
              <a:ext cx="1058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ocal Loop</a:t>
              </a:r>
              <a:endParaRPr b="0" lang="en-US" sz="1600" spc="-1" strike="noStrike">
                <a:solidFill>
                  <a:srgbClr val="000000"/>
                </a:solidFill>
                <a:latin typeface="Times New Roman"/>
              </a:endParaRPr>
            </a:p>
          </p:txBody>
        </p:sp>
        <p:sp>
          <p:nvSpPr>
            <p:cNvPr id="328" name=""/>
            <p:cNvSpPr/>
            <p:nvPr/>
          </p:nvSpPr>
          <p:spPr>
            <a:xfrm>
              <a:off x="2333520" y="5572080"/>
              <a:ext cx="8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Mux.</a:t>
              </a:r>
              <a:endParaRPr b="0" lang="en-US" sz="1600" spc="-1" strike="noStrike">
                <a:solidFill>
                  <a:srgbClr val="000000"/>
                </a:solidFill>
                <a:latin typeface="Times New Roman"/>
              </a:endParaRPr>
            </a:p>
          </p:txBody>
        </p:sp>
        <p:grpSp>
          <p:nvGrpSpPr>
            <p:cNvPr id="329" name=""/>
            <p:cNvGrpSpPr/>
            <p:nvPr/>
          </p:nvGrpSpPr>
          <p:grpSpPr>
            <a:xfrm>
              <a:off x="1849320" y="5211720"/>
              <a:ext cx="591840" cy="552600"/>
              <a:chOff x="1849320" y="5211720"/>
              <a:chExt cx="591840" cy="552600"/>
            </a:xfrm>
          </p:grpSpPr>
          <p:grpSp>
            <p:nvGrpSpPr>
              <p:cNvPr id="330" name=""/>
              <p:cNvGrpSpPr/>
              <p:nvPr/>
            </p:nvGrpSpPr>
            <p:grpSpPr>
              <a:xfrm>
                <a:off x="1849320" y="5211720"/>
                <a:ext cx="351720" cy="552600"/>
                <a:chOff x="1849320" y="5211720"/>
                <a:chExt cx="351720" cy="552600"/>
              </a:xfrm>
            </p:grpSpPr>
            <p:sp>
              <p:nvSpPr>
                <p:cNvPr id="331" name=""/>
                <p:cNvSpPr/>
                <p:nvPr/>
              </p:nvSpPr>
              <p:spPr>
                <a:xfrm>
                  <a:off x="1849320" y="5211720"/>
                  <a:ext cx="351720" cy="552600"/>
                </a:xfrm>
                <a:custGeom>
                  <a:avLst/>
                  <a:gdLst/>
                  <a:ahLst/>
                  <a:rect l="l" t="t" r="r" b="b"/>
                  <a:pathLst>
                    <a:path w="261" h="395">
                      <a:moveTo>
                        <a:pt x="0" y="42"/>
                      </a:moveTo>
                      <a:lnTo>
                        <a:pt x="81" y="0"/>
                      </a:lnTo>
                      <a:lnTo>
                        <a:pt x="130" y="0"/>
                      </a:lnTo>
                      <a:lnTo>
                        <a:pt x="261" y="0"/>
                      </a:lnTo>
                      <a:lnTo>
                        <a:pt x="261" y="215"/>
                      </a:lnTo>
                      <a:lnTo>
                        <a:pt x="261"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849320" y="5211720"/>
                  <a:ext cx="351720" cy="552600"/>
                </a:xfrm>
                <a:custGeom>
                  <a:avLst/>
                  <a:gdLst/>
                  <a:ahLst/>
                  <a:rect l="l" t="t" r="r" b="b"/>
                  <a:pathLst>
                    <a:path w="261" h="395">
                      <a:moveTo>
                        <a:pt x="0" y="42"/>
                      </a:moveTo>
                      <a:lnTo>
                        <a:pt x="0" y="42"/>
                      </a:lnTo>
                      <a:lnTo>
                        <a:pt x="177" y="42"/>
                      </a:lnTo>
                      <a:lnTo>
                        <a:pt x="261" y="0"/>
                      </a:lnTo>
                      <a:lnTo>
                        <a:pt x="0" y="42"/>
                      </a:lnTo>
                      <a:close/>
                      <a:moveTo>
                        <a:pt x="0" y="42"/>
                      </a:moveTo>
                      <a:lnTo>
                        <a:pt x="177" y="42"/>
                      </a:lnTo>
                      <a:lnTo>
                        <a:pt x="177" y="99"/>
                      </a:lnTo>
                      <a:lnTo>
                        <a:pt x="177" y="321"/>
                      </a:lnTo>
                      <a:lnTo>
                        <a:pt x="177" y="395"/>
                      </a:lnTo>
                      <a:lnTo>
                        <a:pt x="0" y="42"/>
                      </a:lnTo>
                      <a:close/>
                      <a:moveTo>
                        <a:pt x="14" y="57"/>
                      </a:moveTo>
                      <a:lnTo>
                        <a:pt x="160" y="57"/>
                      </a:lnTo>
                      <a:lnTo>
                        <a:pt x="160" y="64"/>
                      </a:lnTo>
                      <a:lnTo>
                        <a:pt x="14" y="64"/>
                      </a:lnTo>
                      <a:lnTo>
                        <a:pt x="14" y="57"/>
                      </a:lnTo>
                      <a:lnTo>
                        <a:pt x="14" y="57"/>
                      </a:lnTo>
                      <a:close/>
                      <a:moveTo>
                        <a:pt x="14" y="84"/>
                      </a:moveTo>
                      <a:lnTo>
                        <a:pt x="160" y="84"/>
                      </a:lnTo>
                      <a:lnTo>
                        <a:pt x="160" y="89"/>
                      </a:lnTo>
                      <a:lnTo>
                        <a:pt x="14" y="89"/>
                      </a:lnTo>
                      <a:lnTo>
                        <a:pt x="14" y="84"/>
                      </a:lnTo>
                      <a:lnTo>
                        <a:pt x="14" y="84"/>
                      </a:lnTo>
                      <a:close/>
                      <a:moveTo>
                        <a:pt x="14" y="109"/>
                      </a:moveTo>
                      <a:lnTo>
                        <a:pt x="160" y="109"/>
                      </a:lnTo>
                      <a:lnTo>
                        <a:pt x="160" y="116"/>
                      </a:lnTo>
                      <a:lnTo>
                        <a:pt x="14" y="116"/>
                      </a:lnTo>
                      <a:lnTo>
                        <a:pt x="14" y="109"/>
                      </a:lnTo>
                      <a:lnTo>
                        <a:pt x="14"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849320" y="5211720"/>
                  <a:ext cx="351720" cy="552600"/>
                </a:xfrm>
                <a:custGeom>
                  <a:avLst/>
                  <a:gdLst/>
                  <a:ahLst/>
                  <a:rect l="l" t="t" r="r" b="b"/>
                  <a:pathLst>
                    <a:path w="261" h="395">
                      <a:moveTo>
                        <a:pt x="0" y="42"/>
                      </a:moveTo>
                      <a:lnTo>
                        <a:pt x="81" y="0"/>
                      </a:lnTo>
                      <a:lnTo>
                        <a:pt x="130" y="0"/>
                      </a:lnTo>
                      <a:lnTo>
                        <a:pt x="261" y="0"/>
                      </a:lnTo>
                      <a:lnTo>
                        <a:pt x="261" y="215"/>
                      </a:lnTo>
                      <a:lnTo>
                        <a:pt x="261"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49320" y="5211720"/>
                  <a:ext cx="351720" cy="58680"/>
                </a:xfrm>
                <a:custGeom>
                  <a:avLst/>
                  <a:gdLst/>
                  <a:ahLst/>
                  <a:rect l="l" t="t" r="r" b="b"/>
                  <a:pathLst>
                    <a:path w="261" h="42">
                      <a:moveTo>
                        <a:pt x="0" y="42"/>
                      </a:moveTo>
                      <a:lnTo>
                        <a:pt x="0" y="42"/>
                      </a:lnTo>
                      <a:lnTo>
                        <a:pt x="177" y="42"/>
                      </a:lnTo>
                      <a:lnTo>
                        <a:pt x="261"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a:off x="1849320" y="5270400"/>
                  <a:ext cx="238320" cy="493560"/>
                </a:xfrm>
                <a:custGeom>
                  <a:avLst/>
                  <a:gdLst/>
                  <a:ahLst/>
                  <a:rect l="l" t="t" r="r" b="b"/>
                  <a:pathLst>
                    <a:path w="177" h="353">
                      <a:moveTo>
                        <a:pt x="0" y="0"/>
                      </a:moveTo>
                      <a:lnTo>
                        <a:pt x="177" y="0"/>
                      </a:lnTo>
                      <a:lnTo>
                        <a:pt x="177" y="57"/>
                      </a:lnTo>
                      <a:lnTo>
                        <a:pt x="177" y="279"/>
                      </a:lnTo>
                      <a:lnTo>
                        <a:pt x="177"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867680" y="5291640"/>
                  <a:ext cx="19692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867680" y="5329080"/>
                  <a:ext cx="196920" cy="6840"/>
                </a:xfrm>
                <a:prstGeom prst="rect">
                  <a:avLst/>
                </a:prstGeom>
                <a:noFill/>
                <a:ln w="11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 name=""/>
                <p:cNvSpPr/>
                <p:nvPr/>
              </p:nvSpPr>
              <p:spPr>
                <a:xfrm>
                  <a:off x="1867680" y="5364000"/>
                  <a:ext cx="19692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39" name=""/>
              <p:cNvGrpSpPr/>
              <p:nvPr/>
            </p:nvGrpSpPr>
            <p:grpSpPr>
              <a:xfrm>
                <a:off x="2091960" y="5211720"/>
                <a:ext cx="349200" cy="552600"/>
                <a:chOff x="2091960" y="5211720"/>
                <a:chExt cx="349200" cy="552600"/>
              </a:xfrm>
            </p:grpSpPr>
            <p:sp>
              <p:nvSpPr>
                <p:cNvPr id="340" name=""/>
                <p:cNvSpPr/>
                <p:nvPr/>
              </p:nvSpPr>
              <p:spPr>
                <a:xfrm>
                  <a:off x="2091960" y="5211720"/>
                  <a:ext cx="349200" cy="55260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91960" y="5211720"/>
                  <a:ext cx="349200" cy="55260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091960" y="5211720"/>
                  <a:ext cx="349200" cy="55260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091960" y="5211720"/>
                  <a:ext cx="349200" cy="58680"/>
                </a:xfrm>
                <a:custGeom>
                  <a:avLst/>
                  <a:gdLst/>
                  <a:ahLst/>
                  <a:rect l="l" t="t" r="r" b="b"/>
                  <a:pathLst>
                    <a:path w="259" h="42">
                      <a:moveTo>
                        <a:pt x="0" y="42"/>
                      </a:moveTo>
                      <a:lnTo>
                        <a:pt x="0" y="42"/>
                      </a:lnTo>
                      <a:lnTo>
                        <a:pt x="178" y="42"/>
                      </a:lnTo>
                      <a:lnTo>
                        <a:pt x="259"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2091960" y="5270400"/>
                  <a:ext cx="239760" cy="493560"/>
                </a:xfrm>
                <a:custGeom>
                  <a:avLst/>
                  <a:gdLst/>
                  <a:ahLst/>
                  <a:rect l="l" t="t" r="r" b="b"/>
                  <a:pathLst>
                    <a:path w="178" h="353">
                      <a:moveTo>
                        <a:pt x="0" y="0"/>
                      </a:moveTo>
                      <a:lnTo>
                        <a:pt x="178" y="0"/>
                      </a:lnTo>
                      <a:lnTo>
                        <a:pt x="178" y="57"/>
                      </a:lnTo>
                      <a:lnTo>
                        <a:pt x="178" y="279"/>
                      </a:lnTo>
                      <a:lnTo>
                        <a:pt x="178"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12120" y="5291640"/>
                  <a:ext cx="19548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2112120" y="5329080"/>
                  <a:ext cx="195480" cy="6840"/>
                </a:xfrm>
                <a:prstGeom prst="rect">
                  <a:avLst/>
                </a:prstGeom>
                <a:noFill/>
                <a:ln w="11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7" name=""/>
                <p:cNvSpPr/>
                <p:nvPr/>
              </p:nvSpPr>
              <p:spPr>
                <a:xfrm>
                  <a:off x="2112120" y="5364000"/>
                  <a:ext cx="19548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48" name=""/>
            <p:cNvSpPr/>
            <p:nvPr/>
          </p:nvSpPr>
          <p:spPr>
            <a:xfrm>
              <a:off x="1577880" y="5118120"/>
              <a:ext cx="1460520" cy="12524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603440" y="6033960"/>
              <a:ext cx="145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el. Exchange</a:t>
              </a:r>
              <a:endParaRPr b="0" lang="en-US" sz="1600" spc="-1" strike="noStrike">
                <a:solidFill>
                  <a:srgbClr val="000000"/>
                </a:solidFill>
                <a:latin typeface="Times New Roman"/>
              </a:endParaRPr>
            </a:p>
          </p:txBody>
        </p:sp>
        <p:sp>
          <p:nvSpPr>
            <p:cNvPr id="350" name=""/>
            <p:cNvSpPr/>
            <p:nvPr/>
          </p:nvSpPr>
          <p:spPr>
            <a:xfrm>
              <a:off x="1312920" y="4572000"/>
              <a:ext cx="147600" cy="20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2376360" y="4824360"/>
            <a:ext cx="2328840" cy="838080"/>
          </a:xfrm>
          <a:custGeom>
            <a:avLst/>
            <a:gdLst/>
            <a:ahLst/>
            <a:rect l="l" t="t" r="r" b="b"/>
            <a:pathLst>
              <a:path w="1104" h="528">
                <a:moveTo>
                  <a:pt x="0" y="528"/>
                </a:moveTo>
                <a:cubicBezTo>
                  <a:pt x="48" y="524"/>
                  <a:pt x="96" y="520"/>
                  <a:pt x="192" y="480"/>
                </a:cubicBezTo>
                <a:cubicBezTo>
                  <a:pt x="288" y="440"/>
                  <a:pt x="472" y="360"/>
                  <a:pt x="576" y="288"/>
                </a:cubicBezTo>
                <a:cubicBezTo>
                  <a:pt x="680" y="216"/>
                  <a:pt x="728" y="96"/>
                  <a:pt x="816" y="48"/>
                </a:cubicBezTo>
                <a:cubicBezTo>
                  <a:pt x="904" y="0"/>
                  <a:pt x="1056" y="8"/>
                  <a:pt x="11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E9704459-7DC2-45CC-B8A4-19CDAEB33A93}" type="slidenum">
              <a:t>2</a:t>
            </a:fld>
          </a:p>
        </p:txBody>
      </p:sp>
      <p:sp>
        <p:nvSpPr>
          <p:cNvPr id="5" name="PlaceHolder 4"/>
          <p:cNvSpPr>
            <a:spLocks noGrp="1"/>
          </p:cNvSpPr>
          <p:nvPr>
            <p:ph type="dt" idx="1"/>
          </p:nvPr>
        </p:nvSpPr>
        <p:spPr/>
        <p:txBody>
          <a:bodyPr/>
          <a:p>
            <a:fld id="{AB71E5C3-9E28-4992-BED9-9DC260E35B5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Resolution on a LAN</a:t>
            </a:r>
            <a:endParaRPr b="1" lang="en-US" sz="3600" spc="-1" strike="noStrike">
              <a:solidFill>
                <a:srgbClr val="336699"/>
              </a:solidFill>
              <a:latin typeface="Times New Roman"/>
            </a:endParaRPr>
          </a:p>
        </p:txBody>
      </p:sp>
      <p:sp>
        <p:nvSpPr>
          <p:cNvPr id="1491" name="PlaceHolder 2"/>
          <p:cNvSpPr>
            <a:spLocks noGrp="1"/>
          </p:cNvSpPr>
          <p:nvPr>
            <p:ph/>
          </p:nvPr>
        </p:nvSpPr>
        <p:spPr>
          <a:xfrm>
            <a:off x="685440" y="4648320"/>
            <a:ext cx="8077320" cy="167616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RP results are cached</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meout if not “refreshed”</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l hosts learn mapping for requestor</a:t>
            </a:r>
            <a:endParaRPr b="0" lang="en-US" sz="2400" spc="-1" strike="noStrike">
              <a:solidFill>
                <a:srgbClr val="0033cc"/>
              </a:solidFill>
              <a:latin typeface="Times New Roman"/>
            </a:endParaRPr>
          </a:p>
        </p:txBody>
      </p:sp>
      <p:grpSp>
        <p:nvGrpSpPr>
          <p:cNvPr id="1492" name=""/>
          <p:cNvGrpSpPr/>
          <p:nvPr/>
        </p:nvGrpSpPr>
        <p:grpSpPr>
          <a:xfrm>
            <a:off x="984600" y="3352680"/>
            <a:ext cx="2296080" cy="901080"/>
            <a:chOff x="984600" y="3352680"/>
            <a:chExt cx="2296080" cy="901080"/>
          </a:xfrm>
        </p:grpSpPr>
        <p:sp>
          <p:nvSpPr>
            <p:cNvPr id="1493" name=""/>
            <p:cNvSpPr/>
            <p:nvPr/>
          </p:nvSpPr>
          <p:spPr>
            <a:xfrm flipV="1">
              <a:off x="3047760" y="335268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984600" y="3733560"/>
              <a:ext cx="2296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nt to send to 128.16.8.177</a:t>
              </a:r>
              <a:br>
                <a:rPr sz="1400"/>
              </a:br>
              <a:r>
                <a:rPr b="0" lang="en-US" sz="1400" spc="-1" strike="noStrike">
                  <a:solidFill>
                    <a:srgbClr val="000000"/>
                  </a:solidFill>
                  <a:latin typeface="Times New Roman"/>
                </a:rPr>
                <a:t>Need Ethernet address</a:t>
              </a:r>
              <a:endParaRPr b="0" lang="en-US" sz="1400" spc="-1" strike="noStrike">
                <a:solidFill>
                  <a:srgbClr val="000000"/>
                </a:solidFill>
                <a:latin typeface="Times New Roman"/>
              </a:endParaRPr>
            </a:p>
          </p:txBody>
        </p:sp>
      </p:grpSp>
      <p:grpSp>
        <p:nvGrpSpPr>
          <p:cNvPr id="1495" name=""/>
          <p:cNvGrpSpPr/>
          <p:nvPr/>
        </p:nvGrpSpPr>
        <p:grpSpPr>
          <a:xfrm>
            <a:off x="450720" y="1295280"/>
            <a:ext cx="7759080" cy="1426680"/>
            <a:chOff x="450720" y="1295280"/>
            <a:chExt cx="7759080" cy="1426680"/>
          </a:xfrm>
        </p:grpSpPr>
        <p:sp>
          <p:nvSpPr>
            <p:cNvPr id="1496" name=""/>
            <p:cNvSpPr/>
            <p:nvPr/>
          </p:nvSpPr>
          <p:spPr>
            <a:xfrm>
              <a:off x="762120" y="2590560"/>
              <a:ext cx="692460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97" name=""/>
            <p:cNvSpPr/>
            <p:nvPr/>
          </p:nvSpPr>
          <p:spPr>
            <a:xfrm>
              <a:off x="4488840" y="1295280"/>
              <a:ext cx="151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16.8.177</a:t>
              </a:r>
              <a:br>
                <a:rPr sz="1400"/>
              </a:br>
              <a:r>
                <a:rPr b="0" lang="en-US" sz="1400" spc="-1" strike="noStrike">
                  <a:solidFill>
                    <a:srgbClr val="000000"/>
                  </a:solidFill>
                  <a:latin typeface="Times New Roman"/>
                </a:rPr>
                <a:t>08:00:20:0d:23:34</a:t>
              </a:r>
              <a:endParaRPr b="0" lang="en-US" sz="1400" spc="-1" strike="noStrike">
                <a:solidFill>
                  <a:srgbClr val="000000"/>
                </a:solidFill>
                <a:latin typeface="Times New Roman"/>
              </a:endParaRPr>
            </a:p>
          </p:txBody>
        </p:sp>
        <p:sp>
          <p:nvSpPr>
            <p:cNvPr id="1498" name=""/>
            <p:cNvSpPr/>
            <p:nvPr/>
          </p:nvSpPr>
          <p:spPr>
            <a:xfrm>
              <a:off x="6698520" y="1295280"/>
              <a:ext cx="151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16.8.78</a:t>
              </a:r>
              <a:br>
                <a:rPr sz="1400"/>
              </a:br>
              <a:r>
                <a:rPr b="0" lang="en-US" sz="1400" spc="-1" strike="noStrike">
                  <a:solidFill>
                    <a:srgbClr val="000000"/>
                  </a:solidFill>
                  <a:latin typeface="Times New Roman"/>
                </a:rPr>
                <a:t>08:00:20:0d:1b:96</a:t>
              </a:r>
              <a:endParaRPr b="0" lang="en-US" sz="1400" spc="-1" strike="noStrike">
                <a:solidFill>
                  <a:srgbClr val="000000"/>
                </a:solidFill>
                <a:latin typeface="Times New Roman"/>
              </a:endParaRPr>
            </a:p>
          </p:txBody>
        </p:sp>
        <p:grpSp>
          <p:nvGrpSpPr>
            <p:cNvPr id="1499" name=""/>
            <p:cNvGrpSpPr/>
            <p:nvPr/>
          </p:nvGrpSpPr>
          <p:grpSpPr>
            <a:xfrm>
              <a:off x="685800" y="1904760"/>
              <a:ext cx="779400" cy="817200"/>
              <a:chOff x="685800" y="1904760"/>
              <a:chExt cx="779400" cy="817200"/>
            </a:xfrm>
          </p:grpSpPr>
          <p:sp>
            <p:nvSpPr>
              <p:cNvPr id="1500" name=""/>
              <p:cNvSpPr/>
              <p:nvPr/>
            </p:nvSpPr>
            <p:spPr>
              <a:xfrm>
                <a:off x="1066680" y="228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685800" y="1904760"/>
                <a:ext cx="779400" cy="817200"/>
                <a:chOff x="685800" y="1904760"/>
                <a:chExt cx="779400" cy="817200"/>
              </a:xfrm>
            </p:grpSpPr>
            <p:grpSp>
              <p:nvGrpSpPr>
                <p:cNvPr id="1502" name=""/>
                <p:cNvGrpSpPr/>
                <p:nvPr/>
              </p:nvGrpSpPr>
              <p:grpSpPr>
                <a:xfrm>
                  <a:off x="685800" y="1904760"/>
                  <a:ext cx="779400" cy="471240"/>
                  <a:chOff x="685800" y="1904760"/>
                  <a:chExt cx="779400" cy="471240"/>
                </a:xfrm>
              </p:grpSpPr>
              <p:sp>
                <p:nvSpPr>
                  <p:cNvPr id="1503" name=""/>
                  <p:cNvSpPr/>
                  <p:nvPr/>
                </p:nvSpPr>
                <p:spPr>
                  <a:xfrm>
                    <a:off x="85608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4" name=""/>
                  <p:cNvSpPr/>
                  <p:nvPr/>
                </p:nvSpPr>
                <p:spPr>
                  <a:xfrm>
                    <a:off x="81360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05" name=""/>
                  <p:cNvSpPr/>
                  <p:nvPr/>
                </p:nvSpPr>
                <p:spPr>
                  <a:xfrm>
                    <a:off x="77400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6" name=""/>
                  <p:cNvSpPr/>
                  <p:nvPr/>
                </p:nvSpPr>
                <p:spPr>
                  <a:xfrm>
                    <a:off x="68580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960840" y="195480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05240" y="199224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85608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0" name=""/>
                  <p:cNvSpPr/>
                  <p:nvPr/>
                </p:nvSpPr>
                <p:spPr>
                  <a:xfrm>
                    <a:off x="81360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11" name=""/>
                  <p:cNvSpPr/>
                  <p:nvPr/>
                </p:nvSpPr>
                <p:spPr>
                  <a:xfrm>
                    <a:off x="77400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2" name=""/>
                  <p:cNvSpPr/>
                  <p:nvPr/>
                </p:nvSpPr>
                <p:spPr>
                  <a:xfrm>
                    <a:off x="68580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57800" y="227556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4" name=""/>
                  <p:cNvSpPr/>
                  <p:nvPr/>
                </p:nvSpPr>
                <p:spPr>
                  <a:xfrm>
                    <a:off x="960840" y="195480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05240" y="199224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6" name=""/>
                  <p:cNvSpPr/>
                  <p:nvPr/>
                </p:nvSpPr>
                <p:spPr>
                  <a:xfrm>
                    <a:off x="960840" y="221436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517" name=""/>
                <p:cNvSpPr/>
                <p:nvPr/>
              </p:nvSpPr>
              <p:spPr>
                <a:xfrm>
                  <a:off x="862200" y="238572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18" name=""/>
            <p:cNvGrpSpPr/>
            <p:nvPr/>
          </p:nvGrpSpPr>
          <p:grpSpPr>
            <a:xfrm>
              <a:off x="2667240" y="1904760"/>
              <a:ext cx="779400" cy="817200"/>
              <a:chOff x="2667240" y="1904760"/>
              <a:chExt cx="779400" cy="817200"/>
            </a:xfrm>
          </p:grpSpPr>
          <p:sp>
            <p:nvSpPr>
              <p:cNvPr id="1519" name=""/>
              <p:cNvSpPr/>
              <p:nvPr/>
            </p:nvSpPr>
            <p:spPr>
              <a:xfrm>
                <a:off x="3048120" y="228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2667240" y="1904760"/>
                <a:ext cx="779400" cy="817200"/>
                <a:chOff x="2667240" y="1904760"/>
                <a:chExt cx="779400" cy="817200"/>
              </a:xfrm>
            </p:grpSpPr>
            <p:grpSp>
              <p:nvGrpSpPr>
                <p:cNvPr id="1521" name=""/>
                <p:cNvGrpSpPr/>
                <p:nvPr/>
              </p:nvGrpSpPr>
              <p:grpSpPr>
                <a:xfrm>
                  <a:off x="2667240" y="1904760"/>
                  <a:ext cx="779400" cy="471240"/>
                  <a:chOff x="2667240" y="1904760"/>
                  <a:chExt cx="779400" cy="471240"/>
                </a:xfrm>
              </p:grpSpPr>
              <p:sp>
                <p:nvSpPr>
                  <p:cNvPr id="1522" name=""/>
                  <p:cNvSpPr/>
                  <p:nvPr/>
                </p:nvSpPr>
                <p:spPr>
                  <a:xfrm>
                    <a:off x="283752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3" name=""/>
                  <p:cNvSpPr/>
                  <p:nvPr/>
                </p:nvSpPr>
                <p:spPr>
                  <a:xfrm>
                    <a:off x="279504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24" name=""/>
                  <p:cNvSpPr/>
                  <p:nvPr/>
                </p:nvSpPr>
                <p:spPr>
                  <a:xfrm>
                    <a:off x="275544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5" name=""/>
                  <p:cNvSpPr/>
                  <p:nvPr/>
                </p:nvSpPr>
                <p:spPr>
                  <a:xfrm>
                    <a:off x="266724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942280" y="195480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686680" y="199224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3752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9" name=""/>
                  <p:cNvSpPr/>
                  <p:nvPr/>
                </p:nvSpPr>
                <p:spPr>
                  <a:xfrm>
                    <a:off x="279504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0" name=""/>
                  <p:cNvSpPr/>
                  <p:nvPr/>
                </p:nvSpPr>
                <p:spPr>
                  <a:xfrm>
                    <a:off x="275544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1" name=""/>
                  <p:cNvSpPr/>
                  <p:nvPr/>
                </p:nvSpPr>
                <p:spPr>
                  <a:xfrm>
                    <a:off x="266724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2739240" y="227556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3" name=""/>
                  <p:cNvSpPr/>
                  <p:nvPr/>
                </p:nvSpPr>
                <p:spPr>
                  <a:xfrm>
                    <a:off x="2942280" y="195480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86680" y="199224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5" name=""/>
                  <p:cNvSpPr/>
                  <p:nvPr/>
                </p:nvSpPr>
                <p:spPr>
                  <a:xfrm>
                    <a:off x="2942280" y="221436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536" name=""/>
                <p:cNvSpPr/>
                <p:nvPr/>
              </p:nvSpPr>
              <p:spPr>
                <a:xfrm>
                  <a:off x="2843640" y="238572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37" name=""/>
            <p:cNvGrpSpPr/>
            <p:nvPr/>
          </p:nvGrpSpPr>
          <p:grpSpPr>
            <a:xfrm>
              <a:off x="4572000" y="1904760"/>
              <a:ext cx="779400" cy="817200"/>
              <a:chOff x="4572000" y="1904760"/>
              <a:chExt cx="779400" cy="817200"/>
            </a:xfrm>
          </p:grpSpPr>
          <p:sp>
            <p:nvSpPr>
              <p:cNvPr id="1538" name=""/>
              <p:cNvSpPr/>
              <p:nvPr/>
            </p:nvSpPr>
            <p:spPr>
              <a:xfrm>
                <a:off x="4952880" y="228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4572000" y="1904760"/>
                <a:ext cx="779400" cy="817200"/>
                <a:chOff x="4572000" y="1904760"/>
                <a:chExt cx="779400" cy="817200"/>
              </a:xfrm>
            </p:grpSpPr>
            <p:grpSp>
              <p:nvGrpSpPr>
                <p:cNvPr id="1540" name=""/>
                <p:cNvGrpSpPr/>
                <p:nvPr/>
              </p:nvGrpSpPr>
              <p:grpSpPr>
                <a:xfrm>
                  <a:off x="4572000" y="1904760"/>
                  <a:ext cx="779400" cy="471240"/>
                  <a:chOff x="4572000" y="1904760"/>
                  <a:chExt cx="779400" cy="471240"/>
                </a:xfrm>
              </p:grpSpPr>
              <p:sp>
                <p:nvSpPr>
                  <p:cNvPr id="1541" name=""/>
                  <p:cNvSpPr/>
                  <p:nvPr/>
                </p:nvSpPr>
                <p:spPr>
                  <a:xfrm>
                    <a:off x="474228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2" name=""/>
                  <p:cNvSpPr/>
                  <p:nvPr/>
                </p:nvSpPr>
                <p:spPr>
                  <a:xfrm>
                    <a:off x="469980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3" name=""/>
                  <p:cNvSpPr/>
                  <p:nvPr/>
                </p:nvSpPr>
                <p:spPr>
                  <a:xfrm>
                    <a:off x="466020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4" name=""/>
                  <p:cNvSpPr/>
                  <p:nvPr/>
                </p:nvSpPr>
                <p:spPr>
                  <a:xfrm>
                    <a:off x="457200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847040" y="195480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591440" y="199224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74228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8" name=""/>
                  <p:cNvSpPr/>
                  <p:nvPr/>
                </p:nvSpPr>
                <p:spPr>
                  <a:xfrm>
                    <a:off x="469980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9" name=""/>
                  <p:cNvSpPr/>
                  <p:nvPr/>
                </p:nvSpPr>
                <p:spPr>
                  <a:xfrm>
                    <a:off x="466020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0" name=""/>
                  <p:cNvSpPr/>
                  <p:nvPr/>
                </p:nvSpPr>
                <p:spPr>
                  <a:xfrm>
                    <a:off x="457200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644000" y="227556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4847040" y="195480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591440" y="199224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4" name=""/>
                  <p:cNvSpPr/>
                  <p:nvPr/>
                </p:nvSpPr>
                <p:spPr>
                  <a:xfrm>
                    <a:off x="4847040" y="221436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555" name=""/>
                <p:cNvSpPr/>
                <p:nvPr/>
              </p:nvSpPr>
              <p:spPr>
                <a:xfrm>
                  <a:off x="4748400" y="238572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6" name=""/>
            <p:cNvGrpSpPr/>
            <p:nvPr/>
          </p:nvGrpSpPr>
          <p:grpSpPr>
            <a:xfrm>
              <a:off x="6934320" y="1904760"/>
              <a:ext cx="779400" cy="817200"/>
              <a:chOff x="6934320" y="1904760"/>
              <a:chExt cx="779400" cy="817200"/>
            </a:xfrm>
          </p:grpSpPr>
          <p:sp>
            <p:nvSpPr>
              <p:cNvPr id="1557" name=""/>
              <p:cNvSpPr/>
              <p:nvPr/>
            </p:nvSpPr>
            <p:spPr>
              <a:xfrm>
                <a:off x="7315200" y="228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8" name=""/>
              <p:cNvGrpSpPr/>
              <p:nvPr/>
            </p:nvGrpSpPr>
            <p:grpSpPr>
              <a:xfrm>
                <a:off x="6934320" y="1904760"/>
                <a:ext cx="779400" cy="817200"/>
                <a:chOff x="6934320" y="1904760"/>
                <a:chExt cx="779400" cy="817200"/>
              </a:xfrm>
            </p:grpSpPr>
            <p:grpSp>
              <p:nvGrpSpPr>
                <p:cNvPr id="1559" name=""/>
                <p:cNvGrpSpPr/>
                <p:nvPr/>
              </p:nvGrpSpPr>
              <p:grpSpPr>
                <a:xfrm>
                  <a:off x="6934320" y="1904760"/>
                  <a:ext cx="779400" cy="471240"/>
                  <a:chOff x="6934320" y="1904760"/>
                  <a:chExt cx="779400" cy="471240"/>
                </a:xfrm>
              </p:grpSpPr>
              <p:sp>
                <p:nvSpPr>
                  <p:cNvPr id="1560" name=""/>
                  <p:cNvSpPr/>
                  <p:nvPr/>
                </p:nvSpPr>
                <p:spPr>
                  <a:xfrm>
                    <a:off x="710460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1" name=""/>
                  <p:cNvSpPr/>
                  <p:nvPr/>
                </p:nvSpPr>
                <p:spPr>
                  <a:xfrm>
                    <a:off x="706212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2" name=""/>
                  <p:cNvSpPr/>
                  <p:nvPr/>
                </p:nvSpPr>
                <p:spPr>
                  <a:xfrm>
                    <a:off x="702252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3" name=""/>
                  <p:cNvSpPr/>
                  <p:nvPr/>
                </p:nvSpPr>
                <p:spPr>
                  <a:xfrm>
                    <a:off x="693432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209360" y="195480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953760" y="199224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104600" y="227556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7" name=""/>
                  <p:cNvSpPr/>
                  <p:nvPr/>
                </p:nvSpPr>
                <p:spPr>
                  <a:xfrm>
                    <a:off x="7062120" y="230472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8" name=""/>
                  <p:cNvSpPr/>
                  <p:nvPr/>
                </p:nvSpPr>
                <p:spPr>
                  <a:xfrm>
                    <a:off x="7022520" y="233640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9" name=""/>
                  <p:cNvSpPr/>
                  <p:nvPr/>
                </p:nvSpPr>
                <p:spPr>
                  <a:xfrm>
                    <a:off x="6934320" y="190476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7006320" y="227556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1" name=""/>
                  <p:cNvSpPr/>
                  <p:nvPr/>
                </p:nvSpPr>
                <p:spPr>
                  <a:xfrm>
                    <a:off x="7209360" y="195480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953760" y="199224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7209360" y="221436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574" name=""/>
                <p:cNvSpPr/>
                <p:nvPr/>
              </p:nvSpPr>
              <p:spPr>
                <a:xfrm>
                  <a:off x="7110720" y="238572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75" name=""/>
            <p:cNvSpPr/>
            <p:nvPr/>
          </p:nvSpPr>
          <p:spPr>
            <a:xfrm>
              <a:off x="450720" y="1295280"/>
              <a:ext cx="150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16.8.74</a:t>
              </a:r>
              <a:br>
                <a:rPr sz="1400"/>
              </a:br>
              <a:r>
                <a:rPr b="0" lang="en-US" sz="1400" spc="-1" strike="noStrike">
                  <a:solidFill>
                    <a:srgbClr val="000000"/>
                  </a:solidFill>
                  <a:latin typeface="Times New Roman"/>
                </a:rPr>
                <a:t>08:00:20:0d:2a:3b</a:t>
              </a:r>
              <a:endParaRPr b="0" lang="en-US" sz="1400" spc="-1" strike="noStrike">
                <a:solidFill>
                  <a:srgbClr val="000000"/>
                </a:solidFill>
                <a:latin typeface="Times New Roman"/>
              </a:endParaRPr>
            </a:p>
          </p:txBody>
        </p:sp>
        <p:sp>
          <p:nvSpPr>
            <p:cNvPr id="1576" name=""/>
            <p:cNvSpPr/>
            <p:nvPr/>
          </p:nvSpPr>
          <p:spPr>
            <a:xfrm>
              <a:off x="2432160" y="1295280"/>
              <a:ext cx="150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16.8.135</a:t>
              </a:r>
              <a:br>
                <a:rPr sz="1400"/>
              </a:br>
              <a:r>
                <a:rPr b="0" lang="en-US" sz="1400" spc="-1" strike="noStrike">
                  <a:solidFill>
                    <a:srgbClr val="000000"/>
                  </a:solidFill>
                  <a:latin typeface="Times New Roman"/>
                </a:rPr>
                <a:t>08:00:20:0d:5a:4b</a:t>
              </a:r>
              <a:endParaRPr b="0" lang="en-US" sz="1400" spc="-1" strike="noStrike">
                <a:solidFill>
                  <a:srgbClr val="000000"/>
                </a:solidFill>
                <a:latin typeface="Times New Roman"/>
              </a:endParaRPr>
            </a:p>
          </p:txBody>
        </p:sp>
      </p:grpSp>
      <p:sp>
        <p:nvSpPr>
          <p:cNvPr id="1577" name=""/>
          <p:cNvSpPr/>
          <p:nvPr/>
        </p:nvSpPr>
        <p:spPr>
          <a:xfrm flipV="1">
            <a:off x="731520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8" name=""/>
          <p:cNvGrpSpPr/>
          <p:nvPr/>
        </p:nvGrpSpPr>
        <p:grpSpPr>
          <a:xfrm>
            <a:off x="1066680" y="2666520"/>
            <a:ext cx="3886200" cy="228600"/>
            <a:chOff x="1066680" y="2666520"/>
            <a:chExt cx="3886200" cy="228600"/>
          </a:xfrm>
        </p:grpSpPr>
        <p:sp>
          <p:nvSpPr>
            <p:cNvPr id="1579" name=""/>
            <p:cNvSpPr/>
            <p:nvPr/>
          </p:nvSpPr>
          <p:spPr>
            <a:xfrm flipV="1">
              <a:off x="10666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flipV="1">
              <a:off x="49528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1" name=""/>
          <p:cNvGrpSpPr/>
          <p:nvPr/>
        </p:nvGrpSpPr>
        <p:grpSpPr>
          <a:xfrm>
            <a:off x="2057400" y="2895480"/>
            <a:ext cx="1980720" cy="0"/>
            <a:chOff x="2057400" y="2895480"/>
            <a:chExt cx="1980720" cy="0"/>
          </a:xfrm>
        </p:grpSpPr>
        <p:sp>
          <p:nvSpPr>
            <p:cNvPr id="1582" name=""/>
            <p:cNvSpPr/>
            <p:nvPr/>
          </p:nvSpPr>
          <p:spPr>
            <a:xfrm>
              <a:off x="373356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a:off x="205740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4" name=""/>
          <p:cNvSpPr/>
          <p:nvPr/>
        </p:nvSpPr>
        <p:spPr>
          <a:xfrm>
            <a:off x="609588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1371240" y="2895480"/>
            <a:ext cx="3277080" cy="0"/>
            <a:chOff x="1371240" y="2895480"/>
            <a:chExt cx="3277080" cy="0"/>
          </a:xfrm>
        </p:grpSpPr>
        <p:sp>
          <p:nvSpPr>
            <p:cNvPr id="1586" name=""/>
            <p:cNvSpPr/>
            <p:nvPr/>
          </p:nvSpPr>
          <p:spPr>
            <a:xfrm flipH="1">
              <a:off x="137124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434340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
          <p:cNvSpPr/>
          <p:nvPr/>
        </p:nvSpPr>
        <p:spPr>
          <a:xfrm>
            <a:off x="53341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7057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a:off x="4114440" y="327672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a:off x="3580920" y="327672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048120" y="3048120"/>
            <a:ext cx="304560" cy="228600"/>
          </a:xfrm>
          <a:custGeom>
            <a:avLst/>
            <a:gdLst/>
            <a:ahLst/>
            <a:rect l="l" t="t" r="r" b="b"/>
            <a:pathLst>
              <a:path w="192" h="144">
                <a:moveTo>
                  <a:pt x="192" y="144"/>
                </a:moveTo>
                <a:lnTo>
                  <a:pt x="0" y="144"/>
                </a:lnTo>
                <a:lnTo>
                  <a:pt x="0" y="0"/>
                </a:ln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 name=""/>
          <p:cNvGrpSpPr/>
          <p:nvPr/>
        </p:nvGrpSpPr>
        <p:grpSpPr>
          <a:xfrm>
            <a:off x="4716720" y="3352680"/>
            <a:ext cx="1720080" cy="901080"/>
            <a:chOff x="4716720" y="3352680"/>
            <a:chExt cx="1720080" cy="901080"/>
          </a:xfrm>
        </p:grpSpPr>
        <p:sp>
          <p:nvSpPr>
            <p:cNvPr id="1594" name=""/>
            <p:cNvSpPr/>
            <p:nvPr/>
          </p:nvSpPr>
          <p:spPr>
            <a:xfrm flipH="1">
              <a:off x="4716720" y="3733560"/>
              <a:ext cx="172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me! My address </a:t>
              </a:r>
              <a:br>
                <a:rPr sz="1400"/>
              </a:br>
              <a:r>
                <a:rPr b="0" lang="en-US" sz="1400" spc="-1" strike="noStrike">
                  <a:solidFill>
                    <a:srgbClr val="000000"/>
                  </a:solidFill>
                  <a:latin typeface="Times New Roman"/>
                </a:rPr>
                <a:t>is 08:00:20:0d:23:34 </a:t>
              </a:r>
              <a:endParaRPr b="0" lang="en-US" sz="1400" spc="-1" strike="noStrike">
                <a:solidFill>
                  <a:srgbClr val="000000"/>
                </a:solidFill>
                <a:latin typeface="Times New Roman"/>
              </a:endParaRPr>
            </a:p>
          </p:txBody>
        </p:sp>
        <p:sp>
          <p:nvSpPr>
            <p:cNvPr id="1595" name=""/>
            <p:cNvSpPr/>
            <p:nvPr/>
          </p:nvSpPr>
          <p:spPr>
            <a:xfrm flipV="1">
              <a:off x="4952880" y="335268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2743200" y="2590920"/>
            <a:ext cx="6324480" cy="733320"/>
            <a:chOff x="2743200" y="2590920"/>
            <a:chExt cx="6324480" cy="733320"/>
          </a:xfrm>
        </p:grpSpPr>
        <p:sp>
          <p:nvSpPr>
            <p:cNvPr id="1597" name=""/>
            <p:cNvSpPr/>
            <p:nvPr/>
          </p:nvSpPr>
          <p:spPr>
            <a:xfrm flipV="1">
              <a:off x="3048120" y="266652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43200" y="2895480"/>
              <a:ext cx="60948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7315200" y="2590920"/>
              <a:ext cx="1752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ARP req (b/cast)</a:t>
              </a:r>
              <a:br>
                <a:rPr sz="1400"/>
              </a:br>
              <a:r>
                <a:rPr b="0" lang="en-GB" sz="1400" spc="-1" strike="noStrike">
                  <a:solidFill>
                    <a:srgbClr val="ff3300"/>
                  </a:solidFill>
                  <a:latin typeface="Times New Roman"/>
                </a:rPr>
                <a:t>Who is 128.16.8.177?</a:t>
              </a:r>
              <a:endParaRPr b="0" lang="en-US" sz="1400" spc="-1" strike="noStrike">
                <a:solidFill>
                  <a:srgbClr val="000000"/>
                </a:solidFill>
                <a:latin typeface="Times New Roman"/>
              </a:endParaRPr>
            </a:p>
          </p:txBody>
        </p:sp>
      </p:grpSp>
      <p:grpSp>
        <p:nvGrpSpPr>
          <p:cNvPr id="1600" name=""/>
          <p:cNvGrpSpPr/>
          <p:nvPr/>
        </p:nvGrpSpPr>
        <p:grpSpPr>
          <a:xfrm>
            <a:off x="4648320" y="3048120"/>
            <a:ext cx="4190760" cy="550440"/>
            <a:chOff x="4648320" y="3048120"/>
            <a:chExt cx="4190760" cy="550440"/>
          </a:xfrm>
        </p:grpSpPr>
        <p:sp>
          <p:nvSpPr>
            <p:cNvPr id="1601" name=""/>
            <p:cNvSpPr/>
            <p:nvPr/>
          </p:nvSpPr>
          <p:spPr>
            <a:xfrm>
              <a:off x="4648320" y="3048120"/>
              <a:ext cx="304560" cy="228600"/>
            </a:xfrm>
            <a:custGeom>
              <a:avLst/>
              <a:gdLst/>
              <a:ahLst/>
              <a:rect l="l" t="t" r="r" b="b"/>
              <a:pathLst>
                <a:path w="192" h="144">
                  <a:moveTo>
                    <a:pt x="192" y="0"/>
                  </a:moveTo>
                  <a:lnTo>
                    <a:pt x="192" y="144"/>
                  </a:lnTo>
                  <a:lnTo>
                    <a:pt x="0" y="144"/>
                  </a:lnTo>
                </a:path>
              </a:pathLst>
            </a:custGeom>
            <a:noFill/>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7315200" y="3048120"/>
              <a:ext cx="1523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ARP resp</a:t>
              </a:r>
              <a:br>
                <a:rPr sz="1600"/>
              </a:br>
              <a:r>
                <a:rPr b="0" lang="en-GB" sz="1400" spc="-1" strike="noStrike">
                  <a:solidFill>
                    <a:srgbClr val="0033cc"/>
                  </a:solidFill>
                  <a:latin typeface="Times New Roman"/>
                </a:rPr>
                <a:t>08:00:20:0d:23:34</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95199063-7CBA-4F03-BD53-EABF56B3A547}" type="slidenum">
              <a:t>20</a:t>
            </a:fld>
          </a:p>
        </p:txBody>
      </p:sp>
      <p:sp>
        <p:nvSpPr>
          <p:cNvPr id="6" name="PlaceHolder 5"/>
          <p:cNvSpPr>
            <a:spLocks noGrp="1"/>
          </p:cNvSpPr>
          <p:nvPr>
            <p:ph type="dt" idx="1"/>
          </p:nvPr>
        </p:nvSpPr>
        <p:spPr/>
        <p:txBody>
          <a:bodyPr/>
          <a:p>
            <a:fld id="{C6F815DE-B237-4960-AE1D-597845AE758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603" name=""/>
          <p:cNvGrpSpPr/>
          <p:nvPr/>
        </p:nvGrpSpPr>
        <p:grpSpPr>
          <a:xfrm>
            <a:off x="1743120" y="2017800"/>
            <a:ext cx="2895480" cy="1481040"/>
            <a:chOff x="1743120" y="2017800"/>
            <a:chExt cx="2895480" cy="1481040"/>
          </a:xfrm>
        </p:grpSpPr>
        <p:sp>
          <p:nvSpPr>
            <p:cNvPr id="1604" name=""/>
            <p:cNvSpPr/>
            <p:nvPr/>
          </p:nvSpPr>
          <p:spPr>
            <a:xfrm>
              <a:off x="1743120" y="2017800"/>
              <a:ext cx="289548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743120" y="2017800"/>
              <a:ext cx="289548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883520" y="2884680"/>
              <a:ext cx="171000" cy="30600"/>
            </a:xfrm>
            <a:custGeom>
              <a:avLst/>
              <a:gdLst/>
              <a:ahLst/>
              <a:rect l="l" t="t" r="r" b="b"/>
              <a:pathLst>
                <a:path w="255" h="60">
                  <a:moveTo>
                    <a:pt x="0" y="0"/>
                  </a:moveTo>
                  <a:lnTo>
                    <a:pt x="120" y="45"/>
                  </a:lnTo>
                  <a:lnTo>
                    <a:pt x="225" y="60"/>
                  </a:lnTo>
                  <a:lnTo>
                    <a:pt x="240" y="60"/>
                  </a:lnTo>
                  <a:lnTo>
                    <a:pt x="255" y="60"/>
                  </a:lnTo>
                </a:path>
              </a:pathLst>
            </a:custGeom>
            <a:solidFill>
              <a:srgbClr val="ffffcc"/>
            </a:solidFill>
            <a:ln w="28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07" name=""/>
            <p:cNvSpPr/>
            <p:nvPr/>
          </p:nvSpPr>
          <p:spPr>
            <a:xfrm>
              <a:off x="2135160" y="3214800"/>
              <a:ext cx="70200" cy="15120"/>
            </a:xfrm>
            <a:custGeom>
              <a:avLst/>
              <a:gdLst/>
              <a:ahLst/>
              <a:rect l="l" t="t" r="r" b="b"/>
              <a:pathLst>
                <a:path w="105" h="30">
                  <a:moveTo>
                    <a:pt x="0" y="30"/>
                  </a:moveTo>
                  <a:lnTo>
                    <a:pt x="60" y="15"/>
                  </a:lnTo>
                  <a:lnTo>
                    <a:pt x="105" y="0"/>
                  </a:lnTo>
                </a:path>
              </a:pathLst>
            </a:custGeom>
            <a:solidFill>
              <a:srgbClr val="ffffcc"/>
            </a:solidFill>
            <a:ln w="28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08" name=""/>
            <p:cNvSpPr/>
            <p:nvPr/>
          </p:nvSpPr>
          <p:spPr>
            <a:xfrm>
              <a:off x="2798640" y="3299400"/>
              <a:ext cx="50040" cy="61200"/>
            </a:xfrm>
            <a:custGeom>
              <a:avLst/>
              <a:gdLst/>
              <a:ahLst/>
              <a:rect l="l" t="t" r="r" b="b"/>
              <a:pathLst>
                <a:path w="75" h="120">
                  <a:moveTo>
                    <a:pt x="0" y="0"/>
                  </a:moveTo>
                  <a:lnTo>
                    <a:pt x="30" y="60"/>
                  </a:lnTo>
                  <a:lnTo>
                    <a:pt x="75" y="120"/>
                  </a:lnTo>
                </a:path>
              </a:pathLst>
            </a:custGeom>
            <a:solidFill>
              <a:srgbClr val="ffffcc"/>
            </a:solidFill>
            <a:ln w="28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9" name=""/>
            <p:cNvSpPr/>
            <p:nvPr/>
          </p:nvSpPr>
          <p:spPr>
            <a:xfrm>
              <a:off x="3653280" y="3207240"/>
              <a:ext cx="19800" cy="69120"/>
            </a:xfrm>
            <a:custGeom>
              <a:avLst/>
              <a:gdLst/>
              <a:ahLst/>
              <a:rect l="l" t="t" r="r" b="b"/>
              <a:pathLst>
                <a:path w="30" h="135">
                  <a:moveTo>
                    <a:pt x="0" y="135"/>
                  </a:moveTo>
                  <a:lnTo>
                    <a:pt x="15" y="75"/>
                  </a:lnTo>
                  <a:lnTo>
                    <a:pt x="30" y="0"/>
                  </a:lnTo>
                </a:path>
              </a:pathLst>
            </a:custGeom>
            <a:solidFill>
              <a:srgbClr val="ffffcc"/>
            </a:solidFill>
            <a:ln w="28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10" name=""/>
            <p:cNvSpPr/>
            <p:nvPr/>
          </p:nvSpPr>
          <p:spPr>
            <a:xfrm>
              <a:off x="4035240" y="2808000"/>
              <a:ext cx="210960" cy="2376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4447440" y="2539440"/>
              <a:ext cx="100440" cy="91800"/>
            </a:xfrm>
            <a:custGeom>
              <a:avLst/>
              <a:gdLst/>
              <a:ahLst/>
              <a:rect l="l" t="t" r="r" b="b"/>
              <a:pathLst>
                <a:path w="150" h="180">
                  <a:moveTo>
                    <a:pt x="0" y="180"/>
                  </a:moveTo>
                  <a:lnTo>
                    <a:pt x="75" y="105"/>
                  </a:lnTo>
                  <a:lnTo>
                    <a:pt x="150" y="0"/>
                  </a:lnTo>
                </a:path>
              </a:pathLst>
            </a:custGeom>
            <a:solidFill>
              <a:srgbClr val="ffffcc"/>
            </a:solid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2" name=""/>
            <p:cNvSpPr/>
            <p:nvPr/>
          </p:nvSpPr>
          <p:spPr>
            <a:xfrm>
              <a:off x="4306680" y="2201760"/>
              <a:ext cx="10080" cy="45720"/>
            </a:xfrm>
            <a:custGeom>
              <a:avLst/>
              <a:gdLst/>
              <a:ahLst/>
              <a:rect l="l" t="t" r="r" b="b"/>
              <a:pathLst>
                <a:path w="15" h="90">
                  <a:moveTo>
                    <a:pt x="15" y="90"/>
                  </a:moveTo>
                  <a:lnTo>
                    <a:pt x="15" y="90"/>
                  </a:lnTo>
                  <a:lnTo>
                    <a:pt x="15" y="75"/>
                  </a:lnTo>
                  <a:lnTo>
                    <a:pt x="15" y="45"/>
                  </a:lnTo>
                  <a:lnTo>
                    <a:pt x="0" y="0"/>
                  </a:lnTo>
                </a:path>
              </a:pathLst>
            </a:custGeom>
            <a:solidFill>
              <a:srgbClr val="ffffcc"/>
            </a:solidFill>
            <a:ln w="28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3" name=""/>
            <p:cNvSpPr/>
            <p:nvPr/>
          </p:nvSpPr>
          <p:spPr>
            <a:xfrm>
              <a:off x="3693600" y="2094480"/>
              <a:ext cx="50040" cy="61200"/>
            </a:xfrm>
            <a:custGeom>
              <a:avLst/>
              <a:gdLst/>
              <a:ahLst/>
              <a:rect l="l" t="t" r="r" b="b"/>
              <a:pathLst>
                <a:path w="75" h="120">
                  <a:moveTo>
                    <a:pt x="75" y="0"/>
                  </a:moveTo>
                  <a:lnTo>
                    <a:pt x="30" y="60"/>
                  </a:lnTo>
                  <a:lnTo>
                    <a:pt x="0" y="120"/>
                  </a:lnTo>
                </a:path>
              </a:pathLst>
            </a:custGeom>
            <a:solidFill>
              <a:srgbClr val="ffffcc"/>
            </a:solidFill>
            <a:ln w="28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4" name=""/>
            <p:cNvSpPr/>
            <p:nvPr/>
          </p:nvSpPr>
          <p:spPr>
            <a:xfrm flipH="1">
              <a:off x="3220560" y="2132640"/>
              <a:ext cx="2988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5" name=""/>
            <p:cNvSpPr/>
            <p:nvPr/>
          </p:nvSpPr>
          <p:spPr>
            <a:xfrm flipH="1" flipV="1">
              <a:off x="2677680" y="2193840"/>
              <a:ext cx="9036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6" name=""/>
            <p:cNvSpPr/>
            <p:nvPr/>
          </p:nvSpPr>
          <p:spPr>
            <a:xfrm>
              <a:off x="2004480" y="2508840"/>
              <a:ext cx="9720" cy="53640"/>
            </a:xfrm>
            <a:custGeom>
              <a:avLst/>
              <a:gdLst/>
              <a:ahLst/>
              <a:rect l="l" t="t" r="r" b="b"/>
              <a:pathLst>
                <a:path w="15" h="105">
                  <a:moveTo>
                    <a:pt x="0" y="0"/>
                  </a:moveTo>
                  <a:lnTo>
                    <a:pt x="15" y="45"/>
                  </a:lnTo>
                  <a:lnTo>
                    <a:pt x="15" y="105"/>
                  </a:lnTo>
                </a:path>
              </a:pathLst>
            </a:custGeom>
            <a:solidFill>
              <a:srgbClr val="ffffcc"/>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617" name=""/>
          <p:cNvSpPr/>
          <p:nvPr/>
        </p:nvSpPr>
        <p:spPr>
          <a:xfrm>
            <a:off x="1209600" y="1941480"/>
            <a:ext cx="38124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618" name=""/>
          <p:cNvSpPr/>
          <p:nvPr/>
        </p:nvSpPr>
        <p:spPr>
          <a:xfrm>
            <a:off x="4638600" y="3236760"/>
            <a:ext cx="38124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619" name=""/>
          <p:cNvSpPr/>
          <p:nvPr/>
        </p:nvSpPr>
        <p:spPr>
          <a:xfrm>
            <a:off x="1819440" y="3465360"/>
            <a:ext cx="38088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620" name=""/>
          <p:cNvSpPr/>
          <p:nvPr/>
        </p:nvSpPr>
        <p:spPr>
          <a:xfrm>
            <a:off x="1590840" y="1865160"/>
            <a:ext cx="3124080" cy="50832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1" name=""/>
          <p:cNvSpPr/>
          <p:nvPr/>
        </p:nvSpPr>
        <p:spPr>
          <a:xfrm>
            <a:off x="2048040" y="1941480"/>
            <a:ext cx="2666880" cy="1523880"/>
          </a:xfrm>
          <a:custGeom>
            <a:avLst/>
            <a:gdLst/>
            <a:ahLst/>
            <a:rect l="l" t="t" r="r" b="b"/>
            <a:pathLst>
              <a:path w="1680" h="960">
                <a:moveTo>
                  <a:pt x="0" y="960"/>
                </a:moveTo>
                <a:cubicBezTo>
                  <a:pt x="244" y="752"/>
                  <a:pt x="488" y="544"/>
                  <a:pt x="768" y="384"/>
                </a:cubicBezTo>
                <a:cubicBezTo>
                  <a:pt x="1048" y="224"/>
                  <a:pt x="1528" y="64"/>
                  <a:pt x="1680"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2" name=""/>
          <p:cNvSpPr/>
          <p:nvPr/>
        </p:nvSpPr>
        <p:spPr>
          <a:xfrm>
            <a:off x="3800520" y="2017800"/>
            <a:ext cx="1028520" cy="1295280"/>
          </a:xfrm>
          <a:custGeom>
            <a:avLst/>
            <a:gdLst/>
            <a:ahLst/>
            <a:rect l="l" t="t" r="r" b="b"/>
            <a:pathLst>
              <a:path w="648" h="816">
                <a:moveTo>
                  <a:pt x="504" y="816"/>
                </a:moveTo>
                <a:cubicBezTo>
                  <a:pt x="252" y="692"/>
                  <a:pt x="0" y="568"/>
                  <a:pt x="24" y="432"/>
                </a:cubicBezTo>
                <a:cubicBezTo>
                  <a:pt x="48" y="296"/>
                  <a:pt x="544" y="72"/>
                  <a:pt x="64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3" name="PlaceHolder 1"/>
          <p:cNvSpPr>
            <a:spLocks noGrp="1"/>
          </p:cNvSpPr>
          <p:nvPr>
            <p:ph type="title"/>
          </p:nvPr>
        </p:nvSpPr>
        <p:spPr>
          <a:xfrm>
            <a:off x="7617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 Resolution via a Server</a:t>
            </a:r>
            <a:endParaRPr b="1" lang="en-US" sz="3600" spc="-1" strike="noStrike">
              <a:solidFill>
                <a:srgbClr val="336699"/>
              </a:solidFill>
              <a:latin typeface="Times New Roman"/>
            </a:endParaRPr>
          </a:p>
        </p:txBody>
      </p:sp>
      <p:sp>
        <p:nvSpPr>
          <p:cNvPr id="1624" name=""/>
          <p:cNvSpPr/>
          <p:nvPr/>
        </p:nvSpPr>
        <p:spPr>
          <a:xfrm>
            <a:off x="1590840" y="1865160"/>
            <a:ext cx="3124080" cy="50832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5" name=""/>
          <p:cNvSpPr/>
          <p:nvPr/>
        </p:nvSpPr>
        <p:spPr>
          <a:xfrm>
            <a:off x="1514520" y="1865160"/>
            <a:ext cx="3124080" cy="50832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6" name=""/>
          <p:cNvSpPr/>
          <p:nvPr/>
        </p:nvSpPr>
        <p:spPr>
          <a:xfrm>
            <a:off x="1590840" y="2170080"/>
            <a:ext cx="3047760" cy="1219320"/>
          </a:xfrm>
          <a:custGeom>
            <a:avLst/>
            <a:gdLst/>
            <a:ahLst/>
            <a:rect l="l" t="t" r="r" b="b"/>
            <a:pathLst>
              <a:path w="1920" h="768">
                <a:moveTo>
                  <a:pt x="0" y="0"/>
                </a:moveTo>
                <a:cubicBezTo>
                  <a:pt x="168" y="108"/>
                  <a:pt x="336" y="216"/>
                  <a:pt x="528" y="288"/>
                </a:cubicBezTo>
                <a:cubicBezTo>
                  <a:pt x="720" y="360"/>
                  <a:pt x="920" y="352"/>
                  <a:pt x="1152" y="432"/>
                </a:cubicBezTo>
                <a:cubicBezTo>
                  <a:pt x="1384" y="512"/>
                  <a:pt x="1792" y="712"/>
                  <a:pt x="1920" y="768"/>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7" name=""/>
          <p:cNvSpPr/>
          <p:nvPr/>
        </p:nvSpPr>
        <p:spPr>
          <a:xfrm>
            <a:off x="685800" y="3938760"/>
            <a:ext cx="8077320" cy="2414520"/>
          </a:xfrm>
          <a:prstGeom prst="rect">
            <a:avLst/>
          </a:prstGeom>
          <a:noFill/>
          <a:ln w="0">
            <a:noFill/>
          </a:ln>
        </p:spPr>
        <p:style>
          <a:lnRef idx="0"/>
          <a:fillRef idx="0"/>
          <a:effectRef idx="0"/>
          <a:fontRef idx="minor"/>
        </p:style>
        <p:txBody>
          <a:bodyPr lIns="90000" rIns="90000" tIns="46800" bIns="46800" anchor="t">
            <a:normAutofit fontScale="97000"/>
          </a:bodyPr>
          <a:p>
            <a:pPr marL="281520" indent="-281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network does not support broadcast efficiently (e.g. ATM) …</a:t>
            </a:r>
            <a:endParaRPr b="0" lang="en-US" sz="2400" spc="-1" strike="noStrike">
              <a:solidFill>
                <a:srgbClr val="000000"/>
              </a:solidFill>
              <a:latin typeface="Times New Roman"/>
            </a:endParaRPr>
          </a:p>
          <a:p>
            <a:pPr lvl="1" marL="743760" indent="-27720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Use an Address Resolution Server</a:t>
            </a:r>
            <a:endParaRPr b="0" lang="en-US" sz="2000" spc="-1" strike="noStrike">
              <a:solidFill>
                <a:srgbClr val="000000"/>
              </a:solidFill>
              <a:latin typeface="Times New Roman"/>
            </a:endParaRPr>
          </a:p>
          <a:p>
            <a:pPr marL="281520" indent="-281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rver holds mappings – e.g. IP address -&gt; ATM address</a:t>
            </a:r>
            <a:endParaRPr b="0" lang="en-US" sz="2400" spc="-1" strike="noStrike">
              <a:solidFill>
                <a:srgbClr val="000000"/>
              </a:solidFill>
              <a:latin typeface="Times New Roman"/>
            </a:endParaRPr>
          </a:p>
          <a:p>
            <a:pPr marL="281520" indent="-281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send ARP requests to server</a:t>
            </a:r>
            <a:endParaRPr b="0" lang="en-US" sz="2400" spc="-1" strike="noStrike">
              <a:solidFill>
                <a:srgbClr val="000000"/>
              </a:solidFill>
              <a:latin typeface="Times New Roman"/>
            </a:endParaRPr>
          </a:p>
          <a:p>
            <a:pPr marL="281520" indent="-281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register mappings at start-up</a:t>
            </a:r>
            <a:endParaRPr b="0" lang="en-US" sz="2400" spc="-1" strike="noStrike">
              <a:solidFill>
                <a:srgbClr val="000000"/>
              </a:solidFill>
              <a:latin typeface="Times New Roman"/>
            </a:endParaRPr>
          </a:p>
        </p:txBody>
      </p:sp>
      <p:sp>
        <p:nvSpPr>
          <p:cNvPr id="1628" name=""/>
          <p:cNvSpPr/>
          <p:nvPr/>
        </p:nvSpPr>
        <p:spPr>
          <a:xfrm>
            <a:off x="4700520" y="1504800"/>
            <a:ext cx="1011240" cy="642600"/>
          </a:xfrm>
          <a:prstGeom prst="rect">
            <a:avLst/>
          </a:prstGeom>
          <a:solidFill>
            <a:srgbClr val="339933"/>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 Serv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AA56FB08-0DCD-43C2-82E6-5EAFC6E71096}" type="slidenum">
              <a:t>21</a:t>
            </a:fld>
          </a:p>
        </p:txBody>
      </p:sp>
      <p:sp>
        <p:nvSpPr>
          <p:cNvPr id="5" name="PlaceHolder 4"/>
          <p:cNvSpPr>
            <a:spLocks noGrp="1"/>
          </p:cNvSpPr>
          <p:nvPr>
            <p:ph type="dt" idx="1"/>
          </p:nvPr>
        </p:nvSpPr>
        <p:spPr/>
        <p:txBody>
          <a:bodyPr/>
          <a:p>
            <a:fld id="{86890BB6-4743-4ABA-999D-FE1C14374F0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629" name=""/>
          <p:cNvGrpSpPr/>
          <p:nvPr/>
        </p:nvGrpSpPr>
        <p:grpSpPr>
          <a:xfrm>
            <a:off x="380880" y="4191120"/>
            <a:ext cx="8153640" cy="2288160"/>
            <a:chOff x="380880" y="4191120"/>
            <a:chExt cx="8153640" cy="2288160"/>
          </a:xfrm>
        </p:grpSpPr>
        <p:sp>
          <p:nvSpPr>
            <p:cNvPr id="1630" name=""/>
            <p:cNvSpPr/>
            <p:nvPr/>
          </p:nvSpPr>
          <p:spPr>
            <a:xfrm>
              <a:off x="1219320" y="4191120"/>
              <a:ext cx="7617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772400" y="4191120"/>
              <a:ext cx="7621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380880" y="5105520"/>
              <a:ext cx="8153640" cy="1373760"/>
              <a:chOff x="380880" y="5105520"/>
              <a:chExt cx="8153640" cy="1373760"/>
            </a:xfrm>
          </p:grpSpPr>
          <p:grpSp>
            <p:nvGrpSpPr>
              <p:cNvPr id="1633" name=""/>
              <p:cNvGrpSpPr/>
              <p:nvPr/>
            </p:nvGrpSpPr>
            <p:grpSpPr>
              <a:xfrm>
                <a:off x="1219320" y="5105520"/>
                <a:ext cx="7315200" cy="304560"/>
                <a:chOff x="1219320" y="5105520"/>
                <a:chExt cx="7315200" cy="304560"/>
              </a:xfrm>
            </p:grpSpPr>
            <p:sp>
              <p:nvSpPr>
                <p:cNvPr id="1634" name=""/>
                <p:cNvSpPr/>
                <p:nvPr/>
              </p:nvSpPr>
              <p:spPr>
                <a:xfrm>
                  <a:off x="1219320" y="5105520"/>
                  <a:ext cx="76176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895480" y="51055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3657600" y="51055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4120" y="5105520"/>
                  <a:ext cx="76176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095880" y="51055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772400" y="51055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0" name=""/>
              <p:cNvGrpSpPr/>
              <p:nvPr/>
            </p:nvGrpSpPr>
            <p:grpSpPr>
              <a:xfrm>
                <a:off x="1219320" y="5410080"/>
                <a:ext cx="7315200" cy="381240"/>
                <a:chOff x="1219320" y="5410080"/>
                <a:chExt cx="7315200" cy="381240"/>
              </a:xfrm>
            </p:grpSpPr>
            <p:sp>
              <p:nvSpPr>
                <p:cNvPr id="1641" name=""/>
                <p:cNvSpPr/>
                <p:nvPr/>
              </p:nvSpPr>
              <p:spPr>
                <a:xfrm>
                  <a:off x="1219320" y="5410080"/>
                  <a:ext cx="76176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895480" y="5410080"/>
                  <a:ext cx="76212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3657600" y="5410080"/>
                  <a:ext cx="76212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334120" y="5410080"/>
                  <a:ext cx="76176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095880" y="5410080"/>
                  <a:ext cx="762120" cy="1526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772400" y="5410080"/>
                  <a:ext cx="762120" cy="1526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1219320" y="5562720"/>
                <a:ext cx="7315200" cy="609480"/>
                <a:chOff x="1219320" y="5562720"/>
                <a:chExt cx="7315200" cy="609480"/>
              </a:xfrm>
            </p:grpSpPr>
            <p:sp>
              <p:nvSpPr>
                <p:cNvPr id="1648" name=""/>
                <p:cNvSpPr/>
                <p:nvPr/>
              </p:nvSpPr>
              <p:spPr>
                <a:xfrm>
                  <a:off x="1219320" y="5638680"/>
                  <a:ext cx="761760" cy="5335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895480" y="5638680"/>
                  <a:ext cx="762120" cy="5335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657600" y="5791320"/>
                  <a:ext cx="762120" cy="3808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334120" y="5791320"/>
                  <a:ext cx="761760" cy="3808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095880" y="5562720"/>
                  <a:ext cx="762120" cy="609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772400" y="5562720"/>
                  <a:ext cx="762120" cy="609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4" name=""/>
              <p:cNvGrpSpPr/>
              <p:nvPr/>
            </p:nvGrpSpPr>
            <p:grpSpPr>
              <a:xfrm>
                <a:off x="380880" y="5105520"/>
                <a:ext cx="8153640" cy="1373760"/>
                <a:chOff x="380880" y="5105520"/>
                <a:chExt cx="8153640" cy="1373760"/>
              </a:xfrm>
            </p:grpSpPr>
            <p:sp>
              <p:nvSpPr>
                <p:cNvPr id="1655" name=""/>
                <p:cNvSpPr/>
                <p:nvPr/>
              </p:nvSpPr>
              <p:spPr>
                <a:xfrm>
                  <a:off x="762120" y="5105520"/>
                  <a:ext cx="4572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1656" name=""/>
                <p:cNvSpPr/>
                <p:nvPr/>
              </p:nvSpPr>
              <p:spPr>
                <a:xfrm>
                  <a:off x="380880" y="5410080"/>
                  <a:ext cx="8384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pping</a:t>
                  </a:r>
                  <a:endParaRPr b="0" lang="en-US" sz="1400" spc="-1" strike="noStrike">
                    <a:solidFill>
                      <a:srgbClr val="000000"/>
                    </a:solidFill>
                    <a:latin typeface="Times New Roman"/>
                  </a:endParaRPr>
                </a:p>
              </p:txBody>
            </p:sp>
            <p:sp>
              <p:nvSpPr>
                <p:cNvPr id="1657" name=""/>
                <p:cNvSpPr/>
                <p:nvPr/>
              </p:nvSpPr>
              <p:spPr>
                <a:xfrm>
                  <a:off x="533520" y="5867280"/>
                  <a:ext cx="685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a:t>
                  </a:r>
                  <a:endParaRPr b="0" lang="en-US" sz="1400" spc="-1" strike="noStrike">
                    <a:solidFill>
                      <a:srgbClr val="000000"/>
                    </a:solidFill>
                    <a:latin typeface="Times New Roman"/>
                  </a:endParaRPr>
                </a:p>
              </p:txBody>
            </p:sp>
            <p:sp>
              <p:nvSpPr>
                <p:cNvPr id="1658" name=""/>
                <p:cNvSpPr/>
                <p:nvPr/>
              </p:nvSpPr>
              <p:spPr>
                <a:xfrm>
                  <a:off x="1219320" y="6172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1659" name=""/>
                <p:cNvSpPr/>
                <p:nvPr/>
              </p:nvSpPr>
              <p:spPr>
                <a:xfrm>
                  <a:off x="7772400" y="61722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1660" name=""/>
                <p:cNvSpPr/>
                <p:nvPr/>
              </p:nvSpPr>
              <p:spPr>
                <a:xfrm>
                  <a:off x="3276720" y="6172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661" name=""/>
                <p:cNvSpPr/>
                <p:nvPr/>
              </p:nvSpPr>
              <p:spPr>
                <a:xfrm>
                  <a:off x="5715000" y="61722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grpSp>
      </p:grpSp>
      <p:sp>
        <p:nvSpPr>
          <p:cNvPr id="16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 so far</a:t>
            </a:r>
            <a:endParaRPr b="1" lang="en-US" sz="3600" spc="-1" strike="noStrike">
              <a:solidFill>
                <a:srgbClr val="336699"/>
              </a:solidFill>
              <a:latin typeface="Times New Roman"/>
            </a:endParaRPr>
          </a:p>
        </p:txBody>
      </p:sp>
      <p:sp>
        <p:nvSpPr>
          <p:cNvPr id="1663" name="PlaceHolder 2"/>
          <p:cNvSpPr>
            <a:spLocks noGrp="1"/>
          </p:cNvSpPr>
          <p:nvPr>
            <p:ph/>
          </p:nvPr>
        </p:nvSpPr>
        <p:spPr>
          <a:xfrm>
            <a:off x="685800" y="1599840"/>
            <a:ext cx="7848720" cy="2590920"/>
          </a:xfrm>
          <a:prstGeom prst="rect">
            <a:avLst/>
          </a:prstGeom>
          <a:noFill/>
          <a:ln w="0">
            <a:noFill/>
          </a:ln>
        </p:spPr>
        <p:txBody>
          <a:bodyPr lIns="90000" rIns="90000" tIns="46800" bIns="46800" anchor="t">
            <a:normAutofit fontScale="99000"/>
          </a:bodyPr>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IP – connectionless service, global addresses, no guarantees about delivery, may deliver out of order, normally no qos guarantees</a:t>
            </a:r>
            <a:endParaRPr b="0" lang="en-US" sz="20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Routers</a:t>
            </a:r>
            <a:endParaRPr b="0" lang="en-US" sz="20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appings to network technologies - LANs, WANs etc.</a:t>
            </a:r>
            <a:endParaRPr b="0" lang="en-US" sz="20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uppose we want reliable sequenced delivery?</a:t>
            </a:r>
            <a:endParaRPr b="0" lang="en-US" sz="20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TCP</a:t>
            </a:r>
            <a:endParaRPr b="0" lang="en-US" sz="1800" spc="-1" strike="noStrike">
              <a:solidFill>
                <a:srgbClr val="0033cc"/>
              </a:solidFill>
              <a:latin typeface="Times New Roman"/>
            </a:endParaRPr>
          </a:p>
          <a:p>
            <a:pPr marL="287280" indent="-2872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uppose we don’t?</a:t>
            </a:r>
            <a:endParaRPr b="0" lang="en-US" sz="2000" spc="-1" strike="noStrike">
              <a:solidFill>
                <a:srgbClr val="0033cc"/>
              </a:solidFill>
              <a:latin typeface="Times New Roman"/>
            </a:endParaRPr>
          </a:p>
          <a:p>
            <a:pPr lvl="1" marL="758880" indent="-282960">
              <a:lnSpc>
                <a:spcPct val="9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UDP</a:t>
            </a:r>
            <a:endParaRPr b="0" lang="en-US" sz="1800" spc="-1" strike="noStrike">
              <a:solidFill>
                <a:srgbClr val="0033cc"/>
              </a:solidFill>
              <a:latin typeface="Times New Roman"/>
            </a:endParaRPr>
          </a:p>
        </p:txBody>
      </p:sp>
      <p:grpSp>
        <p:nvGrpSpPr>
          <p:cNvPr id="1664" name=""/>
          <p:cNvGrpSpPr/>
          <p:nvPr/>
        </p:nvGrpSpPr>
        <p:grpSpPr>
          <a:xfrm>
            <a:off x="1828800" y="5257440"/>
            <a:ext cx="1219320" cy="686160"/>
            <a:chOff x="1828800" y="5257440"/>
            <a:chExt cx="1219320" cy="686160"/>
          </a:xfrm>
        </p:grpSpPr>
        <p:sp>
          <p:nvSpPr>
            <p:cNvPr id="1665" name=""/>
            <p:cNvSpPr/>
            <p:nvPr/>
          </p:nvSpPr>
          <p:spPr>
            <a:xfrm>
              <a:off x="1828800" y="5257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1981080" y="5943600"/>
              <a:ext cx="914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V="1">
              <a:off x="3048120" y="52574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8" name=""/>
          <p:cNvGrpSpPr/>
          <p:nvPr/>
        </p:nvGrpSpPr>
        <p:grpSpPr>
          <a:xfrm>
            <a:off x="4267080" y="5257440"/>
            <a:ext cx="1219320" cy="686160"/>
            <a:chOff x="4267080" y="5257440"/>
            <a:chExt cx="1219320" cy="686160"/>
          </a:xfrm>
        </p:grpSpPr>
        <p:sp>
          <p:nvSpPr>
            <p:cNvPr id="1669" name=""/>
            <p:cNvSpPr/>
            <p:nvPr/>
          </p:nvSpPr>
          <p:spPr>
            <a:xfrm>
              <a:off x="4267080" y="5257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5486400" y="52574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419720" y="5943600"/>
              <a:ext cx="914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6705720" y="5257800"/>
            <a:ext cx="1218960" cy="685800"/>
            <a:chOff x="6705720" y="5257800"/>
            <a:chExt cx="1218960" cy="685800"/>
          </a:xfrm>
        </p:grpSpPr>
        <p:sp>
          <p:nvSpPr>
            <p:cNvPr id="1673" name=""/>
            <p:cNvSpPr/>
            <p:nvPr/>
          </p:nvSpPr>
          <p:spPr>
            <a:xfrm>
              <a:off x="6705720" y="5257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V="1">
              <a:off x="7924680" y="5257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858000" y="5943600"/>
              <a:ext cx="914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1981080" y="5257800"/>
            <a:ext cx="5791320" cy="0"/>
            <a:chOff x="1981080" y="5257800"/>
            <a:chExt cx="5791320" cy="0"/>
          </a:xfrm>
        </p:grpSpPr>
        <p:sp>
          <p:nvSpPr>
            <p:cNvPr id="1677" name=""/>
            <p:cNvSpPr/>
            <p:nvPr/>
          </p:nvSpPr>
          <p:spPr>
            <a:xfrm>
              <a:off x="1981080" y="5257800"/>
              <a:ext cx="914400" cy="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419720" y="5257800"/>
              <a:ext cx="914400" cy="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6858000" y="5257800"/>
              <a:ext cx="914400" cy="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28600" y="4800600"/>
            <a:ext cx="8305920" cy="380880"/>
            <a:chOff x="228600" y="4800600"/>
            <a:chExt cx="8305920" cy="380880"/>
          </a:xfrm>
        </p:grpSpPr>
        <p:sp>
          <p:nvSpPr>
            <p:cNvPr id="1681" name=""/>
            <p:cNvSpPr/>
            <p:nvPr/>
          </p:nvSpPr>
          <p:spPr>
            <a:xfrm>
              <a:off x="1219320" y="4800600"/>
              <a:ext cx="761760" cy="3049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7772400" y="4800600"/>
              <a:ext cx="762120" cy="3049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82880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V="1">
              <a:off x="7924680" y="495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1981080" y="4952880"/>
              <a:ext cx="579132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28600" y="4800600"/>
              <a:ext cx="99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grpSp>
      <p:grpSp>
        <p:nvGrpSpPr>
          <p:cNvPr id="1687" name=""/>
          <p:cNvGrpSpPr/>
          <p:nvPr/>
        </p:nvGrpSpPr>
        <p:grpSpPr>
          <a:xfrm>
            <a:off x="76320" y="4419720"/>
            <a:ext cx="7848360" cy="457200"/>
            <a:chOff x="76320" y="4419720"/>
            <a:chExt cx="7848360" cy="457200"/>
          </a:xfrm>
        </p:grpSpPr>
        <p:sp>
          <p:nvSpPr>
            <p:cNvPr id="1688" name=""/>
            <p:cNvSpPr/>
            <p:nvPr/>
          </p:nvSpPr>
          <p:spPr>
            <a:xfrm>
              <a:off x="76320" y="4419720"/>
              <a:ext cx="1143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1689" name=""/>
            <p:cNvSpPr/>
            <p:nvPr/>
          </p:nvSpPr>
          <p:spPr>
            <a:xfrm>
              <a:off x="1828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V="1">
              <a:off x="7924680" y="4647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1981080" y="4572000"/>
              <a:ext cx="579132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6FB184FB-B40E-47BB-91E7-B66F2AD7B42F}" type="slidenum">
              <a:t>22</a:t>
            </a:fld>
          </a:p>
        </p:txBody>
      </p:sp>
      <p:sp>
        <p:nvSpPr>
          <p:cNvPr id="6" name="PlaceHolder 5"/>
          <p:cNvSpPr>
            <a:spLocks noGrp="1"/>
          </p:cNvSpPr>
          <p:nvPr>
            <p:ph type="dt" idx="1"/>
          </p:nvPr>
        </p:nvSpPr>
        <p:spPr/>
        <p:txBody>
          <a:bodyPr/>
          <a:p>
            <a:fld id="{B3CFE920-7BB0-4A73-BE28-01F0E3BA160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nsmission Control Protocol - TCP</a:t>
            </a:r>
            <a:endParaRPr b="1" lang="en-US" sz="3600" spc="-1" strike="noStrike">
              <a:solidFill>
                <a:srgbClr val="336699"/>
              </a:solidFill>
              <a:latin typeface="Times New Roman"/>
            </a:endParaRPr>
          </a:p>
        </p:txBody>
      </p:sp>
      <p:sp>
        <p:nvSpPr>
          <p:cNvPr id="1693" name="PlaceHolder 2"/>
          <p:cNvSpPr>
            <a:spLocks noGrp="1"/>
          </p:cNvSpPr>
          <p:nvPr>
            <p:ph/>
          </p:nvPr>
        </p:nvSpPr>
        <p:spPr>
          <a:xfrm>
            <a:off x="685800" y="1600200"/>
            <a:ext cx="7772400" cy="281952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End-to-end”  - routers are not aware of TCP</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liable, sequenced delivery</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RQ operation</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nection oriented</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low control</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ariable window</a:t>
            </a:r>
            <a:endParaRPr b="0" lang="en-US" sz="2400" spc="-1" strike="noStrike">
              <a:solidFill>
                <a:srgbClr val="0033cc"/>
              </a:solidFill>
              <a:latin typeface="Times New Roman"/>
            </a:endParaRPr>
          </a:p>
        </p:txBody>
      </p:sp>
      <p:grpSp>
        <p:nvGrpSpPr>
          <p:cNvPr id="1694" name=""/>
          <p:cNvGrpSpPr/>
          <p:nvPr/>
        </p:nvGrpSpPr>
        <p:grpSpPr>
          <a:xfrm>
            <a:off x="1295280" y="4495680"/>
            <a:ext cx="5029200" cy="368280"/>
            <a:chOff x="1295280" y="4495680"/>
            <a:chExt cx="5029200" cy="368280"/>
          </a:xfrm>
        </p:grpSpPr>
        <p:sp>
          <p:nvSpPr>
            <p:cNvPr id="1695" name=""/>
            <p:cNvSpPr/>
            <p:nvPr/>
          </p:nvSpPr>
          <p:spPr>
            <a:xfrm>
              <a:off x="5486400" y="4495680"/>
              <a:ext cx="838080" cy="368280"/>
            </a:xfrm>
            <a:prstGeom prst="rect">
              <a:avLst/>
            </a:prstGeom>
            <a:solidFill>
              <a:srgbClr val="66cc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CP</a:t>
              </a:r>
              <a:endParaRPr b="0" lang="en-US" sz="1800" spc="-1" strike="noStrike">
                <a:solidFill>
                  <a:srgbClr val="000000"/>
                </a:solidFill>
                <a:latin typeface="Times New Roman"/>
              </a:endParaRPr>
            </a:p>
          </p:txBody>
        </p:sp>
        <p:sp>
          <p:nvSpPr>
            <p:cNvPr id="1696" name=""/>
            <p:cNvSpPr/>
            <p:nvPr/>
          </p:nvSpPr>
          <p:spPr>
            <a:xfrm>
              <a:off x="1295280" y="4495680"/>
              <a:ext cx="419112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 data</a:t>
              </a:r>
              <a:endParaRPr b="0" lang="en-US" sz="1800" spc="-1" strike="noStrike">
                <a:solidFill>
                  <a:srgbClr val="000000"/>
                </a:solidFill>
                <a:latin typeface="Times New Roman"/>
              </a:endParaRPr>
            </a:p>
          </p:txBody>
        </p:sp>
      </p:grpSp>
      <p:grpSp>
        <p:nvGrpSpPr>
          <p:cNvPr id="1697" name=""/>
          <p:cNvGrpSpPr/>
          <p:nvPr/>
        </p:nvGrpSpPr>
        <p:grpSpPr>
          <a:xfrm>
            <a:off x="1295280" y="5181480"/>
            <a:ext cx="5854680" cy="368280"/>
            <a:chOff x="1295280" y="5181480"/>
            <a:chExt cx="5854680" cy="368280"/>
          </a:xfrm>
        </p:grpSpPr>
        <p:sp>
          <p:nvSpPr>
            <p:cNvPr id="1698" name=""/>
            <p:cNvSpPr/>
            <p:nvPr/>
          </p:nvSpPr>
          <p:spPr>
            <a:xfrm>
              <a:off x="6311880" y="5181480"/>
              <a:ext cx="838080" cy="368280"/>
            </a:xfrm>
            <a:prstGeom prst="rect">
              <a:avLst/>
            </a:prstGeom>
            <a:solidFill>
              <a:srgbClr val="800080"/>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P</a:t>
              </a:r>
              <a:endParaRPr b="0" lang="en-US" sz="1800" spc="-1" strike="noStrike">
                <a:solidFill>
                  <a:srgbClr val="000000"/>
                </a:solidFill>
                <a:latin typeface="Times New Roman"/>
              </a:endParaRPr>
            </a:p>
          </p:txBody>
        </p:sp>
        <p:sp>
          <p:nvSpPr>
            <p:cNvPr id="1699" name=""/>
            <p:cNvSpPr/>
            <p:nvPr/>
          </p:nvSpPr>
          <p:spPr>
            <a:xfrm>
              <a:off x="1295280" y="5181480"/>
              <a:ext cx="501660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data</a:t>
              </a:r>
              <a:endParaRPr b="0" lang="en-US" sz="1800" spc="-1" strike="noStrike">
                <a:solidFill>
                  <a:srgbClr val="000000"/>
                </a:solidFill>
                <a:latin typeface="Times New Roman"/>
              </a:endParaRPr>
            </a:p>
          </p:txBody>
        </p:sp>
      </p:grpSp>
      <p:grpSp>
        <p:nvGrpSpPr>
          <p:cNvPr id="1700" name=""/>
          <p:cNvGrpSpPr/>
          <p:nvPr/>
        </p:nvGrpSpPr>
        <p:grpSpPr>
          <a:xfrm>
            <a:off x="1219320" y="4419720"/>
            <a:ext cx="5346720" cy="1130040"/>
            <a:chOff x="1219320" y="4419720"/>
            <a:chExt cx="5346720" cy="1130040"/>
          </a:xfrm>
        </p:grpSpPr>
        <p:sp>
          <p:nvSpPr>
            <p:cNvPr id="1701" name=""/>
            <p:cNvSpPr/>
            <p:nvPr/>
          </p:nvSpPr>
          <p:spPr>
            <a:xfrm>
              <a:off x="1219320" y="4419720"/>
              <a:ext cx="5346720" cy="558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2" name=""/>
            <p:cNvGrpSpPr/>
            <p:nvPr/>
          </p:nvGrpSpPr>
          <p:grpSpPr>
            <a:xfrm>
              <a:off x="1295280" y="5181480"/>
              <a:ext cx="5029200" cy="368280"/>
              <a:chOff x="1295280" y="5181480"/>
              <a:chExt cx="5029200" cy="368280"/>
            </a:xfrm>
          </p:grpSpPr>
          <p:sp>
            <p:nvSpPr>
              <p:cNvPr id="1703" name=""/>
              <p:cNvSpPr/>
              <p:nvPr/>
            </p:nvSpPr>
            <p:spPr>
              <a:xfrm>
                <a:off x="5486400" y="5181480"/>
                <a:ext cx="838080" cy="368280"/>
              </a:xfrm>
              <a:prstGeom prst="rect">
                <a:avLst/>
              </a:prstGeom>
              <a:solidFill>
                <a:srgbClr val="66cc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CP</a:t>
                </a:r>
                <a:endParaRPr b="0" lang="en-US" sz="1800" spc="-1" strike="noStrike">
                  <a:solidFill>
                    <a:srgbClr val="000000"/>
                  </a:solidFill>
                  <a:latin typeface="Times New Roman"/>
                </a:endParaRPr>
              </a:p>
            </p:txBody>
          </p:sp>
          <p:sp>
            <p:nvSpPr>
              <p:cNvPr id="1704" name=""/>
              <p:cNvSpPr/>
              <p:nvPr/>
            </p:nvSpPr>
            <p:spPr>
              <a:xfrm>
                <a:off x="1295280" y="5181480"/>
                <a:ext cx="419112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 data</a:t>
                </a:r>
                <a:endParaRPr b="0" lang="en-US" sz="1800" spc="-1" strike="noStrike">
                  <a:solidFill>
                    <a:srgbClr val="000000"/>
                  </a:solidFill>
                  <a:latin typeface="Times New Roman"/>
                </a:endParaRPr>
              </a:p>
            </p:txBody>
          </p:sp>
        </p:grpSp>
      </p:grpSp>
      <p:sp>
        <p:nvSpPr>
          <p:cNvPr id="1705" name=""/>
          <p:cNvSpPr/>
          <p:nvPr/>
        </p:nvSpPr>
        <p:spPr>
          <a:xfrm>
            <a:off x="6705720" y="5715000"/>
            <a:ext cx="1485720" cy="584280"/>
          </a:xfrm>
          <a:prstGeom prst="wedgeRoundRectCallout">
            <a:avLst>
              <a:gd name="adj1" fmla="val -43481"/>
              <a:gd name="adj2" fmla="val -9728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IP </a:t>
            </a:r>
            <a:br>
              <a:rPr sz="1600"/>
            </a:br>
            <a:r>
              <a:rPr b="0" lang="en-US" sz="1600" spc="-1" strike="noStrike">
                <a:solidFill>
                  <a:srgbClr val="ff3300"/>
                </a:solidFill>
                <a:latin typeface="Times New Roman"/>
              </a:rPr>
              <a:t>Addresses etc.</a:t>
            </a:r>
            <a:endParaRPr b="0" lang="en-US" sz="1600" spc="-1" strike="noStrike">
              <a:solidFill>
                <a:srgbClr val="000000"/>
              </a:solidFill>
              <a:latin typeface="Times New Roman"/>
            </a:endParaRPr>
          </a:p>
        </p:txBody>
      </p:sp>
      <p:sp>
        <p:nvSpPr>
          <p:cNvPr id="1706" name=""/>
          <p:cNvSpPr/>
          <p:nvPr/>
        </p:nvSpPr>
        <p:spPr>
          <a:xfrm>
            <a:off x="4724280" y="5715000"/>
            <a:ext cx="1486080" cy="584280"/>
          </a:xfrm>
          <a:prstGeom prst="wedgeRoundRectCallout">
            <a:avLst>
              <a:gd name="adj1" fmla="val 44550"/>
              <a:gd name="adj2" fmla="val -9728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CP s.ns, ports etc.</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922B6791-7322-474A-8374-6AF57FE36DFB}" type="slidenum">
              <a:t>23</a:t>
            </a:fld>
          </a:p>
        </p:txBody>
      </p:sp>
      <p:sp>
        <p:nvSpPr>
          <p:cNvPr id="6" name="PlaceHolder 5"/>
          <p:cNvSpPr>
            <a:spLocks noGrp="1"/>
          </p:cNvSpPr>
          <p:nvPr>
            <p:ph type="dt" idx="1"/>
          </p:nvPr>
        </p:nvSpPr>
        <p:spPr/>
        <p:txBody>
          <a:bodyPr/>
          <a:p>
            <a:fld id="{E73A51DE-993C-4F21-9E89-E0BC48CE0DF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CP (and UDP) Ports</a:t>
            </a:r>
            <a:endParaRPr b="1" lang="en-US" sz="3600" spc="-1" strike="noStrike">
              <a:solidFill>
                <a:srgbClr val="336699"/>
              </a:solidFill>
              <a:latin typeface="Times New Roman"/>
            </a:endParaRPr>
          </a:p>
        </p:txBody>
      </p:sp>
      <p:sp>
        <p:nvSpPr>
          <p:cNvPr id="1708" name="PlaceHolder 2"/>
          <p:cNvSpPr>
            <a:spLocks noGrp="1"/>
          </p:cNvSpPr>
          <p:nvPr>
            <p:ph/>
          </p:nvPr>
        </p:nvSpPr>
        <p:spPr>
          <a:xfrm>
            <a:off x="685800" y="1599840"/>
            <a:ext cx="7772400" cy="2438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P addresses identify host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orts identify process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ike telephone extension number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packet arrives OS looks at ports and chooses process</a:t>
            </a:r>
            <a:endParaRPr b="0" lang="en-US" sz="2400" spc="-1" strike="noStrike">
              <a:solidFill>
                <a:srgbClr val="0033cc"/>
              </a:solidFill>
              <a:latin typeface="Times New Roman"/>
            </a:endParaRPr>
          </a:p>
        </p:txBody>
      </p:sp>
      <p:sp>
        <p:nvSpPr>
          <p:cNvPr id="1709" name=""/>
          <p:cNvSpPr/>
          <p:nvPr/>
        </p:nvSpPr>
        <p:spPr>
          <a:xfrm>
            <a:off x="6477120" y="426708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80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0" name=""/>
          <p:cNvSpPr/>
          <p:nvPr/>
        </p:nvSpPr>
        <p:spPr>
          <a:xfrm>
            <a:off x="7086600" y="464832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21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1" name=""/>
          <p:cNvSpPr/>
          <p:nvPr/>
        </p:nvSpPr>
        <p:spPr>
          <a:xfrm>
            <a:off x="6629400" y="4952880"/>
            <a:ext cx="1066680" cy="58068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80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2" name=""/>
          <p:cNvSpPr/>
          <p:nvPr/>
        </p:nvSpPr>
        <p:spPr>
          <a:xfrm>
            <a:off x="7391520" y="525780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3309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3" name=""/>
          <p:cNvSpPr/>
          <p:nvPr/>
        </p:nvSpPr>
        <p:spPr>
          <a:xfrm>
            <a:off x="5638680" y="4114800"/>
            <a:ext cx="2971800" cy="190512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715000" y="5257800"/>
            <a:ext cx="838080" cy="6858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715000" y="5486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OS s/w</a:t>
            </a:r>
            <a:endParaRPr b="0" lang="en-US" sz="1800" spc="-1" strike="noStrike">
              <a:solidFill>
                <a:srgbClr val="000000"/>
              </a:solidFill>
              <a:latin typeface="Times New Roman"/>
            </a:endParaRPr>
          </a:p>
        </p:txBody>
      </p:sp>
      <p:sp>
        <p:nvSpPr>
          <p:cNvPr id="1716" name=""/>
          <p:cNvSpPr/>
          <p:nvPr/>
        </p:nvSpPr>
        <p:spPr>
          <a:xfrm flipH="1">
            <a:off x="1599480" y="426708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53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7" name=""/>
          <p:cNvSpPr/>
          <p:nvPr/>
        </p:nvSpPr>
        <p:spPr>
          <a:xfrm flipH="1">
            <a:off x="990000" y="464832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2003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8" name=""/>
          <p:cNvSpPr/>
          <p:nvPr/>
        </p:nvSpPr>
        <p:spPr>
          <a:xfrm flipH="1">
            <a:off x="1447200" y="4952880"/>
            <a:ext cx="1066680" cy="58068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8777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9" name=""/>
          <p:cNvSpPr/>
          <p:nvPr/>
        </p:nvSpPr>
        <p:spPr>
          <a:xfrm flipH="1">
            <a:off x="685080" y="5257800"/>
            <a:ext cx="1066680" cy="58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ort 21 Pr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0" name=""/>
          <p:cNvSpPr/>
          <p:nvPr/>
        </p:nvSpPr>
        <p:spPr>
          <a:xfrm flipH="1">
            <a:off x="532800" y="4114800"/>
            <a:ext cx="2971800" cy="190512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a:off x="2590920" y="5257800"/>
            <a:ext cx="838080" cy="6858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2514600" y="5486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OS s/w</a:t>
            </a:r>
            <a:endParaRPr b="0" lang="en-US" sz="1800" spc="-1" strike="noStrike">
              <a:solidFill>
                <a:srgbClr val="000000"/>
              </a:solidFill>
              <a:latin typeface="Times New Roman"/>
            </a:endParaRPr>
          </a:p>
        </p:txBody>
      </p:sp>
      <p:sp>
        <p:nvSpPr>
          <p:cNvPr id="1723" name=""/>
          <p:cNvSpPr/>
          <p:nvPr/>
        </p:nvSpPr>
        <p:spPr>
          <a:xfrm>
            <a:off x="2514600" y="5029200"/>
            <a:ext cx="4191120" cy="495360"/>
          </a:xfrm>
          <a:custGeom>
            <a:avLst/>
            <a:gdLst/>
            <a:ahLst/>
            <a:rect l="l" t="t" r="r" b="b"/>
            <a:pathLst>
              <a:path w="2592" h="312">
                <a:moveTo>
                  <a:pt x="0" y="144"/>
                </a:moveTo>
                <a:cubicBezTo>
                  <a:pt x="36" y="228"/>
                  <a:pt x="72" y="312"/>
                  <a:pt x="288" y="288"/>
                </a:cubicBezTo>
                <a:cubicBezTo>
                  <a:pt x="504" y="264"/>
                  <a:pt x="992" y="0"/>
                  <a:pt x="1296" y="0"/>
                </a:cubicBezTo>
                <a:cubicBezTo>
                  <a:pt x="1600" y="0"/>
                  <a:pt x="1896" y="272"/>
                  <a:pt x="2112" y="288"/>
                </a:cubicBezTo>
                <a:cubicBezTo>
                  <a:pt x="2328" y="304"/>
                  <a:pt x="2512" y="128"/>
                  <a:pt x="2592" y="96"/>
                </a:cubicBezTo>
              </a:path>
            </a:pathLst>
          </a:custGeom>
          <a:noFill/>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809880" y="4648320"/>
            <a:ext cx="121932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5029200" y="4648320"/>
            <a:ext cx="228600" cy="152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257800" y="4648320"/>
            <a:ext cx="228600" cy="152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724280" y="4343400"/>
            <a:ext cx="609840" cy="152280"/>
          </a:xfrm>
          <a:prstGeom prst="rightArrow">
            <a:avLst>
              <a:gd name="adj1" fmla="val 50000"/>
              <a:gd name="adj2" fmla="val 100118"/>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274320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28.16.5.2</a:t>
            </a:r>
            <a:endParaRPr b="0" lang="en-US" sz="1600" spc="-1" strike="noStrike">
              <a:solidFill>
                <a:srgbClr val="000000"/>
              </a:solidFill>
              <a:latin typeface="Times New Roman"/>
            </a:endParaRPr>
          </a:p>
        </p:txBody>
      </p:sp>
      <p:sp>
        <p:nvSpPr>
          <p:cNvPr id="1729" name=""/>
          <p:cNvSpPr/>
          <p:nvPr/>
        </p:nvSpPr>
        <p:spPr>
          <a:xfrm>
            <a:off x="5410080" y="60199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84.14.67.2</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3258DE37-521C-43D0-8B9B-FAFA193144CC}" type="slidenum">
              <a:t>24</a:t>
            </a:fld>
          </a:p>
        </p:txBody>
      </p:sp>
      <p:sp>
        <p:nvSpPr>
          <p:cNvPr id="6" name="PlaceHolder 5"/>
          <p:cNvSpPr>
            <a:spLocks noGrp="1"/>
          </p:cNvSpPr>
          <p:nvPr>
            <p:ph type="dt" idx="1"/>
          </p:nvPr>
        </p:nvSpPr>
        <p:spPr/>
        <p:txBody>
          <a:bodyPr/>
          <a:p>
            <a:fld id="{39087048-C08F-4BC9-A62E-359D8D674814}"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rt Usage</a:t>
            </a:r>
            <a:endParaRPr b="1" lang="en-US" sz="3600" spc="-1" strike="noStrike">
              <a:solidFill>
                <a:srgbClr val="336699"/>
              </a:solidFill>
              <a:latin typeface="Times New Roman"/>
            </a:endParaRPr>
          </a:p>
        </p:txBody>
      </p:sp>
      <p:sp>
        <p:nvSpPr>
          <p:cNvPr id="173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Well-known” ports – used by server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TTP (WWW server) 80</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TP (FTP server) 21</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omain Name Server 53</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MTP (Email) 25</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etwork Time Protocol 513</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Ephemeral” ports – chosen by client</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ocally unique</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ource and destination ports swapped in response datagrams</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67FC9A87-B9CC-40AB-86BD-C2DF4F04142C}" type="slidenum">
              <a:t>25</a:t>
            </a:fld>
          </a:p>
        </p:txBody>
      </p:sp>
      <p:sp>
        <p:nvSpPr>
          <p:cNvPr id="6" name="PlaceHolder 5"/>
          <p:cNvSpPr>
            <a:spLocks noGrp="1"/>
          </p:cNvSpPr>
          <p:nvPr>
            <p:ph type="dt" idx="1"/>
          </p:nvPr>
        </p:nvSpPr>
        <p:spPr/>
        <p:txBody>
          <a:bodyPr/>
          <a:p>
            <a:fld id="{906A82A3-4FDA-4560-B153-ED35E9EE587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732" name=""/>
          <p:cNvGrpSpPr/>
          <p:nvPr/>
        </p:nvGrpSpPr>
        <p:grpSpPr>
          <a:xfrm>
            <a:off x="1447920" y="5257800"/>
            <a:ext cx="5854680" cy="368280"/>
            <a:chOff x="1447920" y="5257800"/>
            <a:chExt cx="5854680" cy="368280"/>
          </a:xfrm>
        </p:grpSpPr>
        <p:sp>
          <p:nvSpPr>
            <p:cNvPr id="1733" name=""/>
            <p:cNvSpPr/>
            <p:nvPr/>
          </p:nvSpPr>
          <p:spPr>
            <a:xfrm>
              <a:off x="6464520" y="5257800"/>
              <a:ext cx="838080" cy="368280"/>
            </a:xfrm>
            <a:prstGeom prst="rect">
              <a:avLst/>
            </a:prstGeom>
            <a:solidFill>
              <a:srgbClr val="800080"/>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P</a:t>
              </a:r>
              <a:endParaRPr b="0" lang="en-US" sz="1800" spc="-1" strike="noStrike">
                <a:solidFill>
                  <a:srgbClr val="000000"/>
                </a:solidFill>
                <a:latin typeface="Times New Roman"/>
              </a:endParaRPr>
            </a:p>
          </p:txBody>
        </p:sp>
        <p:sp>
          <p:nvSpPr>
            <p:cNvPr id="1734" name=""/>
            <p:cNvSpPr/>
            <p:nvPr/>
          </p:nvSpPr>
          <p:spPr>
            <a:xfrm>
              <a:off x="1447920" y="5257800"/>
              <a:ext cx="501660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data</a:t>
              </a:r>
              <a:endParaRPr b="0" lang="en-US" sz="1800" spc="-1" strike="noStrike">
                <a:solidFill>
                  <a:srgbClr val="000000"/>
                </a:solidFill>
                <a:latin typeface="Times New Roman"/>
              </a:endParaRPr>
            </a:p>
          </p:txBody>
        </p:sp>
      </p:grpSp>
      <p:grpSp>
        <p:nvGrpSpPr>
          <p:cNvPr id="1735" name=""/>
          <p:cNvGrpSpPr/>
          <p:nvPr/>
        </p:nvGrpSpPr>
        <p:grpSpPr>
          <a:xfrm>
            <a:off x="1447920" y="4572000"/>
            <a:ext cx="5029200" cy="368280"/>
            <a:chOff x="1447920" y="4572000"/>
            <a:chExt cx="5029200" cy="368280"/>
          </a:xfrm>
        </p:grpSpPr>
        <p:sp>
          <p:nvSpPr>
            <p:cNvPr id="1736" name=""/>
            <p:cNvSpPr/>
            <p:nvPr/>
          </p:nvSpPr>
          <p:spPr>
            <a:xfrm>
              <a:off x="5639040" y="4572000"/>
              <a:ext cx="838080" cy="368280"/>
            </a:xfrm>
            <a:prstGeom prst="rect">
              <a:avLst/>
            </a:prstGeom>
            <a:solidFill>
              <a:srgbClr val="66cc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DP</a:t>
              </a:r>
              <a:endParaRPr b="0" lang="en-US" sz="1800" spc="-1" strike="noStrike">
                <a:solidFill>
                  <a:srgbClr val="000000"/>
                </a:solidFill>
                <a:latin typeface="Times New Roman"/>
              </a:endParaRPr>
            </a:p>
          </p:txBody>
        </p:sp>
        <p:sp>
          <p:nvSpPr>
            <p:cNvPr id="1737" name=""/>
            <p:cNvSpPr/>
            <p:nvPr/>
          </p:nvSpPr>
          <p:spPr>
            <a:xfrm>
              <a:off x="1447920" y="4572000"/>
              <a:ext cx="419112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 data</a:t>
              </a:r>
              <a:endParaRPr b="0" lang="en-US" sz="1800" spc="-1" strike="noStrike">
                <a:solidFill>
                  <a:srgbClr val="000000"/>
                </a:solidFill>
                <a:latin typeface="Times New Roman"/>
              </a:endParaRPr>
            </a:p>
          </p:txBody>
        </p:sp>
      </p:grpSp>
      <p:grpSp>
        <p:nvGrpSpPr>
          <p:cNvPr id="1738" name=""/>
          <p:cNvGrpSpPr/>
          <p:nvPr/>
        </p:nvGrpSpPr>
        <p:grpSpPr>
          <a:xfrm>
            <a:off x="1371600" y="4495680"/>
            <a:ext cx="5346720" cy="1130040"/>
            <a:chOff x="1371600" y="4495680"/>
            <a:chExt cx="5346720" cy="1130040"/>
          </a:xfrm>
        </p:grpSpPr>
        <p:sp>
          <p:nvSpPr>
            <p:cNvPr id="1739" name=""/>
            <p:cNvSpPr/>
            <p:nvPr/>
          </p:nvSpPr>
          <p:spPr>
            <a:xfrm>
              <a:off x="1371600" y="4495680"/>
              <a:ext cx="5346720" cy="558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0" name=""/>
            <p:cNvGrpSpPr/>
            <p:nvPr/>
          </p:nvGrpSpPr>
          <p:grpSpPr>
            <a:xfrm>
              <a:off x="1447560" y="5257440"/>
              <a:ext cx="5029200" cy="368280"/>
              <a:chOff x="1447560" y="5257440"/>
              <a:chExt cx="5029200" cy="368280"/>
            </a:xfrm>
          </p:grpSpPr>
          <p:sp>
            <p:nvSpPr>
              <p:cNvPr id="1741" name=""/>
              <p:cNvSpPr/>
              <p:nvPr/>
            </p:nvSpPr>
            <p:spPr>
              <a:xfrm>
                <a:off x="5638680" y="5257440"/>
                <a:ext cx="838080" cy="368280"/>
              </a:xfrm>
              <a:prstGeom prst="rect">
                <a:avLst/>
              </a:prstGeom>
              <a:solidFill>
                <a:srgbClr val="66cc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DP</a:t>
                </a:r>
                <a:endParaRPr b="0" lang="en-US" sz="1800" spc="-1" strike="noStrike">
                  <a:solidFill>
                    <a:srgbClr val="000000"/>
                  </a:solidFill>
                  <a:latin typeface="Times New Roman"/>
                </a:endParaRPr>
              </a:p>
            </p:txBody>
          </p:sp>
          <p:sp>
            <p:nvSpPr>
              <p:cNvPr id="1742" name=""/>
              <p:cNvSpPr/>
              <p:nvPr/>
            </p:nvSpPr>
            <p:spPr>
              <a:xfrm>
                <a:off x="1447560" y="5257440"/>
                <a:ext cx="4191120" cy="36828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 data</a:t>
                </a:r>
                <a:endParaRPr b="0" lang="en-US" sz="1800" spc="-1" strike="noStrike">
                  <a:solidFill>
                    <a:srgbClr val="000000"/>
                  </a:solidFill>
                  <a:latin typeface="Times New Roman"/>
                </a:endParaRPr>
              </a:p>
            </p:txBody>
          </p:sp>
        </p:grpSp>
      </p:grpSp>
      <p:sp>
        <p:nvSpPr>
          <p:cNvPr id="174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User Datagram Protocol - UDP</a:t>
            </a:r>
            <a:endParaRPr b="1" lang="en-US" sz="3600" spc="-1" strike="noStrike">
              <a:solidFill>
                <a:srgbClr val="336699"/>
              </a:solidFill>
              <a:latin typeface="Times New Roman"/>
            </a:endParaRPr>
          </a:p>
        </p:txBody>
      </p:sp>
      <p:sp>
        <p:nvSpPr>
          <p:cNvPr id="1744" name=""/>
          <p:cNvSpPr/>
          <p:nvPr/>
        </p:nvSpPr>
        <p:spPr>
          <a:xfrm>
            <a:off x="6858000" y="5791320"/>
            <a:ext cx="1486080" cy="583920"/>
          </a:xfrm>
          <a:prstGeom prst="wedgeRoundRectCallout">
            <a:avLst>
              <a:gd name="adj1" fmla="val -43481"/>
              <a:gd name="adj2" fmla="val -9728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IP </a:t>
            </a:r>
            <a:br>
              <a:rPr sz="1600"/>
            </a:br>
            <a:r>
              <a:rPr b="0" lang="en-US" sz="1600" spc="-1" strike="noStrike">
                <a:solidFill>
                  <a:srgbClr val="ff3300"/>
                </a:solidFill>
                <a:latin typeface="Times New Roman"/>
              </a:rPr>
              <a:t>Addresses etc.</a:t>
            </a:r>
            <a:endParaRPr b="0" lang="en-US" sz="1600" spc="-1" strike="noStrike">
              <a:solidFill>
                <a:srgbClr val="000000"/>
              </a:solidFill>
              <a:latin typeface="Times New Roman"/>
            </a:endParaRPr>
          </a:p>
        </p:txBody>
      </p:sp>
      <p:sp>
        <p:nvSpPr>
          <p:cNvPr id="1745" name=""/>
          <p:cNvSpPr/>
          <p:nvPr/>
        </p:nvSpPr>
        <p:spPr>
          <a:xfrm>
            <a:off x="4876920" y="5791320"/>
            <a:ext cx="1485720" cy="583920"/>
          </a:xfrm>
          <a:prstGeom prst="wedgeRoundRectCallout">
            <a:avLst>
              <a:gd name="adj1" fmla="val 44550"/>
              <a:gd name="adj2" fmla="val -97282"/>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UDP ports </a:t>
            </a:r>
            <a:endParaRPr b="0" lang="en-US" sz="1600" spc="-1" strike="noStrike">
              <a:solidFill>
                <a:srgbClr val="000000"/>
              </a:solidFill>
              <a:latin typeface="Times New Roman"/>
            </a:endParaRPr>
          </a:p>
        </p:txBody>
      </p:sp>
      <p:sp>
        <p:nvSpPr>
          <p:cNvPr id="1746" name=""/>
          <p:cNvSpPr/>
          <p:nvPr/>
        </p:nvSpPr>
        <p:spPr>
          <a:xfrm>
            <a:off x="762120" y="1295280"/>
            <a:ext cx="7772400" cy="32767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Not all applications want (or tolerate) ARQ delays. E.g. VoIP</a:t>
            </a:r>
            <a:endParaRPr b="0" lang="en-US" sz="2400" spc="-1" strike="noStrike">
              <a:solidFill>
                <a:srgbClr val="000000"/>
              </a:solidFill>
              <a:latin typeface="Times New Roman"/>
            </a:endParaRPr>
          </a:p>
          <a:p>
            <a:pPr lvl="1" marL="766800" indent="-285840">
              <a:lnSpc>
                <a:spcPct val="10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Each packet contains (say) 50ms of speech</a:t>
            </a:r>
            <a:endParaRPr b="0" lang="en-US" sz="2000" spc="-1" strike="noStrike">
              <a:solidFill>
                <a:srgbClr val="000000"/>
              </a:solidFill>
              <a:latin typeface="Times New Roman"/>
            </a:endParaRPr>
          </a:p>
          <a:p>
            <a:pPr lvl="1" marL="766800" indent="-285840">
              <a:lnSpc>
                <a:spcPct val="10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Retransmission might take 1 sec</a:t>
            </a:r>
            <a:endParaRPr b="0" lang="en-US" sz="2000" spc="-1" strike="noStrike">
              <a:solidFill>
                <a:srgbClr val="0000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Better to lose packet than retransmit </a:t>
            </a:r>
            <a:endParaRPr b="0" lang="en-US" sz="2400" spc="-1" strike="noStrike">
              <a:solidFill>
                <a:srgbClr val="000000"/>
              </a:solidFill>
              <a:latin typeface="Times New Roman"/>
            </a:endParaRPr>
          </a:p>
          <a:p>
            <a:pPr lvl="1" marL="766800" indent="-285840">
              <a:lnSpc>
                <a:spcPct val="10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t; use UDP not TCP</a:t>
            </a:r>
            <a:endParaRPr b="0" lang="en-US" sz="2400" spc="-1" strike="noStrike">
              <a:solidFill>
                <a:srgbClr val="000000"/>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ame service as IP but adds ports</a:t>
            </a:r>
            <a:endParaRPr b="0" lang="en-US" sz="2400" spc="-1" strike="noStrike">
              <a:solidFill>
                <a:srgbClr val="000000"/>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End-to-end (routers do not know about UDP)</a:t>
            </a:r>
            <a:endParaRPr b="0" lang="en-US" sz="2400" spc="-1" strike="noStrike">
              <a:solidFill>
                <a:srgbClr val="0000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9B21C20E-2290-4780-8F83-CE67BF4E154D}" type="slidenum">
              <a:t>26</a:t>
            </a:fld>
          </a:p>
        </p:txBody>
      </p:sp>
      <p:sp>
        <p:nvSpPr>
          <p:cNvPr id="5" name="PlaceHolder 4"/>
          <p:cNvSpPr>
            <a:spLocks noGrp="1"/>
          </p:cNvSpPr>
          <p:nvPr>
            <p:ph type="dt" idx="1"/>
          </p:nvPr>
        </p:nvSpPr>
        <p:spPr/>
        <p:txBody>
          <a:bodyPr/>
          <a:p>
            <a:fld id="{AD7EECD7-2183-4A99-A70D-604768116A0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52" name=""/>
          <p:cNvGrpSpPr/>
          <p:nvPr/>
        </p:nvGrpSpPr>
        <p:grpSpPr>
          <a:xfrm>
            <a:off x="192240" y="4240080"/>
            <a:ext cx="4225680" cy="2131200"/>
            <a:chOff x="192240" y="4240080"/>
            <a:chExt cx="4225680" cy="2131200"/>
          </a:xfrm>
        </p:grpSpPr>
        <p:sp>
          <p:nvSpPr>
            <p:cNvPr id="353" name=""/>
            <p:cNvSpPr/>
            <p:nvPr/>
          </p:nvSpPr>
          <p:spPr>
            <a:xfrm>
              <a:off x="1179360" y="467532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2665440" y="4587840"/>
              <a:ext cx="1752480" cy="1076400"/>
              <a:chOff x="2665440" y="4587840"/>
              <a:chExt cx="1752480" cy="1076400"/>
            </a:xfrm>
          </p:grpSpPr>
          <p:sp>
            <p:nvSpPr>
              <p:cNvPr id="355" name=""/>
              <p:cNvSpPr/>
              <p:nvPr/>
            </p:nvSpPr>
            <p:spPr>
              <a:xfrm>
                <a:off x="2665440" y="458784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65440" y="458784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750400" y="5217840"/>
                <a:ext cx="103320" cy="2232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2902680" y="5457960"/>
                <a:ext cx="42480" cy="1116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3304440" y="5519160"/>
                <a:ext cx="30240" cy="4428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0" name=""/>
              <p:cNvSpPr/>
              <p:nvPr/>
            </p:nvSpPr>
            <p:spPr>
              <a:xfrm>
                <a:off x="3821760" y="5452200"/>
                <a:ext cx="11880" cy="500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1" name=""/>
              <p:cNvSpPr/>
              <p:nvPr/>
            </p:nvSpPr>
            <p:spPr>
              <a:xfrm>
                <a:off x="4052880" y="5162400"/>
                <a:ext cx="127800" cy="1728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02360" y="4966920"/>
                <a:ext cx="60840" cy="666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4217040" y="4721400"/>
                <a:ext cx="6120" cy="3348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 name=""/>
              <p:cNvSpPr/>
              <p:nvPr/>
            </p:nvSpPr>
            <p:spPr>
              <a:xfrm>
                <a:off x="3845880" y="4643280"/>
                <a:ext cx="30240" cy="4428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flipH="1">
                <a:off x="3560040" y="4671360"/>
                <a:ext cx="18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flipH="1" flipV="1">
                <a:off x="3231360" y="4715640"/>
                <a:ext cx="54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7" name=""/>
              <p:cNvSpPr/>
              <p:nvPr/>
            </p:nvSpPr>
            <p:spPr>
              <a:xfrm>
                <a:off x="2823480" y="4944600"/>
                <a:ext cx="5760" cy="388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368" name=""/>
            <p:cNvSpPr/>
            <p:nvPr/>
          </p:nvSpPr>
          <p:spPr>
            <a:xfrm>
              <a:off x="3009960" y="4743360"/>
              <a:ext cx="1117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Access Network</a:t>
              </a:r>
              <a:endParaRPr b="0" lang="en-US" sz="1600" spc="-1" strike="noStrike">
                <a:solidFill>
                  <a:srgbClr val="000000"/>
                </a:solidFill>
                <a:latin typeface="Times New Roman"/>
              </a:endParaRPr>
            </a:p>
          </p:txBody>
        </p:sp>
        <p:grpSp>
          <p:nvGrpSpPr>
            <p:cNvPr id="369" name=""/>
            <p:cNvGrpSpPr/>
            <p:nvPr/>
          </p:nvGrpSpPr>
          <p:grpSpPr>
            <a:xfrm>
              <a:off x="192240" y="4240080"/>
              <a:ext cx="1008000" cy="1023120"/>
              <a:chOff x="192240" y="4240080"/>
              <a:chExt cx="1008000" cy="1023120"/>
            </a:xfrm>
          </p:grpSpPr>
          <p:grpSp>
            <p:nvGrpSpPr>
              <p:cNvPr id="370" name=""/>
              <p:cNvGrpSpPr/>
              <p:nvPr/>
            </p:nvGrpSpPr>
            <p:grpSpPr>
              <a:xfrm>
                <a:off x="192240" y="4240080"/>
                <a:ext cx="1008000" cy="671760"/>
                <a:chOff x="192240" y="4240080"/>
                <a:chExt cx="1008000" cy="671760"/>
              </a:xfrm>
            </p:grpSpPr>
            <p:sp>
              <p:nvSpPr>
                <p:cNvPr id="371" name=""/>
                <p:cNvSpPr/>
                <p:nvPr/>
              </p:nvSpPr>
              <p:spPr>
                <a:xfrm flipH="1">
                  <a:off x="349200" y="4768200"/>
                  <a:ext cx="630720" cy="2232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flipH="1">
                  <a:off x="294120" y="4809960"/>
                  <a:ext cx="740880" cy="2628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3" name=""/>
                <p:cNvSpPr/>
                <p:nvPr/>
              </p:nvSpPr>
              <p:spPr>
                <a:xfrm flipH="1">
                  <a:off x="238680" y="4855320"/>
                  <a:ext cx="847080" cy="2232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flipH="1">
                  <a:off x="192240" y="4240080"/>
                  <a:ext cx="100800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433440" y="4311720"/>
                  <a:ext cx="411120" cy="298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433440" y="4364640"/>
                  <a:ext cx="741240" cy="37728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349200" y="4768200"/>
                  <a:ext cx="630720" cy="2232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 name=""/>
                <p:cNvSpPr/>
                <p:nvPr/>
              </p:nvSpPr>
              <p:spPr>
                <a:xfrm flipH="1">
                  <a:off x="294120" y="4809960"/>
                  <a:ext cx="740880" cy="2628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 name=""/>
                <p:cNvSpPr/>
                <p:nvPr/>
              </p:nvSpPr>
              <p:spPr>
                <a:xfrm flipH="1">
                  <a:off x="238680" y="4855320"/>
                  <a:ext cx="847080" cy="2232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0" name=""/>
                <p:cNvSpPr/>
                <p:nvPr/>
              </p:nvSpPr>
              <p:spPr>
                <a:xfrm flipH="1">
                  <a:off x="192240" y="4240080"/>
                  <a:ext cx="1008000" cy="67176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983880" y="4768200"/>
                  <a:ext cx="122760" cy="90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 name=""/>
                <p:cNvSpPr/>
                <p:nvPr/>
              </p:nvSpPr>
              <p:spPr>
                <a:xfrm flipH="1">
                  <a:off x="433440" y="4311720"/>
                  <a:ext cx="411120" cy="29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1009440" y="4364640"/>
                  <a:ext cx="16524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flipH="1">
                  <a:off x="433440" y="4681440"/>
                  <a:ext cx="411120" cy="60120"/>
                </a:xfrm>
                <a:prstGeom prst="rect">
                  <a:avLst/>
                </a:prstGeom>
                <a:no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85" name=""/>
              <p:cNvSpPr/>
              <p:nvPr/>
            </p:nvSpPr>
            <p:spPr>
              <a:xfrm flipH="1">
                <a:off x="362160" y="49258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C</a:t>
                </a:r>
                <a:endParaRPr b="0" lang="en-US" sz="1600" spc="-1" strike="noStrike">
                  <a:solidFill>
                    <a:srgbClr val="000000"/>
                  </a:solidFill>
                  <a:latin typeface="Times New Roman"/>
                </a:endParaRPr>
              </a:p>
            </p:txBody>
          </p:sp>
        </p:grpSp>
        <p:sp>
          <p:nvSpPr>
            <p:cNvPr id="386" name=""/>
            <p:cNvSpPr/>
            <p:nvPr/>
          </p:nvSpPr>
          <p:spPr>
            <a:xfrm>
              <a:off x="1384200" y="4707000"/>
              <a:ext cx="709560" cy="853920"/>
            </a:xfrm>
            <a:custGeom>
              <a:avLst/>
              <a:gdLst/>
              <a:ahLst/>
              <a:rect l="l" t="t" r="r" b="b"/>
              <a:pathLst>
                <a:path w="447" h="538">
                  <a:moveTo>
                    <a:pt x="0" y="0"/>
                  </a:moveTo>
                  <a:cubicBezTo>
                    <a:pt x="36" y="14"/>
                    <a:pt x="178" y="4"/>
                    <a:pt x="215" y="82"/>
                  </a:cubicBezTo>
                  <a:cubicBezTo>
                    <a:pt x="252" y="160"/>
                    <a:pt x="184" y="398"/>
                    <a:pt x="223" y="468"/>
                  </a:cubicBezTo>
                  <a:cubicBezTo>
                    <a:pt x="262" y="538"/>
                    <a:pt x="351" y="526"/>
                    <a:pt x="447" y="5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703520" y="4406760"/>
              <a:ext cx="1058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ocal Loop</a:t>
              </a:r>
              <a:endParaRPr b="0" lang="en-US" sz="1600" spc="-1" strike="noStrike">
                <a:solidFill>
                  <a:srgbClr val="000000"/>
                </a:solidFill>
                <a:latin typeface="Times New Roman"/>
              </a:endParaRPr>
            </a:p>
          </p:txBody>
        </p:sp>
        <p:sp>
          <p:nvSpPr>
            <p:cNvPr id="388" name=""/>
            <p:cNvSpPr/>
            <p:nvPr/>
          </p:nvSpPr>
          <p:spPr>
            <a:xfrm>
              <a:off x="2333520" y="5572080"/>
              <a:ext cx="8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Mux.</a:t>
              </a:r>
              <a:endParaRPr b="0" lang="en-US" sz="1600" spc="-1" strike="noStrike">
                <a:solidFill>
                  <a:srgbClr val="000000"/>
                </a:solidFill>
                <a:latin typeface="Times New Roman"/>
              </a:endParaRPr>
            </a:p>
          </p:txBody>
        </p:sp>
        <p:grpSp>
          <p:nvGrpSpPr>
            <p:cNvPr id="389" name=""/>
            <p:cNvGrpSpPr/>
            <p:nvPr/>
          </p:nvGrpSpPr>
          <p:grpSpPr>
            <a:xfrm>
              <a:off x="1849320" y="5211720"/>
              <a:ext cx="591840" cy="552600"/>
              <a:chOff x="1849320" y="5211720"/>
              <a:chExt cx="591840" cy="552600"/>
            </a:xfrm>
          </p:grpSpPr>
          <p:grpSp>
            <p:nvGrpSpPr>
              <p:cNvPr id="390" name=""/>
              <p:cNvGrpSpPr/>
              <p:nvPr/>
            </p:nvGrpSpPr>
            <p:grpSpPr>
              <a:xfrm>
                <a:off x="1849320" y="5211720"/>
                <a:ext cx="351720" cy="552600"/>
                <a:chOff x="1849320" y="5211720"/>
                <a:chExt cx="351720" cy="552600"/>
              </a:xfrm>
            </p:grpSpPr>
            <p:sp>
              <p:nvSpPr>
                <p:cNvPr id="391" name=""/>
                <p:cNvSpPr/>
                <p:nvPr/>
              </p:nvSpPr>
              <p:spPr>
                <a:xfrm>
                  <a:off x="1849320" y="5211720"/>
                  <a:ext cx="351720" cy="552600"/>
                </a:xfrm>
                <a:custGeom>
                  <a:avLst/>
                  <a:gdLst/>
                  <a:ahLst/>
                  <a:rect l="l" t="t" r="r" b="b"/>
                  <a:pathLst>
                    <a:path w="261" h="395">
                      <a:moveTo>
                        <a:pt x="0" y="42"/>
                      </a:moveTo>
                      <a:lnTo>
                        <a:pt x="81" y="0"/>
                      </a:lnTo>
                      <a:lnTo>
                        <a:pt x="130" y="0"/>
                      </a:lnTo>
                      <a:lnTo>
                        <a:pt x="261" y="0"/>
                      </a:lnTo>
                      <a:lnTo>
                        <a:pt x="261" y="215"/>
                      </a:lnTo>
                      <a:lnTo>
                        <a:pt x="261"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849320" y="5211720"/>
                  <a:ext cx="351720" cy="552600"/>
                </a:xfrm>
                <a:custGeom>
                  <a:avLst/>
                  <a:gdLst/>
                  <a:ahLst/>
                  <a:rect l="l" t="t" r="r" b="b"/>
                  <a:pathLst>
                    <a:path w="261" h="395">
                      <a:moveTo>
                        <a:pt x="0" y="42"/>
                      </a:moveTo>
                      <a:lnTo>
                        <a:pt x="0" y="42"/>
                      </a:lnTo>
                      <a:lnTo>
                        <a:pt x="177" y="42"/>
                      </a:lnTo>
                      <a:lnTo>
                        <a:pt x="261" y="0"/>
                      </a:lnTo>
                      <a:lnTo>
                        <a:pt x="0" y="42"/>
                      </a:lnTo>
                      <a:close/>
                      <a:moveTo>
                        <a:pt x="0" y="42"/>
                      </a:moveTo>
                      <a:lnTo>
                        <a:pt x="177" y="42"/>
                      </a:lnTo>
                      <a:lnTo>
                        <a:pt x="177" y="99"/>
                      </a:lnTo>
                      <a:lnTo>
                        <a:pt x="177" y="321"/>
                      </a:lnTo>
                      <a:lnTo>
                        <a:pt x="177" y="395"/>
                      </a:lnTo>
                      <a:lnTo>
                        <a:pt x="0" y="42"/>
                      </a:lnTo>
                      <a:close/>
                      <a:moveTo>
                        <a:pt x="14" y="57"/>
                      </a:moveTo>
                      <a:lnTo>
                        <a:pt x="160" y="57"/>
                      </a:lnTo>
                      <a:lnTo>
                        <a:pt x="160" y="64"/>
                      </a:lnTo>
                      <a:lnTo>
                        <a:pt x="14" y="64"/>
                      </a:lnTo>
                      <a:lnTo>
                        <a:pt x="14" y="57"/>
                      </a:lnTo>
                      <a:lnTo>
                        <a:pt x="14" y="57"/>
                      </a:lnTo>
                      <a:close/>
                      <a:moveTo>
                        <a:pt x="14" y="84"/>
                      </a:moveTo>
                      <a:lnTo>
                        <a:pt x="160" y="84"/>
                      </a:lnTo>
                      <a:lnTo>
                        <a:pt x="160" y="89"/>
                      </a:lnTo>
                      <a:lnTo>
                        <a:pt x="14" y="89"/>
                      </a:lnTo>
                      <a:lnTo>
                        <a:pt x="14" y="84"/>
                      </a:lnTo>
                      <a:lnTo>
                        <a:pt x="14" y="84"/>
                      </a:lnTo>
                      <a:close/>
                      <a:moveTo>
                        <a:pt x="14" y="109"/>
                      </a:moveTo>
                      <a:lnTo>
                        <a:pt x="160" y="109"/>
                      </a:lnTo>
                      <a:lnTo>
                        <a:pt x="160" y="116"/>
                      </a:lnTo>
                      <a:lnTo>
                        <a:pt x="14" y="116"/>
                      </a:lnTo>
                      <a:lnTo>
                        <a:pt x="14" y="109"/>
                      </a:lnTo>
                      <a:lnTo>
                        <a:pt x="14"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49320" y="5211720"/>
                  <a:ext cx="351720" cy="552600"/>
                </a:xfrm>
                <a:custGeom>
                  <a:avLst/>
                  <a:gdLst/>
                  <a:ahLst/>
                  <a:rect l="l" t="t" r="r" b="b"/>
                  <a:pathLst>
                    <a:path w="261" h="395">
                      <a:moveTo>
                        <a:pt x="0" y="42"/>
                      </a:moveTo>
                      <a:lnTo>
                        <a:pt x="81" y="0"/>
                      </a:lnTo>
                      <a:lnTo>
                        <a:pt x="130" y="0"/>
                      </a:lnTo>
                      <a:lnTo>
                        <a:pt x="261" y="0"/>
                      </a:lnTo>
                      <a:lnTo>
                        <a:pt x="261" y="215"/>
                      </a:lnTo>
                      <a:lnTo>
                        <a:pt x="261"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849320" y="5211720"/>
                  <a:ext cx="351720" cy="58680"/>
                </a:xfrm>
                <a:custGeom>
                  <a:avLst/>
                  <a:gdLst/>
                  <a:ahLst/>
                  <a:rect l="l" t="t" r="r" b="b"/>
                  <a:pathLst>
                    <a:path w="261" h="42">
                      <a:moveTo>
                        <a:pt x="0" y="42"/>
                      </a:moveTo>
                      <a:lnTo>
                        <a:pt x="0" y="42"/>
                      </a:lnTo>
                      <a:lnTo>
                        <a:pt x="177" y="42"/>
                      </a:lnTo>
                      <a:lnTo>
                        <a:pt x="261"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a:off x="1849320" y="5270400"/>
                  <a:ext cx="238320" cy="493560"/>
                </a:xfrm>
                <a:custGeom>
                  <a:avLst/>
                  <a:gdLst/>
                  <a:ahLst/>
                  <a:rect l="l" t="t" r="r" b="b"/>
                  <a:pathLst>
                    <a:path w="177" h="353">
                      <a:moveTo>
                        <a:pt x="0" y="0"/>
                      </a:moveTo>
                      <a:lnTo>
                        <a:pt x="177" y="0"/>
                      </a:lnTo>
                      <a:lnTo>
                        <a:pt x="177" y="57"/>
                      </a:lnTo>
                      <a:lnTo>
                        <a:pt x="177" y="279"/>
                      </a:lnTo>
                      <a:lnTo>
                        <a:pt x="177"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67680" y="5291640"/>
                  <a:ext cx="19692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1867680" y="5329080"/>
                  <a:ext cx="196920" cy="6840"/>
                </a:xfrm>
                <a:prstGeom prst="rect">
                  <a:avLst/>
                </a:prstGeom>
                <a:noFill/>
                <a:ln w="11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 name=""/>
                <p:cNvSpPr/>
                <p:nvPr/>
              </p:nvSpPr>
              <p:spPr>
                <a:xfrm>
                  <a:off x="1867680" y="5364000"/>
                  <a:ext cx="19692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99" name=""/>
              <p:cNvGrpSpPr/>
              <p:nvPr/>
            </p:nvGrpSpPr>
            <p:grpSpPr>
              <a:xfrm>
                <a:off x="2091960" y="5211720"/>
                <a:ext cx="349200" cy="552600"/>
                <a:chOff x="2091960" y="5211720"/>
                <a:chExt cx="349200" cy="552600"/>
              </a:xfrm>
            </p:grpSpPr>
            <p:sp>
              <p:nvSpPr>
                <p:cNvPr id="400" name=""/>
                <p:cNvSpPr/>
                <p:nvPr/>
              </p:nvSpPr>
              <p:spPr>
                <a:xfrm>
                  <a:off x="2091960" y="5211720"/>
                  <a:ext cx="349200" cy="55260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091960" y="5211720"/>
                  <a:ext cx="349200" cy="55260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91960" y="5211720"/>
                  <a:ext cx="349200" cy="55260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091960" y="5211720"/>
                  <a:ext cx="349200" cy="58680"/>
                </a:xfrm>
                <a:custGeom>
                  <a:avLst/>
                  <a:gdLst/>
                  <a:ahLst/>
                  <a:rect l="l" t="t" r="r" b="b"/>
                  <a:pathLst>
                    <a:path w="259" h="42">
                      <a:moveTo>
                        <a:pt x="0" y="42"/>
                      </a:moveTo>
                      <a:lnTo>
                        <a:pt x="0" y="42"/>
                      </a:lnTo>
                      <a:lnTo>
                        <a:pt x="178" y="42"/>
                      </a:lnTo>
                      <a:lnTo>
                        <a:pt x="259"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2091960" y="5270400"/>
                  <a:ext cx="239760" cy="493560"/>
                </a:xfrm>
                <a:custGeom>
                  <a:avLst/>
                  <a:gdLst/>
                  <a:ahLst/>
                  <a:rect l="l" t="t" r="r" b="b"/>
                  <a:pathLst>
                    <a:path w="178" h="353">
                      <a:moveTo>
                        <a:pt x="0" y="0"/>
                      </a:moveTo>
                      <a:lnTo>
                        <a:pt x="178" y="0"/>
                      </a:lnTo>
                      <a:lnTo>
                        <a:pt x="178" y="57"/>
                      </a:lnTo>
                      <a:lnTo>
                        <a:pt x="178" y="279"/>
                      </a:lnTo>
                      <a:lnTo>
                        <a:pt x="178"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112120" y="5291640"/>
                  <a:ext cx="19548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6" name=""/>
                <p:cNvSpPr/>
                <p:nvPr/>
              </p:nvSpPr>
              <p:spPr>
                <a:xfrm>
                  <a:off x="2112120" y="5329080"/>
                  <a:ext cx="195480" cy="6840"/>
                </a:xfrm>
                <a:prstGeom prst="rect">
                  <a:avLst/>
                </a:prstGeom>
                <a:noFill/>
                <a:ln w="11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 name=""/>
                <p:cNvSpPr/>
                <p:nvPr/>
              </p:nvSpPr>
              <p:spPr>
                <a:xfrm>
                  <a:off x="2112120" y="5364000"/>
                  <a:ext cx="195480" cy="9720"/>
                </a:xfrm>
                <a:prstGeom prst="rect">
                  <a:avLst/>
                </a:prstGeom>
                <a:no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408" name=""/>
            <p:cNvSpPr/>
            <p:nvPr/>
          </p:nvSpPr>
          <p:spPr>
            <a:xfrm>
              <a:off x="1577880" y="5118120"/>
              <a:ext cx="1460520" cy="12524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603440" y="6033960"/>
              <a:ext cx="145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el. Exchange</a:t>
              </a:r>
              <a:endParaRPr b="0" lang="en-US" sz="1600" spc="-1" strike="noStrike">
                <a:solidFill>
                  <a:srgbClr val="000000"/>
                </a:solidFill>
                <a:latin typeface="Times New Roman"/>
              </a:endParaRPr>
            </a:p>
          </p:txBody>
        </p:sp>
        <p:sp>
          <p:nvSpPr>
            <p:cNvPr id="410" name=""/>
            <p:cNvSpPr/>
            <p:nvPr/>
          </p:nvSpPr>
          <p:spPr>
            <a:xfrm>
              <a:off x="1312920" y="4572000"/>
              <a:ext cx="147600" cy="20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4572000" y="3962520"/>
            <a:ext cx="3983040" cy="1784880"/>
            <a:chOff x="4572000" y="3962520"/>
            <a:chExt cx="3983040" cy="1784880"/>
          </a:xfrm>
        </p:grpSpPr>
        <p:sp>
          <p:nvSpPr>
            <p:cNvPr id="412" name=""/>
            <p:cNvSpPr/>
            <p:nvPr/>
          </p:nvSpPr>
          <p:spPr>
            <a:xfrm>
              <a:off x="777240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19920" y="4191120"/>
              <a:ext cx="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47712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495680"/>
              <a:ext cx="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5486400" y="3962520"/>
              <a:ext cx="677880" cy="252360"/>
              <a:chOff x="5486400" y="3962520"/>
              <a:chExt cx="677880" cy="252360"/>
            </a:xfrm>
          </p:grpSpPr>
          <p:sp>
            <p:nvSpPr>
              <p:cNvPr id="417" name=""/>
              <p:cNvSpPr/>
              <p:nvPr/>
            </p:nvSpPr>
            <p:spPr>
              <a:xfrm>
                <a:off x="5486400" y="39625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5553000" y="40183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878440" y="41587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58040" y="41115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59840" y="41490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01920" y="40122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423" name=""/>
            <p:cNvSpPr/>
            <p:nvPr/>
          </p:nvSpPr>
          <p:spPr>
            <a:xfrm>
              <a:off x="4572000" y="4495680"/>
              <a:ext cx="38862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5943600" y="4648320"/>
              <a:ext cx="2590920" cy="1099080"/>
              <a:chOff x="5943600" y="4648320"/>
              <a:chExt cx="2590920" cy="1099080"/>
            </a:xfrm>
          </p:grpSpPr>
          <p:sp>
            <p:nvSpPr>
              <p:cNvPr id="425" name=""/>
              <p:cNvSpPr/>
              <p:nvPr/>
            </p:nvSpPr>
            <p:spPr>
              <a:xfrm>
                <a:off x="6638760" y="5092560"/>
                <a:ext cx="33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019920" y="4648320"/>
                <a:ext cx="662040" cy="763560"/>
                <a:chOff x="6019920" y="4648320"/>
                <a:chExt cx="662040" cy="763560"/>
              </a:xfrm>
            </p:grpSpPr>
            <p:sp>
              <p:nvSpPr>
                <p:cNvPr id="427" name=""/>
                <p:cNvSpPr/>
                <p:nvPr/>
              </p:nvSpPr>
              <p:spPr>
                <a:xfrm>
                  <a:off x="6019920" y="4648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19920" y="4648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19920" y="4648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072120" y="4708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6019920" y="4800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375240" y="4692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3" name=""/>
                <p:cNvSpPr/>
                <p:nvPr/>
              </p:nvSpPr>
              <p:spPr>
                <a:xfrm>
                  <a:off x="6375240" y="4764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6375240" y="4861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5" name=""/>
                <p:cNvSpPr/>
                <p:nvPr/>
              </p:nvSpPr>
              <p:spPr>
                <a:xfrm>
                  <a:off x="6375240" y="4933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6" name=""/>
                <p:cNvSpPr/>
                <p:nvPr/>
              </p:nvSpPr>
              <p:spPr>
                <a:xfrm>
                  <a:off x="6375240" y="4797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7" name=""/>
                <p:cNvSpPr/>
                <p:nvPr/>
              </p:nvSpPr>
              <p:spPr>
                <a:xfrm>
                  <a:off x="646236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8" name=""/>
                <p:cNvSpPr/>
                <p:nvPr/>
              </p:nvSpPr>
              <p:spPr>
                <a:xfrm>
                  <a:off x="6539040" y="4797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9" name=""/>
                <p:cNvSpPr/>
                <p:nvPr/>
              </p:nvSpPr>
              <p:spPr>
                <a:xfrm>
                  <a:off x="662616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a:off x="6375240" y="4989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1" name=""/>
                <p:cNvSpPr/>
                <p:nvPr/>
              </p:nvSpPr>
              <p:spPr>
                <a:xfrm>
                  <a:off x="646236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2" name=""/>
                <p:cNvSpPr/>
                <p:nvPr/>
              </p:nvSpPr>
              <p:spPr>
                <a:xfrm>
                  <a:off x="6539040" y="4989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3" name=""/>
                <p:cNvSpPr/>
                <p:nvPr/>
              </p:nvSpPr>
              <p:spPr>
                <a:xfrm>
                  <a:off x="662616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4" name=""/>
                <p:cNvSpPr/>
                <p:nvPr/>
              </p:nvSpPr>
              <p:spPr>
                <a:xfrm>
                  <a:off x="6354360" y="5146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354360" y="4648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6864480" y="4870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43600" y="5410080"/>
                <a:ext cx="2590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NS</a:t>
                </a:r>
                <a:endParaRPr b="0" lang="en-US" sz="1600" spc="-1" strike="noStrike">
                  <a:solidFill>
                    <a:srgbClr val="000000"/>
                  </a:solidFill>
                  <a:latin typeface="Times New Roman"/>
                </a:endParaRPr>
              </a:p>
            </p:txBody>
          </p:sp>
        </p:grpSp>
        <p:grpSp>
          <p:nvGrpSpPr>
            <p:cNvPr id="448" name=""/>
            <p:cNvGrpSpPr/>
            <p:nvPr/>
          </p:nvGrpSpPr>
          <p:grpSpPr>
            <a:xfrm>
              <a:off x="4619520" y="4699080"/>
              <a:ext cx="828720" cy="554040"/>
              <a:chOff x="4619520" y="4699080"/>
              <a:chExt cx="828720" cy="554040"/>
            </a:xfrm>
          </p:grpSpPr>
          <p:grpSp>
            <p:nvGrpSpPr>
              <p:cNvPr id="449" name=""/>
              <p:cNvGrpSpPr/>
              <p:nvPr/>
            </p:nvGrpSpPr>
            <p:grpSpPr>
              <a:xfrm>
                <a:off x="4686480" y="4699080"/>
                <a:ext cx="677880" cy="252360"/>
                <a:chOff x="4686480" y="4699080"/>
                <a:chExt cx="677880" cy="252360"/>
              </a:xfrm>
            </p:grpSpPr>
            <p:sp>
              <p:nvSpPr>
                <p:cNvPr id="450" name=""/>
                <p:cNvSpPr/>
                <p:nvPr/>
              </p:nvSpPr>
              <p:spPr>
                <a:xfrm>
                  <a:off x="4686480" y="4699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4753080" y="4754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78520" y="4895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758120" y="4848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759920" y="4885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02000" y="4748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456" name=""/>
              <p:cNvSpPr/>
              <p:nvPr/>
            </p:nvSpPr>
            <p:spPr>
              <a:xfrm>
                <a:off x="4619520" y="4886280"/>
                <a:ext cx="82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7" name=""/>
            <p:cNvGrpSpPr/>
            <p:nvPr/>
          </p:nvGrpSpPr>
          <p:grpSpPr>
            <a:xfrm>
              <a:off x="7315200" y="4648320"/>
              <a:ext cx="1239840" cy="763560"/>
              <a:chOff x="7315200" y="4648320"/>
              <a:chExt cx="1239840" cy="763560"/>
            </a:xfrm>
          </p:grpSpPr>
          <p:sp>
            <p:nvSpPr>
              <p:cNvPr id="458" name=""/>
              <p:cNvSpPr/>
              <p:nvPr/>
            </p:nvSpPr>
            <p:spPr>
              <a:xfrm>
                <a:off x="7934400" y="5092560"/>
                <a:ext cx="33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7315200" y="4648320"/>
                <a:ext cx="662040" cy="763560"/>
                <a:chOff x="7315200" y="4648320"/>
                <a:chExt cx="662040" cy="763560"/>
              </a:xfrm>
            </p:grpSpPr>
            <p:sp>
              <p:nvSpPr>
                <p:cNvPr id="460" name=""/>
                <p:cNvSpPr/>
                <p:nvPr/>
              </p:nvSpPr>
              <p:spPr>
                <a:xfrm>
                  <a:off x="7315200" y="4648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15200" y="4648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315200" y="4648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367400" y="4708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
                <p:cNvSpPr/>
                <p:nvPr/>
              </p:nvSpPr>
              <p:spPr>
                <a:xfrm>
                  <a:off x="7315200" y="4800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70520" y="4692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6" name=""/>
                <p:cNvSpPr/>
                <p:nvPr/>
              </p:nvSpPr>
              <p:spPr>
                <a:xfrm>
                  <a:off x="7670520" y="4764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 name=""/>
                <p:cNvSpPr/>
                <p:nvPr/>
              </p:nvSpPr>
              <p:spPr>
                <a:xfrm>
                  <a:off x="7670520" y="4861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8" name=""/>
                <p:cNvSpPr/>
                <p:nvPr/>
              </p:nvSpPr>
              <p:spPr>
                <a:xfrm>
                  <a:off x="7670520" y="4933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9" name=""/>
                <p:cNvSpPr/>
                <p:nvPr/>
              </p:nvSpPr>
              <p:spPr>
                <a:xfrm>
                  <a:off x="7670520" y="4797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0" name=""/>
                <p:cNvSpPr/>
                <p:nvPr/>
              </p:nvSpPr>
              <p:spPr>
                <a:xfrm>
                  <a:off x="775764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a:off x="7834320" y="4797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2" name=""/>
                <p:cNvSpPr/>
                <p:nvPr/>
              </p:nvSpPr>
              <p:spPr>
                <a:xfrm>
                  <a:off x="7921440" y="4797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3" name=""/>
                <p:cNvSpPr/>
                <p:nvPr/>
              </p:nvSpPr>
              <p:spPr>
                <a:xfrm>
                  <a:off x="7670520" y="4989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4" name=""/>
                <p:cNvSpPr/>
                <p:nvPr/>
              </p:nvSpPr>
              <p:spPr>
                <a:xfrm>
                  <a:off x="775764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5" name=""/>
                <p:cNvSpPr/>
                <p:nvPr/>
              </p:nvSpPr>
              <p:spPr>
                <a:xfrm>
                  <a:off x="7834320" y="4989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6" name=""/>
                <p:cNvSpPr/>
                <p:nvPr/>
              </p:nvSpPr>
              <p:spPr>
                <a:xfrm>
                  <a:off x="7921440" y="4989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7" name=""/>
                <p:cNvSpPr/>
                <p:nvPr/>
              </p:nvSpPr>
              <p:spPr>
                <a:xfrm>
                  <a:off x="7649640" y="5146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649640" y="4648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8159760" y="4870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1189080" y="1211400"/>
            <a:ext cx="6178680" cy="1414080"/>
            <a:chOff x="1189080" y="1211400"/>
            <a:chExt cx="6178680" cy="1414080"/>
          </a:xfrm>
        </p:grpSpPr>
        <p:sp>
          <p:nvSpPr>
            <p:cNvPr id="481" name=""/>
            <p:cNvSpPr/>
            <p:nvPr/>
          </p:nvSpPr>
          <p:spPr>
            <a:xfrm>
              <a:off x="6818400" y="1920960"/>
              <a:ext cx="549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154400" y="1854360"/>
              <a:ext cx="1044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1189080" y="2260080"/>
              <a:ext cx="444600" cy="365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1654200" y="1255680"/>
              <a:ext cx="2247480" cy="1304640"/>
              <a:chOff x="1654200" y="1255680"/>
              <a:chExt cx="2247480" cy="1304640"/>
            </a:xfrm>
          </p:grpSpPr>
          <p:grpSp>
            <p:nvGrpSpPr>
              <p:cNvPr id="485" name=""/>
              <p:cNvGrpSpPr/>
              <p:nvPr/>
            </p:nvGrpSpPr>
            <p:grpSpPr>
              <a:xfrm>
                <a:off x="1654200" y="1255680"/>
                <a:ext cx="2247480" cy="1304640"/>
                <a:chOff x="1654200" y="1255680"/>
                <a:chExt cx="2247480" cy="1304640"/>
              </a:xfrm>
            </p:grpSpPr>
            <p:sp>
              <p:nvSpPr>
                <p:cNvPr id="486" name=""/>
                <p:cNvSpPr/>
                <p:nvPr/>
              </p:nvSpPr>
              <p:spPr>
                <a:xfrm>
                  <a:off x="1654200" y="12556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654200" y="125568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763280" y="201960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1958400" y="231012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0" name=""/>
                <p:cNvSpPr/>
                <p:nvPr/>
              </p:nvSpPr>
              <p:spPr>
                <a:xfrm>
                  <a:off x="2473560" y="238464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1" name=""/>
                <p:cNvSpPr/>
                <p:nvPr/>
              </p:nvSpPr>
              <p:spPr>
                <a:xfrm>
                  <a:off x="3137040" y="230328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2" name=""/>
                <p:cNvSpPr/>
                <p:nvPr/>
              </p:nvSpPr>
              <p:spPr>
                <a:xfrm>
                  <a:off x="3433320" y="1951920"/>
                  <a:ext cx="163800" cy="2095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753360" y="171540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3644280" y="141768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5" name=""/>
                <p:cNvSpPr/>
                <p:nvPr/>
              </p:nvSpPr>
              <p:spPr>
                <a:xfrm>
                  <a:off x="3168360" y="132300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6" name=""/>
                <p:cNvSpPr/>
                <p:nvPr/>
              </p:nvSpPr>
              <p:spPr>
                <a:xfrm flipH="1">
                  <a:off x="2801520" y="135684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7" name=""/>
                <p:cNvSpPr/>
                <p:nvPr/>
              </p:nvSpPr>
              <p:spPr>
                <a:xfrm flipH="1" flipV="1">
                  <a:off x="2379600" y="141084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8" name=""/>
                <p:cNvSpPr/>
                <p:nvPr/>
              </p:nvSpPr>
              <p:spPr>
                <a:xfrm>
                  <a:off x="1856880" y="168804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499" name=""/>
              <p:cNvSpPr/>
              <p:nvPr/>
            </p:nvSpPr>
            <p:spPr>
              <a:xfrm>
                <a:off x="2338200" y="1625040"/>
                <a:ext cx="1074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 name=""/>
            <p:cNvGrpSpPr/>
            <p:nvPr/>
          </p:nvGrpSpPr>
          <p:grpSpPr>
            <a:xfrm>
              <a:off x="1362240" y="2097000"/>
              <a:ext cx="677520" cy="252360"/>
              <a:chOff x="1362240" y="2097000"/>
              <a:chExt cx="677520" cy="252360"/>
            </a:xfrm>
          </p:grpSpPr>
          <p:sp>
            <p:nvSpPr>
              <p:cNvPr id="501" name=""/>
              <p:cNvSpPr/>
              <p:nvPr/>
            </p:nvSpPr>
            <p:spPr>
              <a:xfrm>
                <a:off x="1362240" y="2097000"/>
                <a:ext cx="67752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1428480" y="2152800"/>
                <a:ext cx="40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53920" y="229320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433880" y="2246040"/>
                <a:ext cx="187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435320" y="228348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877760" y="214668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507" name=""/>
            <p:cNvGrpSpPr/>
            <p:nvPr/>
          </p:nvGrpSpPr>
          <p:grpSpPr>
            <a:xfrm>
              <a:off x="5332320" y="1211400"/>
              <a:ext cx="1478160" cy="874440"/>
              <a:chOff x="5332320" y="1211400"/>
              <a:chExt cx="1478160" cy="874440"/>
            </a:xfrm>
          </p:grpSpPr>
          <p:grpSp>
            <p:nvGrpSpPr>
              <p:cNvPr id="508" name=""/>
              <p:cNvGrpSpPr/>
              <p:nvPr/>
            </p:nvGrpSpPr>
            <p:grpSpPr>
              <a:xfrm>
                <a:off x="5332320" y="1211400"/>
                <a:ext cx="1478160" cy="874440"/>
                <a:chOff x="5332320" y="1211400"/>
                <a:chExt cx="1478160" cy="874440"/>
              </a:xfrm>
            </p:grpSpPr>
            <p:sp>
              <p:nvSpPr>
                <p:cNvPr id="509" name=""/>
                <p:cNvSpPr/>
                <p:nvPr/>
              </p:nvSpPr>
              <p:spPr>
                <a:xfrm>
                  <a:off x="5332320" y="121140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332320" y="1211400"/>
                  <a:ext cx="1478160" cy="8744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403960" y="1723320"/>
                  <a:ext cx="87120" cy="18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5532480" y="1918080"/>
                  <a:ext cx="35640" cy="900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 name=""/>
                <p:cNvSpPr/>
                <p:nvPr/>
              </p:nvSpPr>
              <p:spPr>
                <a:xfrm>
                  <a:off x="5871240" y="1968120"/>
                  <a:ext cx="25560" cy="36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14" name=""/>
                <p:cNvSpPr/>
                <p:nvPr/>
              </p:nvSpPr>
              <p:spPr>
                <a:xfrm>
                  <a:off x="6307560" y="1913760"/>
                  <a:ext cx="10080" cy="4068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5" name=""/>
                <p:cNvSpPr/>
                <p:nvPr/>
              </p:nvSpPr>
              <p:spPr>
                <a:xfrm>
                  <a:off x="6502680" y="1677960"/>
                  <a:ext cx="107640" cy="1404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12920" y="1519560"/>
                  <a:ext cx="51120" cy="54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7" name=""/>
                <p:cNvSpPr/>
                <p:nvPr/>
              </p:nvSpPr>
              <p:spPr>
                <a:xfrm>
                  <a:off x="6641280" y="1320120"/>
                  <a:ext cx="5040" cy="2700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328080" y="1256400"/>
                  <a:ext cx="25560" cy="36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19" name=""/>
                <p:cNvSpPr/>
                <p:nvPr/>
              </p:nvSpPr>
              <p:spPr>
                <a:xfrm flipH="1">
                  <a:off x="6086880" y="1279080"/>
                  <a:ext cx="151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flipH="1" flipV="1">
                  <a:off x="5809680" y="1315080"/>
                  <a:ext cx="460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5465520" y="1501200"/>
                  <a:ext cx="5040" cy="316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522" name=""/>
              <p:cNvSpPr/>
              <p:nvPr/>
            </p:nvSpPr>
            <p:spPr>
              <a:xfrm>
                <a:off x="5781960" y="1459080"/>
                <a:ext cx="7066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3600360" y="1682640"/>
              <a:ext cx="677880" cy="252360"/>
              <a:chOff x="3600360" y="1682640"/>
              <a:chExt cx="677880" cy="252360"/>
            </a:xfrm>
          </p:grpSpPr>
          <p:sp>
            <p:nvSpPr>
              <p:cNvPr id="524" name=""/>
              <p:cNvSpPr/>
              <p:nvPr/>
            </p:nvSpPr>
            <p:spPr>
              <a:xfrm>
                <a:off x="3600360" y="168264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3666960" y="173844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92400" y="187884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672000" y="183168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673800" y="186912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15880" y="173232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530" name=""/>
            <p:cNvGrpSpPr/>
            <p:nvPr/>
          </p:nvGrpSpPr>
          <p:grpSpPr>
            <a:xfrm>
              <a:off x="4981680" y="1677960"/>
              <a:ext cx="677880" cy="252360"/>
              <a:chOff x="4981680" y="1677960"/>
              <a:chExt cx="677880" cy="252360"/>
            </a:xfrm>
          </p:grpSpPr>
          <p:sp>
            <p:nvSpPr>
              <p:cNvPr id="531" name=""/>
              <p:cNvSpPr/>
              <p:nvPr/>
            </p:nvSpPr>
            <p:spPr>
              <a:xfrm>
                <a:off x="4981680" y="167796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048280" y="173376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373720" y="18741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53320" y="182700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055120" y="186444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497200" y="172764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537" name=""/>
            <p:cNvGrpSpPr/>
            <p:nvPr/>
          </p:nvGrpSpPr>
          <p:grpSpPr>
            <a:xfrm>
              <a:off x="6243480" y="1752480"/>
              <a:ext cx="677880" cy="252360"/>
              <a:chOff x="6243480" y="1752480"/>
              <a:chExt cx="677880" cy="252360"/>
            </a:xfrm>
          </p:grpSpPr>
          <p:sp>
            <p:nvSpPr>
              <p:cNvPr id="538" name=""/>
              <p:cNvSpPr/>
              <p:nvPr/>
            </p:nvSpPr>
            <p:spPr>
              <a:xfrm>
                <a:off x="6243480" y="17524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6310080" y="18082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635520" y="19486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15120" y="19015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16920" y="19389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759000" y="18021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544" name=""/>
          <p:cNvGrpSpPr/>
          <p:nvPr/>
        </p:nvGrpSpPr>
        <p:grpSpPr>
          <a:xfrm>
            <a:off x="233280" y="2563920"/>
            <a:ext cx="3476880" cy="1606320"/>
            <a:chOff x="233280" y="2563920"/>
            <a:chExt cx="3476880" cy="1606320"/>
          </a:xfrm>
        </p:grpSpPr>
        <p:grpSp>
          <p:nvGrpSpPr>
            <p:cNvPr id="545" name=""/>
            <p:cNvGrpSpPr/>
            <p:nvPr/>
          </p:nvGrpSpPr>
          <p:grpSpPr>
            <a:xfrm>
              <a:off x="233280" y="2606760"/>
              <a:ext cx="3476880" cy="1563480"/>
              <a:chOff x="233280" y="2606760"/>
              <a:chExt cx="3476880" cy="1563480"/>
            </a:xfrm>
          </p:grpSpPr>
          <p:sp>
            <p:nvSpPr>
              <p:cNvPr id="546" name=""/>
              <p:cNvSpPr/>
              <p:nvPr/>
            </p:nvSpPr>
            <p:spPr>
              <a:xfrm>
                <a:off x="2233440" y="3430440"/>
                <a:ext cx="1476720" cy="739800"/>
              </a:xfrm>
              <a:custGeom>
                <a:avLst/>
                <a:gdLst/>
                <a:ahLst/>
                <a:rect l="l" t="t" r="r" b="b"/>
                <a:pathLst>
                  <a:path w="930" h="466">
                    <a:moveTo>
                      <a:pt x="930" y="36"/>
                    </a:moveTo>
                    <a:cubicBezTo>
                      <a:pt x="898" y="40"/>
                      <a:pt x="798" y="0"/>
                      <a:pt x="732" y="61"/>
                    </a:cubicBezTo>
                    <a:cubicBezTo>
                      <a:pt x="666" y="122"/>
                      <a:pt x="609" y="346"/>
                      <a:pt x="535" y="406"/>
                    </a:cubicBezTo>
                    <a:cubicBezTo>
                      <a:pt x="461" y="466"/>
                      <a:pt x="342" y="460"/>
                      <a:pt x="288" y="423"/>
                    </a:cubicBezTo>
                    <a:cubicBezTo>
                      <a:pt x="234" y="386"/>
                      <a:pt x="262" y="231"/>
                      <a:pt x="214" y="184"/>
                    </a:cubicBezTo>
                    <a:cubicBezTo>
                      <a:pt x="166" y="137"/>
                      <a:pt x="36" y="151"/>
                      <a:pt x="0" y="143"/>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233280" y="2606760"/>
                <a:ext cx="2247480" cy="1304640"/>
                <a:chOff x="233280" y="2606760"/>
                <a:chExt cx="2247480" cy="1304640"/>
              </a:xfrm>
            </p:grpSpPr>
            <p:grpSp>
              <p:nvGrpSpPr>
                <p:cNvPr id="548" name=""/>
                <p:cNvGrpSpPr/>
                <p:nvPr/>
              </p:nvGrpSpPr>
              <p:grpSpPr>
                <a:xfrm>
                  <a:off x="233280" y="2606760"/>
                  <a:ext cx="2247480" cy="1304640"/>
                  <a:chOff x="233280" y="2606760"/>
                  <a:chExt cx="2247480" cy="1304640"/>
                </a:xfrm>
              </p:grpSpPr>
              <p:sp>
                <p:nvSpPr>
                  <p:cNvPr id="549" name=""/>
                  <p:cNvSpPr/>
                  <p:nvPr/>
                </p:nvSpPr>
                <p:spPr>
                  <a:xfrm>
                    <a:off x="233280" y="260676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33280" y="2606760"/>
                    <a:ext cx="2247480" cy="13046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2360" y="3370680"/>
                    <a:ext cx="132480" cy="2700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537480" y="3661200"/>
                    <a:ext cx="54360" cy="1332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53" name=""/>
                  <p:cNvSpPr/>
                  <p:nvPr/>
                </p:nvSpPr>
                <p:spPr>
                  <a:xfrm>
                    <a:off x="1052640" y="3735720"/>
                    <a:ext cx="38880" cy="5400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a:off x="1716120" y="3654360"/>
                    <a:ext cx="15480" cy="608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5" name=""/>
                  <p:cNvSpPr/>
                  <p:nvPr/>
                </p:nvSpPr>
                <p:spPr>
                  <a:xfrm>
                    <a:off x="2012400" y="3303000"/>
                    <a:ext cx="163800" cy="20952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32440" y="3066480"/>
                    <a:ext cx="77760" cy="810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223360" y="2768760"/>
                    <a:ext cx="7560" cy="4032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8" name=""/>
                  <p:cNvSpPr/>
                  <p:nvPr/>
                </p:nvSpPr>
                <p:spPr>
                  <a:xfrm>
                    <a:off x="1747440" y="2674080"/>
                    <a:ext cx="38880" cy="5400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flipH="1">
                    <a:off x="1380600" y="2707920"/>
                    <a:ext cx="2304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0" name=""/>
                  <p:cNvSpPr/>
                  <p:nvPr/>
                </p:nvSpPr>
                <p:spPr>
                  <a:xfrm flipH="1" flipV="1">
                    <a:off x="958680" y="2761920"/>
                    <a:ext cx="7020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1" name=""/>
                  <p:cNvSpPr/>
                  <p:nvPr/>
                </p:nvSpPr>
                <p:spPr>
                  <a:xfrm>
                    <a:off x="435960" y="3039120"/>
                    <a:ext cx="7560" cy="4716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562" name=""/>
                <p:cNvSpPr/>
                <p:nvPr/>
              </p:nvSpPr>
              <p:spPr>
                <a:xfrm>
                  <a:off x="917280" y="2976120"/>
                  <a:ext cx="1074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3" name=""/>
              <p:cNvGrpSpPr/>
              <p:nvPr/>
            </p:nvGrpSpPr>
            <p:grpSpPr>
              <a:xfrm>
                <a:off x="1716120" y="3517920"/>
                <a:ext cx="677880" cy="252360"/>
                <a:chOff x="1716120" y="3517920"/>
                <a:chExt cx="677880" cy="252360"/>
              </a:xfrm>
            </p:grpSpPr>
            <p:sp>
              <p:nvSpPr>
                <p:cNvPr id="564" name=""/>
                <p:cNvSpPr/>
                <p:nvPr/>
              </p:nvSpPr>
              <p:spPr>
                <a:xfrm>
                  <a:off x="1716120" y="3517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1782720" y="3573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108160" y="3714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787760" y="3666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89560" y="3704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231640" y="3567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570" name=""/>
              <p:cNvGrpSpPr/>
              <p:nvPr/>
            </p:nvGrpSpPr>
            <p:grpSpPr>
              <a:xfrm>
                <a:off x="2490840" y="2951280"/>
                <a:ext cx="1106280" cy="745920"/>
                <a:chOff x="2490840" y="2951280"/>
                <a:chExt cx="1106280" cy="745920"/>
              </a:xfrm>
            </p:grpSpPr>
            <p:sp>
              <p:nvSpPr>
                <p:cNvPr id="571" name=""/>
                <p:cNvSpPr/>
                <p:nvPr/>
              </p:nvSpPr>
              <p:spPr>
                <a:xfrm>
                  <a:off x="2651040" y="3438720"/>
                  <a:ext cx="639720" cy="112680"/>
                </a:xfrm>
                <a:custGeom>
                  <a:avLst/>
                  <a:gdLst/>
                  <a:ahLst/>
                  <a:rect l="l" t="t" r="r" b="b"/>
                  <a:pathLst>
                    <a:path w="5203" h="854">
                      <a:moveTo>
                        <a:pt x="4" y="553"/>
                      </a:moveTo>
                      <a:lnTo>
                        <a:pt x="42" y="569"/>
                      </a:lnTo>
                      <a:lnTo>
                        <a:pt x="78" y="584"/>
                      </a:lnTo>
                      <a:lnTo>
                        <a:pt x="115" y="600"/>
                      </a:lnTo>
                      <a:lnTo>
                        <a:pt x="153" y="615"/>
                      </a:lnTo>
                      <a:lnTo>
                        <a:pt x="190" y="628"/>
                      </a:lnTo>
                      <a:lnTo>
                        <a:pt x="228" y="641"/>
                      </a:lnTo>
                      <a:lnTo>
                        <a:pt x="266" y="654"/>
                      </a:lnTo>
                      <a:lnTo>
                        <a:pt x="304" y="665"/>
                      </a:lnTo>
                      <a:lnTo>
                        <a:pt x="341" y="678"/>
                      </a:lnTo>
                      <a:lnTo>
                        <a:pt x="380" y="688"/>
                      </a:lnTo>
                      <a:lnTo>
                        <a:pt x="419" y="700"/>
                      </a:lnTo>
                      <a:lnTo>
                        <a:pt x="456" y="710"/>
                      </a:lnTo>
                      <a:lnTo>
                        <a:pt x="495" y="718"/>
                      </a:lnTo>
                      <a:lnTo>
                        <a:pt x="534" y="728"/>
                      </a:lnTo>
                      <a:lnTo>
                        <a:pt x="573" y="737"/>
                      </a:lnTo>
                      <a:lnTo>
                        <a:pt x="612" y="744"/>
                      </a:lnTo>
                      <a:lnTo>
                        <a:pt x="651" y="753"/>
                      </a:lnTo>
                      <a:lnTo>
                        <a:pt x="690" y="760"/>
                      </a:lnTo>
                      <a:lnTo>
                        <a:pt x="729" y="767"/>
                      </a:lnTo>
                      <a:lnTo>
                        <a:pt x="769" y="775"/>
                      </a:lnTo>
                      <a:lnTo>
                        <a:pt x="808" y="782"/>
                      </a:lnTo>
                      <a:lnTo>
                        <a:pt x="847" y="787"/>
                      </a:lnTo>
                      <a:lnTo>
                        <a:pt x="887" y="793"/>
                      </a:lnTo>
                      <a:lnTo>
                        <a:pt x="926" y="799"/>
                      </a:lnTo>
                      <a:lnTo>
                        <a:pt x="966" y="805"/>
                      </a:lnTo>
                      <a:lnTo>
                        <a:pt x="1007" y="811"/>
                      </a:lnTo>
                      <a:lnTo>
                        <a:pt x="1045" y="815"/>
                      </a:lnTo>
                      <a:lnTo>
                        <a:pt x="1086" y="821"/>
                      </a:lnTo>
                      <a:lnTo>
                        <a:pt x="1126" y="825"/>
                      </a:lnTo>
                      <a:lnTo>
                        <a:pt x="1166" y="829"/>
                      </a:lnTo>
                      <a:lnTo>
                        <a:pt x="1207" y="834"/>
                      </a:lnTo>
                      <a:lnTo>
                        <a:pt x="1247" y="838"/>
                      </a:lnTo>
                      <a:lnTo>
                        <a:pt x="1297" y="842"/>
                      </a:lnTo>
                      <a:lnTo>
                        <a:pt x="1349" y="847"/>
                      </a:lnTo>
                      <a:lnTo>
                        <a:pt x="1400" y="849"/>
                      </a:lnTo>
                      <a:lnTo>
                        <a:pt x="1450" y="852"/>
                      </a:lnTo>
                      <a:lnTo>
                        <a:pt x="1500" y="854"/>
                      </a:lnTo>
                      <a:lnTo>
                        <a:pt x="1551" y="854"/>
                      </a:lnTo>
                      <a:lnTo>
                        <a:pt x="1601" y="854"/>
                      </a:lnTo>
                      <a:lnTo>
                        <a:pt x="1650" y="854"/>
                      </a:lnTo>
                      <a:lnTo>
                        <a:pt x="1701" y="852"/>
                      </a:lnTo>
                      <a:lnTo>
                        <a:pt x="1751" y="851"/>
                      </a:lnTo>
                      <a:lnTo>
                        <a:pt x="1800" y="849"/>
                      </a:lnTo>
                      <a:lnTo>
                        <a:pt x="1850" y="847"/>
                      </a:lnTo>
                      <a:lnTo>
                        <a:pt x="1901" y="844"/>
                      </a:lnTo>
                      <a:lnTo>
                        <a:pt x="1950" y="839"/>
                      </a:lnTo>
                      <a:lnTo>
                        <a:pt x="2000" y="835"/>
                      </a:lnTo>
                      <a:lnTo>
                        <a:pt x="2049" y="831"/>
                      </a:lnTo>
                      <a:lnTo>
                        <a:pt x="2099" y="826"/>
                      </a:lnTo>
                      <a:lnTo>
                        <a:pt x="2148" y="822"/>
                      </a:lnTo>
                      <a:lnTo>
                        <a:pt x="2199" y="816"/>
                      </a:lnTo>
                      <a:lnTo>
                        <a:pt x="2248" y="811"/>
                      </a:lnTo>
                      <a:lnTo>
                        <a:pt x="2298" y="805"/>
                      </a:lnTo>
                      <a:lnTo>
                        <a:pt x="2347" y="799"/>
                      </a:lnTo>
                      <a:lnTo>
                        <a:pt x="2398" y="793"/>
                      </a:lnTo>
                      <a:lnTo>
                        <a:pt x="2447" y="786"/>
                      </a:lnTo>
                      <a:lnTo>
                        <a:pt x="2497" y="780"/>
                      </a:lnTo>
                      <a:lnTo>
                        <a:pt x="2547" y="775"/>
                      </a:lnTo>
                      <a:lnTo>
                        <a:pt x="2596" y="767"/>
                      </a:lnTo>
                      <a:lnTo>
                        <a:pt x="2647" y="762"/>
                      </a:lnTo>
                      <a:lnTo>
                        <a:pt x="2697" y="756"/>
                      </a:lnTo>
                      <a:lnTo>
                        <a:pt x="2746" y="749"/>
                      </a:lnTo>
                      <a:lnTo>
                        <a:pt x="2796" y="743"/>
                      </a:lnTo>
                      <a:lnTo>
                        <a:pt x="2847" y="737"/>
                      </a:lnTo>
                      <a:lnTo>
                        <a:pt x="2923" y="728"/>
                      </a:lnTo>
                      <a:lnTo>
                        <a:pt x="3001" y="718"/>
                      </a:lnTo>
                      <a:lnTo>
                        <a:pt x="3077" y="707"/>
                      </a:lnTo>
                      <a:lnTo>
                        <a:pt x="3154" y="695"/>
                      </a:lnTo>
                      <a:lnTo>
                        <a:pt x="3230" y="684"/>
                      </a:lnTo>
                      <a:lnTo>
                        <a:pt x="3306" y="671"/>
                      </a:lnTo>
                      <a:lnTo>
                        <a:pt x="3381" y="656"/>
                      </a:lnTo>
                      <a:lnTo>
                        <a:pt x="3456" y="642"/>
                      </a:lnTo>
                      <a:lnTo>
                        <a:pt x="3532" y="626"/>
                      </a:lnTo>
                      <a:lnTo>
                        <a:pt x="3607" y="610"/>
                      </a:lnTo>
                      <a:lnTo>
                        <a:pt x="3682" y="593"/>
                      </a:lnTo>
                      <a:lnTo>
                        <a:pt x="3755" y="576"/>
                      </a:lnTo>
                      <a:lnTo>
                        <a:pt x="3830" y="557"/>
                      </a:lnTo>
                      <a:lnTo>
                        <a:pt x="3904" y="538"/>
                      </a:lnTo>
                      <a:lnTo>
                        <a:pt x="3977" y="518"/>
                      </a:lnTo>
                      <a:lnTo>
                        <a:pt x="4051" y="497"/>
                      </a:lnTo>
                      <a:lnTo>
                        <a:pt x="4124" y="475"/>
                      </a:lnTo>
                      <a:lnTo>
                        <a:pt x="4198" y="452"/>
                      </a:lnTo>
                      <a:lnTo>
                        <a:pt x="4270" y="429"/>
                      </a:lnTo>
                      <a:lnTo>
                        <a:pt x="4342" y="404"/>
                      </a:lnTo>
                      <a:lnTo>
                        <a:pt x="4414" y="379"/>
                      </a:lnTo>
                      <a:lnTo>
                        <a:pt x="4486" y="353"/>
                      </a:lnTo>
                      <a:lnTo>
                        <a:pt x="4556" y="327"/>
                      </a:lnTo>
                      <a:lnTo>
                        <a:pt x="4628" y="298"/>
                      </a:lnTo>
                      <a:lnTo>
                        <a:pt x="4699" y="271"/>
                      </a:lnTo>
                      <a:lnTo>
                        <a:pt x="4769" y="240"/>
                      </a:lnTo>
                      <a:lnTo>
                        <a:pt x="4838" y="210"/>
                      </a:lnTo>
                      <a:lnTo>
                        <a:pt x="4909" y="178"/>
                      </a:lnTo>
                      <a:lnTo>
                        <a:pt x="4978" y="147"/>
                      </a:lnTo>
                      <a:lnTo>
                        <a:pt x="5047" y="114"/>
                      </a:lnTo>
                      <a:lnTo>
                        <a:pt x="5116" y="79"/>
                      </a:lnTo>
                      <a:lnTo>
                        <a:pt x="5184" y="44"/>
                      </a:lnTo>
                      <a:lnTo>
                        <a:pt x="5193" y="40"/>
                      </a:lnTo>
                      <a:lnTo>
                        <a:pt x="5200" y="34"/>
                      </a:lnTo>
                      <a:lnTo>
                        <a:pt x="5203" y="26"/>
                      </a:lnTo>
                      <a:lnTo>
                        <a:pt x="5201" y="16"/>
                      </a:lnTo>
                      <a:lnTo>
                        <a:pt x="5197" y="8"/>
                      </a:lnTo>
                      <a:lnTo>
                        <a:pt x="5191" y="3"/>
                      </a:lnTo>
                      <a:lnTo>
                        <a:pt x="5182" y="0"/>
                      </a:lnTo>
                      <a:lnTo>
                        <a:pt x="5174" y="0"/>
                      </a:lnTo>
                      <a:lnTo>
                        <a:pt x="5129" y="16"/>
                      </a:lnTo>
                      <a:lnTo>
                        <a:pt x="5086" y="32"/>
                      </a:lnTo>
                      <a:lnTo>
                        <a:pt x="5043" y="47"/>
                      </a:lnTo>
                      <a:lnTo>
                        <a:pt x="4998" y="63"/>
                      </a:lnTo>
                      <a:lnTo>
                        <a:pt x="4955" y="79"/>
                      </a:lnTo>
                      <a:lnTo>
                        <a:pt x="4912" y="95"/>
                      </a:lnTo>
                      <a:lnTo>
                        <a:pt x="4869" y="112"/>
                      </a:lnTo>
                      <a:lnTo>
                        <a:pt x="4825" y="128"/>
                      </a:lnTo>
                      <a:lnTo>
                        <a:pt x="4782" y="145"/>
                      </a:lnTo>
                      <a:lnTo>
                        <a:pt x="4739" y="161"/>
                      </a:lnTo>
                      <a:lnTo>
                        <a:pt x="4696" y="177"/>
                      </a:lnTo>
                      <a:lnTo>
                        <a:pt x="4653" y="194"/>
                      </a:lnTo>
                      <a:lnTo>
                        <a:pt x="4609" y="210"/>
                      </a:lnTo>
                      <a:lnTo>
                        <a:pt x="4566" y="227"/>
                      </a:lnTo>
                      <a:lnTo>
                        <a:pt x="4523" y="243"/>
                      </a:lnTo>
                      <a:lnTo>
                        <a:pt x="4478" y="259"/>
                      </a:lnTo>
                      <a:lnTo>
                        <a:pt x="4435" y="275"/>
                      </a:lnTo>
                      <a:lnTo>
                        <a:pt x="4392" y="291"/>
                      </a:lnTo>
                      <a:lnTo>
                        <a:pt x="4347" y="307"/>
                      </a:lnTo>
                      <a:lnTo>
                        <a:pt x="4304" y="321"/>
                      </a:lnTo>
                      <a:lnTo>
                        <a:pt x="4259" y="337"/>
                      </a:lnTo>
                      <a:lnTo>
                        <a:pt x="4215" y="351"/>
                      </a:lnTo>
                      <a:lnTo>
                        <a:pt x="4170" y="366"/>
                      </a:lnTo>
                      <a:lnTo>
                        <a:pt x="4126" y="380"/>
                      </a:lnTo>
                      <a:lnTo>
                        <a:pt x="4081" y="394"/>
                      </a:lnTo>
                      <a:lnTo>
                        <a:pt x="4035" y="407"/>
                      </a:lnTo>
                      <a:lnTo>
                        <a:pt x="3990" y="420"/>
                      </a:lnTo>
                      <a:lnTo>
                        <a:pt x="3944" y="433"/>
                      </a:lnTo>
                      <a:lnTo>
                        <a:pt x="3898" y="445"/>
                      </a:lnTo>
                      <a:lnTo>
                        <a:pt x="3850" y="458"/>
                      </a:lnTo>
                      <a:lnTo>
                        <a:pt x="3804" y="469"/>
                      </a:lnTo>
                      <a:lnTo>
                        <a:pt x="3757" y="479"/>
                      </a:lnTo>
                      <a:lnTo>
                        <a:pt x="3698" y="492"/>
                      </a:lnTo>
                      <a:lnTo>
                        <a:pt x="3640" y="505"/>
                      </a:lnTo>
                      <a:lnTo>
                        <a:pt x="3581" y="518"/>
                      </a:lnTo>
                      <a:lnTo>
                        <a:pt x="3524" y="530"/>
                      </a:lnTo>
                      <a:lnTo>
                        <a:pt x="3467" y="543"/>
                      </a:lnTo>
                      <a:lnTo>
                        <a:pt x="3410" y="554"/>
                      </a:lnTo>
                      <a:lnTo>
                        <a:pt x="3354" y="566"/>
                      </a:lnTo>
                      <a:lnTo>
                        <a:pt x="3296" y="577"/>
                      </a:lnTo>
                      <a:lnTo>
                        <a:pt x="3240" y="587"/>
                      </a:lnTo>
                      <a:lnTo>
                        <a:pt x="3182" y="599"/>
                      </a:lnTo>
                      <a:lnTo>
                        <a:pt x="3126" y="607"/>
                      </a:lnTo>
                      <a:lnTo>
                        <a:pt x="3069" y="618"/>
                      </a:lnTo>
                      <a:lnTo>
                        <a:pt x="3012" y="626"/>
                      </a:lnTo>
                      <a:lnTo>
                        <a:pt x="2955" y="633"/>
                      </a:lnTo>
                      <a:lnTo>
                        <a:pt x="2897" y="641"/>
                      </a:lnTo>
                      <a:lnTo>
                        <a:pt x="2838" y="648"/>
                      </a:lnTo>
                      <a:lnTo>
                        <a:pt x="2788" y="654"/>
                      </a:lnTo>
                      <a:lnTo>
                        <a:pt x="2739" y="659"/>
                      </a:lnTo>
                      <a:lnTo>
                        <a:pt x="2688" y="665"/>
                      </a:lnTo>
                      <a:lnTo>
                        <a:pt x="2639" y="671"/>
                      </a:lnTo>
                      <a:lnTo>
                        <a:pt x="2591" y="677"/>
                      </a:lnTo>
                      <a:lnTo>
                        <a:pt x="2540" y="684"/>
                      </a:lnTo>
                      <a:lnTo>
                        <a:pt x="2491" y="690"/>
                      </a:lnTo>
                      <a:lnTo>
                        <a:pt x="2442" y="697"/>
                      </a:lnTo>
                      <a:lnTo>
                        <a:pt x="2393" y="703"/>
                      </a:lnTo>
                      <a:lnTo>
                        <a:pt x="2344" y="710"/>
                      </a:lnTo>
                      <a:lnTo>
                        <a:pt x="2294" y="715"/>
                      </a:lnTo>
                      <a:lnTo>
                        <a:pt x="2245" y="721"/>
                      </a:lnTo>
                      <a:lnTo>
                        <a:pt x="2196" y="728"/>
                      </a:lnTo>
                      <a:lnTo>
                        <a:pt x="2147" y="734"/>
                      </a:lnTo>
                      <a:lnTo>
                        <a:pt x="2098" y="740"/>
                      </a:lnTo>
                      <a:lnTo>
                        <a:pt x="2049" y="744"/>
                      </a:lnTo>
                      <a:lnTo>
                        <a:pt x="1999" y="750"/>
                      </a:lnTo>
                      <a:lnTo>
                        <a:pt x="1950" y="754"/>
                      </a:lnTo>
                      <a:lnTo>
                        <a:pt x="1901" y="759"/>
                      </a:lnTo>
                      <a:lnTo>
                        <a:pt x="1852" y="763"/>
                      </a:lnTo>
                      <a:lnTo>
                        <a:pt x="1803" y="767"/>
                      </a:lnTo>
                      <a:lnTo>
                        <a:pt x="1752" y="770"/>
                      </a:lnTo>
                      <a:lnTo>
                        <a:pt x="1703" y="773"/>
                      </a:lnTo>
                      <a:lnTo>
                        <a:pt x="1655" y="775"/>
                      </a:lnTo>
                      <a:lnTo>
                        <a:pt x="1604" y="776"/>
                      </a:lnTo>
                      <a:lnTo>
                        <a:pt x="1555" y="777"/>
                      </a:lnTo>
                      <a:lnTo>
                        <a:pt x="1505" y="777"/>
                      </a:lnTo>
                      <a:lnTo>
                        <a:pt x="1456" y="777"/>
                      </a:lnTo>
                      <a:lnTo>
                        <a:pt x="1405" y="776"/>
                      </a:lnTo>
                      <a:lnTo>
                        <a:pt x="1356" y="773"/>
                      </a:lnTo>
                      <a:lnTo>
                        <a:pt x="1306" y="772"/>
                      </a:lnTo>
                      <a:lnTo>
                        <a:pt x="1256" y="767"/>
                      </a:lnTo>
                      <a:lnTo>
                        <a:pt x="1215" y="764"/>
                      </a:lnTo>
                      <a:lnTo>
                        <a:pt x="1176" y="760"/>
                      </a:lnTo>
                      <a:lnTo>
                        <a:pt x="1136" y="757"/>
                      </a:lnTo>
                      <a:lnTo>
                        <a:pt x="1097" y="753"/>
                      </a:lnTo>
                      <a:lnTo>
                        <a:pt x="1057" y="750"/>
                      </a:lnTo>
                      <a:lnTo>
                        <a:pt x="1017" y="746"/>
                      </a:lnTo>
                      <a:lnTo>
                        <a:pt x="978" y="741"/>
                      </a:lnTo>
                      <a:lnTo>
                        <a:pt x="937" y="737"/>
                      </a:lnTo>
                      <a:lnTo>
                        <a:pt x="899" y="733"/>
                      </a:lnTo>
                      <a:lnTo>
                        <a:pt x="860" y="728"/>
                      </a:lnTo>
                      <a:lnTo>
                        <a:pt x="819" y="723"/>
                      </a:lnTo>
                      <a:lnTo>
                        <a:pt x="780" y="718"/>
                      </a:lnTo>
                      <a:lnTo>
                        <a:pt x="742" y="713"/>
                      </a:lnTo>
                      <a:lnTo>
                        <a:pt x="701" y="707"/>
                      </a:lnTo>
                      <a:lnTo>
                        <a:pt x="662" y="701"/>
                      </a:lnTo>
                      <a:lnTo>
                        <a:pt x="624" y="694"/>
                      </a:lnTo>
                      <a:lnTo>
                        <a:pt x="585" y="688"/>
                      </a:lnTo>
                      <a:lnTo>
                        <a:pt x="546" y="681"/>
                      </a:lnTo>
                      <a:lnTo>
                        <a:pt x="507" y="674"/>
                      </a:lnTo>
                      <a:lnTo>
                        <a:pt x="468" y="667"/>
                      </a:lnTo>
                      <a:lnTo>
                        <a:pt x="429" y="658"/>
                      </a:lnTo>
                      <a:lnTo>
                        <a:pt x="390" y="649"/>
                      </a:lnTo>
                      <a:lnTo>
                        <a:pt x="351" y="641"/>
                      </a:lnTo>
                      <a:lnTo>
                        <a:pt x="314" y="631"/>
                      </a:lnTo>
                      <a:lnTo>
                        <a:pt x="275" y="622"/>
                      </a:lnTo>
                      <a:lnTo>
                        <a:pt x="236" y="612"/>
                      </a:lnTo>
                      <a:lnTo>
                        <a:pt x="199" y="600"/>
                      </a:lnTo>
                      <a:lnTo>
                        <a:pt x="160" y="590"/>
                      </a:lnTo>
                      <a:lnTo>
                        <a:pt x="122" y="577"/>
                      </a:lnTo>
                      <a:lnTo>
                        <a:pt x="84" y="566"/>
                      </a:lnTo>
                      <a:lnTo>
                        <a:pt x="46" y="553"/>
                      </a:lnTo>
                      <a:lnTo>
                        <a:pt x="9" y="540"/>
                      </a:lnTo>
                      <a:lnTo>
                        <a:pt x="9" y="540"/>
                      </a:lnTo>
                      <a:lnTo>
                        <a:pt x="6" y="540"/>
                      </a:lnTo>
                      <a:lnTo>
                        <a:pt x="3" y="541"/>
                      </a:lnTo>
                      <a:lnTo>
                        <a:pt x="1" y="544"/>
                      </a:lnTo>
                      <a:lnTo>
                        <a:pt x="0" y="546"/>
                      </a:lnTo>
                      <a:lnTo>
                        <a:pt x="0" y="548"/>
                      </a:lnTo>
                      <a:lnTo>
                        <a:pt x="1" y="550"/>
                      </a:lnTo>
                      <a:lnTo>
                        <a:pt x="3" y="551"/>
                      </a:lnTo>
                      <a:lnTo>
                        <a:pt x="4" y="553"/>
                      </a:lnTo>
                      <a:lnTo>
                        <a:pt x="4" y="55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643120" y="3459240"/>
                  <a:ext cx="603360" cy="183960"/>
                </a:xfrm>
                <a:custGeom>
                  <a:avLst/>
                  <a:gdLst/>
                  <a:ahLst/>
                  <a:rect l="l" t="t" r="r" b="b"/>
                  <a:pathLst>
                    <a:path w="4895" h="1393">
                      <a:moveTo>
                        <a:pt x="5" y="386"/>
                      </a:moveTo>
                      <a:lnTo>
                        <a:pt x="45" y="422"/>
                      </a:lnTo>
                      <a:lnTo>
                        <a:pt x="84" y="461"/>
                      </a:lnTo>
                      <a:lnTo>
                        <a:pt x="121" y="501"/>
                      </a:lnTo>
                      <a:lnTo>
                        <a:pt x="159" y="543"/>
                      </a:lnTo>
                      <a:lnTo>
                        <a:pt x="193" y="585"/>
                      </a:lnTo>
                      <a:lnTo>
                        <a:pt x="229" y="626"/>
                      </a:lnTo>
                      <a:lnTo>
                        <a:pt x="264" y="670"/>
                      </a:lnTo>
                      <a:lnTo>
                        <a:pt x="298" y="713"/>
                      </a:lnTo>
                      <a:lnTo>
                        <a:pt x="334" y="756"/>
                      </a:lnTo>
                      <a:lnTo>
                        <a:pt x="370" y="798"/>
                      </a:lnTo>
                      <a:lnTo>
                        <a:pt x="408" y="840"/>
                      </a:lnTo>
                      <a:lnTo>
                        <a:pt x="445" y="880"/>
                      </a:lnTo>
                      <a:lnTo>
                        <a:pt x="486" y="917"/>
                      </a:lnTo>
                      <a:lnTo>
                        <a:pt x="529" y="955"/>
                      </a:lnTo>
                      <a:lnTo>
                        <a:pt x="572" y="989"/>
                      </a:lnTo>
                      <a:lnTo>
                        <a:pt x="620" y="1021"/>
                      </a:lnTo>
                      <a:lnTo>
                        <a:pt x="663" y="1048"/>
                      </a:lnTo>
                      <a:lnTo>
                        <a:pt x="705" y="1076"/>
                      </a:lnTo>
                      <a:lnTo>
                        <a:pt x="746" y="1105"/>
                      </a:lnTo>
                      <a:lnTo>
                        <a:pt x="788" y="1132"/>
                      </a:lnTo>
                      <a:lnTo>
                        <a:pt x="830" y="1159"/>
                      </a:lnTo>
                      <a:lnTo>
                        <a:pt x="870" y="1187"/>
                      </a:lnTo>
                      <a:lnTo>
                        <a:pt x="912" y="1213"/>
                      </a:lnTo>
                      <a:lnTo>
                        <a:pt x="954" y="1237"/>
                      </a:lnTo>
                      <a:lnTo>
                        <a:pt x="995" y="1261"/>
                      </a:lnTo>
                      <a:lnTo>
                        <a:pt x="1039" y="1283"/>
                      </a:lnTo>
                      <a:lnTo>
                        <a:pt x="1082" y="1303"/>
                      </a:lnTo>
                      <a:lnTo>
                        <a:pt x="1126" y="1323"/>
                      </a:lnTo>
                      <a:lnTo>
                        <a:pt x="1171" y="1339"/>
                      </a:lnTo>
                      <a:lnTo>
                        <a:pt x="1219" y="1354"/>
                      </a:lnTo>
                      <a:lnTo>
                        <a:pt x="1266" y="1367"/>
                      </a:lnTo>
                      <a:lnTo>
                        <a:pt x="1315" y="1375"/>
                      </a:lnTo>
                      <a:lnTo>
                        <a:pt x="1345" y="1380"/>
                      </a:lnTo>
                      <a:lnTo>
                        <a:pt x="1377" y="1384"/>
                      </a:lnTo>
                      <a:lnTo>
                        <a:pt x="1407" y="1387"/>
                      </a:lnTo>
                      <a:lnTo>
                        <a:pt x="1438" y="1390"/>
                      </a:lnTo>
                      <a:lnTo>
                        <a:pt x="1468" y="1391"/>
                      </a:lnTo>
                      <a:lnTo>
                        <a:pt x="1498" y="1391"/>
                      </a:lnTo>
                      <a:lnTo>
                        <a:pt x="1528" y="1393"/>
                      </a:lnTo>
                      <a:lnTo>
                        <a:pt x="1558" y="1393"/>
                      </a:lnTo>
                      <a:lnTo>
                        <a:pt x="1589" y="1391"/>
                      </a:lnTo>
                      <a:lnTo>
                        <a:pt x="1619" y="1390"/>
                      </a:lnTo>
                      <a:lnTo>
                        <a:pt x="1648" y="1388"/>
                      </a:lnTo>
                      <a:lnTo>
                        <a:pt x="1678" y="1385"/>
                      </a:lnTo>
                      <a:lnTo>
                        <a:pt x="1708" y="1382"/>
                      </a:lnTo>
                      <a:lnTo>
                        <a:pt x="1737" y="1378"/>
                      </a:lnTo>
                      <a:lnTo>
                        <a:pt x="1767" y="1375"/>
                      </a:lnTo>
                      <a:lnTo>
                        <a:pt x="1796" y="1369"/>
                      </a:lnTo>
                      <a:lnTo>
                        <a:pt x="1826" y="1365"/>
                      </a:lnTo>
                      <a:lnTo>
                        <a:pt x="1855" y="1359"/>
                      </a:lnTo>
                      <a:lnTo>
                        <a:pt x="1884" y="1354"/>
                      </a:lnTo>
                      <a:lnTo>
                        <a:pt x="1914" y="1348"/>
                      </a:lnTo>
                      <a:lnTo>
                        <a:pt x="1943" y="1341"/>
                      </a:lnTo>
                      <a:lnTo>
                        <a:pt x="1972" y="1333"/>
                      </a:lnTo>
                      <a:lnTo>
                        <a:pt x="2001" y="1326"/>
                      </a:lnTo>
                      <a:lnTo>
                        <a:pt x="2031" y="1318"/>
                      </a:lnTo>
                      <a:lnTo>
                        <a:pt x="2060" y="1310"/>
                      </a:lnTo>
                      <a:lnTo>
                        <a:pt x="2088" y="1302"/>
                      </a:lnTo>
                      <a:lnTo>
                        <a:pt x="2117" y="1293"/>
                      </a:lnTo>
                      <a:lnTo>
                        <a:pt x="2146" y="1283"/>
                      </a:lnTo>
                      <a:lnTo>
                        <a:pt x="2175" y="1274"/>
                      </a:lnTo>
                      <a:lnTo>
                        <a:pt x="2204" y="1264"/>
                      </a:lnTo>
                      <a:lnTo>
                        <a:pt x="2232" y="1254"/>
                      </a:lnTo>
                      <a:lnTo>
                        <a:pt x="2261" y="1244"/>
                      </a:lnTo>
                      <a:lnTo>
                        <a:pt x="2299" y="1231"/>
                      </a:lnTo>
                      <a:lnTo>
                        <a:pt x="2335" y="1218"/>
                      </a:lnTo>
                      <a:lnTo>
                        <a:pt x="2372" y="1207"/>
                      </a:lnTo>
                      <a:lnTo>
                        <a:pt x="2409" y="1195"/>
                      </a:lnTo>
                      <a:lnTo>
                        <a:pt x="2447" y="1182"/>
                      </a:lnTo>
                      <a:lnTo>
                        <a:pt x="2484" y="1172"/>
                      </a:lnTo>
                      <a:lnTo>
                        <a:pt x="2522" y="1161"/>
                      </a:lnTo>
                      <a:lnTo>
                        <a:pt x="2559" y="1151"/>
                      </a:lnTo>
                      <a:lnTo>
                        <a:pt x="2597" y="1141"/>
                      </a:lnTo>
                      <a:lnTo>
                        <a:pt x="2634" y="1130"/>
                      </a:lnTo>
                      <a:lnTo>
                        <a:pt x="2672" y="1122"/>
                      </a:lnTo>
                      <a:lnTo>
                        <a:pt x="2710" y="1113"/>
                      </a:lnTo>
                      <a:lnTo>
                        <a:pt x="2748" y="1105"/>
                      </a:lnTo>
                      <a:lnTo>
                        <a:pt x="2785" y="1096"/>
                      </a:lnTo>
                      <a:lnTo>
                        <a:pt x="2824" y="1089"/>
                      </a:lnTo>
                      <a:lnTo>
                        <a:pt x="2862" y="1081"/>
                      </a:lnTo>
                      <a:lnTo>
                        <a:pt x="2901" y="1076"/>
                      </a:lnTo>
                      <a:lnTo>
                        <a:pt x="2938" y="1069"/>
                      </a:lnTo>
                      <a:lnTo>
                        <a:pt x="2977" y="1063"/>
                      </a:lnTo>
                      <a:lnTo>
                        <a:pt x="3016" y="1058"/>
                      </a:lnTo>
                      <a:lnTo>
                        <a:pt x="3055" y="1053"/>
                      </a:lnTo>
                      <a:lnTo>
                        <a:pt x="3092" y="1048"/>
                      </a:lnTo>
                      <a:lnTo>
                        <a:pt x="3131" y="1045"/>
                      </a:lnTo>
                      <a:lnTo>
                        <a:pt x="3170" y="1041"/>
                      </a:lnTo>
                      <a:lnTo>
                        <a:pt x="3209" y="1038"/>
                      </a:lnTo>
                      <a:lnTo>
                        <a:pt x="3248" y="1037"/>
                      </a:lnTo>
                      <a:lnTo>
                        <a:pt x="3286" y="1035"/>
                      </a:lnTo>
                      <a:lnTo>
                        <a:pt x="3325" y="1034"/>
                      </a:lnTo>
                      <a:lnTo>
                        <a:pt x="3364" y="1033"/>
                      </a:lnTo>
                      <a:lnTo>
                        <a:pt x="3404" y="1033"/>
                      </a:lnTo>
                      <a:lnTo>
                        <a:pt x="3443" y="1033"/>
                      </a:lnTo>
                      <a:lnTo>
                        <a:pt x="3482" y="1034"/>
                      </a:lnTo>
                      <a:lnTo>
                        <a:pt x="3502" y="1034"/>
                      </a:lnTo>
                      <a:lnTo>
                        <a:pt x="3523" y="1033"/>
                      </a:lnTo>
                      <a:lnTo>
                        <a:pt x="3541" y="1030"/>
                      </a:lnTo>
                      <a:lnTo>
                        <a:pt x="3561" y="1025"/>
                      </a:lnTo>
                      <a:lnTo>
                        <a:pt x="3580" y="1020"/>
                      </a:lnTo>
                      <a:lnTo>
                        <a:pt x="3600" y="1012"/>
                      </a:lnTo>
                      <a:lnTo>
                        <a:pt x="3618" y="1004"/>
                      </a:lnTo>
                      <a:lnTo>
                        <a:pt x="3636" y="994"/>
                      </a:lnTo>
                      <a:lnTo>
                        <a:pt x="3698" y="956"/>
                      </a:lnTo>
                      <a:lnTo>
                        <a:pt x="3756" y="916"/>
                      </a:lnTo>
                      <a:lnTo>
                        <a:pt x="3812" y="873"/>
                      </a:lnTo>
                      <a:lnTo>
                        <a:pt x="3867" y="829"/>
                      </a:lnTo>
                      <a:lnTo>
                        <a:pt x="3920" y="785"/>
                      </a:lnTo>
                      <a:lnTo>
                        <a:pt x="3970" y="737"/>
                      </a:lnTo>
                      <a:lnTo>
                        <a:pt x="4021" y="691"/>
                      </a:lnTo>
                      <a:lnTo>
                        <a:pt x="4071" y="642"/>
                      </a:lnTo>
                      <a:lnTo>
                        <a:pt x="4122" y="595"/>
                      </a:lnTo>
                      <a:lnTo>
                        <a:pt x="4172" y="547"/>
                      </a:lnTo>
                      <a:lnTo>
                        <a:pt x="4222" y="498"/>
                      </a:lnTo>
                      <a:lnTo>
                        <a:pt x="4274" y="452"/>
                      </a:lnTo>
                      <a:lnTo>
                        <a:pt x="4328" y="405"/>
                      </a:lnTo>
                      <a:lnTo>
                        <a:pt x="4384" y="360"/>
                      </a:lnTo>
                      <a:lnTo>
                        <a:pt x="4441" y="315"/>
                      </a:lnTo>
                      <a:lnTo>
                        <a:pt x="4502" y="274"/>
                      </a:lnTo>
                      <a:lnTo>
                        <a:pt x="4525" y="259"/>
                      </a:lnTo>
                      <a:lnTo>
                        <a:pt x="4548" y="243"/>
                      </a:lnTo>
                      <a:lnTo>
                        <a:pt x="4571" y="229"/>
                      </a:lnTo>
                      <a:lnTo>
                        <a:pt x="4594" y="215"/>
                      </a:lnTo>
                      <a:lnTo>
                        <a:pt x="4617" y="200"/>
                      </a:lnTo>
                      <a:lnTo>
                        <a:pt x="4640" y="187"/>
                      </a:lnTo>
                      <a:lnTo>
                        <a:pt x="4663" y="173"/>
                      </a:lnTo>
                      <a:lnTo>
                        <a:pt x="4688" y="160"/>
                      </a:lnTo>
                      <a:lnTo>
                        <a:pt x="4711" y="146"/>
                      </a:lnTo>
                      <a:lnTo>
                        <a:pt x="4734" y="133"/>
                      </a:lnTo>
                      <a:lnTo>
                        <a:pt x="4757" y="120"/>
                      </a:lnTo>
                      <a:lnTo>
                        <a:pt x="4780" y="107"/>
                      </a:lnTo>
                      <a:lnTo>
                        <a:pt x="4803" y="94"/>
                      </a:lnTo>
                      <a:lnTo>
                        <a:pt x="4826" y="81"/>
                      </a:lnTo>
                      <a:lnTo>
                        <a:pt x="4849" y="68"/>
                      </a:lnTo>
                      <a:lnTo>
                        <a:pt x="4872" y="55"/>
                      </a:lnTo>
                      <a:lnTo>
                        <a:pt x="4885" y="49"/>
                      </a:lnTo>
                      <a:lnTo>
                        <a:pt x="4893" y="43"/>
                      </a:lnTo>
                      <a:lnTo>
                        <a:pt x="4895" y="35"/>
                      </a:lnTo>
                      <a:lnTo>
                        <a:pt x="4892" y="23"/>
                      </a:lnTo>
                      <a:lnTo>
                        <a:pt x="4888" y="16"/>
                      </a:lnTo>
                      <a:lnTo>
                        <a:pt x="4882" y="10"/>
                      </a:lnTo>
                      <a:lnTo>
                        <a:pt x="4876" y="6"/>
                      </a:lnTo>
                      <a:lnTo>
                        <a:pt x="4870" y="3"/>
                      </a:lnTo>
                      <a:lnTo>
                        <a:pt x="4863" y="0"/>
                      </a:lnTo>
                      <a:lnTo>
                        <a:pt x="4856" y="0"/>
                      </a:lnTo>
                      <a:lnTo>
                        <a:pt x="4847" y="2"/>
                      </a:lnTo>
                      <a:lnTo>
                        <a:pt x="4840" y="4"/>
                      </a:lnTo>
                      <a:lnTo>
                        <a:pt x="4771" y="26"/>
                      </a:lnTo>
                      <a:lnTo>
                        <a:pt x="4703" y="52"/>
                      </a:lnTo>
                      <a:lnTo>
                        <a:pt x="4640" y="81"/>
                      </a:lnTo>
                      <a:lnTo>
                        <a:pt x="4577" y="112"/>
                      </a:lnTo>
                      <a:lnTo>
                        <a:pt x="4516" y="148"/>
                      </a:lnTo>
                      <a:lnTo>
                        <a:pt x="4457" y="187"/>
                      </a:lnTo>
                      <a:lnTo>
                        <a:pt x="4400" y="228"/>
                      </a:lnTo>
                      <a:lnTo>
                        <a:pt x="4343" y="269"/>
                      </a:lnTo>
                      <a:lnTo>
                        <a:pt x="4289" y="314"/>
                      </a:lnTo>
                      <a:lnTo>
                        <a:pt x="4234" y="360"/>
                      </a:lnTo>
                      <a:lnTo>
                        <a:pt x="4181" y="408"/>
                      </a:lnTo>
                      <a:lnTo>
                        <a:pt x="4127" y="457"/>
                      </a:lnTo>
                      <a:lnTo>
                        <a:pt x="4074" y="506"/>
                      </a:lnTo>
                      <a:lnTo>
                        <a:pt x="4021" y="554"/>
                      </a:lnTo>
                      <a:lnTo>
                        <a:pt x="3966" y="603"/>
                      </a:lnTo>
                      <a:lnTo>
                        <a:pt x="3913" y="652"/>
                      </a:lnTo>
                      <a:lnTo>
                        <a:pt x="3888" y="674"/>
                      </a:lnTo>
                      <a:lnTo>
                        <a:pt x="3864" y="696"/>
                      </a:lnTo>
                      <a:lnTo>
                        <a:pt x="3839" y="719"/>
                      </a:lnTo>
                      <a:lnTo>
                        <a:pt x="3815" y="740"/>
                      </a:lnTo>
                      <a:lnTo>
                        <a:pt x="3790" y="762"/>
                      </a:lnTo>
                      <a:lnTo>
                        <a:pt x="3766" y="783"/>
                      </a:lnTo>
                      <a:lnTo>
                        <a:pt x="3740" y="804"/>
                      </a:lnTo>
                      <a:lnTo>
                        <a:pt x="3716" y="824"/>
                      </a:lnTo>
                      <a:lnTo>
                        <a:pt x="3688" y="842"/>
                      </a:lnTo>
                      <a:lnTo>
                        <a:pt x="3662" y="860"/>
                      </a:lnTo>
                      <a:lnTo>
                        <a:pt x="3635" y="876"/>
                      </a:lnTo>
                      <a:lnTo>
                        <a:pt x="3606" y="891"/>
                      </a:lnTo>
                      <a:lnTo>
                        <a:pt x="3577" y="904"/>
                      </a:lnTo>
                      <a:lnTo>
                        <a:pt x="3547" y="914"/>
                      </a:lnTo>
                      <a:lnTo>
                        <a:pt x="3515" y="923"/>
                      </a:lnTo>
                      <a:lnTo>
                        <a:pt x="3484" y="930"/>
                      </a:lnTo>
                      <a:lnTo>
                        <a:pt x="3433" y="927"/>
                      </a:lnTo>
                      <a:lnTo>
                        <a:pt x="3383" y="926"/>
                      </a:lnTo>
                      <a:lnTo>
                        <a:pt x="3332" y="926"/>
                      </a:lnTo>
                      <a:lnTo>
                        <a:pt x="3282" y="927"/>
                      </a:lnTo>
                      <a:lnTo>
                        <a:pt x="3232" y="929"/>
                      </a:lnTo>
                      <a:lnTo>
                        <a:pt x="3181" y="933"/>
                      </a:lnTo>
                      <a:lnTo>
                        <a:pt x="3132" y="936"/>
                      </a:lnTo>
                      <a:lnTo>
                        <a:pt x="3082" y="942"/>
                      </a:lnTo>
                      <a:lnTo>
                        <a:pt x="3033" y="948"/>
                      </a:lnTo>
                      <a:lnTo>
                        <a:pt x="2983" y="955"/>
                      </a:lnTo>
                      <a:lnTo>
                        <a:pt x="2934" y="962"/>
                      </a:lnTo>
                      <a:lnTo>
                        <a:pt x="2885" y="971"/>
                      </a:lnTo>
                      <a:lnTo>
                        <a:pt x="2836" y="979"/>
                      </a:lnTo>
                      <a:lnTo>
                        <a:pt x="2787" y="989"/>
                      </a:lnTo>
                      <a:lnTo>
                        <a:pt x="2738" y="999"/>
                      </a:lnTo>
                      <a:lnTo>
                        <a:pt x="2689" y="1011"/>
                      </a:lnTo>
                      <a:lnTo>
                        <a:pt x="2640" y="1022"/>
                      </a:lnTo>
                      <a:lnTo>
                        <a:pt x="2591" y="1035"/>
                      </a:lnTo>
                      <a:lnTo>
                        <a:pt x="2542" y="1047"/>
                      </a:lnTo>
                      <a:lnTo>
                        <a:pt x="2493" y="1061"/>
                      </a:lnTo>
                      <a:lnTo>
                        <a:pt x="2444" y="1074"/>
                      </a:lnTo>
                      <a:lnTo>
                        <a:pt x="2397" y="1089"/>
                      </a:lnTo>
                      <a:lnTo>
                        <a:pt x="2348" y="1103"/>
                      </a:lnTo>
                      <a:lnTo>
                        <a:pt x="2299" y="1117"/>
                      </a:lnTo>
                      <a:lnTo>
                        <a:pt x="2251" y="1132"/>
                      </a:lnTo>
                      <a:lnTo>
                        <a:pt x="2202" y="1146"/>
                      </a:lnTo>
                      <a:lnTo>
                        <a:pt x="2153" y="1162"/>
                      </a:lnTo>
                      <a:lnTo>
                        <a:pt x="2106" y="1177"/>
                      </a:lnTo>
                      <a:lnTo>
                        <a:pt x="2057" y="1192"/>
                      </a:lnTo>
                      <a:lnTo>
                        <a:pt x="2008" y="1208"/>
                      </a:lnTo>
                      <a:lnTo>
                        <a:pt x="1960" y="1223"/>
                      </a:lnTo>
                      <a:lnTo>
                        <a:pt x="1911" y="1238"/>
                      </a:lnTo>
                      <a:lnTo>
                        <a:pt x="1877" y="1249"/>
                      </a:lnTo>
                      <a:lnTo>
                        <a:pt x="1842" y="1257"/>
                      </a:lnTo>
                      <a:lnTo>
                        <a:pt x="1806" y="1266"/>
                      </a:lnTo>
                      <a:lnTo>
                        <a:pt x="1772" y="1273"/>
                      </a:lnTo>
                      <a:lnTo>
                        <a:pt x="1736" y="1279"/>
                      </a:lnTo>
                      <a:lnTo>
                        <a:pt x="1701" y="1283"/>
                      </a:lnTo>
                      <a:lnTo>
                        <a:pt x="1665" y="1287"/>
                      </a:lnTo>
                      <a:lnTo>
                        <a:pt x="1629" y="1290"/>
                      </a:lnTo>
                      <a:lnTo>
                        <a:pt x="1594" y="1293"/>
                      </a:lnTo>
                      <a:lnTo>
                        <a:pt x="1558" y="1295"/>
                      </a:lnTo>
                      <a:lnTo>
                        <a:pt x="1522" y="1295"/>
                      </a:lnTo>
                      <a:lnTo>
                        <a:pt x="1486" y="1295"/>
                      </a:lnTo>
                      <a:lnTo>
                        <a:pt x="1450" y="1293"/>
                      </a:lnTo>
                      <a:lnTo>
                        <a:pt x="1414" y="1292"/>
                      </a:lnTo>
                      <a:lnTo>
                        <a:pt x="1378" y="1290"/>
                      </a:lnTo>
                      <a:lnTo>
                        <a:pt x="1342" y="1287"/>
                      </a:lnTo>
                      <a:lnTo>
                        <a:pt x="1302" y="1283"/>
                      </a:lnTo>
                      <a:lnTo>
                        <a:pt x="1263" y="1276"/>
                      </a:lnTo>
                      <a:lnTo>
                        <a:pt x="1224" y="1267"/>
                      </a:lnTo>
                      <a:lnTo>
                        <a:pt x="1187" y="1256"/>
                      </a:lnTo>
                      <a:lnTo>
                        <a:pt x="1151" y="1243"/>
                      </a:lnTo>
                      <a:lnTo>
                        <a:pt x="1114" y="1227"/>
                      </a:lnTo>
                      <a:lnTo>
                        <a:pt x="1079" y="1211"/>
                      </a:lnTo>
                      <a:lnTo>
                        <a:pt x="1043" y="1194"/>
                      </a:lnTo>
                      <a:lnTo>
                        <a:pt x="1008" y="1175"/>
                      </a:lnTo>
                      <a:lnTo>
                        <a:pt x="972" y="1155"/>
                      </a:lnTo>
                      <a:lnTo>
                        <a:pt x="938" y="1135"/>
                      </a:lnTo>
                      <a:lnTo>
                        <a:pt x="903" y="1115"/>
                      </a:lnTo>
                      <a:lnTo>
                        <a:pt x="869" y="1093"/>
                      </a:lnTo>
                      <a:lnTo>
                        <a:pt x="834" y="1073"/>
                      </a:lnTo>
                      <a:lnTo>
                        <a:pt x="800" y="1051"/>
                      </a:lnTo>
                      <a:lnTo>
                        <a:pt x="765" y="1031"/>
                      </a:lnTo>
                      <a:lnTo>
                        <a:pt x="715" y="1001"/>
                      </a:lnTo>
                      <a:lnTo>
                        <a:pt x="667" y="969"/>
                      </a:lnTo>
                      <a:lnTo>
                        <a:pt x="621" y="935"/>
                      </a:lnTo>
                      <a:lnTo>
                        <a:pt x="578" y="899"/>
                      </a:lnTo>
                      <a:lnTo>
                        <a:pt x="535" y="861"/>
                      </a:lnTo>
                      <a:lnTo>
                        <a:pt x="493" y="822"/>
                      </a:lnTo>
                      <a:lnTo>
                        <a:pt x="453" y="783"/>
                      </a:lnTo>
                      <a:lnTo>
                        <a:pt x="412" y="743"/>
                      </a:lnTo>
                      <a:lnTo>
                        <a:pt x="373" y="701"/>
                      </a:lnTo>
                      <a:lnTo>
                        <a:pt x="334" y="661"/>
                      </a:lnTo>
                      <a:lnTo>
                        <a:pt x="294" y="619"/>
                      </a:lnTo>
                      <a:lnTo>
                        <a:pt x="255" y="578"/>
                      </a:lnTo>
                      <a:lnTo>
                        <a:pt x="215" y="536"/>
                      </a:lnTo>
                      <a:lnTo>
                        <a:pt x="175" y="495"/>
                      </a:lnTo>
                      <a:lnTo>
                        <a:pt x="133" y="455"/>
                      </a:lnTo>
                      <a:lnTo>
                        <a:pt x="90" y="415"/>
                      </a:lnTo>
                      <a:lnTo>
                        <a:pt x="81" y="408"/>
                      </a:lnTo>
                      <a:lnTo>
                        <a:pt x="71" y="402"/>
                      </a:lnTo>
                      <a:lnTo>
                        <a:pt x="62" y="396"/>
                      </a:lnTo>
                      <a:lnTo>
                        <a:pt x="52" y="390"/>
                      </a:lnTo>
                      <a:lnTo>
                        <a:pt x="41" y="386"/>
                      </a:lnTo>
                      <a:lnTo>
                        <a:pt x="31" y="382"/>
                      </a:lnTo>
                      <a:lnTo>
                        <a:pt x="19" y="379"/>
                      </a:lnTo>
                      <a:lnTo>
                        <a:pt x="9" y="374"/>
                      </a:lnTo>
                      <a:lnTo>
                        <a:pt x="8" y="374"/>
                      </a:lnTo>
                      <a:lnTo>
                        <a:pt x="6" y="374"/>
                      </a:lnTo>
                      <a:lnTo>
                        <a:pt x="3" y="376"/>
                      </a:lnTo>
                      <a:lnTo>
                        <a:pt x="2" y="377"/>
                      </a:lnTo>
                      <a:lnTo>
                        <a:pt x="0" y="380"/>
                      </a:lnTo>
                      <a:lnTo>
                        <a:pt x="2" y="382"/>
                      </a:lnTo>
                      <a:lnTo>
                        <a:pt x="3" y="385"/>
                      </a:lnTo>
                      <a:lnTo>
                        <a:pt x="5" y="386"/>
                      </a:lnTo>
                      <a:lnTo>
                        <a:pt x="5" y="38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786040" y="2951280"/>
                  <a:ext cx="384120" cy="482400"/>
                </a:xfrm>
                <a:custGeom>
                  <a:avLst/>
                  <a:gdLst/>
                  <a:ahLst/>
                  <a:rect l="l" t="t" r="r" b="b"/>
                  <a:pathLst>
                    <a:path w="3119" h="3661">
                      <a:moveTo>
                        <a:pt x="19" y="3502"/>
                      </a:moveTo>
                      <a:lnTo>
                        <a:pt x="82" y="3389"/>
                      </a:lnTo>
                      <a:lnTo>
                        <a:pt x="140" y="3272"/>
                      </a:lnTo>
                      <a:lnTo>
                        <a:pt x="190" y="3154"/>
                      </a:lnTo>
                      <a:lnTo>
                        <a:pt x="235" y="3034"/>
                      </a:lnTo>
                      <a:lnTo>
                        <a:pt x="274" y="2912"/>
                      </a:lnTo>
                      <a:lnTo>
                        <a:pt x="308" y="2788"/>
                      </a:lnTo>
                      <a:lnTo>
                        <a:pt x="337" y="2663"/>
                      </a:lnTo>
                      <a:lnTo>
                        <a:pt x="363" y="2536"/>
                      </a:lnTo>
                      <a:lnTo>
                        <a:pt x="386" y="2409"/>
                      </a:lnTo>
                      <a:lnTo>
                        <a:pt x="406" y="2281"/>
                      </a:lnTo>
                      <a:lnTo>
                        <a:pt x="425" y="2152"/>
                      </a:lnTo>
                      <a:lnTo>
                        <a:pt x="441" y="2022"/>
                      </a:lnTo>
                      <a:lnTo>
                        <a:pt x="457" y="1892"/>
                      </a:lnTo>
                      <a:lnTo>
                        <a:pt x="473" y="1763"/>
                      </a:lnTo>
                      <a:lnTo>
                        <a:pt x="488" y="1633"/>
                      </a:lnTo>
                      <a:lnTo>
                        <a:pt x="504" y="1504"/>
                      </a:lnTo>
                      <a:lnTo>
                        <a:pt x="517" y="1412"/>
                      </a:lnTo>
                      <a:lnTo>
                        <a:pt x="532" y="1319"/>
                      </a:lnTo>
                      <a:lnTo>
                        <a:pt x="547" y="1227"/>
                      </a:lnTo>
                      <a:lnTo>
                        <a:pt x="563" y="1137"/>
                      </a:lnTo>
                      <a:lnTo>
                        <a:pt x="581" y="1047"/>
                      </a:lnTo>
                      <a:lnTo>
                        <a:pt x="599" y="957"/>
                      </a:lnTo>
                      <a:lnTo>
                        <a:pt x="617" y="866"/>
                      </a:lnTo>
                      <a:lnTo>
                        <a:pt x="635" y="777"/>
                      </a:lnTo>
                      <a:lnTo>
                        <a:pt x="653" y="687"/>
                      </a:lnTo>
                      <a:lnTo>
                        <a:pt x="670" y="598"/>
                      </a:lnTo>
                      <a:lnTo>
                        <a:pt x="686" y="507"/>
                      </a:lnTo>
                      <a:lnTo>
                        <a:pt x="702" y="418"/>
                      </a:lnTo>
                      <a:lnTo>
                        <a:pt x="716" y="327"/>
                      </a:lnTo>
                      <a:lnTo>
                        <a:pt x="729" y="237"/>
                      </a:lnTo>
                      <a:lnTo>
                        <a:pt x="740" y="146"/>
                      </a:lnTo>
                      <a:lnTo>
                        <a:pt x="749" y="55"/>
                      </a:lnTo>
                      <a:lnTo>
                        <a:pt x="749" y="52"/>
                      </a:lnTo>
                      <a:lnTo>
                        <a:pt x="750" y="47"/>
                      </a:lnTo>
                      <a:lnTo>
                        <a:pt x="752" y="42"/>
                      </a:lnTo>
                      <a:lnTo>
                        <a:pt x="755" y="39"/>
                      </a:lnTo>
                      <a:lnTo>
                        <a:pt x="759" y="39"/>
                      </a:lnTo>
                      <a:lnTo>
                        <a:pt x="762" y="42"/>
                      </a:lnTo>
                      <a:lnTo>
                        <a:pt x="763" y="44"/>
                      </a:lnTo>
                      <a:lnTo>
                        <a:pt x="763" y="45"/>
                      </a:lnTo>
                      <a:lnTo>
                        <a:pt x="782" y="120"/>
                      </a:lnTo>
                      <a:lnTo>
                        <a:pt x="801" y="195"/>
                      </a:lnTo>
                      <a:lnTo>
                        <a:pt x="822" y="268"/>
                      </a:lnTo>
                      <a:lnTo>
                        <a:pt x="844" y="342"/>
                      </a:lnTo>
                      <a:lnTo>
                        <a:pt x="867" y="414"/>
                      </a:lnTo>
                      <a:lnTo>
                        <a:pt x="893" y="486"/>
                      </a:lnTo>
                      <a:lnTo>
                        <a:pt x="919" y="558"/>
                      </a:lnTo>
                      <a:lnTo>
                        <a:pt x="948" y="628"/>
                      </a:lnTo>
                      <a:lnTo>
                        <a:pt x="977" y="700"/>
                      </a:lnTo>
                      <a:lnTo>
                        <a:pt x="1008" y="769"/>
                      </a:lnTo>
                      <a:lnTo>
                        <a:pt x="1040" y="840"/>
                      </a:lnTo>
                      <a:lnTo>
                        <a:pt x="1074" y="909"/>
                      </a:lnTo>
                      <a:lnTo>
                        <a:pt x="1110" y="978"/>
                      </a:lnTo>
                      <a:lnTo>
                        <a:pt x="1148" y="1046"/>
                      </a:lnTo>
                      <a:lnTo>
                        <a:pt x="1187" y="1115"/>
                      </a:lnTo>
                      <a:lnTo>
                        <a:pt x="1227" y="1183"/>
                      </a:lnTo>
                      <a:lnTo>
                        <a:pt x="1257" y="1232"/>
                      </a:lnTo>
                      <a:lnTo>
                        <a:pt x="1289" y="1278"/>
                      </a:lnTo>
                      <a:lnTo>
                        <a:pt x="1322" y="1322"/>
                      </a:lnTo>
                      <a:lnTo>
                        <a:pt x="1355" y="1365"/>
                      </a:lnTo>
                      <a:lnTo>
                        <a:pt x="1390" y="1409"/>
                      </a:lnTo>
                      <a:lnTo>
                        <a:pt x="1426" y="1450"/>
                      </a:lnTo>
                      <a:lnTo>
                        <a:pt x="1462" y="1491"/>
                      </a:lnTo>
                      <a:lnTo>
                        <a:pt x="1498" y="1531"/>
                      </a:lnTo>
                      <a:lnTo>
                        <a:pt x="1535" y="1571"/>
                      </a:lnTo>
                      <a:lnTo>
                        <a:pt x="1573" y="1610"/>
                      </a:lnTo>
                      <a:lnTo>
                        <a:pt x="1610" y="1651"/>
                      </a:lnTo>
                      <a:lnTo>
                        <a:pt x="1649" y="1689"/>
                      </a:lnTo>
                      <a:lnTo>
                        <a:pt x="1686" y="1730"/>
                      </a:lnTo>
                      <a:lnTo>
                        <a:pt x="1725" y="1770"/>
                      </a:lnTo>
                      <a:lnTo>
                        <a:pt x="1763" y="1810"/>
                      </a:lnTo>
                      <a:lnTo>
                        <a:pt x="1800" y="1852"/>
                      </a:lnTo>
                      <a:lnTo>
                        <a:pt x="1836" y="1894"/>
                      </a:lnTo>
                      <a:lnTo>
                        <a:pt x="1874" y="1934"/>
                      </a:lnTo>
                      <a:lnTo>
                        <a:pt x="1910" y="1975"/>
                      </a:lnTo>
                      <a:lnTo>
                        <a:pt x="1946" y="2016"/>
                      </a:lnTo>
                      <a:lnTo>
                        <a:pt x="1982" y="2057"/>
                      </a:lnTo>
                      <a:lnTo>
                        <a:pt x="2016" y="2097"/>
                      </a:lnTo>
                      <a:lnTo>
                        <a:pt x="2052" y="2137"/>
                      </a:lnTo>
                      <a:lnTo>
                        <a:pt x="2088" y="2178"/>
                      </a:lnTo>
                      <a:lnTo>
                        <a:pt x="2123" y="2218"/>
                      </a:lnTo>
                      <a:lnTo>
                        <a:pt x="2159" y="2257"/>
                      </a:lnTo>
                      <a:lnTo>
                        <a:pt x="2193" y="2297"/>
                      </a:lnTo>
                      <a:lnTo>
                        <a:pt x="2228" y="2337"/>
                      </a:lnTo>
                      <a:lnTo>
                        <a:pt x="2264" y="2378"/>
                      </a:lnTo>
                      <a:lnTo>
                        <a:pt x="2298" y="2418"/>
                      </a:lnTo>
                      <a:lnTo>
                        <a:pt x="2333" y="2457"/>
                      </a:lnTo>
                      <a:lnTo>
                        <a:pt x="2368" y="2497"/>
                      </a:lnTo>
                      <a:lnTo>
                        <a:pt x="2404" y="2538"/>
                      </a:lnTo>
                      <a:lnTo>
                        <a:pt x="2438" y="2578"/>
                      </a:lnTo>
                      <a:lnTo>
                        <a:pt x="2473" y="2618"/>
                      </a:lnTo>
                      <a:lnTo>
                        <a:pt x="2507" y="2657"/>
                      </a:lnTo>
                      <a:lnTo>
                        <a:pt x="2542" y="2697"/>
                      </a:lnTo>
                      <a:lnTo>
                        <a:pt x="2578" y="2738"/>
                      </a:lnTo>
                      <a:lnTo>
                        <a:pt x="2612" y="2778"/>
                      </a:lnTo>
                      <a:lnTo>
                        <a:pt x="2647" y="2818"/>
                      </a:lnTo>
                      <a:lnTo>
                        <a:pt x="2683" y="2860"/>
                      </a:lnTo>
                      <a:lnTo>
                        <a:pt x="2717" y="2900"/>
                      </a:lnTo>
                      <a:lnTo>
                        <a:pt x="2752" y="2941"/>
                      </a:lnTo>
                      <a:lnTo>
                        <a:pt x="2788" y="2983"/>
                      </a:lnTo>
                      <a:lnTo>
                        <a:pt x="2824" y="3023"/>
                      </a:lnTo>
                      <a:lnTo>
                        <a:pt x="2859" y="3065"/>
                      </a:lnTo>
                      <a:lnTo>
                        <a:pt x="2895" y="3106"/>
                      </a:lnTo>
                      <a:lnTo>
                        <a:pt x="2931" y="3148"/>
                      </a:lnTo>
                      <a:lnTo>
                        <a:pt x="2941" y="3160"/>
                      </a:lnTo>
                      <a:lnTo>
                        <a:pt x="2952" y="3173"/>
                      </a:lnTo>
                      <a:lnTo>
                        <a:pt x="2964" y="3184"/>
                      </a:lnTo>
                      <a:lnTo>
                        <a:pt x="2974" y="3196"/>
                      </a:lnTo>
                      <a:lnTo>
                        <a:pt x="2982" y="3206"/>
                      </a:lnTo>
                      <a:lnTo>
                        <a:pt x="2990" y="3216"/>
                      </a:lnTo>
                      <a:lnTo>
                        <a:pt x="2994" y="3223"/>
                      </a:lnTo>
                      <a:lnTo>
                        <a:pt x="2995" y="3230"/>
                      </a:lnTo>
                      <a:lnTo>
                        <a:pt x="2991" y="3243"/>
                      </a:lnTo>
                      <a:lnTo>
                        <a:pt x="2977" y="3256"/>
                      </a:lnTo>
                      <a:lnTo>
                        <a:pt x="2957" y="3269"/>
                      </a:lnTo>
                      <a:lnTo>
                        <a:pt x="2929" y="3282"/>
                      </a:lnTo>
                      <a:lnTo>
                        <a:pt x="2895" y="3296"/>
                      </a:lnTo>
                      <a:lnTo>
                        <a:pt x="2856" y="3309"/>
                      </a:lnTo>
                      <a:lnTo>
                        <a:pt x="2814" y="3322"/>
                      </a:lnTo>
                      <a:lnTo>
                        <a:pt x="2768" y="3335"/>
                      </a:lnTo>
                      <a:lnTo>
                        <a:pt x="2719" y="3348"/>
                      </a:lnTo>
                      <a:lnTo>
                        <a:pt x="2669" y="3360"/>
                      </a:lnTo>
                      <a:lnTo>
                        <a:pt x="2617" y="3371"/>
                      </a:lnTo>
                      <a:lnTo>
                        <a:pt x="2566" y="3381"/>
                      </a:lnTo>
                      <a:lnTo>
                        <a:pt x="2516" y="3391"/>
                      </a:lnTo>
                      <a:lnTo>
                        <a:pt x="2467" y="3400"/>
                      </a:lnTo>
                      <a:lnTo>
                        <a:pt x="2421" y="3407"/>
                      </a:lnTo>
                      <a:lnTo>
                        <a:pt x="2379" y="3414"/>
                      </a:lnTo>
                      <a:lnTo>
                        <a:pt x="2339" y="3420"/>
                      </a:lnTo>
                      <a:lnTo>
                        <a:pt x="2298" y="3426"/>
                      </a:lnTo>
                      <a:lnTo>
                        <a:pt x="2258" y="3432"/>
                      </a:lnTo>
                      <a:lnTo>
                        <a:pt x="2219" y="3438"/>
                      </a:lnTo>
                      <a:lnTo>
                        <a:pt x="2179" y="3442"/>
                      </a:lnTo>
                      <a:lnTo>
                        <a:pt x="2139" y="3448"/>
                      </a:lnTo>
                      <a:lnTo>
                        <a:pt x="2100" y="3452"/>
                      </a:lnTo>
                      <a:lnTo>
                        <a:pt x="2059" y="3456"/>
                      </a:lnTo>
                      <a:lnTo>
                        <a:pt x="2021" y="3461"/>
                      </a:lnTo>
                      <a:lnTo>
                        <a:pt x="1980" y="3465"/>
                      </a:lnTo>
                      <a:lnTo>
                        <a:pt x="1941" y="3469"/>
                      </a:lnTo>
                      <a:lnTo>
                        <a:pt x="1901" y="3472"/>
                      </a:lnTo>
                      <a:lnTo>
                        <a:pt x="1862" y="3476"/>
                      </a:lnTo>
                      <a:lnTo>
                        <a:pt x="1823" y="3481"/>
                      </a:lnTo>
                      <a:lnTo>
                        <a:pt x="1783" y="3484"/>
                      </a:lnTo>
                      <a:lnTo>
                        <a:pt x="1744" y="3486"/>
                      </a:lnTo>
                      <a:lnTo>
                        <a:pt x="1705" y="3489"/>
                      </a:lnTo>
                      <a:lnTo>
                        <a:pt x="1665" y="3494"/>
                      </a:lnTo>
                      <a:lnTo>
                        <a:pt x="1626" y="3497"/>
                      </a:lnTo>
                      <a:lnTo>
                        <a:pt x="1587" y="3499"/>
                      </a:lnTo>
                      <a:lnTo>
                        <a:pt x="1547" y="3501"/>
                      </a:lnTo>
                      <a:lnTo>
                        <a:pt x="1508" y="3504"/>
                      </a:lnTo>
                      <a:lnTo>
                        <a:pt x="1468" y="3507"/>
                      </a:lnTo>
                      <a:lnTo>
                        <a:pt x="1429" y="3510"/>
                      </a:lnTo>
                      <a:lnTo>
                        <a:pt x="1390" y="3511"/>
                      </a:lnTo>
                      <a:lnTo>
                        <a:pt x="1350" y="3514"/>
                      </a:lnTo>
                      <a:lnTo>
                        <a:pt x="1311" y="3517"/>
                      </a:lnTo>
                      <a:lnTo>
                        <a:pt x="1270" y="3518"/>
                      </a:lnTo>
                      <a:lnTo>
                        <a:pt x="1231" y="3521"/>
                      </a:lnTo>
                      <a:lnTo>
                        <a:pt x="1191" y="3522"/>
                      </a:lnTo>
                      <a:lnTo>
                        <a:pt x="1152" y="3525"/>
                      </a:lnTo>
                      <a:lnTo>
                        <a:pt x="1112" y="3527"/>
                      </a:lnTo>
                      <a:lnTo>
                        <a:pt x="1100" y="3527"/>
                      </a:lnTo>
                      <a:lnTo>
                        <a:pt x="1089" y="3531"/>
                      </a:lnTo>
                      <a:lnTo>
                        <a:pt x="1077" y="3535"/>
                      </a:lnTo>
                      <a:lnTo>
                        <a:pt x="1069" y="3543"/>
                      </a:lnTo>
                      <a:lnTo>
                        <a:pt x="1060" y="3551"/>
                      </a:lnTo>
                      <a:lnTo>
                        <a:pt x="1054" y="3561"/>
                      </a:lnTo>
                      <a:lnTo>
                        <a:pt x="1050" y="3573"/>
                      </a:lnTo>
                      <a:lnTo>
                        <a:pt x="1049" y="3584"/>
                      </a:lnTo>
                      <a:lnTo>
                        <a:pt x="1049" y="3596"/>
                      </a:lnTo>
                      <a:lnTo>
                        <a:pt x="1053" y="3607"/>
                      </a:lnTo>
                      <a:lnTo>
                        <a:pt x="1057" y="3619"/>
                      </a:lnTo>
                      <a:lnTo>
                        <a:pt x="1064" y="3628"/>
                      </a:lnTo>
                      <a:lnTo>
                        <a:pt x="1073" y="3636"/>
                      </a:lnTo>
                      <a:lnTo>
                        <a:pt x="1083" y="3642"/>
                      </a:lnTo>
                      <a:lnTo>
                        <a:pt x="1095" y="3646"/>
                      </a:lnTo>
                      <a:lnTo>
                        <a:pt x="1106" y="3648"/>
                      </a:lnTo>
                      <a:lnTo>
                        <a:pt x="1146" y="3652"/>
                      </a:lnTo>
                      <a:lnTo>
                        <a:pt x="1188" y="3655"/>
                      </a:lnTo>
                      <a:lnTo>
                        <a:pt x="1229" y="3658"/>
                      </a:lnTo>
                      <a:lnTo>
                        <a:pt x="1269" y="3659"/>
                      </a:lnTo>
                      <a:lnTo>
                        <a:pt x="1309" y="3661"/>
                      </a:lnTo>
                      <a:lnTo>
                        <a:pt x="1350" y="3661"/>
                      </a:lnTo>
                      <a:lnTo>
                        <a:pt x="1390" y="3661"/>
                      </a:lnTo>
                      <a:lnTo>
                        <a:pt x="1432" y="3661"/>
                      </a:lnTo>
                      <a:lnTo>
                        <a:pt x="1472" y="3659"/>
                      </a:lnTo>
                      <a:lnTo>
                        <a:pt x="1512" y="3658"/>
                      </a:lnTo>
                      <a:lnTo>
                        <a:pt x="1553" y="3655"/>
                      </a:lnTo>
                      <a:lnTo>
                        <a:pt x="1593" y="3654"/>
                      </a:lnTo>
                      <a:lnTo>
                        <a:pt x="1633" y="3649"/>
                      </a:lnTo>
                      <a:lnTo>
                        <a:pt x="1674" y="3646"/>
                      </a:lnTo>
                      <a:lnTo>
                        <a:pt x="1714" y="3642"/>
                      </a:lnTo>
                      <a:lnTo>
                        <a:pt x="1754" y="3638"/>
                      </a:lnTo>
                      <a:lnTo>
                        <a:pt x="1794" y="3633"/>
                      </a:lnTo>
                      <a:lnTo>
                        <a:pt x="1836" y="3629"/>
                      </a:lnTo>
                      <a:lnTo>
                        <a:pt x="1877" y="3623"/>
                      </a:lnTo>
                      <a:lnTo>
                        <a:pt x="1917" y="3618"/>
                      </a:lnTo>
                      <a:lnTo>
                        <a:pt x="1957" y="3612"/>
                      </a:lnTo>
                      <a:lnTo>
                        <a:pt x="1998" y="3606"/>
                      </a:lnTo>
                      <a:lnTo>
                        <a:pt x="2038" y="3600"/>
                      </a:lnTo>
                      <a:lnTo>
                        <a:pt x="2080" y="3594"/>
                      </a:lnTo>
                      <a:lnTo>
                        <a:pt x="2120" y="3589"/>
                      </a:lnTo>
                      <a:lnTo>
                        <a:pt x="2160" y="3582"/>
                      </a:lnTo>
                      <a:lnTo>
                        <a:pt x="2202" y="3576"/>
                      </a:lnTo>
                      <a:lnTo>
                        <a:pt x="2242" y="3569"/>
                      </a:lnTo>
                      <a:lnTo>
                        <a:pt x="2283" y="3563"/>
                      </a:lnTo>
                      <a:lnTo>
                        <a:pt x="2324" y="3557"/>
                      </a:lnTo>
                      <a:lnTo>
                        <a:pt x="2365" y="3550"/>
                      </a:lnTo>
                      <a:lnTo>
                        <a:pt x="2406" y="3544"/>
                      </a:lnTo>
                      <a:lnTo>
                        <a:pt x="2448" y="3538"/>
                      </a:lnTo>
                      <a:lnTo>
                        <a:pt x="2490" y="3531"/>
                      </a:lnTo>
                      <a:lnTo>
                        <a:pt x="2530" y="3522"/>
                      </a:lnTo>
                      <a:lnTo>
                        <a:pt x="2572" y="3515"/>
                      </a:lnTo>
                      <a:lnTo>
                        <a:pt x="2612" y="3507"/>
                      </a:lnTo>
                      <a:lnTo>
                        <a:pt x="2653" y="3497"/>
                      </a:lnTo>
                      <a:lnTo>
                        <a:pt x="2693" y="3486"/>
                      </a:lnTo>
                      <a:lnTo>
                        <a:pt x="2733" y="3475"/>
                      </a:lnTo>
                      <a:lnTo>
                        <a:pt x="2774" y="3463"/>
                      </a:lnTo>
                      <a:lnTo>
                        <a:pt x="2813" y="3450"/>
                      </a:lnTo>
                      <a:lnTo>
                        <a:pt x="2851" y="3438"/>
                      </a:lnTo>
                      <a:lnTo>
                        <a:pt x="2890" y="3422"/>
                      </a:lnTo>
                      <a:lnTo>
                        <a:pt x="2929" y="3406"/>
                      </a:lnTo>
                      <a:lnTo>
                        <a:pt x="2967" y="3390"/>
                      </a:lnTo>
                      <a:lnTo>
                        <a:pt x="3004" y="3371"/>
                      </a:lnTo>
                      <a:lnTo>
                        <a:pt x="3041" y="3353"/>
                      </a:lnTo>
                      <a:lnTo>
                        <a:pt x="3044" y="3351"/>
                      </a:lnTo>
                      <a:lnTo>
                        <a:pt x="3053" y="3345"/>
                      </a:lnTo>
                      <a:lnTo>
                        <a:pt x="3066" y="3335"/>
                      </a:lnTo>
                      <a:lnTo>
                        <a:pt x="3080" y="3322"/>
                      </a:lnTo>
                      <a:lnTo>
                        <a:pt x="3093" y="3305"/>
                      </a:lnTo>
                      <a:lnTo>
                        <a:pt x="3106" y="3286"/>
                      </a:lnTo>
                      <a:lnTo>
                        <a:pt x="3115" y="3263"/>
                      </a:lnTo>
                      <a:lnTo>
                        <a:pt x="3119" y="3237"/>
                      </a:lnTo>
                      <a:lnTo>
                        <a:pt x="3118" y="3220"/>
                      </a:lnTo>
                      <a:lnTo>
                        <a:pt x="3113" y="3199"/>
                      </a:lnTo>
                      <a:lnTo>
                        <a:pt x="3106" y="3175"/>
                      </a:lnTo>
                      <a:lnTo>
                        <a:pt x="3096" y="3151"/>
                      </a:lnTo>
                      <a:lnTo>
                        <a:pt x="3086" y="3127"/>
                      </a:lnTo>
                      <a:lnTo>
                        <a:pt x="3073" y="3103"/>
                      </a:lnTo>
                      <a:lnTo>
                        <a:pt x="3062" y="3082"/>
                      </a:lnTo>
                      <a:lnTo>
                        <a:pt x="3049" y="3063"/>
                      </a:lnTo>
                      <a:lnTo>
                        <a:pt x="3020" y="3026"/>
                      </a:lnTo>
                      <a:lnTo>
                        <a:pt x="2990" y="2990"/>
                      </a:lnTo>
                      <a:lnTo>
                        <a:pt x="2961" y="2952"/>
                      </a:lnTo>
                      <a:lnTo>
                        <a:pt x="2931" y="2918"/>
                      </a:lnTo>
                      <a:lnTo>
                        <a:pt x="2902" y="2882"/>
                      </a:lnTo>
                      <a:lnTo>
                        <a:pt x="2872" y="2846"/>
                      </a:lnTo>
                      <a:lnTo>
                        <a:pt x="2843" y="2811"/>
                      </a:lnTo>
                      <a:lnTo>
                        <a:pt x="2813" y="2777"/>
                      </a:lnTo>
                      <a:lnTo>
                        <a:pt x="2782" y="2742"/>
                      </a:lnTo>
                      <a:lnTo>
                        <a:pt x="2752" y="2707"/>
                      </a:lnTo>
                      <a:lnTo>
                        <a:pt x="2723" y="2674"/>
                      </a:lnTo>
                      <a:lnTo>
                        <a:pt x="2693" y="2640"/>
                      </a:lnTo>
                      <a:lnTo>
                        <a:pt x="2663" y="2607"/>
                      </a:lnTo>
                      <a:lnTo>
                        <a:pt x="2633" y="2574"/>
                      </a:lnTo>
                      <a:lnTo>
                        <a:pt x="2602" y="2540"/>
                      </a:lnTo>
                      <a:lnTo>
                        <a:pt x="2572" y="2506"/>
                      </a:lnTo>
                      <a:lnTo>
                        <a:pt x="2542" y="2473"/>
                      </a:lnTo>
                      <a:lnTo>
                        <a:pt x="2512" y="2440"/>
                      </a:lnTo>
                      <a:lnTo>
                        <a:pt x="2480" y="2407"/>
                      </a:lnTo>
                      <a:lnTo>
                        <a:pt x="2450" y="2373"/>
                      </a:lnTo>
                      <a:lnTo>
                        <a:pt x="2419" y="2340"/>
                      </a:lnTo>
                      <a:lnTo>
                        <a:pt x="2389" y="2307"/>
                      </a:lnTo>
                      <a:lnTo>
                        <a:pt x="2359" y="2274"/>
                      </a:lnTo>
                      <a:lnTo>
                        <a:pt x="2329" y="2240"/>
                      </a:lnTo>
                      <a:lnTo>
                        <a:pt x="2297" y="2206"/>
                      </a:lnTo>
                      <a:lnTo>
                        <a:pt x="2267" y="2172"/>
                      </a:lnTo>
                      <a:lnTo>
                        <a:pt x="2237" y="2137"/>
                      </a:lnTo>
                      <a:lnTo>
                        <a:pt x="2206" y="2104"/>
                      </a:lnTo>
                      <a:lnTo>
                        <a:pt x="2176" y="2068"/>
                      </a:lnTo>
                      <a:lnTo>
                        <a:pt x="2144" y="2034"/>
                      </a:lnTo>
                      <a:lnTo>
                        <a:pt x="2114" y="1999"/>
                      </a:lnTo>
                      <a:lnTo>
                        <a:pt x="2084" y="1963"/>
                      </a:lnTo>
                      <a:lnTo>
                        <a:pt x="2036" y="1908"/>
                      </a:lnTo>
                      <a:lnTo>
                        <a:pt x="1987" y="1855"/>
                      </a:lnTo>
                      <a:lnTo>
                        <a:pt x="1938" y="1805"/>
                      </a:lnTo>
                      <a:lnTo>
                        <a:pt x="1890" y="1754"/>
                      </a:lnTo>
                      <a:lnTo>
                        <a:pt x="1839" y="1704"/>
                      </a:lnTo>
                      <a:lnTo>
                        <a:pt x="1790" y="1655"/>
                      </a:lnTo>
                      <a:lnTo>
                        <a:pt x="1740" y="1606"/>
                      </a:lnTo>
                      <a:lnTo>
                        <a:pt x="1691" y="1557"/>
                      </a:lnTo>
                      <a:lnTo>
                        <a:pt x="1642" y="1508"/>
                      </a:lnTo>
                      <a:lnTo>
                        <a:pt x="1593" y="1459"/>
                      </a:lnTo>
                      <a:lnTo>
                        <a:pt x="1544" y="1407"/>
                      </a:lnTo>
                      <a:lnTo>
                        <a:pt x="1498" y="1355"/>
                      </a:lnTo>
                      <a:lnTo>
                        <a:pt x="1452" y="1301"/>
                      </a:lnTo>
                      <a:lnTo>
                        <a:pt x="1407" y="1246"/>
                      </a:lnTo>
                      <a:lnTo>
                        <a:pt x="1362" y="1187"/>
                      </a:lnTo>
                      <a:lnTo>
                        <a:pt x="1321" y="1126"/>
                      </a:lnTo>
                      <a:lnTo>
                        <a:pt x="1279" y="1062"/>
                      </a:lnTo>
                      <a:lnTo>
                        <a:pt x="1239" y="997"/>
                      </a:lnTo>
                      <a:lnTo>
                        <a:pt x="1198" y="934"/>
                      </a:lnTo>
                      <a:lnTo>
                        <a:pt x="1161" y="869"/>
                      </a:lnTo>
                      <a:lnTo>
                        <a:pt x="1125" y="804"/>
                      </a:lnTo>
                      <a:lnTo>
                        <a:pt x="1089" y="739"/>
                      </a:lnTo>
                      <a:lnTo>
                        <a:pt x="1056" y="673"/>
                      </a:lnTo>
                      <a:lnTo>
                        <a:pt x="1024" y="608"/>
                      </a:lnTo>
                      <a:lnTo>
                        <a:pt x="992" y="542"/>
                      </a:lnTo>
                      <a:lnTo>
                        <a:pt x="964" y="476"/>
                      </a:lnTo>
                      <a:lnTo>
                        <a:pt x="935" y="408"/>
                      </a:lnTo>
                      <a:lnTo>
                        <a:pt x="909" y="340"/>
                      </a:lnTo>
                      <a:lnTo>
                        <a:pt x="884" y="271"/>
                      </a:lnTo>
                      <a:lnTo>
                        <a:pt x="860" y="202"/>
                      </a:lnTo>
                      <a:lnTo>
                        <a:pt x="838" y="131"/>
                      </a:lnTo>
                      <a:lnTo>
                        <a:pt x="818" y="61"/>
                      </a:lnTo>
                      <a:lnTo>
                        <a:pt x="817" y="54"/>
                      </a:lnTo>
                      <a:lnTo>
                        <a:pt x="810" y="38"/>
                      </a:lnTo>
                      <a:lnTo>
                        <a:pt x="799" y="21"/>
                      </a:lnTo>
                      <a:lnTo>
                        <a:pt x="786" y="8"/>
                      </a:lnTo>
                      <a:lnTo>
                        <a:pt x="781" y="6"/>
                      </a:lnTo>
                      <a:lnTo>
                        <a:pt x="774" y="5"/>
                      </a:lnTo>
                      <a:lnTo>
                        <a:pt x="768" y="3"/>
                      </a:lnTo>
                      <a:lnTo>
                        <a:pt x="762" y="2"/>
                      </a:lnTo>
                      <a:lnTo>
                        <a:pt x="756" y="2"/>
                      </a:lnTo>
                      <a:lnTo>
                        <a:pt x="750" y="0"/>
                      </a:lnTo>
                      <a:lnTo>
                        <a:pt x="745" y="2"/>
                      </a:lnTo>
                      <a:lnTo>
                        <a:pt x="740" y="2"/>
                      </a:lnTo>
                      <a:lnTo>
                        <a:pt x="726" y="6"/>
                      </a:lnTo>
                      <a:lnTo>
                        <a:pt x="716" y="12"/>
                      </a:lnTo>
                      <a:lnTo>
                        <a:pt x="710" y="21"/>
                      </a:lnTo>
                      <a:lnTo>
                        <a:pt x="706" y="31"/>
                      </a:lnTo>
                      <a:lnTo>
                        <a:pt x="677" y="156"/>
                      </a:lnTo>
                      <a:lnTo>
                        <a:pt x="650" y="280"/>
                      </a:lnTo>
                      <a:lnTo>
                        <a:pt x="624" y="402"/>
                      </a:lnTo>
                      <a:lnTo>
                        <a:pt x="596" y="523"/>
                      </a:lnTo>
                      <a:lnTo>
                        <a:pt x="570" y="644"/>
                      </a:lnTo>
                      <a:lnTo>
                        <a:pt x="543" y="766"/>
                      </a:lnTo>
                      <a:lnTo>
                        <a:pt x="516" y="890"/>
                      </a:lnTo>
                      <a:lnTo>
                        <a:pt x="488" y="1017"/>
                      </a:lnTo>
                      <a:lnTo>
                        <a:pt x="475" y="1077"/>
                      </a:lnTo>
                      <a:lnTo>
                        <a:pt x="464" y="1138"/>
                      </a:lnTo>
                      <a:lnTo>
                        <a:pt x="454" y="1197"/>
                      </a:lnTo>
                      <a:lnTo>
                        <a:pt x="444" y="1255"/>
                      </a:lnTo>
                      <a:lnTo>
                        <a:pt x="434" y="1314"/>
                      </a:lnTo>
                      <a:lnTo>
                        <a:pt x="425" y="1371"/>
                      </a:lnTo>
                      <a:lnTo>
                        <a:pt x="416" y="1430"/>
                      </a:lnTo>
                      <a:lnTo>
                        <a:pt x="408" y="1491"/>
                      </a:lnTo>
                      <a:lnTo>
                        <a:pt x="390" y="1619"/>
                      </a:lnTo>
                      <a:lnTo>
                        <a:pt x="376" y="1749"/>
                      </a:lnTo>
                      <a:lnTo>
                        <a:pt x="360" y="1877"/>
                      </a:lnTo>
                      <a:lnTo>
                        <a:pt x="346" y="2005"/>
                      </a:lnTo>
                      <a:lnTo>
                        <a:pt x="330" y="2133"/>
                      </a:lnTo>
                      <a:lnTo>
                        <a:pt x="314" y="2261"/>
                      </a:lnTo>
                      <a:lnTo>
                        <a:pt x="298" y="2388"/>
                      </a:lnTo>
                      <a:lnTo>
                        <a:pt x="278" y="2515"/>
                      </a:lnTo>
                      <a:lnTo>
                        <a:pt x="258" y="2640"/>
                      </a:lnTo>
                      <a:lnTo>
                        <a:pt x="234" y="2765"/>
                      </a:lnTo>
                      <a:lnTo>
                        <a:pt x="206" y="2889"/>
                      </a:lnTo>
                      <a:lnTo>
                        <a:pt x="175" y="3013"/>
                      </a:lnTo>
                      <a:lnTo>
                        <a:pt x="139" y="3134"/>
                      </a:lnTo>
                      <a:lnTo>
                        <a:pt x="98" y="3255"/>
                      </a:lnTo>
                      <a:lnTo>
                        <a:pt x="54" y="3374"/>
                      </a:lnTo>
                      <a:lnTo>
                        <a:pt x="2" y="3492"/>
                      </a:lnTo>
                      <a:lnTo>
                        <a:pt x="2" y="3492"/>
                      </a:lnTo>
                      <a:lnTo>
                        <a:pt x="0" y="3495"/>
                      </a:lnTo>
                      <a:lnTo>
                        <a:pt x="0" y="3499"/>
                      </a:lnTo>
                      <a:lnTo>
                        <a:pt x="2" y="3502"/>
                      </a:lnTo>
                      <a:lnTo>
                        <a:pt x="5" y="3505"/>
                      </a:lnTo>
                      <a:lnTo>
                        <a:pt x="9" y="3507"/>
                      </a:lnTo>
                      <a:lnTo>
                        <a:pt x="13" y="3507"/>
                      </a:lnTo>
                      <a:lnTo>
                        <a:pt x="16" y="3505"/>
                      </a:lnTo>
                      <a:lnTo>
                        <a:pt x="19" y="3502"/>
                      </a:lnTo>
                      <a:lnTo>
                        <a:pt x="19" y="3502"/>
                      </a:lnTo>
                      <a:close/>
                    </a:path>
                  </a:pathLst>
                </a:custGeom>
                <a:solidFill>
                  <a:srgbClr val="339933"/>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784240" y="3409920"/>
                  <a:ext cx="87480" cy="125640"/>
                </a:xfrm>
                <a:custGeom>
                  <a:avLst/>
                  <a:gdLst/>
                  <a:ahLst/>
                  <a:rect l="l" t="t" r="r" b="b"/>
                  <a:pathLst>
                    <a:path w="709" h="945">
                      <a:moveTo>
                        <a:pt x="380" y="940"/>
                      </a:moveTo>
                      <a:lnTo>
                        <a:pt x="402" y="886"/>
                      </a:lnTo>
                      <a:lnTo>
                        <a:pt x="426" y="828"/>
                      </a:lnTo>
                      <a:lnTo>
                        <a:pt x="451" y="765"/>
                      </a:lnTo>
                      <a:lnTo>
                        <a:pt x="475" y="700"/>
                      </a:lnTo>
                      <a:lnTo>
                        <a:pt x="501" y="634"/>
                      </a:lnTo>
                      <a:lnTo>
                        <a:pt x="527" y="567"/>
                      </a:lnTo>
                      <a:lnTo>
                        <a:pt x="553" y="501"/>
                      </a:lnTo>
                      <a:lnTo>
                        <a:pt x="578" y="438"/>
                      </a:lnTo>
                      <a:lnTo>
                        <a:pt x="602" y="376"/>
                      </a:lnTo>
                      <a:lnTo>
                        <a:pt x="624" y="318"/>
                      </a:lnTo>
                      <a:lnTo>
                        <a:pt x="644" y="265"/>
                      </a:lnTo>
                      <a:lnTo>
                        <a:pt x="661" y="218"/>
                      </a:lnTo>
                      <a:lnTo>
                        <a:pt x="677" y="177"/>
                      </a:lnTo>
                      <a:lnTo>
                        <a:pt x="688" y="146"/>
                      </a:lnTo>
                      <a:lnTo>
                        <a:pt x="699" y="121"/>
                      </a:lnTo>
                      <a:lnTo>
                        <a:pt x="703" y="108"/>
                      </a:lnTo>
                      <a:lnTo>
                        <a:pt x="707" y="92"/>
                      </a:lnTo>
                      <a:lnTo>
                        <a:pt x="709" y="78"/>
                      </a:lnTo>
                      <a:lnTo>
                        <a:pt x="707" y="66"/>
                      </a:lnTo>
                      <a:lnTo>
                        <a:pt x="703" y="55"/>
                      </a:lnTo>
                      <a:lnTo>
                        <a:pt x="696" y="45"/>
                      </a:lnTo>
                      <a:lnTo>
                        <a:pt x="684" y="38"/>
                      </a:lnTo>
                      <a:lnTo>
                        <a:pt x="670" y="32"/>
                      </a:lnTo>
                      <a:lnTo>
                        <a:pt x="651" y="28"/>
                      </a:lnTo>
                      <a:lnTo>
                        <a:pt x="637" y="26"/>
                      </a:lnTo>
                      <a:lnTo>
                        <a:pt x="615" y="23"/>
                      </a:lnTo>
                      <a:lnTo>
                        <a:pt x="586" y="20"/>
                      </a:lnTo>
                      <a:lnTo>
                        <a:pt x="550" y="16"/>
                      </a:lnTo>
                      <a:lnTo>
                        <a:pt x="511" y="13"/>
                      </a:lnTo>
                      <a:lnTo>
                        <a:pt x="467" y="10"/>
                      </a:lnTo>
                      <a:lnTo>
                        <a:pt x="421" y="6"/>
                      </a:lnTo>
                      <a:lnTo>
                        <a:pt x="372" y="4"/>
                      </a:lnTo>
                      <a:lnTo>
                        <a:pt x="321" y="2"/>
                      </a:lnTo>
                      <a:lnTo>
                        <a:pt x="272" y="0"/>
                      </a:lnTo>
                      <a:lnTo>
                        <a:pt x="223" y="0"/>
                      </a:lnTo>
                      <a:lnTo>
                        <a:pt x="176" y="2"/>
                      </a:lnTo>
                      <a:lnTo>
                        <a:pt x="133" y="3"/>
                      </a:lnTo>
                      <a:lnTo>
                        <a:pt x="92" y="7"/>
                      </a:lnTo>
                      <a:lnTo>
                        <a:pt x="58" y="13"/>
                      </a:lnTo>
                      <a:lnTo>
                        <a:pt x="29" y="20"/>
                      </a:lnTo>
                      <a:lnTo>
                        <a:pt x="15" y="29"/>
                      </a:lnTo>
                      <a:lnTo>
                        <a:pt x="5" y="42"/>
                      </a:lnTo>
                      <a:lnTo>
                        <a:pt x="0" y="58"/>
                      </a:lnTo>
                      <a:lnTo>
                        <a:pt x="3" y="75"/>
                      </a:lnTo>
                      <a:lnTo>
                        <a:pt x="6" y="84"/>
                      </a:lnTo>
                      <a:lnTo>
                        <a:pt x="12" y="89"/>
                      </a:lnTo>
                      <a:lnTo>
                        <a:pt x="17" y="95"/>
                      </a:lnTo>
                      <a:lnTo>
                        <a:pt x="25" y="100"/>
                      </a:lnTo>
                      <a:lnTo>
                        <a:pt x="33" y="102"/>
                      </a:lnTo>
                      <a:lnTo>
                        <a:pt x="41" y="104"/>
                      </a:lnTo>
                      <a:lnTo>
                        <a:pt x="49" y="104"/>
                      </a:lnTo>
                      <a:lnTo>
                        <a:pt x="58" y="101"/>
                      </a:lnTo>
                      <a:lnTo>
                        <a:pt x="84" y="94"/>
                      </a:lnTo>
                      <a:lnTo>
                        <a:pt x="117" y="87"/>
                      </a:lnTo>
                      <a:lnTo>
                        <a:pt x="154" y="82"/>
                      </a:lnTo>
                      <a:lnTo>
                        <a:pt x="197" y="78"/>
                      </a:lnTo>
                      <a:lnTo>
                        <a:pt x="244" y="74"/>
                      </a:lnTo>
                      <a:lnTo>
                        <a:pt x="293" y="72"/>
                      </a:lnTo>
                      <a:lnTo>
                        <a:pt x="341" y="71"/>
                      </a:lnTo>
                      <a:lnTo>
                        <a:pt x="392" y="71"/>
                      </a:lnTo>
                      <a:lnTo>
                        <a:pt x="439" y="72"/>
                      </a:lnTo>
                      <a:lnTo>
                        <a:pt x="484" y="74"/>
                      </a:lnTo>
                      <a:lnTo>
                        <a:pt x="524" y="76"/>
                      </a:lnTo>
                      <a:lnTo>
                        <a:pt x="560" y="82"/>
                      </a:lnTo>
                      <a:lnTo>
                        <a:pt x="591" y="88"/>
                      </a:lnTo>
                      <a:lnTo>
                        <a:pt x="612" y="95"/>
                      </a:lnTo>
                      <a:lnTo>
                        <a:pt x="627" y="102"/>
                      </a:lnTo>
                      <a:lnTo>
                        <a:pt x="629" y="112"/>
                      </a:lnTo>
                      <a:lnTo>
                        <a:pt x="627" y="127"/>
                      </a:lnTo>
                      <a:lnTo>
                        <a:pt x="619" y="151"/>
                      </a:lnTo>
                      <a:lnTo>
                        <a:pt x="608" y="184"/>
                      </a:lnTo>
                      <a:lnTo>
                        <a:pt x="595" y="225"/>
                      </a:lnTo>
                      <a:lnTo>
                        <a:pt x="580" y="271"/>
                      </a:lnTo>
                      <a:lnTo>
                        <a:pt x="563" y="323"/>
                      </a:lnTo>
                      <a:lnTo>
                        <a:pt x="543" y="380"/>
                      </a:lnTo>
                      <a:lnTo>
                        <a:pt x="523" y="441"/>
                      </a:lnTo>
                      <a:lnTo>
                        <a:pt x="503" y="503"/>
                      </a:lnTo>
                      <a:lnTo>
                        <a:pt x="481" y="567"/>
                      </a:lnTo>
                      <a:lnTo>
                        <a:pt x="460" y="634"/>
                      </a:lnTo>
                      <a:lnTo>
                        <a:pt x="439" y="699"/>
                      </a:lnTo>
                      <a:lnTo>
                        <a:pt x="419" y="762"/>
                      </a:lnTo>
                      <a:lnTo>
                        <a:pt x="400" y="824"/>
                      </a:lnTo>
                      <a:lnTo>
                        <a:pt x="383" y="883"/>
                      </a:lnTo>
                      <a:lnTo>
                        <a:pt x="369" y="938"/>
                      </a:lnTo>
                      <a:lnTo>
                        <a:pt x="369" y="938"/>
                      </a:lnTo>
                      <a:lnTo>
                        <a:pt x="369" y="939"/>
                      </a:lnTo>
                      <a:lnTo>
                        <a:pt x="369" y="940"/>
                      </a:lnTo>
                      <a:lnTo>
                        <a:pt x="370" y="943"/>
                      </a:lnTo>
                      <a:lnTo>
                        <a:pt x="372" y="945"/>
                      </a:lnTo>
                      <a:lnTo>
                        <a:pt x="375" y="945"/>
                      </a:lnTo>
                      <a:lnTo>
                        <a:pt x="376" y="943"/>
                      </a:lnTo>
                      <a:lnTo>
                        <a:pt x="379" y="942"/>
                      </a:lnTo>
                      <a:lnTo>
                        <a:pt x="380" y="940"/>
                      </a:lnTo>
                      <a:lnTo>
                        <a:pt x="380" y="940"/>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914560" y="3451320"/>
                  <a:ext cx="55440" cy="55440"/>
                </a:xfrm>
                <a:custGeom>
                  <a:avLst/>
                  <a:gdLst/>
                  <a:ahLst/>
                  <a:rect l="l" t="t" r="r" b="b"/>
                  <a:pathLst>
                    <a:path w="461" h="425">
                      <a:moveTo>
                        <a:pt x="431" y="0"/>
                      </a:moveTo>
                      <a:lnTo>
                        <a:pt x="398" y="10"/>
                      </a:lnTo>
                      <a:lnTo>
                        <a:pt x="362" y="22"/>
                      </a:lnTo>
                      <a:lnTo>
                        <a:pt x="327" y="36"/>
                      </a:lnTo>
                      <a:lnTo>
                        <a:pt x="291" y="54"/>
                      </a:lnTo>
                      <a:lnTo>
                        <a:pt x="254" y="72"/>
                      </a:lnTo>
                      <a:lnTo>
                        <a:pt x="219" y="92"/>
                      </a:lnTo>
                      <a:lnTo>
                        <a:pt x="185" y="114"/>
                      </a:lnTo>
                      <a:lnTo>
                        <a:pt x="151" y="136"/>
                      </a:lnTo>
                      <a:lnTo>
                        <a:pt x="120" y="157"/>
                      </a:lnTo>
                      <a:lnTo>
                        <a:pt x="92" y="180"/>
                      </a:lnTo>
                      <a:lnTo>
                        <a:pt x="66" y="203"/>
                      </a:lnTo>
                      <a:lnTo>
                        <a:pt x="45" y="225"/>
                      </a:lnTo>
                      <a:lnTo>
                        <a:pt x="26" y="245"/>
                      </a:lnTo>
                      <a:lnTo>
                        <a:pt x="12" y="265"/>
                      </a:lnTo>
                      <a:lnTo>
                        <a:pt x="3" y="284"/>
                      </a:lnTo>
                      <a:lnTo>
                        <a:pt x="0" y="300"/>
                      </a:lnTo>
                      <a:lnTo>
                        <a:pt x="0" y="323"/>
                      </a:lnTo>
                      <a:lnTo>
                        <a:pt x="5" y="343"/>
                      </a:lnTo>
                      <a:lnTo>
                        <a:pt x="10" y="360"/>
                      </a:lnTo>
                      <a:lnTo>
                        <a:pt x="19" y="376"/>
                      </a:lnTo>
                      <a:lnTo>
                        <a:pt x="32" y="388"/>
                      </a:lnTo>
                      <a:lnTo>
                        <a:pt x="48" y="399"/>
                      </a:lnTo>
                      <a:lnTo>
                        <a:pt x="66" y="408"/>
                      </a:lnTo>
                      <a:lnTo>
                        <a:pt x="90" y="414"/>
                      </a:lnTo>
                      <a:lnTo>
                        <a:pt x="101" y="416"/>
                      </a:lnTo>
                      <a:lnTo>
                        <a:pt x="114" y="419"/>
                      </a:lnTo>
                      <a:lnTo>
                        <a:pt x="127" y="421"/>
                      </a:lnTo>
                      <a:lnTo>
                        <a:pt x="140" y="424"/>
                      </a:lnTo>
                      <a:lnTo>
                        <a:pt x="153" y="425"/>
                      </a:lnTo>
                      <a:lnTo>
                        <a:pt x="166" y="425"/>
                      </a:lnTo>
                      <a:lnTo>
                        <a:pt x="180" y="425"/>
                      </a:lnTo>
                      <a:lnTo>
                        <a:pt x="195" y="424"/>
                      </a:lnTo>
                      <a:lnTo>
                        <a:pt x="210" y="422"/>
                      </a:lnTo>
                      <a:lnTo>
                        <a:pt x="225" y="418"/>
                      </a:lnTo>
                      <a:lnTo>
                        <a:pt x="241" y="414"/>
                      </a:lnTo>
                      <a:lnTo>
                        <a:pt x="258" y="406"/>
                      </a:lnTo>
                      <a:lnTo>
                        <a:pt x="274" y="396"/>
                      </a:lnTo>
                      <a:lnTo>
                        <a:pt x="293" y="386"/>
                      </a:lnTo>
                      <a:lnTo>
                        <a:pt x="310" y="373"/>
                      </a:lnTo>
                      <a:lnTo>
                        <a:pt x="329" y="357"/>
                      </a:lnTo>
                      <a:lnTo>
                        <a:pt x="366" y="323"/>
                      </a:lnTo>
                      <a:lnTo>
                        <a:pt x="401" y="287"/>
                      </a:lnTo>
                      <a:lnTo>
                        <a:pt x="431" y="248"/>
                      </a:lnTo>
                      <a:lnTo>
                        <a:pt x="451" y="209"/>
                      </a:lnTo>
                      <a:lnTo>
                        <a:pt x="461" y="170"/>
                      </a:lnTo>
                      <a:lnTo>
                        <a:pt x="458" y="130"/>
                      </a:lnTo>
                      <a:lnTo>
                        <a:pt x="438" y="90"/>
                      </a:lnTo>
                      <a:lnTo>
                        <a:pt x="399" y="51"/>
                      </a:lnTo>
                      <a:lnTo>
                        <a:pt x="390" y="49"/>
                      </a:lnTo>
                      <a:lnTo>
                        <a:pt x="382" y="49"/>
                      </a:lnTo>
                      <a:lnTo>
                        <a:pt x="373" y="54"/>
                      </a:lnTo>
                      <a:lnTo>
                        <a:pt x="369" y="61"/>
                      </a:lnTo>
                      <a:lnTo>
                        <a:pt x="366" y="69"/>
                      </a:lnTo>
                      <a:lnTo>
                        <a:pt x="367" y="78"/>
                      </a:lnTo>
                      <a:lnTo>
                        <a:pt x="370" y="85"/>
                      </a:lnTo>
                      <a:lnTo>
                        <a:pt x="378" y="91"/>
                      </a:lnTo>
                      <a:lnTo>
                        <a:pt x="392" y="118"/>
                      </a:lnTo>
                      <a:lnTo>
                        <a:pt x="395" y="146"/>
                      </a:lnTo>
                      <a:lnTo>
                        <a:pt x="389" y="175"/>
                      </a:lnTo>
                      <a:lnTo>
                        <a:pt x="376" y="202"/>
                      </a:lnTo>
                      <a:lnTo>
                        <a:pt x="359" y="228"/>
                      </a:lnTo>
                      <a:lnTo>
                        <a:pt x="337" y="254"/>
                      </a:lnTo>
                      <a:lnTo>
                        <a:pt x="316" y="277"/>
                      </a:lnTo>
                      <a:lnTo>
                        <a:pt x="295" y="297"/>
                      </a:lnTo>
                      <a:lnTo>
                        <a:pt x="277" y="311"/>
                      </a:lnTo>
                      <a:lnTo>
                        <a:pt x="252" y="326"/>
                      </a:lnTo>
                      <a:lnTo>
                        <a:pt x="223" y="340"/>
                      </a:lnTo>
                      <a:lnTo>
                        <a:pt x="192" y="352"/>
                      </a:lnTo>
                      <a:lnTo>
                        <a:pt x="160" y="362"/>
                      </a:lnTo>
                      <a:lnTo>
                        <a:pt x="130" y="367"/>
                      </a:lnTo>
                      <a:lnTo>
                        <a:pt x="102" y="369"/>
                      </a:lnTo>
                      <a:lnTo>
                        <a:pt x="79" y="365"/>
                      </a:lnTo>
                      <a:lnTo>
                        <a:pt x="64" y="356"/>
                      </a:lnTo>
                      <a:lnTo>
                        <a:pt x="54" y="346"/>
                      </a:lnTo>
                      <a:lnTo>
                        <a:pt x="48" y="334"/>
                      </a:lnTo>
                      <a:lnTo>
                        <a:pt x="45" y="323"/>
                      </a:lnTo>
                      <a:lnTo>
                        <a:pt x="46" y="313"/>
                      </a:lnTo>
                      <a:lnTo>
                        <a:pt x="48" y="303"/>
                      </a:lnTo>
                      <a:lnTo>
                        <a:pt x="51" y="295"/>
                      </a:lnTo>
                      <a:lnTo>
                        <a:pt x="54" y="291"/>
                      </a:lnTo>
                      <a:lnTo>
                        <a:pt x="72" y="267"/>
                      </a:lnTo>
                      <a:lnTo>
                        <a:pt x="92" y="244"/>
                      </a:lnTo>
                      <a:lnTo>
                        <a:pt x="113" y="221"/>
                      </a:lnTo>
                      <a:lnTo>
                        <a:pt x="134" y="199"/>
                      </a:lnTo>
                      <a:lnTo>
                        <a:pt x="156" y="177"/>
                      </a:lnTo>
                      <a:lnTo>
                        <a:pt x="177" y="157"/>
                      </a:lnTo>
                      <a:lnTo>
                        <a:pt x="200" y="139"/>
                      </a:lnTo>
                      <a:lnTo>
                        <a:pt x="223" y="120"/>
                      </a:lnTo>
                      <a:lnTo>
                        <a:pt x="248" y="103"/>
                      </a:lnTo>
                      <a:lnTo>
                        <a:pt x="272" y="87"/>
                      </a:lnTo>
                      <a:lnTo>
                        <a:pt x="298" y="71"/>
                      </a:lnTo>
                      <a:lnTo>
                        <a:pt x="324" y="58"/>
                      </a:lnTo>
                      <a:lnTo>
                        <a:pt x="350" y="45"/>
                      </a:lnTo>
                      <a:lnTo>
                        <a:pt x="378" y="33"/>
                      </a:lnTo>
                      <a:lnTo>
                        <a:pt x="406" y="22"/>
                      </a:lnTo>
                      <a:lnTo>
                        <a:pt x="435" y="13"/>
                      </a:lnTo>
                      <a:lnTo>
                        <a:pt x="437" y="12"/>
                      </a:lnTo>
                      <a:lnTo>
                        <a:pt x="439" y="10"/>
                      </a:lnTo>
                      <a:lnTo>
                        <a:pt x="439" y="8"/>
                      </a:lnTo>
                      <a:lnTo>
                        <a:pt x="439" y="5"/>
                      </a:lnTo>
                      <a:lnTo>
                        <a:pt x="438" y="2"/>
                      </a:lnTo>
                      <a:lnTo>
                        <a:pt x="435" y="0"/>
                      </a:lnTo>
                      <a:lnTo>
                        <a:pt x="434" y="0"/>
                      </a:lnTo>
                      <a:lnTo>
                        <a:pt x="431" y="0"/>
                      </a:lnTo>
                      <a:lnTo>
                        <a:pt x="43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6" name=""/>
                <p:cNvSpPr/>
                <p:nvPr/>
              </p:nvSpPr>
              <p:spPr>
                <a:xfrm>
                  <a:off x="2884320" y="3500640"/>
                  <a:ext cx="81000" cy="37800"/>
                </a:xfrm>
                <a:custGeom>
                  <a:avLst/>
                  <a:gdLst/>
                  <a:ahLst/>
                  <a:rect l="l" t="t" r="r" b="b"/>
                  <a:pathLst>
                    <a:path w="656" h="286">
                      <a:moveTo>
                        <a:pt x="20" y="276"/>
                      </a:moveTo>
                      <a:lnTo>
                        <a:pt x="30" y="275"/>
                      </a:lnTo>
                      <a:lnTo>
                        <a:pt x="40" y="273"/>
                      </a:lnTo>
                      <a:lnTo>
                        <a:pt x="51" y="272"/>
                      </a:lnTo>
                      <a:lnTo>
                        <a:pt x="60" y="269"/>
                      </a:lnTo>
                      <a:lnTo>
                        <a:pt x="85" y="255"/>
                      </a:lnTo>
                      <a:lnTo>
                        <a:pt x="111" y="240"/>
                      </a:lnTo>
                      <a:lnTo>
                        <a:pt x="135" y="224"/>
                      </a:lnTo>
                      <a:lnTo>
                        <a:pt x="159" y="208"/>
                      </a:lnTo>
                      <a:lnTo>
                        <a:pt x="184" y="193"/>
                      </a:lnTo>
                      <a:lnTo>
                        <a:pt x="208" y="177"/>
                      </a:lnTo>
                      <a:lnTo>
                        <a:pt x="233" y="162"/>
                      </a:lnTo>
                      <a:lnTo>
                        <a:pt x="257" y="148"/>
                      </a:lnTo>
                      <a:lnTo>
                        <a:pt x="282" y="135"/>
                      </a:lnTo>
                      <a:lnTo>
                        <a:pt x="308" y="124"/>
                      </a:lnTo>
                      <a:lnTo>
                        <a:pt x="334" y="113"/>
                      </a:lnTo>
                      <a:lnTo>
                        <a:pt x="361" y="105"/>
                      </a:lnTo>
                      <a:lnTo>
                        <a:pt x="388" y="100"/>
                      </a:lnTo>
                      <a:lnTo>
                        <a:pt x="417" y="98"/>
                      </a:lnTo>
                      <a:lnTo>
                        <a:pt x="446" y="98"/>
                      </a:lnTo>
                      <a:lnTo>
                        <a:pt x="476" y="100"/>
                      </a:lnTo>
                      <a:lnTo>
                        <a:pt x="505" y="103"/>
                      </a:lnTo>
                      <a:lnTo>
                        <a:pt x="476" y="89"/>
                      </a:lnTo>
                      <a:lnTo>
                        <a:pt x="501" y="115"/>
                      </a:lnTo>
                      <a:lnTo>
                        <a:pt x="509" y="126"/>
                      </a:lnTo>
                      <a:lnTo>
                        <a:pt x="521" y="135"/>
                      </a:lnTo>
                      <a:lnTo>
                        <a:pt x="531" y="144"/>
                      </a:lnTo>
                      <a:lnTo>
                        <a:pt x="544" y="152"/>
                      </a:lnTo>
                      <a:lnTo>
                        <a:pt x="555" y="160"/>
                      </a:lnTo>
                      <a:lnTo>
                        <a:pt x="566" y="168"/>
                      </a:lnTo>
                      <a:lnTo>
                        <a:pt x="577" y="177"/>
                      </a:lnTo>
                      <a:lnTo>
                        <a:pt x="586" y="187"/>
                      </a:lnTo>
                      <a:lnTo>
                        <a:pt x="591" y="193"/>
                      </a:lnTo>
                      <a:lnTo>
                        <a:pt x="599" y="197"/>
                      </a:lnTo>
                      <a:lnTo>
                        <a:pt x="606" y="200"/>
                      </a:lnTo>
                      <a:lnTo>
                        <a:pt x="613" y="201"/>
                      </a:lnTo>
                      <a:lnTo>
                        <a:pt x="622" y="201"/>
                      </a:lnTo>
                      <a:lnTo>
                        <a:pt x="629" y="198"/>
                      </a:lnTo>
                      <a:lnTo>
                        <a:pt x="636" y="196"/>
                      </a:lnTo>
                      <a:lnTo>
                        <a:pt x="643" y="191"/>
                      </a:lnTo>
                      <a:lnTo>
                        <a:pt x="652" y="178"/>
                      </a:lnTo>
                      <a:lnTo>
                        <a:pt x="656" y="164"/>
                      </a:lnTo>
                      <a:lnTo>
                        <a:pt x="653" y="149"/>
                      </a:lnTo>
                      <a:lnTo>
                        <a:pt x="646" y="135"/>
                      </a:lnTo>
                      <a:lnTo>
                        <a:pt x="642" y="125"/>
                      </a:lnTo>
                      <a:lnTo>
                        <a:pt x="636" y="115"/>
                      </a:lnTo>
                      <a:lnTo>
                        <a:pt x="629" y="108"/>
                      </a:lnTo>
                      <a:lnTo>
                        <a:pt x="622" y="99"/>
                      </a:lnTo>
                      <a:lnTo>
                        <a:pt x="615" y="93"/>
                      </a:lnTo>
                      <a:lnTo>
                        <a:pt x="604" y="86"/>
                      </a:lnTo>
                      <a:lnTo>
                        <a:pt x="596" y="82"/>
                      </a:lnTo>
                      <a:lnTo>
                        <a:pt x="586" y="76"/>
                      </a:lnTo>
                      <a:lnTo>
                        <a:pt x="541" y="31"/>
                      </a:lnTo>
                      <a:lnTo>
                        <a:pt x="535" y="26"/>
                      </a:lnTo>
                      <a:lnTo>
                        <a:pt x="528" y="21"/>
                      </a:lnTo>
                      <a:lnTo>
                        <a:pt x="521" y="17"/>
                      </a:lnTo>
                      <a:lnTo>
                        <a:pt x="512" y="16"/>
                      </a:lnTo>
                      <a:lnTo>
                        <a:pt x="460" y="1"/>
                      </a:lnTo>
                      <a:lnTo>
                        <a:pt x="424" y="0"/>
                      </a:lnTo>
                      <a:lnTo>
                        <a:pt x="390" y="3"/>
                      </a:lnTo>
                      <a:lnTo>
                        <a:pt x="355" y="7"/>
                      </a:lnTo>
                      <a:lnTo>
                        <a:pt x="324" y="16"/>
                      </a:lnTo>
                      <a:lnTo>
                        <a:pt x="292" y="26"/>
                      </a:lnTo>
                      <a:lnTo>
                        <a:pt x="262" y="40"/>
                      </a:lnTo>
                      <a:lnTo>
                        <a:pt x="233" y="54"/>
                      </a:lnTo>
                      <a:lnTo>
                        <a:pt x="204" y="73"/>
                      </a:lnTo>
                      <a:lnTo>
                        <a:pt x="177" y="92"/>
                      </a:lnTo>
                      <a:lnTo>
                        <a:pt x="151" y="112"/>
                      </a:lnTo>
                      <a:lnTo>
                        <a:pt x="125" y="135"/>
                      </a:lnTo>
                      <a:lnTo>
                        <a:pt x="100" y="158"/>
                      </a:lnTo>
                      <a:lnTo>
                        <a:pt x="76" y="183"/>
                      </a:lnTo>
                      <a:lnTo>
                        <a:pt x="53" y="207"/>
                      </a:lnTo>
                      <a:lnTo>
                        <a:pt x="30" y="232"/>
                      </a:lnTo>
                      <a:lnTo>
                        <a:pt x="7" y="257"/>
                      </a:lnTo>
                      <a:lnTo>
                        <a:pt x="7" y="257"/>
                      </a:lnTo>
                      <a:lnTo>
                        <a:pt x="1" y="262"/>
                      </a:lnTo>
                      <a:lnTo>
                        <a:pt x="0" y="268"/>
                      </a:lnTo>
                      <a:lnTo>
                        <a:pt x="0" y="273"/>
                      </a:lnTo>
                      <a:lnTo>
                        <a:pt x="1" y="279"/>
                      </a:lnTo>
                      <a:lnTo>
                        <a:pt x="5" y="283"/>
                      </a:lnTo>
                      <a:lnTo>
                        <a:pt x="11" y="286"/>
                      </a:lnTo>
                      <a:lnTo>
                        <a:pt x="17" y="286"/>
                      </a:lnTo>
                      <a:lnTo>
                        <a:pt x="23" y="283"/>
                      </a:lnTo>
                      <a:lnTo>
                        <a:pt x="20" y="27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7" name=""/>
                <p:cNvSpPr/>
                <p:nvPr/>
              </p:nvSpPr>
              <p:spPr>
                <a:xfrm>
                  <a:off x="2994120" y="3448080"/>
                  <a:ext cx="50760" cy="58680"/>
                </a:xfrm>
                <a:custGeom>
                  <a:avLst/>
                  <a:gdLst/>
                  <a:ahLst/>
                  <a:rect l="l" t="t" r="r" b="b"/>
                  <a:pathLst>
                    <a:path w="418" h="449">
                      <a:moveTo>
                        <a:pt x="398" y="0"/>
                      </a:moveTo>
                      <a:lnTo>
                        <a:pt x="365" y="7"/>
                      </a:lnTo>
                      <a:lnTo>
                        <a:pt x="329" y="19"/>
                      </a:lnTo>
                      <a:lnTo>
                        <a:pt x="293" y="33"/>
                      </a:lnTo>
                      <a:lnTo>
                        <a:pt x="257" y="51"/>
                      </a:lnTo>
                      <a:lnTo>
                        <a:pt x="221" y="69"/>
                      </a:lnTo>
                      <a:lnTo>
                        <a:pt x="186" y="92"/>
                      </a:lnTo>
                      <a:lnTo>
                        <a:pt x="153" y="115"/>
                      </a:lnTo>
                      <a:lnTo>
                        <a:pt x="121" y="140"/>
                      </a:lnTo>
                      <a:lnTo>
                        <a:pt x="92" y="166"/>
                      </a:lnTo>
                      <a:lnTo>
                        <a:pt x="66" y="192"/>
                      </a:lnTo>
                      <a:lnTo>
                        <a:pt x="43" y="218"/>
                      </a:lnTo>
                      <a:lnTo>
                        <a:pt x="25" y="243"/>
                      </a:lnTo>
                      <a:lnTo>
                        <a:pt x="12" y="268"/>
                      </a:lnTo>
                      <a:lnTo>
                        <a:pt x="3" y="292"/>
                      </a:lnTo>
                      <a:lnTo>
                        <a:pt x="0" y="315"/>
                      </a:lnTo>
                      <a:lnTo>
                        <a:pt x="3" y="336"/>
                      </a:lnTo>
                      <a:lnTo>
                        <a:pt x="16" y="367"/>
                      </a:lnTo>
                      <a:lnTo>
                        <a:pt x="30" y="390"/>
                      </a:lnTo>
                      <a:lnTo>
                        <a:pt x="48" y="409"/>
                      </a:lnTo>
                      <a:lnTo>
                        <a:pt x="66" y="423"/>
                      </a:lnTo>
                      <a:lnTo>
                        <a:pt x="87" y="434"/>
                      </a:lnTo>
                      <a:lnTo>
                        <a:pt x="108" y="441"/>
                      </a:lnTo>
                      <a:lnTo>
                        <a:pt x="130" y="445"/>
                      </a:lnTo>
                      <a:lnTo>
                        <a:pt x="153" y="448"/>
                      </a:lnTo>
                      <a:lnTo>
                        <a:pt x="179" y="449"/>
                      </a:lnTo>
                      <a:lnTo>
                        <a:pt x="205" y="447"/>
                      </a:lnTo>
                      <a:lnTo>
                        <a:pt x="229" y="441"/>
                      </a:lnTo>
                      <a:lnTo>
                        <a:pt x="252" y="432"/>
                      </a:lnTo>
                      <a:lnTo>
                        <a:pt x="274" y="419"/>
                      </a:lnTo>
                      <a:lnTo>
                        <a:pt x="294" y="405"/>
                      </a:lnTo>
                      <a:lnTo>
                        <a:pt x="313" y="387"/>
                      </a:lnTo>
                      <a:lnTo>
                        <a:pt x="331" y="369"/>
                      </a:lnTo>
                      <a:lnTo>
                        <a:pt x="347" y="347"/>
                      </a:lnTo>
                      <a:lnTo>
                        <a:pt x="362" y="326"/>
                      </a:lnTo>
                      <a:lnTo>
                        <a:pt x="375" y="301"/>
                      </a:lnTo>
                      <a:lnTo>
                        <a:pt x="388" y="277"/>
                      </a:lnTo>
                      <a:lnTo>
                        <a:pt x="396" y="251"/>
                      </a:lnTo>
                      <a:lnTo>
                        <a:pt x="405" y="226"/>
                      </a:lnTo>
                      <a:lnTo>
                        <a:pt x="412" y="200"/>
                      </a:lnTo>
                      <a:lnTo>
                        <a:pt x="416" y="174"/>
                      </a:lnTo>
                      <a:lnTo>
                        <a:pt x="418" y="159"/>
                      </a:lnTo>
                      <a:lnTo>
                        <a:pt x="413" y="146"/>
                      </a:lnTo>
                      <a:lnTo>
                        <a:pt x="405" y="133"/>
                      </a:lnTo>
                      <a:lnTo>
                        <a:pt x="392" y="125"/>
                      </a:lnTo>
                      <a:lnTo>
                        <a:pt x="385" y="124"/>
                      </a:lnTo>
                      <a:lnTo>
                        <a:pt x="376" y="124"/>
                      </a:lnTo>
                      <a:lnTo>
                        <a:pt x="369" y="125"/>
                      </a:lnTo>
                      <a:lnTo>
                        <a:pt x="363" y="128"/>
                      </a:lnTo>
                      <a:lnTo>
                        <a:pt x="356" y="133"/>
                      </a:lnTo>
                      <a:lnTo>
                        <a:pt x="350" y="138"/>
                      </a:lnTo>
                      <a:lnTo>
                        <a:pt x="346" y="144"/>
                      </a:lnTo>
                      <a:lnTo>
                        <a:pt x="343" y="151"/>
                      </a:lnTo>
                      <a:lnTo>
                        <a:pt x="336" y="171"/>
                      </a:lnTo>
                      <a:lnTo>
                        <a:pt x="326" y="193"/>
                      </a:lnTo>
                      <a:lnTo>
                        <a:pt x="314" y="216"/>
                      </a:lnTo>
                      <a:lnTo>
                        <a:pt x="301" y="241"/>
                      </a:lnTo>
                      <a:lnTo>
                        <a:pt x="287" y="264"/>
                      </a:lnTo>
                      <a:lnTo>
                        <a:pt x="270" y="288"/>
                      </a:lnTo>
                      <a:lnTo>
                        <a:pt x="252" y="310"/>
                      </a:lnTo>
                      <a:lnTo>
                        <a:pt x="235" y="331"/>
                      </a:lnTo>
                      <a:lnTo>
                        <a:pt x="215" y="349"/>
                      </a:lnTo>
                      <a:lnTo>
                        <a:pt x="195" y="363"/>
                      </a:lnTo>
                      <a:lnTo>
                        <a:pt x="174" y="375"/>
                      </a:lnTo>
                      <a:lnTo>
                        <a:pt x="154" y="380"/>
                      </a:lnTo>
                      <a:lnTo>
                        <a:pt x="134" y="382"/>
                      </a:lnTo>
                      <a:lnTo>
                        <a:pt x="113" y="377"/>
                      </a:lnTo>
                      <a:lnTo>
                        <a:pt x="94" y="366"/>
                      </a:lnTo>
                      <a:lnTo>
                        <a:pt x="74" y="347"/>
                      </a:lnTo>
                      <a:lnTo>
                        <a:pt x="65" y="331"/>
                      </a:lnTo>
                      <a:lnTo>
                        <a:pt x="64" y="314"/>
                      </a:lnTo>
                      <a:lnTo>
                        <a:pt x="68" y="292"/>
                      </a:lnTo>
                      <a:lnTo>
                        <a:pt x="78" y="269"/>
                      </a:lnTo>
                      <a:lnTo>
                        <a:pt x="92" y="245"/>
                      </a:lnTo>
                      <a:lnTo>
                        <a:pt x="111" y="220"/>
                      </a:lnTo>
                      <a:lnTo>
                        <a:pt x="133" y="193"/>
                      </a:lnTo>
                      <a:lnTo>
                        <a:pt x="159" y="167"/>
                      </a:lnTo>
                      <a:lnTo>
                        <a:pt x="186" y="141"/>
                      </a:lnTo>
                      <a:lnTo>
                        <a:pt x="216" y="117"/>
                      </a:lnTo>
                      <a:lnTo>
                        <a:pt x="246" y="94"/>
                      </a:lnTo>
                      <a:lnTo>
                        <a:pt x="278" y="71"/>
                      </a:lnTo>
                      <a:lnTo>
                        <a:pt x="310" y="52"/>
                      </a:lnTo>
                      <a:lnTo>
                        <a:pt x="342" y="35"/>
                      </a:lnTo>
                      <a:lnTo>
                        <a:pt x="372" y="22"/>
                      </a:lnTo>
                      <a:lnTo>
                        <a:pt x="401" y="12"/>
                      </a:lnTo>
                      <a:lnTo>
                        <a:pt x="402" y="10"/>
                      </a:lnTo>
                      <a:lnTo>
                        <a:pt x="403" y="9"/>
                      </a:lnTo>
                      <a:lnTo>
                        <a:pt x="403" y="6"/>
                      </a:lnTo>
                      <a:lnTo>
                        <a:pt x="403" y="4"/>
                      </a:lnTo>
                      <a:lnTo>
                        <a:pt x="403" y="3"/>
                      </a:lnTo>
                      <a:lnTo>
                        <a:pt x="402" y="0"/>
                      </a:lnTo>
                      <a:lnTo>
                        <a:pt x="399" y="0"/>
                      </a:lnTo>
                      <a:lnTo>
                        <a:pt x="398" y="0"/>
                      </a:lnTo>
                      <a:lnTo>
                        <a:pt x="39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8" name=""/>
                <p:cNvSpPr/>
                <p:nvPr/>
              </p:nvSpPr>
              <p:spPr>
                <a:xfrm>
                  <a:off x="3043080" y="3441600"/>
                  <a:ext cx="65160" cy="20880"/>
                </a:xfrm>
                <a:custGeom>
                  <a:avLst/>
                  <a:gdLst/>
                  <a:ahLst/>
                  <a:rect l="l" t="t" r="r" b="b"/>
                  <a:pathLst>
                    <a:path w="532" h="159">
                      <a:moveTo>
                        <a:pt x="10" y="119"/>
                      </a:moveTo>
                      <a:lnTo>
                        <a:pt x="33" y="116"/>
                      </a:lnTo>
                      <a:lnTo>
                        <a:pt x="57" y="111"/>
                      </a:lnTo>
                      <a:lnTo>
                        <a:pt x="82" y="104"/>
                      </a:lnTo>
                      <a:lnTo>
                        <a:pt x="106" y="95"/>
                      </a:lnTo>
                      <a:lnTo>
                        <a:pt x="128" y="87"/>
                      </a:lnTo>
                      <a:lnTo>
                        <a:pt x="145" y="77"/>
                      </a:lnTo>
                      <a:lnTo>
                        <a:pt x="157" y="68"/>
                      </a:lnTo>
                      <a:lnTo>
                        <a:pt x="162" y="58"/>
                      </a:lnTo>
                      <a:lnTo>
                        <a:pt x="168" y="45"/>
                      </a:lnTo>
                      <a:lnTo>
                        <a:pt x="175" y="41"/>
                      </a:lnTo>
                      <a:lnTo>
                        <a:pt x="183" y="44"/>
                      </a:lnTo>
                      <a:lnTo>
                        <a:pt x="188" y="54"/>
                      </a:lnTo>
                      <a:lnTo>
                        <a:pt x="191" y="67"/>
                      </a:lnTo>
                      <a:lnTo>
                        <a:pt x="190" y="83"/>
                      </a:lnTo>
                      <a:lnTo>
                        <a:pt x="185" y="97"/>
                      </a:lnTo>
                      <a:lnTo>
                        <a:pt x="185" y="113"/>
                      </a:lnTo>
                      <a:lnTo>
                        <a:pt x="187" y="120"/>
                      </a:lnTo>
                      <a:lnTo>
                        <a:pt x="191" y="130"/>
                      </a:lnTo>
                      <a:lnTo>
                        <a:pt x="195" y="139"/>
                      </a:lnTo>
                      <a:lnTo>
                        <a:pt x="201" y="146"/>
                      </a:lnTo>
                      <a:lnTo>
                        <a:pt x="210" y="152"/>
                      </a:lnTo>
                      <a:lnTo>
                        <a:pt x="219" y="155"/>
                      </a:lnTo>
                      <a:lnTo>
                        <a:pt x="230" y="153"/>
                      </a:lnTo>
                      <a:lnTo>
                        <a:pt x="243" y="146"/>
                      </a:lnTo>
                      <a:lnTo>
                        <a:pt x="256" y="137"/>
                      </a:lnTo>
                      <a:lnTo>
                        <a:pt x="270" y="129"/>
                      </a:lnTo>
                      <a:lnTo>
                        <a:pt x="285" y="123"/>
                      </a:lnTo>
                      <a:lnTo>
                        <a:pt x="299" y="119"/>
                      </a:lnTo>
                      <a:lnTo>
                        <a:pt x="311" y="116"/>
                      </a:lnTo>
                      <a:lnTo>
                        <a:pt x="322" y="116"/>
                      </a:lnTo>
                      <a:lnTo>
                        <a:pt x="331" y="119"/>
                      </a:lnTo>
                      <a:lnTo>
                        <a:pt x="337" y="124"/>
                      </a:lnTo>
                      <a:lnTo>
                        <a:pt x="342" y="137"/>
                      </a:lnTo>
                      <a:lnTo>
                        <a:pt x="347" y="149"/>
                      </a:lnTo>
                      <a:lnTo>
                        <a:pt x="351" y="156"/>
                      </a:lnTo>
                      <a:lnTo>
                        <a:pt x="364" y="159"/>
                      </a:lnTo>
                      <a:lnTo>
                        <a:pt x="373" y="157"/>
                      </a:lnTo>
                      <a:lnTo>
                        <a:pt x="381" y="153"/>
                      </a:lnTo>
                      <a:lnTo>
                        <a:pt x="388" y="146"/>
                      </a:lnTo>
                      <a:lnTo>
                        <a:pt x="396" y="140"/>
                      </a:lnTo>
                      <a:lnTo>
                        <a:pt x="401" y="134"/>
                      </a:lnTo>
                      <a:lnTo>
                        <a:pt x="407" y="131"/>
                      </a:lnTo>
                      <a:lnTo>
                        <a:pt x="411" y="133"/>
                      </a:lnTo>
                      <a:lnTo>
                        <a:pt x="416" y="140"/>
                      </a:lnTo>
                      <a:lnTo>
                        <a:pt x="422" y="144"/>
                      </a:lnTo>
                      <a:lnTo>
                        <a:pt x="433" y="143"/>
                      </a:lnTo>
                      <a:lnTo>
                        <a:pt x="449" y="139"/>
                      </a:lnTo>
                      <a:lnTo>
                        <a:pt x="466" y="131"/>
                      </a:lnTo>
                      <a:lnTo>
                        <a:pt x="482" y="123"/>
                      </a:lnTo>
                      <a:lnTo>
                        <a:pt x="498" y="116"/>
                      </a:lnTo>
                      <a:lnTo>
                        <a:pt x="509" y="111"/>
                      </a:lnTo>
                      <a:lnTo>
                        <a:pt x="515" y="111"/>
                      </a:lnTo>
                      <a:lnTo>
                        <a:pt x="521" y="114"/>
                      </a:lnTo>
                      <a:lnTo>
                        <a:pt x="528" y="116"/>
                      </a:lnTo>
                      <a:lnTo>
                        <a:pt x="532" y="114"/>
                      </a:lnTo>
                      <a:lnTo>
                        <a:pt x="532" y="106"/>
                      </a:lnTo>
                      <a:lnTo>
                        <a:pt x="528" y="95"/>
                      </a:lnTo>
                      <a:lnTo>
                        <a:pt x="522" y="87"/>
                      </a:lnTo>
                      <a:lnTo>
                        <a:pt x="512" y="81"/>
                      </a:lnTo>
                      <a:lnTo>
                        <a:pt x="494" y="78"/>
                      </a:lnTo>
                      <a:lnTo>
                        <a:pt x="482" y="77"/>
                      </a:lnTo>
                      <a:lnTo>
                        <a:pt x="468" y="78"/>
                      </a:lnTo>
                      <a:lnTo>
                        <a:pt x="455" y="78"/>
                      </a:lnTo>
                      <a:lnTo>
                        <a:pt x="440" y="81"/>
                      </a:lnTo>
                      <a:lnTo>
                        <a:pt x="427" y="83"/>
                      </a:lnTo>
                      <a:lnTo>
                        <a:pt x="414" y="84"/>
                      </a:lnTo>
                      <a:lnTo>
                        <a:pt x="404" y="84"/>
                      </a:lnTo>
                      <a:lnTo>
                        <a:pt x="396" y="84"/>
                      </a:lnTo>
                      <a:lnTo>
                        <a:pt x="386" y="81"/>
                      </a:lnTo>
                      <a:lnTo>
                        <a:pt x="380" y="72"/>
                      </a:lnTo>
                      <a:lnTo>
                        <a:pt x="377" y="61"/>
                      </a:lnTo>
                      <a:lnTo>
                        <a:pt x="377" y="47"/>
                      </a:lnTo>
                      <a:lnTo>
                        <a:pt x="375" y="35"/>
                      </a:lnTo>
                      <a:lnTo>
                        <a:pt x="368" y="29"/>
                      </a:lnTo>
                      <a:lnTo>
                        <a:pt x="357" y="26"/>
                      </a:lnTo>
                      <a:lnTo>
                        <a:pt x="344" y="28"/>
                      </a:lnTo>
                      <a:lnTo>
                        <a:pt x="328" y="31"/>
                      </a:lnTo>
                      <a:lnTo>
                        <a:pt x="314" y="35"/>
                      </a:lnTo>
                      <a:lnTo>
                        <a:pt x="299" y="41"/>
                      </a:lnTo>
                      <a:lnTo>
                        <a:pt x="289" y="45"/>
                      </a:lnTo>
                      <a:lnTo>
                        <a:pt x="273" y="52"/>
                      </a:lnTo>
                      <a:lnTo>
                        <a:pt x="263" y="59"/>
                      </a:lnTo>
                      <a:lnTo>
                        <a:pt x="257" y="65"/>
                      </a:lnTo>
                      <a:lnTo>
                        <a:pt x="256" y="67"/>
                      </a:lnTo>
                      <a:lnTo>
                        <a:pt x="255" y="67"/>
                      </a:lnTo>
                      <a:lnTo>
                        <a:pt x="250" y="65"/>
                      </a:lnTo>
                      <a:lnTo>
                        <a:pt x="249" y="59"/>
                      </a:lnTo>
                      <a:lnTo>
                        <a:pt x="252" y="44"/>
                      </a:lnTo>
                      <a:lnTo>
                        <a:pt x="253" y="34"/>
                      </a:lnTo>
                      <a:lnTo>
                        <a:pt x="250" y="25"/>
                      </a:lnTo>
                      <a:lnTo>
                        <a:pt x="243" y="18"/>
                      </a:lnTo>
                      <a:lnTo>
                        <a:pt x="234" y="11"/>
                      </a:lnTo>
                      <a:lnTo>
                        <a:pt x="224" y="6"/>
                      </a:lnTo>
                      <a:lnTo>
                        <a:pt x="216" y="3"/>
                      </a:lnTo>
                      <a:lnTo>
                        <a:pt x="208" y="0"/>
                      </a:lnTo>
                      <a:lnTo>
                        <a:pt x="204" y="0"/>
                      </a:lnTo>
                      <a:lnTo>
                        <a:pt x="203" y="0"/>
                      </a:lnTo>
                      <a:lnTo>
                        <a:pt x="197" y="0"/>
                      </a:lnTo>
                      <a:lnTo>
                        <a:pt x="190" y="0"/>
                      </a:lnTo>
                      <a:lnTo>
                        <a:pt x="181" y="0"/>
                      </a:lnTo>
                      <a:lnTo>
                        <a:pt x="171" y="2"/>
                      </a:lnTo>
                      <a:lnTo>
                        <a:pt x="159" y="3"/>
                      </a:lnTo>
                      <a:lnTo>
                        <a:pt x="149" y="5"/>
                      </a:lnTo>
                      <a:lnTo>
                        <a:pt x="139" y="9"/>
                      </a:lnTo>
                      <a:lnTo>
                        <a:pt x="126" y="16"/>
                      </a:lnTo>
                      <a:lnTo>
                        <a:pt x="108" y="29"/>
                      </a:lnTo>
                      <a:lnTo>
                        <a:pt x="85" y="45"/>
                      </a:lnTo>
                      <a:lnTo>
                        <a:pt x="62" y="62"/>
                      </a:lnTo>
                      <a:lnTo>
                        <a:pt x="39" y="78"/>
                      </a:lnTo>
                      <a:lnTo>
                        <a:pt x="20" y="93"/>
                      </a:lnTo>
                      <a:lnTo>
                        <a:pt x="7" y="103"/>
                      </a:lnTo>
                      <a:lnTo>
                        <a:pt x="3" y="106"/>
                      </a:lnTo>
                      <a:lnTo>
                        <a:pt x="3" y="106"/>
                      </a:lnTo>
                      <a:lnTo>
                        <a:pt x="1" y="107"/>
                      </a:lnTo>
                      <a:lnTo>
                        <a:pt x="0" y="110"/>
                      </a:lnTo>
                      <a:lnTo>
                        <a:pt x="0" y="113"/>
                      </a:lnTo>
                      <a:lnTo>
                        <a:pt x="1" y="116"/>
                      </a:lnTo>
                      <a:lnTo>
                        <a:pt x="3" y="117"/>
                      </a:lnTo>
                      <a:lnTo>
                        <a:pt x="5" y="119"/>
                      </a:lnTo>
                      <a:lnTo>
                        <a:pt x="7" y="119"/>
                      </a:lnTo>
                      <a:lnTo>
                        <a:pt x="10" y="119"/>
                      </a:lnTo>
                      <a:lnTo>
                        <a:pt x="10" y="11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9" name=""/>
                <p:cNvSpPr/>
                <p:nvPr/>
              </p:nvSpPr>
              <p:spPr>
                <a:xfrm>
                  <a:off x="3044880" y="3467160"/>
                  <a:ext cx="48960" cy="15840"/>
                </a:xfrm>
                <a:custGeom>
                  <a:avLst/>
                  <a:gdLst/>
                  <a:ahLst/>
                  <a:rect l="l" t="t" r="r" b="b"/>
                  <a:pathLst>
                    <a:path w="396" h="127">
                      <a:moveTo>
                        <a:pt x="10" y="65"/>
                      </a:moveTo>
                      <a:lnTo>
                        <a:pt x="15" y="64"/>
                      </a:lnTo>
                      <a:lnTo>
                        <a:pt x="22" y="61"/>
                      </a:lnTo>
                      <a:lnTo>
                        <a:pt x="29" y="56"/>
                      </a:lnTo>
                      <a:lnTo>
                        <a:pt x="38" y="52"/>
                      </a:lnTo>
                      <a:lnTo>
                        <a:pt x="46" y="48"/>
                      </a:lnTo>
                      <a:lnTo>
                        <a:pt x="55" y="45"/>
                      </a:lnTo>
                      <a:lnTo>
                        <a:pt x="62" y="43"/>
                      </a:lnTo>
                      <a:lnTo>
                        <a:pt x="68" y="43"/>
                      </a:lnTo>
                      <a:lnTo>
                        <a:pt x="74" y="48"/>
                      </a:lnTo>
                      <a:lnTo>
                        <a:pt x="71" y="56"/>
                      </a:lnTo>
                      <a:lnTo>
                        <a:pt x="68" y="71"/>
                      </a:lnTo>
                      <a:lnTo>
                        <a:pt x="69" y="88"/>
                      </a:lnTo>
                      <a:lnTo>
                        <a:pt x="74" y="97"/>
                      </a:lnTo>
                      <a:lnTo>
                        <a:pt x="79" y="104"/>
                      </a:lnTo>
                      <a:lnTo>
                        <a:pt x="85" y="110"/>
                      </a:lnTo>
                      <a:lnTo>
                        <a:pt x="94" y="113"/>
                      </a:lnTo>
                      <a:lnTo>
                        <a:pt x="101" y="115"/>
                      </a:lnTo>
                      <a:lnTo>
                        <a:pt x="111" y="115"/>
                      </a:lnTo>
                      <a:lnTo>
                        <a:pt x="120" y="114"/>
                      </a:lnTo>
                      <a:lnTo>
                        <a:pt x="130" y="111"/>
                      </a:lnTo>
                      <a:lnTo>
                        <a:pt x="141" y="107"/>
                      </a:lnTo>
                      <a:lnTo>
                        <a:pt x="159" y="101"/>
                      </a:lnTo>
                      <a:lnTo>
                        <a:pt x="176" y="94"/>
                      </a:lnTo>
                      <a:lnTo>
                        <a:pt x="196" y="88"/>
                      </a:lnTo>
                      <a:lnTo>
                        <a:pt x="215" y="85"/>
                      </a:lnTo>
                      <a:lnTo>
                        <a:pt x="232" y="84"/>
                      </a:lnTo>
                      <a:lnTo>
                        <a:pt x="246" y="87"/>
                      </a:lnTo>
                      <a:lnTo>
                        <a:pt x="257" y="95"/>
                      </a:lnTo>
                      <a:lnTo>
                        <a:pt x="265" y="105"/>
                      </a:lnTo>
                      <a:lnTo>
                        <a:pt x="275" y="114"/>
                      </a:lnTo>
                      <a:lnTo>
                        <a:pt x="285" y="120"/>
                      </a:lnTo>
                      <a:lnTo>
                        <a:pt x="297" y="124"/>
                      </a:lnTo>
                      <a:lnTo>
                        <a:pt x="310" y="127"/>
                      </a:lnTo>
                      <a:lnTo>
                        <a:pt x="323" y="127"/>
                      </a:lnTo>
                      <a:lnTo>
                        <a:pt x="336" y="127"/>
                      </a:lnTo>
                      <a:lnTo>
                        <a:pt x="349" y="124"/>
                      </a:lnTo>
                      <a:lnTo>
                        <a:pt x="362" y="121"/>
                      </a:lnTo>
                      <a:lnTo>
                        <a:pt x="373" y="117"/>
                      </a:lnTo>
                      <a:lnTo>
                        <a:pt x="385" y="113"/>
                      </a:lnTo>
                      <a:lnTo>
                        <a:pt x="392" y="107"/>
                      </a:lnTo>
                      <a:lnTo>
                        <a:pt x="396" y="102"/>
                      </a:lnTo>
                      <a:lnTo>
                        <a:pt x="396" y="98"/>
                      </a:lnTo>
                      <a:lnTo>
                        <a:pt x="392" y="94"/>
                      </a:lnTo>
                      <a:lnTo>
                        <a:pt x="380" y="90"/>
                      </a:lnTo>
                      <a:lnTo>
                        <a:pt x="362" y="85"/>
                      </a:lnTo>
                      <a:lnTo>
                        <a:pt x="356" y="82"/>
                      </a:lnTo>
                      <a:lnTo>
                        <a:pt x="353" y="75"/>
                      </a:lnTo>
                      <a:lnTo>
                        <a:pt x="344" y="56"/>
                      </a:lnTo>
                      <a:lnTo>
                        <a:pt x="324" y="33"/>
                      </a:lnTo>
                      <a:lnTo>
                        <a:pt x="297" y="23"/>
                      </a:lnTo>
                      <a:lnTo>
                        <a:pt x="268" y="25"/>
                      </a:lnTo>
                      <a:lnTo>
                        <a:pt x="238" y="30"/>
                      </a:lnTo>
                      <a:lnTo>
                        <a:pt x="210" y="39"/>
                      </a:lnTo>
                      <a:lnTo>
                        <a:pt x="189" y="46"/>
                      </a:lnTo>
                      <a:lnTo>
                        <a:pt x="176" y="49"/>
                      </a:lnTo>
                      <a:lnTo>
                        <a:pt x="173" y="43"/>
                      </a:lnTo>
                      <a:lnTo>
                        <a:pt x="177" y="28"/>
                      </a:lnTo>
                      <a:lnTo>
                        <a:pt x="174" y="19"/>
                      </a:lnTo>
                      <a:lnTo>
                        <a:pt x="167" y="16"/>
                      </a:lnTo>
                      <a:lnTo>
                        <a:pt x="156" y="19"/>
                      </a:lnTo>
                      <a:lnTo>
                        <a:pt x="143" y="25"/>
                      </a:lnTo>
                      <a:lnTo>
                        <a:pt x="131" y="32"/>
                      </a:lnTo>
                      <a:lnTo>
                        <a:pt x="120" y="39"/>
                      </a:lnTo>
                      <a:lnTo>
                        <a:pt x="113" y="45"/>
                      </a:lnTo>
                      <a:lnTo>
                        <a:pt x="104" y="46"/>
                      </a:lnTo>
                      <a:lnTo>
                        <a:pt x="100" y="39"/>
                      </a:lnTo>
                      <a:lnTo>
                        <a:pt x="100" y="26"/>
                      </a:lnTo>
                      <a:lnTo>
                        <a:pt x="104" y="12"/>
                      </a:lnTo>
                      <a:lnTo>
                        <a:pt x="104" y="3"/>
                      </a:lnTo>
                      <a:lnTo>
                        <a:pt x="97" y="0"/>
                      </a:lnTo>
                      <a:lnTo>
                        <a:pt x="85" y="0"/>
                      </a:lnTo>
                      <a:lnTo>
                        <a:pt x="75" y="3"/>
                      </a:lnTo>
                      <a:lnTo>
                        <a:pt x="72" y="5"/>
                      </a:lnTo>
                      <a:lnTo>
                        <a:pt x="65" y="7"/>
                      </a:lnTo>
                      <a:lnTo>
                        <a:pt x="55" y="13"/>
                      </a:lnTo>
                      <a:lnTo>
                        <a:pt x="43" y="20"/>
                      </a:lnTo>
                      <a:lnTo>
                        <a:pt x="30" y="28"/>
                      </a:lnTo>
                      <a:lnTo>
                        <a:pt x="19" y="36"/>
                      </a:lnTo>
                      <a:lnTo>
                        <a:pt x="9" y="45"/>
                      </a:lnTo>
                      <a:lnTo>
                        <a:pt x="3" y="54"/>
                      </a:lnTo>
                      <a:lnTo>
                        <a:pt x="3" y="54"/>
                      </a:lnTo>
                      <a:lnTo>
                        <a:pt x="2" y="56"/>
                      </a:lnTo>
                      <a:lnTo>
                        <a:pt x="0" y="58"/>
                      </a:lnTo>
                      <a:lnTo>
                        <a:pt x="0" y="61"/>
                      </a:lnTo>
                      <a:lnTo>
                        <a:pt x="2" y="64"/>
                      </a:lnTo>
                      <a:lnTo>
                        <a:pt x="3" y="65"/>
                      </a:lnTo>
                      <a:lnTo>
                        <a:pt x="5" y="66"/>
                      </a:lnTo>
                      <a:lnTo>
                        <a:pt x="7" y="66"/>
                      </a:lnTo>
                      <a:lnTo>
                        <a:pt x="10" y="65"/>
                      </a:lnTo>
                      <a:lnTo>
                        <a:pt x="10" y="6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2971800" y="3500640"/>
                  <a:ext cx="69840" cy="29880"/>
                </a:xfrm>
                <a:custGeom>
                  <a:avLst/>
                  <a:gdLst/>
                  <a:ahLst/>
                  <a:rect l="l" t="t" r="r" b="b"/>
                  <a:pathLst>
                    <a:path w="567" h="227">
                      <a:moveTo>
                        <a:pt x="17" y="224"/>
                      </a:moveTo>
                      <a:lnTo>
                        <a:pt x="42" y="201"/>
                      </a:lnTo>
                      <a:lnTo>
                        <a:pt x="69" y="179"/>
                      </a:lnTo>
                      <a:lnTo>
                        <a:pt x="98" y="159"/>
                      </a:lnTo>
                      <a:lnTo>
                        <a:pt x="128" y="139"/>
                      </a:lnTo>
                      <a:lnTo>
                        <a:pt x="160" y="123"/>
                      </a:lnTo>
                      <a:lnTo>
                        <a:pt x="193" y="108"/>
                      </a:lnTo>
                      <a:lnTo>
                        <a:pt x="226" y="95"/>
                      </a:lnTo>
                      <a:lnTo>
                        <a:pt x="259" y="87"/>
                      </a:lnTo>
                      <a:lnTo>
                        <a:pt x="294" y="81"/>
                      </a:lnTo>
                      <a:lnTo>
                        <a:pt x="327" y="78"/>
                      </a:lnTo>
                      <a:lnTo>
                        <a:pt x="361" y="78"/>
                      </a:lnTo>
                      <a:lnTo>
                        <a:pt x="394" y="84"/>
                      </a:lnTo>
                      <a:lnTo>
                        <a:pt x="426" y="93"/>
                      </a:lnTo>
                      <a:lnTo>
                        <a:pt x="458" y="107"/>
                      </a:lnTo>
                      <a:lnTo>
                        <a:pt x="488" y="126"/>
                      </a:lnTo>
                      <a:lnTo>
                        <a:pt x="517" y="150"/>
                      </a:lnTo>
                      <a:lnTo>
                        <a:pt x="526" y="157"/>
                      </a:lnTo>
                      <a:lnTo>
                        <a:pt x="536" y="160"/>
                      </a:lnTo>
                      <a:lnTo>
                        <a:pt x="546" y="159"/>
                      </a:lnTo>
                      <a:lnTo>
                        <a:pt x="556" y="155"/>
                      </a:lnTo>
                      <a:lnTo>
                        <a:pt x="563" y="146"/>
                      </a:lnTo>
                      <a:lnTo>
                        <a:pt x="567" y="134"/>
                      </a:lnTo>
                      <a:lnTo>
                        <a:pt x="566" y="124"/>
                      </a:lnTo>
                      <a:lnTo>
                        <a:pt x="560" y="114"/>
                      </a:lnTo>
                      <a:lnTo>
                        <a:pt x="547" y="91"/>
                      </a:lnTo>
                      <a:lnTo>
                        <a:pt x="533" y="72"/>
                      </a:lnTo>
                      <a:lnTo>
                        <a:pt x="514" y="55"/>
                      </a:lnTo>
                      <a:lnTo>
                        <a:pt x="494" y="41"/>
                      </a:lnTo>
                      <a:lnTo>
                        <a:pt x="472" y="28"/>
                      </a:lnTo>
                      <a:lnTo>
                        <a:pt x="449" y="19"/>
                      </a:lnTo>
                      <a:lnTo>
                        <a:pt x="426" y="12"/>
                      </a:lnTo>
                      <a:lnTo>
                        <a:pt x="402" y="8"/>
                      </a:lnTo>
                      <a:lnTo>
                        <a:pt x="377" y="3"/>
                      </a:lnTo>
                      <a:lnTo>
                        <a:pt x="354" y="2"/>
                      </a:lnTo>
                      <a:lnTo>
                        <a:pt x="330" y="0"/>
                      </a:lnTo>
                      <a:lnTo>
                        <a:pt x="305" y="0"/>
                      </a:lnTo>
                      <a:lnTo>
                        <a:pt x="281" y="3"/>
                      </a:lnTo>
                      <a:lnTo>
                        <a:pt x="258" y="8"/>
                      </a:lnTo>
                      <a:lnTo>
                        <a:pt x="233" y="15"/>
                      </a:lnTo>
                      <a:lnTo>
                        <a:pt x="210" y="23"/>
                      </a:lnTo>
                      <a:lnTo>
                        <a:pt x="178" y="36"/>
                      </a:lnTo>
                      <a:lnTo>
                        <a:pt x="148" y="52"/>
                      </a:lnTo>
                      <a:lnTo>
                        <a:pt x="118" y="70"/>
                      </a:lnTo>
                      <a:lnTo>
                        <a:pt x="89" y="88"/>
                      </a:lnTo>
                      <a:lnTo>
                        <a:pt x="63" y="110"/>
                      </a:lnTo>
                      <a:lnTo>
                        <a:pt x="39" y="136"/>
                      </a:lnTo>
                      <a:lnTo>
                        <a:pt x="19" y="163"/>
                      </a:lnTo>
                      <a:lnTo>
                        <a:pt x="1" y="195"/>
                      </a:lnTo>
                      <a:lnTo>
                        <a:pt x="0" y="199"/>
                      </a:lnTo>
                      <a:lnTo>
                        <a:pt x="1" y="205"/>
                      </a:lnTo>
                      <a:lnTo>
                        <a:pt x="4" y="212"/>
                      </a:lnTo>
                      <a:lnTo>
                        <a:pt x="6" y="218"/>
                      </a:lnTo>
                      <a:lnTo>
                        <a:pt x="6" y="218"/>
                      </a:lnTo>
                      <a:lnTo>
                        <a:pt x="6" y="221"/>
                      </a:lnTo>
                      <a:lnTo>
                        <a:pt x="6" y="222"/>
                      </a:lnTo>
                      <a:lnTo>
                        <a:pt x="7" y="225"/>
                      </a:lnTo>
                      <a:lnTo>
                        <a:pt x="9" y="227"/>
                      </a:lnTo>
                      <a:lnTo>
                        <a:pt x="11" y="227"/>
                      </a:lnTo>
                      <a:lnTo>
                        <a:pt x="13" y="227"/>
                      </a:lnTo>
                      <a:lnTo>
                        <a:pt x="16" y="225"/>
                      </a:lnTo>
                      <a:lnTo>
                        <a:pt x="17" y="224"/>
                      </a:lnTo>
                      <a:lnTo>
                        <a:pt x="17" y="2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1" name=""/>
                <p:cNvSpPr/>
                <p:nvPr/>
              </p:nvSpPr>
              <p:spPr>
                <a:xfrm>
                  <a:off x="3173400" y="3521160"/>
                  <a:ext cx="423720" cy="41400"/>
                </a:xfrm>
                <a:custGeom>
                  <a:avLst/>
                  <a:gdLst/>
                  <a:ahLst/>
                  <a:rect l="l" t="t" r="r" b="b"/>
                  <a:pathLst>
                    <a:path w="3436" h="314">
                      <a:moveTo>
                        <a:pt x="5" y="256"/>
                      </a:moveTo>
                      <a:lnTo>
                        <a:pt x="28" y="268"/>
                      </a:lnTo>
                      <a:lnTo>
                        <a:pt x="49" y="278"/>
                      </a:lnTo>
                      <a:lnTo>
                        <a:pt x="72" y="289"/>
                      </a:lnTo>
                      <a:lnTo>
                        <a:pt x="95" y="299"/>
                      </a:lnTo>
                      <a:lnTo>
                        <a:pt x="120" y="308"/>
                      </a:lnTo>
                      <a:lnTo>
                        <a:pt x="146" y="312"/>
                      </a:lnTo>
                      <a:lnTo>
                        <a:pt x="173" y="314"/>
                      </a:lnTo>
                      <a:lnTo>
                        <a:pt x="203" y="310"/>
                      </a:lnTo>
                      <a:lnTo>
                        <a:pt x="262" y="297"/>
                      </a:lnTo>
                      <a:lnTo>
                        <a:pt x="321" y="284"/>
                      </a:lnTo>
                      <a:lnTo>
                        <a:pt x="379" y="269"/>
                      </a:lnTo>
                      <a:lnTo>
                        <a:pt x="437" y="255"/>
                      </a:lnTo>
                      <a:lnTo>
                        <a:pt x="493" y="240"/>
                      </a:lnTo>
                      <a:lnTo>
                        <a:pt x="549" y="225"/>
                      </a:lnTo>
                      <a:lnTo>
                        <a:pt x="605" y="209"/>
                      </a:lnTo>
                      <a:lnTo>
                        <a:pt x="660" y="194"/>
                      </a:lnTo>
                      <a:lnTo>
                        <a:pt x="716" y="179"/>
                      </a:lnTo>
                      <a:lnTo>
                        <a:pt x="772" y="163"/>
                      </a:lnTo>
                      <a:lnTo>
                        <a:pt x="827" y="148"/>
                      </a:lnTo>
                      <a:lnTo>
                        <a:pt x="884" y="132"/>
                      </a:lnTo>
                      <a:lnTo>
                        <a:pt x="941" y="118"/>
                      </a:lnTo>
                      <a:lnTo>
                        <a:pt x="998" y="105"/>
                      </a:lnTo>
                      <a:lnTo>
                        <a:pt x="1057" y="92"/>
                      </a:lnTo>
                      <a:lnTo>
                        <a:pt x="1116" y="79"/>
                      </a:lnTo>
                      <a:lnTo>
                        <a:pt x="1144" y="73"/>
                      </a:lnTo>
                      <a:lnTo>
                        <a:pt x="1169" y="71"/>
                      </a:lnTo>
                      <a:lnTo>
                        <a:pt x="1197" y="69"/>
                      </a:lnTo>
                      <a:lnTo>
                        <a:pt x="1224" y="71"/>
                      </a:lnTo>
                      <a:lnTo>
                        <a:pt x="1250" y="73"/>
                      </a:lnTo>
                      <a:lnTo>
                        <a:pt x="1277" y="78"/>
                      </a:lnTo>
                      <a:lnTo>
                        <a:pt x="1303" y="86"/>
                      </a:lnTo>
                      <a:lnTo>
                        <a:pt x="1329" y="96"/>
                      </a:lnTo>
                      <a:lnTo>
                        <a:pt x="1351" y="111"/>
                      </a:lnTo>
                      <a:lnTo>
                        <a:pt x="1368" y="130"/>
                      </a:lnTo>
                      <a:lnTo>
                        <a:pt x="1383" y="151"/>
                      </a:lnTo>
                      <a:lnTo>
                        <a:pt x="1394" y="174"/>
                      </a:lnTo>
                      <a:lnTo>
                        <a:pt x="1406" y="199"/>
                      </a:lnTo>
                      <a:lnTo>
                        <a:pt x="1419" y="220"/>
                      </a:lnTo>
                      <a:lnTo>
                        <a:pt x="1434" y="239"/>
                      </a:lnTo>
                      <a:lnTo>
                        <a:pt x="1456" y="253"/>
                      </a:lnTo>
                      <a:lnTo>
                        <a:pt x="1511" y="275"/>
                      </a:lnTo>
                      <a:lnTo>
                        <a:pt x="1568" y="289"/>
                      </a:lnTo>
                      <a:lnTo>
                        <a:pt x="1629" y="298"/>
                      </a:lnTo>
                      <a:lnTo>
                        <a:pt x="1692" y="301"/>
                      </a:lnTo>
                      <a:lnTo>
                        <a:pt x="1757" y="298"/>
                      </a:lnTo>
                      <a:lnTo>
                        <a:pt x="1822" y="291"/>
                      </a:lnTo>
                      <a:lnTo>
                        <a:pt x="1885" y="281"/>
                      </a:lnTo>
                      <a:lnTo>
                        <a:pt x="1949" y="268"/>
                      </a:lnTo>
                      <a:lnTo>
                        <a:pt x="2009" y="253"/>
                      </a:lnTo>
                      <a:lnTo>
                        <a:pt x="2067" y="238"/>
                      </a:lnTo>
                      <a:lnTo>
                        <a:pt x="2120" y="222"/>
                      </a:lnTo>
                      <a:lnTo>
                        <a:pt x="2169" y="206"/>
                      </a:lnTo>
                      <a:lnTo>
                        <a:pt x="2212" y="191"/>
                      </a:lnTo>
                      <a:lnTo>
                        <a:pt x="2248" y="180"/>
                      </a:lnTo>
                      <a:lnTo>
                        <a:pt x="2277" y="171"/>
                      </a:lnTo>
                      <a:lnTo>
                        <a:pt x="2297" y="166"/>
                      </a:lnTo>
                      <a:lnTo>
                        <a:pt x="2324" y="161"/>
                      </a:lnTo>
                      <a:lnTo>
                        <a:pt x="2346" y="163"/>
                      </a:lnTo>
                      <a:lnTo>
                        <a:pt x="2362" y="168"/>
                      </a:lnTo>
                      <a:lnTo>
                        <a:pt x="2375" y="179"/>
                      </a:lnTo>
                      <a:lnTo>
                        <a:pt x="2385" y="190"/>
                      </a:lnTo>
                      <a:lnTo>
                        <a:pt x="2396" y="203"/>
                      </a:lnTo>
                      <a:lnTo>
                        <a:pt x="2409" y="216"/>
                      </a:lnTo>
                      <a:lnTo>
                        <a:pt x="2425" y="229"/>
                      </a:lnTo>
                      <a:lnTo>
                        <a:pt x="2445" y="239"/>
                      </a:lnTo>
                      <a:lnTo>
                        <a:pt x="2468" y="246"/>
                      </a:lnTo>
                      <a:lnTo>
                        <a:pt x="2494" y="253"/>
                      </a:lnTo>
                      <a:lnTo>
                        <a:pt x="2522" y="261"/>
                      </a:lnTo>
                      <a:lnTo>
                        <a:pt x="2552" y="266"/>
                      </a:lnTo>
                      <a:lnTo>
                        <a:pt x="2584" y="271"/>
                      </a:lnTo>
                      <a:lnTo>
                        <a:pt x="2617" y="275"/>
                      </a:lnTo>
                      <a:lnTo>
                        <a:pt x="2653" y="278"/>
                      </a:lnTo>
                      <a:lnTo>
                        <a:pt x="2689" y="279"/>
                      </a:lnTo>
                      <a:lnTo>
                        <a:pt x="2726" y="281"/>
                      </a:lnTo>
                      <a:lnTo>
                        <a:pt x="2764" y="282"/>
                      </a:lnTo>
                      <a:lnTo>
                        <a:pt x="2802" y="282"/>
                      </a:lnTo>
                      <a:lnTo>
                        <a:pt x="2843" y="282"/>
                      </a:lnTo>
                      <a:lnTo>
                        <a:pt x="2882" y="282"/>
                      </a:lnTo>
                      <a:lnTo>
                        <a:pt x="2922" y="281"/>
                      </a:lnTo>
                      <a:lnTo>
                        <a:pt x="2961" y="279"/>
                      </a:lnTo>
                      <a:lnTo>
                        <a:pt x="3000" y="276"/>
                      </a:lnTo>
                      <a:lnTo>
                        <a:pt x="3037" y="275"/>
                      </a:lnTo>
                      <a:lnTo>
                        <a:pt x="3075" y="272"/>
                      </a:lnTo>
                      <a:lnTo>
                        <a:pt x="3112" y="269"/>
                      </a:lnTo>
                      <a:lnTo>
                        <a:pt x="3147" y="268"/>
                      </a:lnTo>
                      <a:lnTo>
                        <a:pt x="3180" y="265"/>
                      </a:lnTo>
                      <a:lnTo>
                        <a:pt x="3211" y="262"/>
                      </a:lnTo>
                      <a:lnTo>
                        <a:pt x="3242" y="259"/>
                      </a:lnTo>
                      <a:lnTo>
                        <a:pt x="3269" y="256"/>
                      </a:lnTo>
                      <a:lnTo>
                        <a:pt x="3295" y="253"/>
                      </a:lnTo>
                      <a:lnTo>
                        <a:pt x="3318" y="251"/>
                      </a:lnTo>
                      <a:lnTo>
                        <a:pt x="3338" y="248"/>
                      </a:lnTo>
                      <a:lnTo>
                        <a:pt x="3355" y="245"/>
                      </a:lnTo>
                      <a:lnTo>
                        <a:pt x="3370" y="243"/>
                      </a:lnTo>
                      <a:lnTo>
                        <a:pt x="3380" y="242"/>
                      </a:lnTo>
                      <a:lnTo>
                        <a:pt x="3387" y="240"/>
                      </a:lnTo>
                      <a:lnTo>
                        <a:pt x="3397" y="239"/>
                      </a:lnTo>
                      <a:lnTo>
                        <a:pt x="3407" y="236"/>
                      </a:lnTo>
                      <a:lnTo>
                        <a:pt x="3416" y="230"/>
                      </a:lnTo>
                      <a:lnTo>
                        <a:pt x="3423" y="225"/>
                      </a:lnTo>
                      <a:lnTo>
                        <a:pt x="3429" y="216"/>
                      </a:lnTo>
                      <a:lnTo>
                        <a:pt x="3433" y="207"/>
                      </a:lnTo>
                      <a:lnTo>
                        <a:pt x="3435" y="197"/>
                      </a:lnTo>
                      <a:lnTo>
                        <a:pt x="3436" y="187"/>
                      </a:lnTo>
                      <a:lnTo>
                        <a:pt x="3435" y="177"/>
                      </a:lnTo>
                      <a:lnTo>
                        <a:pt x="3430" y="168"/>
                      </a:lnTo>
                      <a:lnTo>
                        <a:pt x="3424" y="160"/>
                      </a:lnTo>
                      <a:lnTo>
                        <a:pt x="3417" y="153"/>
                      </a:lnTo>
                      <a:lnTo>
                        <a:pt x="3410" y="147"/>
                      </a:lnTo>
                      <a:lnTo>
                        <a:pt x="3401" y="143"/>
                      </a:lnTo>
                      <a:lnTo>
                        <a:pt x="3391" y="141"/>
                      </a:lnTo>
                      <a:lnTo>
                        <a:pt x="3381" y="141"/>
                      </a:lnTo>
                      <a:lnTo>
                        <a:pt x="3324" y="138"/>
                      </a:lnTo>
                      <a:lnTo>
                        <a:pt x="3260" y="138"/>
                      </a:lnTo>
                      <a:lnTo>
                        <a:pt x="3193" y="140"/>
                      </a:lnTo>
                      <a:lnTo>
                        <a:pt x="3124" y="143"/>
                      </a:lnTo>
                      <a:lnTo>
                        <a:pt x="3053" y="147"/>
                      </a:lnTo>
                      <a:lnTo>
                        <a:pt x="2982" y="151"/>
                      </a:lnTo>
                      <a:lnTo>
                        <a:pt x="2912" y="155"/>
                      </a:lnTo>
                      <a:lnTo>
                        <a:pt x="2843" y="160"/>
                      </a:lnTo>
                      <a:lnTo>
                        <a:pt x="2776" y="164"/>
                      </a:lnTo>
                      <a:lnTo>
                        <a:pt x="2716" y="167"/>
                      </a:lnTo>
                      <a:lnTo>
                        <a:pt x="2660" y="167"/>
                      </a:lnTo>
                      <a:lnTo>
                        <a:pt x="2611" y="167"/>
                      </a:lnTo>
                      <a:lnTo>
                        <a:pt x="2568" y="163"/>
                      </a:lnTo>
                      <a:lnTo>
                        <a:pt x="2535" y="157"/>
                      </a:lnTo>
                      <a:lnTo>
                        <a:pt x="2512" y="147"/>
                      </a:lnTo>
                      <a:lnTo>
                        <a:pt x="2499" y="134"/>
                      </a:lnTo>
                      <a:lnTo>
                        <a:pt x="2483" y="107"/>
                      </a:lnTo>
                      <a:lnTo>
                        <a:pt x="2461" y="83"/>
                      </a:lnTo>
                      <a:lnTo>
                        <a:pt x="2435" y="68"/>
                      </a:lnTo>
                      <a:lnTo>
                        <a:pt x="2406" y="56"/>
                      </a:lnTo>
                      <a:lnTo>
                        <a:pt x="2375" y="49"/>
                      </a:lnTo>
                      <a:lnTo>
                        <a:pt x="2342" y="46"/>
                      </a:lnTo>
                      <a:lnTo>
                        <a:pt x="2307" y="47"/>
                      </a:lnTo>
                      <a:lnTo>
                        <a:pt x="2271" y="53"/>
                      </a:lnTo>
                      <a:lnTo>
                        <a:pt x="2234" y="60"/>
                      </a:lnTo>
                      <a:lnTo>
                        <a:pt x="2196" y="69"/>
                      </a:lnTo>
                      <a:lnTo>
                        <a:pt x="2160" y="78"/>
                      </a:lnTo>
                      <a:lnTo>
                        <a:pt x="2123" y="86"/>
                      </a:lnTo>
                      <a:lnTo>
                        <a:pt x="2088" y="95"/>
                      </a:lnTo>
                      <a:lnTo>
                        <a:pt x="2052" y="105"/>
                      </a:lnTo>
                      <a:lnTo>
                        <a:pt x="2016" y="114"/>
                      </a:lnTo>
                      <a:lnTo>
                        <a:pt x="1982" y="124"/>
                      </a:lnTo>
                      <a:lnTo>
                        <a:pt x="1946" y="134"/>
                      </a:lnTo>
                      <a:lnTo>
                        <a:pt x="1911" y="144"/>
                      </a:lnTo>
                      <a:lnTo>
                        <a:pt x="1877" y="153"/>
                      </a:lnTo>
                      <a:lnTo>
                        <a:pt x="1841" y="163"/>
                      </a:lnTo>
                      <a:lnTo>
                        <a:pt x="1805" y="173"/>
                      </a:lnTo>
                      <a:lnTo>
                        <a:pt x="1769" y="181"/>
                      </a:lnTo>
                      <a:lnTo>
                        <a:pt x="1733" y="191"/>
                      </a:lnTo>
                      <a:lnTo>
                        <a:pt x="1695" y="200"/>
                      </a:lnTo>
                      <a:lnTo>
                        <a:pt x="1671" y="204"/>
                      </a:lnTo>
                      <a:lnTo>
                        <a:pt x="1646" y="207"/>
                      </a:lnTo>
                      <a:lnTo>
                        <a:pt x="1625" y="206"/>
                      </a:lnTo>
                      <a:lnTo>
                        <a:pt x="1603" y="203"/>
                      </a:lnTo>
                      <a:lnTo>
                        <a:pt x="1583" y="197"/>
                      </a:lnTo>
                      <a:lnTo>
                        <a:pt x="1564" y="190"/>
                      </a:lnTo>
                      <a:lnTo>
                        <a:pt x="1545" y="181"/>
                      </a:lnTo>
                      <a:lnTo>
                        <a:pt x="1528" y="171"/>
                      </a:lnTo>
                      <a:lnTo>
                        <a:pt x="1511" y="158"/>
                      </a:lnTo>
                      <a:lnTo>
                        <a:pt x="1495" y="145"/>
                      </a:lnTo>
                      <a:lnTo>
                        <a:pt x="1479" y="131"/>
                      </a:lnTo>
                      <a:lnTo>
                        <a:pt x="1463" y="117"/>
                      </a:lnTo>
                      <a:lnTo>
                        <a:pt x="1447" y="101"/>
                      </a:lnTo>
                      <a:lnTo>
                        <a:pt x="1432" y="85"/>
                      </a:lnTo>
                      <a:lnTo>
                        <a:pt x="1416" y="69"/>
                      </a:lnTo>
                      <a:lnTo>
                        <a:pt x="1400" y="53"/>
                      </a:lnTo>
                      <a:lnTo>
                        <a:pt x="1385" y="40"/>
                      </a:lnTo>
                      <a:lnTo>
                        <a:pt x="1370" y="30"/>
                      </a:lnTo>
                      <a:lnTo>
                        <a:pt x="1352" y="20"/>
                      </a:lnTo>
                      <a:lnTo>
                        <a:pt x="1335" y="13"/>
                      </a:lnTo>
                      <a:lnTo>
                        <a:pt x="1318" y="9"/>
                      </a:lnTo>
                      <a:lnTo>
                        <a:pt x="1299" y="4"/>
                      </a:lnTo>
                      <a:lnTo>
                        <a:pt x="1279" y="1"/>
                      </a:lnTo>
                      <a:lnTo>
                        <a:pt x="1260" y="0"/>
                      </a:lnTo>
                      <a:lnTo>
                        <a:pt x="1240" y="0"/>
                      </a:lnTo>
                      <a:lnTo>
                        <a:pt x="1220" y="0"/>
                      </a:lnTo>
                      <a:lnTo>
                        <a:pt x="1200" y="3"/>
                      </a:lnTo>
                      <a:lnTo>
                        <a:pt x="1180" y="4"/>
                      </a:lnTo>
                      <a:lnTo>
                        <a:pt x="1159" y="7"/>
                      </a:lnTo>
                      <a:lnTo>
                        <a:pt x="1139" y="11"/>
                      </a:lnTo>
                      <a:lnTo>
                        <a:pt x="1119" y="16"/>
                      </a:lnTo>
                      <a:lnTo>
                        <a:pt x="1100" y="20"/>
                      </a:lnTo>
                      <a:lnTo>
                        <a:pt x="1043" y="35"/>
                      </a:lnTo>
                      <a:lnTo>
                        <a:pt x="985" y="50"/>
                      </a:lnTo>
                      <a:lnTo>
                        <a:pt x="928" y="68"/>
                      </a:lnTo>
                      <a:lnTo>
                        <a:pt x="871" y="83"/>
                      </a:lnTo>
                      <a:lnTo>
                        <a:pt x="817" y="101"/>
                      </a:lnTo>
                      <a:lnTo>
                        <a:pt x="761" y="119"/>
                      </a:lnTo>
                      <a:lnTo>
                        <a:pt x="706" y="137"/>
                      </a:lnTo>
                      <a:lnTo>
                        <a:pt x="650" y="154"/>
                      </a:lnTo>
                      <a:lnTo>
                        <a:pt x="595" y="173"/>
                      </a:lnTo>
                      <a:lnTo>
                        <a:pt x="539" y="190"/>
                      </a:lnTo>
                      <a:lnTo>
                        <a:pt x="484" y="207"/>
                      </a:lnTo>
                      <a:lnTo>
                        <a:pt x="428" y="225"/>
                      </a:lnTo>
                      <a:lnTo>
                        <a:pt x="372" y="240"/>
                      </a:lnTo>
                      <a:lnTo>
                        <a:pt x="314" y="256"/>
                      </a:lnTo>
                      <a:lnTo>
                        <a:pt x="257" y="272"/>
                      </a:lnTo>
                      <a:lnTo>
                        <a:pt x="198" y="287"/>
                      </a:lnTo>
                      <a:lnTo>
                        <a:pt x="172" y="291"/>
                      </a:lnTo>
                      <a:lnTo>
                        <a:pt x="147" y="291"/>
                      </a:lnTo>
                      <a:lnTo>
                        <a:pt x="124" y="288"/>
                      </a:lnTo>
                      <a:lnTo>
                        <a:pt x="100" y="282"/>
                      </a:lnTo>
                      <a:lnTo>
                        <a:pt x="77" y="275"/>
                      </a:lnTo>
                      <a:lnTo>
                        <a:pt x="54" y="266"/>
                      </a:lnTo>
                      <a:lnTo>
                        <a:pt x="32" y="256"/>
                      </a:lnTo>
                      <a:lnTo>
                        <a:pt x="9" y="246"/>
                      </a:lnTo>
                      <a:lnTo>
                        <a:pt x="9" y="246"/>
                      </a:lnTo>
                      <a:lnTo>
                        <a:pt x="6" y="245"/>
                      </a:lnTo>
                      <a:lnTo>
                        <a:pt x="5" y="245"/>
                      </a:lnTo>
                      <a:lnTo>
                        <a:pt x="3" y="248"/>
                      </a:lnTo>
                      <a:lnTo>
                        <a:pt x="2" y="249"/>
                      </a:lnTo>
                      <a:lnTo>
                        <a:pt x="0" y="251"/>
                      </a:lnTo>
                      <a:lnTo>
                        <a:pt x="2" y="253"/>
                      </a:lnTo>
                      <a:lnTo>
                        <a:pt x="3" y="255"/>
                      </a:lnTo>
                      <a:lnTo>
                        <a:pt x="5" y="256"/>
                      </a:lnTo>
                      <a:lnTo>
                        <a:pt x="5" y="256"/>
                      </a:lnTo>
                      <a:close/>
                    </a:path>
                  </a:pathLst>
                </a:custGeom>
                <a:solidFill>
                  <a:srgbClr val="3366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2" name=""/>
                <p:cNvSpPr/>
                <p:nvPr/>
              </p:nvSpPr>
              <p:spPr>
                <a:xfrm>
                  <a:off x="3114720" y="3581280"/>
                  <a:ext cx="341280" cy="51120"/>
                </a:xfrm>
                <a:custGeom>
                  <a:avLst/>
                  <a:gdLst/>
                  <a:ahLst/>
                  <a:rect l="l" t="t" r="r" b="b"/>
                  <a:pathLst>
                    <a:path w="2766" h="380">
                      <a:moveTo>
                        <a:pt x="3" y="227"/>
                      </a:moveTo>
                      <a:lnTo>
                        <a:pt x="26" y="238"/>
                      </a:lnTo>
                      <a:lnTo>
                        <a:pt x="49" y="245"/>
                      </a:lnTo>
                      <a:lnTo>
                        <a:pt x="72" y="252"/>
                      </a:lnTo>
                      <a:lnTo>
                        <a:pt x="95" y="258"/>
                      </a:lnTo>
                      <a:lnTo>
                        <a:pt x="118" y="262"/>
                      </a:lnTo>
                      <a:lnTo>
                        <a:pt x="142" y="265"/>
                      </a:lnTo>
                      <a:lnTo>
                        <a:pt x="167" y="266"/>
                      </a:lnTo>
                      <a:lnTo>
                        <a:pt x="190" y="268"/>
                      </a:lnTo>
                      <a:lnTo>
                        <a:pt x="214" y="269"/>
                      </a:lnTo>
                      <a:lnTo>
                        <a:pt x="239" y="269"/>
                      </a:lnTo>
                      <a:lnTo>
                        <a:pt x="263" y="268"/>
                      </a:lnTo>
                      <a:lnTo>
                        <a:pt x="288" y="268"/>
                      </a:lnTo>
                      <a:lnTo>
                        <a:pt x="312" y="266"/>
                      </a:lnTo>
                      <a:lnTo>
                        <a:pt x="335" y="265"/>
                      </a:lnTo>
                      <a:lnTo>
                        <a:pt x="360" y="262"/>
                      </a:lnTo>
                      <a:lnTo>
                        <a:pt x="384" y="261"/>
                      </a:lnTo>
                      <a:lnTo>
                        <a:pt x="422" y="258"/>
                      </a:lnTo>
                      <a:lnTo>
                        <a:pt x="459" y="255"/>
                      </a:lnTo>
                      <a:lnTo>
                        <a:pt x="498" y="251"/>
                      </a:lnTo>
                      <a:lnTo>
                        <a:pt x="536" y="246"/>
                      </a:lnTo>
                      <a:lnTo>
                        <a:pt x="576" y="242"/>
                      </a:lnTo>
                      <a:lnTo>
                        <a:pt x="615" y="238"/>
                      </a:lnTo>
                      <a:lnTo>
                        <a:pt x="654" y="232"/>
                      </a:lnTo>
                      <a:lnTo>
                        <a:pt x="694" y="226"/>
                      </a:lnTo>
                      <a:lnTo>
                        <a:pt x="733" y="220"/>
                      </a:lnTo>
                      <a:lnTo>
                        <a:pt x="773" y="215"/>
                      </a:lnTo>
                      <a:lnTo>
                        <a:pt x="812" y="207"/>
                      </a:lnTo>
                      <a:lnTo>
                        <a:pt x="851" y="202"/>
                      </a:lnTo>
                      <a:lnTo>
                        <a:pt x="888" y="194"/>
                      </a:lnTo>
                      <a:lnTo>
                        <a:pt x="927" y="189"/>
                      </a:lnTo>
                      <a:lnTo>
                        <a:pt x="963" y="181"/>
                      </a:lnTo>
                      <a:lnTo>
                        <a:pt x="1001" y="176"/>
                      </a:lnTo>
                      <a:lnTo>
                        <a:pt x="1035" y="168"/>
                      </a:lnTo>
                      <a:lnTo>
                        <a:pt x="1071" y="161"/>
                      </a:lnTo>
                      <a:lnTo>
                        <a:pt x="1104" y="155"/>
                      </a:lnTo>
                      <a:lnTo>
                        <a:pt x="1137" y="150"/>
                      </a:lnTo>
                      <a:lnTo>
                        <a:pt x="1168" y="143"/>
                      </a:lnTo>
                      <a:lnTo>
                        <a:pt x="1198" y="137"/>
                      </a:lnTo>
                      <a:lnTo>
                        <a:pt x="1227" y="131"/>
                      </a:lnTo>
                      <a:lnTo>
                        <a:pt x="1254" y="125"/>
                      </a:lnTo>
                      <a:lnTo>
                        <a:pt x="1279" y="121"/>
                      </a:lnTo>
                      <a:lnTo>
                        <a:pt x="1303" y="115"/>
                      </a:lnTo>
                      <a:lnTo>
                        <a:pt x="1325" y="111"/>
                      </a:lnTo>
                      <a:lnTo>
                        <a:pt x="1345" y="107"/>
                      </a:lnTo>
                      <a:lnTo>
                        <a:pt x="1362" y="104"/>
                      </a:lnTo>
                      <a:lnTo>
                        <a:pt x="1378" y="99"/>
                      </a:lnTo>
                      <a:lnTo>
                        <a:pt x="1391" y="98"/>
                      </a:lnTo>
                      <a:lnTo>
                        <a:pt x="1402" y="95"/>
                      </a:lnTo>
                      <a:lnTo>
                        <a:pt x="1438" y="88"/>
                      </a:lnTo>
                      <a:lnTo>
                        <a:pt x="1471" y="79"/>
                      </a:lnTo>
                      <a:lnTo>
                        <a:pt x="1502" y="73"/>
                      </a:lnTo>
                      <a:lnTo>
                        <a:pt x="1526" y="69"/>
                      </a:lnTo>
                      <a:lnTo>
                        <a:pt x="1548" y="68"/>
                      </a:lnTo>
                      <a:lnTo>
                        <a:pt x="1564" y="71"/>
                      </a:lnTo>
                      <a:lnTo>
                        <a:pt x="1575" y="78"/>
                      </a:lnTo>
                      <a:lnTo>
                        <a:pt x="1581" y="91"/>
                      </a:lnTo>
                      <a:lnTo>
                        <a:pt x="1585" y="111"/>
                      </a:lnTo>
                      <a:lnTo>
                        <a:pt x="1595" y="141"/>
                      </a:lnTo>
                      <a:lnTo>
                        <a:pt x="1610" y="174"/>
                      </a:lnTo>
                      <a:lnTo>
                        <a:pt x="1630" y="209"/>
                      </a:lnTo>
                      <a:lnTo>
                        <a:pt x="1659" y="243"/>
                      </a:lnTo>
                      <a:lnTo>
                        <a:pt x="1696" y="271"/>
                      </a:lnTo>
                      <a:lnTo>
                        <a:pt x="1744" y="291"/>
                      </a:lnTo>
                      <a:lnTo>
                        <a:pt x="1803" y="298"/>
                      </a:lnTo>
                      <a:lnTo>
                        <a:pt x="1859" y="297"/>
                      </a:lnTo>
                      <a:lnTo>
                        <a:pt x="1911" y="294"/>
                      </a:lnTo>
                      <a:lnTo>
                        <a:pt x="1963" y="289"/>
                      </a:lnTo>
                      <a:lnTo>
                        <a:pt x="2011" y="284"/>
                      </a:lnTo>
                      <a:lnTo>
                        <a:pt x="2060" y="278"/>
                      </a:lnTo>
                      <a:lnTo>
                        <a:pt x="2108" y="272"/>
                      </a:lnTo>
                      <a:lnTo>
                        <a:pt x="2157" y="268"/>
                      </a:lnTo>
                      <a:lnTo>
                        <a:pt x="2206" y="263"/>
                      </a:lnTo>
                      <a:lnTo>
                        <a:pt x="2256" y="263"/>
                      </a:lnTo>
                      <a:lnTo>
                        <a:pt x="2310" y="266"/>
                      </a:lnTo>
                      <a:lnTo>
                        <a:pt x="2364" y="272"/>
                      </a:lnTo>
                      <a:lnTo>
                        <a:pt x="2423" y="282"/>
                      </a:lnTo>
                      <a:lnTo>
                        <a:pt x="2485" y="297"/>
                      </a:lnTo>
                      <a:lnTo>
                        <a:pt x="2551" y="317"/>
                      </a:lnTo>
                      <a:lnTo>
                        <a:pt x="2623" y="344"/>
                      </a:lnTo>
                      <a:lnTo>
                        <a:pt x="2700" y="377"/>
                      </a:lnTo>
                      <a:lnTo>
                        <a:pt x="2710" y="380"/>
                      </a:lnTo>
                      <a:lnTo>
                        <a:pt x="2720" y="380"/>
                      </a:lnTo>
                      <a:lnTo>
                        <a:pt x="2730" y="379"/>
                      </a:lnTo>
                      <a:lnTo>
                        <a:pt x="2739" y="374"/>
                      </a:lnTo>
                      <a:lnTo>
                        <a:pt x="2747" y="367"/>
                      </a:lnTo>
                      <a:lnTo>
                        <a:pt x="2755" y="360"/>
                      </a:lnTo>
                      <a:lnTo>
                        <a:pt x="2760" y="351"/>
                      </a:lnTo>
                      <a:lnTo>
                        <a:pt x="2765" y="341"/>
                      </a:lnTo>
                      <a:lnTo>
                        <a:pt x="2766" y="331"/>
                      </a:lnTo>
                      <a:lnTo>
                        <a:pt x="2766" y="321"/>
                      </a:lnTo>
                      <a:lnTo>
                        <a:pt x="2763" y="311"/>
                      </a:lnTo>
                      <a:lnTo>
                        <a:pt x="2760" y="302"/>
                      </a:lnTo>
                      <a:lnTo>
                        <a:pt x="2755" y="294"/>
                      </a:lnTo>
                      <a:lnTo>
                        <a:pt x="2747" y="287"/>
                      </a:lnTo>
                      <a:lnTo>
                        <a:pt x="2739" y="282"/>
                      </a:lnTo>
                      <a:lnTo>
                        <a:pt x="2729" y="278"/>
                      </a:lnTo>
                      <a:lnTo>
                        <a:pt x="2674" y="255"/>
                      </a:lnTo>
                      <a:lnTo>
                        <a:pt x="2621" y="235"/>
                      </a:lnTo>
                      <a:lnTo>
                        <a:pt x="2566" y="217"/>
                      </a:lnTo>
                      <a:lnTo>
                        <a:pt x="2513" y="202"/>
                      </a:lnTo>
                      <a:lnTo>
                        <a:pt x="2458" y="189"/>
                      </a:lnTo>
                      <a:lnTo>
                        <a:pt x="2403" y="177"/>
                      </a:lnTo>
                      <a:lnTo>
                        <a:pt x="2348" y="168"/>
                      </a:lnTo>
                      <a:lnTo>
                        <a:pt x="2294" y="161"/>
                      </a:lnTo>
                      <a:lnTo>
                        <a:pt x="2238" y="158"/>
                      </a:lnTo>
                      <a:lnTo>
                        <a:pt x="2180" y="157"/>
                      </a:lnTo>
                      <a:lnTo>
                        <a:pt x="2122" y="158"/>
                      </a:lnTo>
                      <a:lnTo>
                        <a:pt x="2065" y="161"/>
                      </a:lnTo>
                      <a:lnTo>
                        <a:pt x="2006" y="167"/>
                      </a:lnTo>
                      <a:lnTo>
                        <a:pt x="1945" y="176"/>
                      </a:lnTo>
                      <a:lnTo>
                        <a:pt x="1883" y="187"/>
                      </a:lnTo>
                      <a:lnTo>
                        <a:pt x="1820" y="202"/>
                      </a:lnTo>
                      <a:lnTo>
                        <a:pt x="1807" y="203"/>
                      </a:lnTo>
                      <a:lnTo>
                        <a:pt x="1794" y="204"/>
                      </a:lnTo>
                      <a:lnTo>
                        <a:pt x="1781" y="204"/>
                      </a:lnTo>
                      <a:lnTo>
                        <a:pt x="1770" y="203"/>
                      </a:lnTo>
                      <a:lnTo>
                        <a:pt x="1757" y="200"/>
                      </a:lnTo>
                      <a:lnTo>
                        <a:pt x="1745" y="196"/>
                      </a:lnTo>
                      <a:lnTo>
                        <a:pt x="1735" y="190"/>
                      </a:lnTo>
                      <a:lnTo>
                        <a:pt x="1725" y="183"/>
                      </a:lnTo>
                      <a:lnTo>
                        <a:pt x="1702" y="157"/>
                      </a:lnTo>
                      <a:lnTo>
                        <a:pt x="1682" y="127"/>
                      </a:lnTo>
                      <a:lnTo>
                        <a:pt x="1666" y="95"/>
                      </a:lnTo>
                      <a:lnTo>
                        <a:pt x="1649" y="65"/>
                      </a:lnTo>
                      <a:lnTo>
                        <a:pt x="1630" y="37"/>
                      </a:lnTo>
                      <a:lnTo>
                        <a:pt x="1605" y="16"/>
                      </a:lnTo>
                      <a:lnTo>
                        <a:pt x="1572" y="3"/>
                      </a:lnTo>
                      <a:lnTo>
                        <a:pt x="1529" y="0"/>
                      </a:lnTo>
                      <a:lnTo>
                        <a:pt x="1482" y="4"/>
                      </a:lnTo>
                      <a:lnTo>
                        <a:pt x="1433" y="10"/>
                      </a:lnTo>
                      <a:lnTo>
                        <a:pt x="1385" y="17"/>
                      </a:lnTo>
                      <a:lnTo>
                        <a:pt x="1338" y="24"/>
                      </a:lnTo>
                      <a:lnTo>
                        <a:pt x="1290" y="33"/>
                      </a:lnTo>
                      <a:lnTo>
                        <a:pt x="1243" y="42"/>
                      </a:lnTo>
                      <a:lnTo>
                        <a:pt x="1195" y="52"/>
                      </a:lnTo>
                      <a:lnTo>
                        <a:pt x="1148" y="63"/>
                      </a:lnTo>
                      <a:lnTo>
                        <a:pt x="1100" y="75"/>
                      </a:lnTo>
                      <a:lnTo>
                        <a:pt x="1054" y="85"/>
                      </a:lnTo>
                      <a:lnTo>
                        <a:pt x="1006" y="98"/>
                      </a:lnTo>
                      <a:lnTo>
                        <a:pt x="959" y="109"/>
                      </a:lnTo>
                      <a:lnTo>
                        <a:pt x="911" y="121"/>
                      </a:lnTo>
                      <a:lnTo>
                        <a:pt x="865" y="132"/>
                      </a:lnTo>
                      <a:lnTo>
                        <a:pt x="818" y="144"/>
                      </a:lnTo>
                      <a:lnTo>
                        <a:pt x="770" y="155"/>
                      </a:lnTo>
                      <a:lnTo>
                        <a:pt x="723" y="167"/>
                      </a:lnTo>
                      <a:lnTo>
                        <a:pt x="677" y="177"/>
                      </a:lnTo>
                      <a:lnTo>
                        <a:pt x="629" y="187"/>
                      </a:lnTo>
                      <a:lnTo>
                        <a:pt x="582" y="197"/>
                      </a:lnTo>
                      <a:lnTo>
                        <a:pt x="534" y="206"/>
                      </a:lnTo>
                      <a:lnTo>
                        <a:pt x="487" y="213"/>
                      </a:lnTo>
                      <a:lnTo>
                        <a:pt x="439" y="219"/>
                      </a:lnTo>
                      <a:lnTo>
                        <a:pt x="392" y="225"/>
                      </a:lnTo>
                      <a:lnTo>
                        <a:pt x="344" y="229"/>
                      </a:lnTo>
                      <a:lnTo>
                        <a:pt x="296" y="232"/>
                      </a:lnTo>
                      <a:lnTo>
                        <a:pt x="249" y="233"/>
                      </a:lnTo>
                      <a:lnTo>
                        <a:pt x="201" y="233"/>
                      </a:lnTo>
                      <a:lnTo>
                        <a:pt x="154" y="232"/>
                      </a:lnTo>
                      <a:lnTo>
                        <a:pt x="105" y="229"/>
                      </a:lnTo>
                      <a:lnTo>
                        <a:pt x="57" y="223"/>
                      </a:lnTo>
                      <a:lnTo>
                        <a:pt x="8" y="216"/>
                      </a:lnTo>
                      <a:lnTo>
                        <a:pt x="8" y="216"/>
                      </a:lnTo>
                      <a:lnTo>
                        <a:pt x="6" y="216"/>
                      </a:lnTo>
                      <a:lnTo>
                        <a:pt x="4" y="216"/>
                      </a:lnTo>
                      <a:lnTo>
                        <a:pt x="1" y="217"/>
                      </a:lnTo>
                      <a:lnTo>
                        <a:pt x="0" y="219"/>
                      </a:lnTo>
                      <a:lnTo>
                        <a:pt x="0" y="222"/>
                      </a:lnTo>
                      <a:lnTo>
                        <a:pt x="0" y="223"/>
                      </a:lnTo>
                      <a:lnTo>
                        <a:pt x="1" y="226"/>
                      </a:lnTo>
                      <a:lnTo>
                        <a:pt x="3" y="227"/>
                      </a:lnTo>
                      <a:lnTo>
                        <a:pt x="3" y="227"/>
                      </a:lnTo>
                      <a:close/>
                    </a:path>
                  </a:pathLst>
                </a:custGeom>
                <a:solidFill>
                  <a:srgbClr val="3366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3" name=""/>
                <p:cNvSpPr/>
                <p:nvPr/>
              </p:nvSpPr>
              <p:spPr>
                <a:xfrm>
                  <a:off x="2576520" y="3570480"/>
                  <a:ext cx="106200" cy="90360"/>
                </a:xfrm>
                <a:custGeom>
                  <a:avLst/>
                  <a:gdLst/>
                  <a:ahLst/>
                  <a:rect l="l" t="t" r="r" b="b"/>
                  <a:pathLst>
                    <a:path w="863" h="698">
                      <a:moveTo>
                        <a:pt x="862" y="358"/>
                      </a:moveTo>
                      <a:lnTo>
                        <a:pt x="849" y="327"/>
                      </a:lnTo>
                      <a:lnTo>
                        <a:pt x="836" y="295"/>
                      </a:lnTo>
                      <a:lnTo>
                        <a:pt x="821" y="265"/>
                      </a:lnTo>
                      <a:lnTo>
                        <a:pt x="805" y="235"/>
                      </a:lnTo>
                      <a:lnTo>
                        <a:pt x="788" y="207"/>
                      </a:lnTo>
                      <a:lnTo>
                        <a:pt x="769" y="180"/>
                      </a:lnTo>
                      <a:lnTo>
                        <a:pt x="749" y="155"/>
                      </a:lnTo>
                      <a:lnTo>
                        <a:pt x="726" y="131"/>
                      </a:lnTo>
                      <a:lnTo>
                        <a:pt x="702" y="109"/>
                      </a:lnTo>
                      <a:lnTo>
                        <a:pt x="676" y="88"/>
                      </a:lnTo>
                      <a:lnTo>
                        <a:pt x="646" y="69"/>
                      </a:lnTo>
                      <a:lnTo>
                        <a:pt x="614" y="53"/>
                      </a:lnTo>
                      <a:lnTo>
                        <a:pt x="579" y="37"/>
                      </a:lnTo>
                      <a:lnTo>
                        <a:pt x="542" y="24"/>
                      </a:lnTo>
                      <a:lnTo>
                        <a:pt x="500" y="14"/>
                      </a:lnTo>
                      <a:lnTo>
                        <a:pt x="455" y="6"/>
                      </a:lnTo>
                      <a:lnTo>
                        <a:pt x="409" y="1"/>
                      </a:lnTo>
                      <a:lnTo>
                        <a:pt x="365" y="0"/>
                      </a:lnTo>
                      <a:lnTo>
                        <a:pt x="322" y="3"/>
                      </a:lnTo>
                      <a:lnTo>
                        <a:pt x="281" y="11"/>
                      </a:lnTo>
                      <a:lnTo>
                        <a:pt x="241" y="21"/>
                      </a:lnTo>
                      <a:lnTo>
                        <a:pt x="203" y="37"/>
                      </a:lnTo>
                      <a:lnTo>
                        <a:pt x="169" y="55"/>
                      </a:lnTo>
                      <a:lnTo>
                        <a:pt x="136" y="76"/>
                      </a:lnTo>
                      <a:lnTo>
                        <a:pt x="107" y="99"/>
                      </a:lnTo>
                      <a:lnTo>
                        <a:pt x="80" y="127"/>
                      </a:lnTo>
                      <a:lnTo>
                        <a:pt x="57" y="155"/>
                      </a:lnTo>
                      <a:lnTo>
                        <a:pt x="38" y="187"/>
                      </a:lnTo>
                      <a:lnTo>
                        <a:pt x="22" y="220"/>
                      </a:lnTo>
                      <a:lnTo>
                        <a:pt x="11" y="255"/>
                      </a:lnTo>
                      <a:lnTo>
                        <a:pt x="3" y="292"/>
                      </a:lnTo>
                      <a:lnTo>
                        <a:pt x="0" y="330"/>
                      </a:lnTo>
                      <a:lnTo>
                        <a:pt x="2" y="367"/>
                      </a:lnTo>
                      <a:lnTo>
                        <a:pt x="8" y="404"/>
                      </a:lnTo>
                      <a:lnTo>
                        <a:pt x="15" y="439"/>
                      </a:lnTo>
                      <a:lnTo>
                        <a:pt x="26" y="471"/>
                      </a:lnTo>
                      <a:lnTo>
                        <a:pt x="39" y="502"/>
                      </a:lnTo>
                      <a:lnTo>
                        <a:pt x="57" y="531"/>
                      </a:lnTo>
                      <a:lnTo>
                        <a:pt x="74" y="557"/>
                      </a:lnTo>
                      <a:lnTo>
                        <a:pt x="94" y="582"/>
                      </a:lnTo>
                      <a:lnTo>
                        <a:pt x="116" y="605"/>
                      </a:lnTo>
                      <a:lnTo>
                        <a:pt x="139" y="625"/>
                      </a:lnTo>
                      <a:lnTo>
                        <a:pt x="162" y="642"/>
                      </a:lnTo>
                      <a:lnTo>
                        <a:pt x="186" y="658"/>
                      </a:lnTo>
                      <a:lnTo>
                        <a:pt x="212" y="671"/>
                      </a:lnTo>
                      <a:lnTo>
                        <a:pt x="237" y="682"/>
                      </a:lnTo>
                      <a:lnTo>
                        <a:pt x="262" y="690"/>
                      </a:lnTo>
                      <a:lnTo>
                        <a:pt x="287" y="695"/>
                      </a:lnTo>
                      <a:lnTo>
                        <a:pt x="313" y="698"/>
                      </a:lnTo>
                      <a:lnTo>
                        <a:pt x="339" y="698"/>
                      </a:lnTo>
                      <a:lnTo>
                        <a:pt x="365" y="695"/>
                      </a:lnTo>
                      <a:lnTo>
                        <a:pt x="391" y="690"/>
                      </a:lnTo>
                      <a:lnTo>
                        <a:pt x="417" y="682"/>
                      </a:lnTo>
                      <a:lnTo>
                        <a:pt x="442" y="674"/>
                      </a:lnTo>
                      <a:lnTo>
                        <a:pt x="466" y="662"/>
                      </a:lnTo>
                      <a:lnTo>
                        <a:pt x="487" y="649"/>
                      </a:lnTo>
                      <a:lnTo>
                        <a:pt x="507" y="635"/>
                      </a:lnTo>
                      <a:lnTo>
                        <a:pt x="523" y="619"/>
                      </a:lnTo>
                      <a:lnTo>
                        <a:pt x="538" y="603"/>
                      </a:lnTo>
                      <a:lnTo>
                        <a:pt x="548" y="586"/>
                      </a:lnTo>
                      <a:lnTo>
                        <a:pt x="555" y="567"/>
                      </a:lnTo>
                      <a:lnTo>
                        <a:pt x="556" y="548"/>
                      </a:lnTo>
                      <a:lnTo>
                        <a:pt x="553" y="528"/>
                      </a:lnTo>
                      <a:lnTo>
                        <a:pt x="546" y="510"/>
                      </a:lnTo>
                      <a:lnTo>
                        <a:pt x="527" y="478"/>
                      </a:lnTo>
                      <a:lnTo>
                        <a:pt x="516" y="458"/>
                      </a:lnTo>
                      <a:lnTo>
                        <a:pt x="506" y="448"/>
                      </a:lnTo>
                      <a:lnTo>
                        <a:pt x="500" y="445"/>
                      </a:lnTo>
                      <a:lnTo>
                        <a:pt x="494" y="451"/>
                      </a:lnTo>
                      <a:lnTo>
                        <a:pt x="487" y="461"/>
                      </a:lnTo>
                      <a:lnTo>
                        <a:pt x="476" y="474"/>
                      </a:lnTo>
                      <a:lnTo>
                        <a:pt x="461" y="488"/>
                      </a:lnTo>
                      <a:lnTo>
                        <a:pt x="453" y="495"/>
                      </a:lnTo>
                      <a:lnTo>
                        <a:pt x="441" y="501"/>
                      </a:lnTo>
                      <a:lnTo>
                        <a:pt x="431" y="507"/>
                      </a:lnTo>
                      <a:lnTo>
                        <a:pt x="419" y="512"/>
                      </a:lnTo>
                      <a:lnTo>
                        <a:pt x="406" y="517"/>
                      </a:lnTo>
                      <a:lnTo>
                        <a:pt x="394" y="520"/>
                      </a:lnTo>
                      <a:lnTo>
                        <a:pt x="379" y="523"/>
                      </a:lnTo>
                      <a:lnTo>
                        <a:pt x="365" y="524"/>
                      </a:lnTo>
                      <a:lnTo>
                        <a:pt x="349" y="524"/>
                      </a:lnTo>
                      <a:lnTo>
                        <a:pt x="334" y="523"/>
                      </a:lnTo>
                      <a:lnTo>
                        <a:pt x="317" y="520"/>
                      </a:lnTo>
                      <a:lnTo>
                        <a:pt x="301" y="515"/>
                      </a:lnTo>
                      <a:lnTo>
                        <a:pt x="284" y="511"/>
                      </a:lnTo>
                      <a:lnTo>
                        <a:pt x="265" y="504"/>
                      </a:lnTo>
                      <a:lnTo>
                        <a:pt x="248" y="494"/>
                      </a:lnTo>
                      <a:lnTo>
                        <a:pt x="229" y="484"/>
                      </a:lnTo>
                      <a:lnTo>
                        <a:pt x="193" y="458"/>
                      </a:lnTo>
                      <a:lnTo>
                        <a:pt x="162" y="426"/>
                      </a:lnTo>
                      <a:lnTo>
                        <a:pt x="139" y="390"/>
                      </a:lnTo>
                      <a:lnTo>
                        <a:pt x="127" y="351"/>
                      </a:lnTo>
                      <a:lnTo>
                        <a:pt x="130" y="308"/>
                      </a:lnTo>
                      <a:lnTo>
                        <a:pt x="152" y="262"/>
                      </a:lnTo>
                      <a:lnTo>
                        <a:pt x="195" y="216"/>
                      </a:lnTo>
                      <a:lnTo>
                        <a:pt x="262" y="167"/>
                      </a:lnTo>
                      <a:lnTo>
                        <a:pt x="303" y="145"/>
                      </a:lnTo>
                      <a:lnTo>
                        <a:pt x="345" y="131"/>
                      </a:lnTo>
                      <a:lnTo>
                        <a:pt x="386" y="121"/>
                      </a:lnTo>
                      <a:lnTo>
                        <a:pt x="430" y="116"/>
                      </a:lnTo>
                      <a:lnTo>
                        <a:pt x="471" y="118"/>
                      </a:lnTo>
                      <a:lnTo>
                        <a:pt x="512" y="124"/>
                      </a:lnTo>
                      <a:lnTo>
                        <a:pt x="552" y="132"/>
                      </a:lnTo>
                      <a:lnTo>
                        <a:pt x="592" y="147"/>
                      </a:lnTo>
                      <a:lnTo>
                        <a:pt x="631" y="165"/>
                      </a:lnTo>
                      <a:lnTo>
                        <a:pt x="667" y="187"/>
                      </a:lnTo>
                      <a:lnTo>
                        <a:pt x="702" y="211"/>
                      </a:lnTo>
                      <a:lnTo>
                        <a:pt x="735" y="239"/>
                      </a:lnTo>
                      <a:lnTo>
                        <a:pt x="765" y="269"/>
                      </a:lnTo>
                      <a:lnTo>
                        <a:pt x="794" y="301"/>
                      </a:lnTo>
                      <a:lnTo>
                        <a:pt x="818" y="335"/>
                      </a:lnTo>
                      <a:lnTo>
                        <a:pt x="840" y="371"/>
                      </a:lnTo>
                      <a:lnTo>
                        <a:pt x="844" y="374"/>
                      </a:lnTo>
                      <a:lnTo>
                        <a:pt x="849" y="377"/>
                      </a:lnTo>
                      <a:lnTo>
                        <a:pt x="853" y="377"/>
                      </a:lnTo>
                      <a:lnTo>
                        <a:pt x="857" y="374"/>
                      </a:lnTo>
                      <a:lnTo>
                        <a:pt x="860" y="371"/>
                      </a:lnTo>
                      <a:lnTo>
                        <a:pt x="863" y="367"/>
                      </a:lnTo>
                      <a:lnTo>
                        <a:pt x="863" y="363"/>
                      </a:lnTo>
                      <a:lnTo>
                        <a:pt x="862" y="358"/>
                      </a:lnTo>
                      <a:lnTo>
                        <a:pt x="862" y="358"/>
                      </a:lnTo>
                      <a:close/>
                    </a:path>
                  </a:pathLst>
                </a:custGeom>
                <a:solidFill>
                  <a:srgbClr val="3366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 name=""/>
                <p:cNvSpPr/>
                <p:nvPr/>
              </p:nvSpPr>
              <p:spPr>
                <a:xfrm>
                  <a:off x="2670120" y="3622680"/>
                  <a:ext cx="93600" cy="74520"/>
                </a:xfrm>
                <a:custGeom>
                  <a:avLst/>
                  <a:gdLst/>
                  <a:ahLst/>
                  <a:rect l="l" t="t" r="r" b="b"/>
                  <a:pathLst>
                    <a:path w="768" h="570">
                      <a:moveTo>
                        <a:pt x="766" y="312"/>
                      </a:moveTo>
                      <a:lnTo>
                        <a:pt x="751" y="278"/>
                      </a:lnTo>
                      <a:lnTo>
                        <a:pt x="732" y="243"/>
                      </a:lnTo>
                      <a:lnTo>
                        <a:pt x="710" y="211"/>
                      </a:lnTo>
                      <a:lnTo>
                        <a:pt x="686" y="181"/>
                      </a:lnTo>
                      <a:lnTo>
                        <a:pt x="661" y="152"/>
                      </a:lnTo>
                      <a:lnTo>
                        <a:pt x="633" y="125"/>
                      </a:lnTo>
                      <a:lnTo>
                        <a:pt x="604" y="100"/>
                      </a:lnTo>
                      <a:lnTo>
                        <a:pt x="574" y="77"/>
                      </a:lnTo>
                      <a:lnTo>
                        <a:pt x="542" y="57"/>
                      </a:lnTo>
                      <a:lnTo>
                        <a:pt x="509" y="40"/>
                      </a:lnTo>
                      <a:lnTo>
                        <a:pt x="474" y="26"/>
                      </a:lnTo>
                      <a:lnTo>
                        <a:pt x="440" y="14"/>
                      </a:lnTo>
                      <a:lnTo>
                        <a:pt x="404" y="5"/>
                      </a:lnTo>
                      <a:lnTo>
                        <a:pt x="369" y="1"/>
                      </a:lnTo>
                      <a:lnTo>
                        <a:pt x="333" y="0"/>
                      </a:lnTo>
                      <a:lnTo>
                        <a:pt x="297" y="1"/>
                      </a:lnTo>
                      <a:lnTo>
                        <a:pt x="237" y="10"/>
                      </a:lnTo>
                      <a:lnTo>
                        <a:pt x="193" y="17"/>
                      </a:lnTo>
                      <a:lnTo>
                        <a:pt x="165" y="23"/>
                      </a:lnTo>
                      <a:lnTo>
                        <a:pt x="147" y="30"/>
                      </a:lnTo>
                      <a:lnTo>
                        <a:pt x="139" y="34"/>
                      </a:lnTo>
                      <a:lnTo>
                        <a:pt x="137" y="39"/>
                      </a:lnTo>
                      <a:lnTo>
                        <a:pt x="137" y="40"/>
                      </a:lnTo>
                      <a:lnTo>
                        <a:pt x="139" y="41"/>
                      </a:lnTo>
                      <a:lnTo>
                        <a:pt x="104" y="64"/>
                      </a:lnTo>
                      <a:lnTo>
                        <a:pt x="74" y="90"/>
                      </a:lnTo>
                      <a:lnTo>
                        <a:pt x="48" y="119"/>
                      </a:lnTo>
                      <a:lnTo>
                        <a:pt x="28" y="152"/>
                      </a:lnTo>
                      <a:lnTo>
                        <a:pt x="13" y="187"/>
                      </a:lnTo>
                      <a:lnTo>
                        <a:pt x="3" y="226"/>
                      </a:lnTo>
                      <a:lnTo>
                        <a:pt x="0" y="266"/>
                      </a:lnTo>
                      <a:lnTo>
                        <a:pt x="5" y="311"/>
                      </a:lnTo>
                      <a:lnTo>
                        <a:pt x="12" y="342"/>
                      </a:lnTo>
                      <a:lnTo>
                        <a:pt x="23" y="373"/>
                      </a:lnTo>
                      <a:lnTo>
                        <a:pt x="38" y="403"/>
                      </a:lnTo>
                      <a:lnTo>
                        <a:pt x="55" y="430"/>
                      </a:lnTo>
                      <a:lnTo>
                        <a:pt x="75" y="458"/>
                      </a:lnTo>
                      <a:lnTo>
                        <a:pt x="98" y="483"/>
                      </a:lnTo>
                      <a:lnTo>
                        <a:pt x="123" y="505"/>
                      </a:lnTo>
                      <a:lnTo>
                        <a:pt x="150" y="525"/>
                      </a:lnTo>
                      <a:lnTo>
                        <a:pt x="178" y="543"/>
                      </a:lnTo>
                      <a:lnTo>
                        <a:pt x="208" y="555"/>
                      </a:lnTo>
                      <a:lnTo>
                        <a:pt x="238" y="564"/>
                      </a:lnTo>
                      <a:lnTo>
                        <a:pt x="270" y="570"/>
                      </a:lnTo>
                      <a:lnTo>
                        <a:pt x="301" y="570"/>
                      </a:lnTo>
                      <a:lnTo>
                        <a:pt x="333" y="566"/>
                      </a:lnTo>
                      <a:lnTo>
                        <a:pt x="365" y="557"/>
                      </a:lnTo>
                      <a:lnTo>
                        <a:pt x="396" y="541"/>
                      </a:lnTo>
                      <a:lnTo>
                        <a:pt x="408" y="537"/>
                      </a:lnTo>
                      <a:lnTo>
                        <a:pt x="418" y="531"/>
                      </a:lnTo>
                      <a:lnTo>
                        <a:pt x="425" y="524"/>
                      </a:lnTo>
                      <a:lnTo>
                        <a:pt x="432" y="515"/>
                      </a:lnTo>
                      <a:lnTo>
                        <a:pt x="437" y="505"/>
                      </a:lnTo>
                      <a:lnTo>
                        <a:pt x="440" y="495"/>
                      </a:lnTo>
                      <a:lnTo>
                        <a:pt x="440" y="483"/>
                      </a:lnTo>
                      <a:lnTo>
                        <a:pt x="438" y="472"/>
                      </a:lnTo>
                      <a:lnTo>
                        <a:pt x="434" y="462"/>
                      </a:lnTo>
                      <a:lnTo>
                        <a:pt x="427" y="452"/>
                      </a:lnTo>
                      <a:lnTo>
                        <a:pt x="419" y="443"/>
                      </a:lnTo>
                      <a:lnTo>
                        <a:pt x="409" y="437"/>
                      </a:lnTo>
                      <a:lnTo>
                        <a:pt x="399" y="433"/>
                      </a:lnTo>
                      <a:lnTo>
                        <a:pt x="389" y="430"/>
                      </a:lnTo>
                      <a:lnTo>
                        <a:pt x="378" y="430"/>
                      </a:lnTo>
                      <a:lnTo>
                        <a:pt x="366" y="433"/>
                      </a:lnTo>
                      <a:lnTo>
                        <a:pt x="347" y="437"/>
                      </a:lnTo>
                      <a:lnTo>
                        <a:pt x="329" y="439"/>
                      </a:lnTo>
                      <a:lnTo>
                        <a:pt x="309" y="437"/>
                      </a:lnTo>
                      <a:lnTo>
                        <a:pt x="288" y="436"/>
                      </a:lnTo>
                      <a:lnTo>
                        <a:pt x="268" y="432"/>
                      </a:lnTo>
                      <a:lnTo>
                        <a:pt x="250" y="424"/>
                      </a:lnTo>
                      <a:lnTo>
                        <a:pt x="231" y="417"/>
                      </a:lnTo>
                      <a:lnTo>
                        <a:pt x="212" y="407"/>
                      </a:lnTo>
                      <a:lnTo>
                        <a:pt x="196" y="397"/>
                      </a:lnTo>
                      <a:lnTo>
                        <a:pt x="180" y="384"/>
                      </a:lnTo>
                      <a:lnTo>
                        <a:pt x="167" y="371"/>
                      </a:lnTo>
                      <a:lnTo>
                        <a:pt x="154" y="357"/>
                      </a:lnTo>
                      <a:lnTo>
                        <a:pt x="146" y="341"/>
                      </a:lnTo>
                      <a:lnTo>
                        <a:pt x="139" y="324"/>
                      </a:lnTo>
                      <a:lnTo>
                        <a:pt x="136" y="306"/>
                      </a:lnTo>
                      <a:lnTo>
                        <a:pt x="134" y="288"/>
                      </a:lnTo>
                      <a:lnTo>
                        <a:pt x="143" y="252"/>
                      </a:lnTo>
                      <a:lnTo>
                        <a:pt x="162" y="221"/>
                      </a:lnTo>
                      <a:lnTo>
                        <a:pt x="186" y="194"/>
                      </a:lnTo>
                      <a:lnTo>
                        <a:pt x="216" y="171"/>
                      </a:lnTo>
                      <a:lnTo>
                        <a:pt x="245" y="154"/>
                      </a:lnTo>
                      <a:lnTo>
                        <a:pt x="270" y="139"/>
                      </a:lnTo>
                      <a:lnTo>
                        <a:pt x="287" y="132"/>
                      </a:lnTo>
                      <a:lnTo>
                        <a:pt x="294" y="129"/>
                      </a:lnTo>
                      <a:lnTo>
                        <a:pt x="294" y="128"/>
                      </a:lnTo>
                      <a:lnTo>
                        <a:pt x="293" y="126"/>
                      </a:lnTo>
                      <a:lnTo>
                        <a:pt x="291" y="126"/>
                      </a:lnTo>
                      <a:lnTo>
                        <a:pt x="291" y="125"/>
                      </a:lnTo>
                      <a:lnTo>
                        <a:pt x="324" y="122"/>
                      </a:lnTo>
                      <a:lnTo>
                        <a:pt x="358" y="122"/>
                      </a:lnTo>
                      <a:lnTo>
                        <a:pt x="391" y="124"/>
                      </a:lnTo>
                      <a:lnTo>
                        <a:pt x="422" y="128"/>
                      </a:lnTo>
                      <a:lnTo>
                        <a:pt x="454" y="134"/>
                      </a:lnTo>
                      <a:lnTo>
                        <a:pt x="486" y="142"/>
                      </a:lnTo>
                      <a:lnTo>
                        <a:pt x="516" y="152"/>
                      </a:lnTo>
                      <a:lnTo>
                        <a:pt x="546" y="165"/>
                      </a:lnTo>
                      <a:lnTo>
                        <a:pt x="575" y="180"/>
                      </a:lnTo>
                      <a:lnTo>
                        <a:pt x="602" y="196"/>
                      </a:lnTo>
                      <a:lnTo>
                        <a:pt x="630" y="214"/>
                      </a:lnTo>
                      <a:lnTo>
                        <a:pt x="656" y="233"/>
                      </a:lnTo>
                      <a:lnTo>
                        <a:pt x="680" y="255"/>
                      </a:lnTo>
                      <a:lnTo>
                        <a:pt x="705" y="278"/>
                      </a:lnTo>
                      <a:lnTo>
                        <a:pt x="726" y="301"/>
                      </a:lnTo>
                      <a:lnTo>
                        <a:pt x="748" y="327"/>
                      </a:lnTo>
                      <a:lnTo>
                        <a:pt x="751" y="329"/>
                      </a:lnTo>
                      <a:lnTo>
                        <a:pt x="755" y="331"/>
                      </a:lnTo>
                      <a:lnTo>
                        <a:pt x="759" y="331"/>
                      </a:lnTo>
                      <a:lnTo>
                        <a:pt x="762" y="329"/>
                      </a:lnTo>
                      <a:lnTo>
                        <a:pt x="765" y="327"/>
                      </a:lnTo>
                      <a:lnTo>
                        <a:pt x="768" y="322"/>
                      </a:lnTo>
                      <a:lnTo>
                        <a:pt x="768" y="316"/>
                      </a:lnTo>
                      <a:lnTo>
                        <a:pt x="766" y="312"/>
                      </a:lnTo>
                      <a:lnTo>
                        <a:pt x="766" y="312"/>
                      </a:lnTo>
                      <a:close/>
                    </a:path>
                  </a:pathLst>
                </a:custGeom>
                <a:solidFill>
                  <a:srgbClr val="3366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5" name=""/>
                <p:cNvSpPr/>
                <p:nvPr/>
              </p:nvSpPr>
              <p:spPr>
                <a:xfrm>
                  <a:off x="2490840" y="3521160"/>
                  <a:ext cx="106200" cy="84240"/>
                </a:xfrm>
                <a:custGeom>
                  <a:avLst/>
                  <a:gdLst/>
                  <a:ahLst/>
                  <a:rect l="l" t="t" r="r" b="b"/>
                  <a:pathLst>
                    <a:path w="867" h="641">
                      <a:moveTo>
                        <a:pt x="864" y="184"/>
                      </a:moveTo>
                      <a:lnTo>
                        <a:pt x="827" y="145"/>
                      </a:lnTo>
                      <a:lnTo>
                        <a:pt x="783" y="111"/>
                      </a:lnTo>
                      <a:lnTo>
                        <a:pt x="737" y="79"/>
                      </a:lnTo>
                      <a:lnTo>
                        <a:pt x="688" y="55"/>
                      </a:lnTo>
                      <a:lnTo>
                        <a:pt x="637" y="33"/>
                      </a:lnTo>
                      <a:lnTo>
                        <a:pt x="582" y="17"/>
                      </a:lnTo>
                      <a:lnTo>
                        <a:pt x="527" y="6"/>
                      </a:lnTo>
                      <a:lnTo>
                        <a:pt x="471" y="0"/>
                      </a:lnTo>
                      <a:lnTo>
                        <a:pt x="415" y="0"/>
                      </a:lnTo>
                      <a:lnTo>
                        <a:pt x="360" y="6"/>
                      </a:lnTo>
                      <a:lnTo>
                        <a:pt x="305" y="17"/>
                      </a:lnTo>
                      <a:lnTo>
                        <a:pt x="253" y="33"/>
                      </a:lnTo>
                      <a:lnTo>
                        <a:pt x="203" y="56"/>
                      </a:lnTo>
                      <a:lnTo>
                        <a:pt x="156" y="85"/>
                      </a:lnTo>
                      <a:lnTo>
                        <a:pt x="112" y="121"/>
                      </a:lnTo>
                      <a:lnTo>
                        <a:pt x="73" y="163"/>
                      </a:lnTo>
                      <a:lnTo>
                        <a:pt x="50" y="194"/>
                      </a:lnTo>
                      <a:lnTo>
                        <a:pt x="32" y="226"/>
                      </a:lnTo>
                      <a:lnTo>
                        <a:pt x="16" y="261"/>
                      </a:lnTo>
                      <a:lnTo>
                        <a:pt x="6" y="297"/>
                      </a:lnTo>
                      <a:lnTo>
                        <a:pt x="0" y="335"/>
                      </a:lnTo>
                      <a:lnTo>
                        <a:pt x="1" y="376"/>
                      </a:lnTo>
                      <a:lnTo>
                        <a:pt x="7" y="419"/>
                      </a:lnTo>
                      <a:lnTo>
                        <a:pt x="20" y="466"/>
                      </a:lnTo>
                      <a:lnTo>
                        <a:pt x="29" y="489"/>
                      </a:lnTo>
                      <a:lnTo>
                        <a:pt x="40" y="511"/>
                      </a:lnTo>
                      <a:lnTo>
                        <a:pt x="55" y="530"/>
                      </a:lnTo>
                      <a:lnTo>
                        <a:pt x="71" y="547"/>
                      </a:lnTo>
                      <a:lnTo>
                        <a:pt x="88" y="563"/>
                      </a:lnTo>
                      <a:lnTo>
                        <a:pt x="108" y="577"/>
                      </a:lnTo>
                      <a:lnTo>
                        <a:pt x="128" y="590"/>
                      </a:lnTo>
                      <a:lnTo>
                        <a:pt x="150" y="600"/>
                      </a:lnTo>
                      <a:lnTo>
                        <a:pt x="173" y="610"/>
                      </a:lnTo>
                      <a:lnTo>
                        <a:pt x="196" y="619"/>
                      </a:lnTo>
                      <a:lnTo>
                        <a:pt x="220" y="625"/>
                      </a:lnTo>
                      <a:lnTo>
                        <a:pt x="245" y="631"/>
                      </a:lnTo>
                      <a:lnTo>
                        <a:pt x="268" y="635"/>
                      </a:lnTo>
                      <a:lnTo>
                        <a:pt x="292" y="638"/>
                      </a:lnTo>
                      <a:lnTo>
                        <a:pt x="317" y="639"/>
                      </a:lnTo>
                      <a:lnTo>
                        <a:pt x="340" y="641"/>
                      </a:lnTo>
                      <a:lnTo>
                        <a:pt x="364" y="639"/>
                      </a:lnTo>
                      <a:lnTo>
                        <a:pt x="389" y="635"/>
                      </a:lnTo>
                      <a:lnTo>
                        <a:pt x="413" y="629"/>
                      </a:lnTo>
                      <a:lnTo>
                        <a:pt x="436" y="619"/>
                      </a:lnTo>
                      <a:lnTo>
                        <a:pt x="459" y="608"/>
                      </a:lnTo>
                      <a:lnTo>
                        <a:pt x="482" y="595"/>
                      </a:lnTo>
                      <a:lnTo>
                        <a:pt x="503" y="579"/>
                      </a:lnTo>
                      <a:lnTo>
                        <a:pt x="521" y="561"/>
                      </a:lnTo>
                      <a:lnTo>
                        <a:pt x="539" y="543"/>
                      </a:lnTo>
                      <a:lnTo>
                        <a:pt x="553" y="523"/>
                      </a:lnTo>
                      <a:lnTo>
                        <a:pt x="565" y="501"/>
                      </a:lnTo>
                      <a:lnTo>
                        <a:pt x="575" y="478"/>
                      </a:lnTo>
                      <a:lnTo>
                        <a:pt x="580" y="453"/>
                      </a:lnTo>
                      <a:lnTo>
                        <a:pt x="582" y="428"/>
                      </a:lnTo>
                      <a:lnTo>
                        <a:pt x="580" y="402"/>
                      </a:lnTo>
                      <a:lnTo>
                        <a:pt x="575" y="374"/>
                      </a:lnTo>
                      <a:lnTo>
                        <a:pt x="572" y="364"/>
                      </a:lnTo>
                      <a:lnTo>
                        <a:pt x="567" y="354"/>
                      </a:lnTo>
                      <a:lnTo>
                        <a:pt x="563" y="345"/>
                      </a:lnTo>
                      <a:lnTo>
                        <a:pt x="559" y="338"/>
                      </a:lnTo>
                      <a:lnTo>
                        <a:pt x="553" y="331"/>
                      </a:lnTo>
                      <a:lnTo>
                        <a:pt x="547" y="325"/>
                      </a:lnTo>
                      <a:lnTo>
                        <a:pt x="540" y="322"/>
                      </a:lnTo>
                      <a:lnTo>
                        <a:pt x="531" y="320"/>
                      </a:lnTo>
                      <a:lnTo>
                        <a:pt x="524" y="320"/>
                      </a:lnTo>
                      <a:lnTo>
                        <a:pt x="516" y="321"/>
                      </a:lnTo>
                      <a:lnTo>
                        <a:pt x="508" y="324"/>
                      </a:lnTo>
                      <a:lnTo>
                        <a:pt x="500" y="328"/>
                      </a:lnTo>
                      <a:lnTo>
                        <a:pt x="493" y="334"/>
                      </a:lnTo>
                      <a:lnTo>
                        <a:pt x="485" y="341"/>
                      </a:lnTo>
                      <a:lnTo>
                        <a:pt x="480" y="351"/>
                      </a:lnTo>
                      <a:lnTo>
                        <a:pt x="475" y="363"/>
                      </a:lnTo>
                      <a:lnTo>
                        <a:pt x="467" y="383"/>
                      </a:lnTo>
                      <a:lnTo>
                        <a:pt x="455" y="403"/>
                      </a:lnTo>
                      <a:lnTo>
                        <a:pt x="439" y="422"/>
                      </a:lnTo>
                      <a:lnTo>
                        <a:pt x="421" y="439"/>
                      </a:lnTo>
                      <a:lnTo>
                        <a:pt x="400" y="453"/>
                      </a:lnTo>
                      <a:lnTo>
                        <a:pt x="377" y="466"/>
                      </a:lnTo>
                      <a:lnTo>
                        <a:pt x="353" y="476"/>
                      </a:lnTo>
                      <a:lnTo>
                        <a:pt x="327" y="484"/>
                      </a:lnTo>
                      <a:lnTo>
                        <a:pt x="301" y="488"/>
                      </a:lnTo>
                      <a:lnTo>
                        <a:pt x="275" y="488"/>
                      </a:lnTo>
                      <a:lnTo>
                        <a:pt x="249" y="485"/>
                      </a:lnTo>
                      <a:lnTo>
                        <a:pt x="225" y="476"/>
                      </a:lnTo>
                      <a:lnTo>
                        <a:pt x="202" y="464"/>
                      </a:lnTo>
                      <a:lnTo>
                        <a:pt x="181" y="446"/>
                      </a:lnTo>
                      <a:lnTo>
                        <a:pt x="163" y="423"/>
                      </a:lnTo>
                      <a:lnTo>
                        <a:pt x="147" y="394"/>
                      </a:lnTo>
                      <a:lnTo>
                        <a:pt x="138" y="366"/>
                      </a:lnTo>
                      <a:lnTo>
                        <a:pt x="138" y="338"/>
                      </a:lnTo>
                      <a:lnTo>
                        <a:pt x="145" y="309"/>
                      </a:lnTo>
                      <a:lnTo>
                        <a:pt x="158" y="281"/>
                      </a:lnTo>
                      <a:lnTo>
                        <a:pt x="177" y="253"/>
                      </a:lnTo>
                      <a:lnTo>
                        <a:pt x="202" y="227"/>
                      </a:lnTo>
                      <a:lnTo>
                        <a:pt x="229" y="203"/>
                      </a:lnTo>
                      <a:lnTo>
                        <a:pt x="261" y="180"/>
                      </a:lnTo>
                      <a:lnTo>
                        <a:pt x="295" y="158"/>
                      </a:lnTo>
                      <a:lnTo>
                        <a:pt x="333" y="140"/>
                      </a:lnTo>
                      <a:lnTo>
                        <a:pt x="370" y="124"/>
                      </a:lnTo>
                      <a:lnTo>
                        <a:pt x="409" y="112"/>
                      </a:lnTo>
                      <a:lnTo>
                        <a:pt x="448" y="102"/>
                      </a:lnTo>
                      <a:lnTo>
                        <a:pt x="485" y="96"/>
                      </a:lnTo>
                      <a:lnTo>
                        <a:pt x="521" y="95"/>
                      </a:lnTo>
                      <a:lnTo>
                        <a:pt x="556" y="98"/>
                      </a:lnTo>
                      <a:lnTo>
                        <a:pt x="575" y="101"/>
                      </a:lnTo>
                      <a:lnTo>
                        <a:pt x="593" y="104"/>
                      </a:lnTo>
                      <a:lnTo>
                        <a:pt x="613" y="108"/>
                      </a:lnTo>
                      <a:lnTo>
                        <a:pt x="632" y="111"/>
                      </a:lnTo>
                      <a:lnTo>
                        <a:pt x="652" y="114"/>
                      </a:lnTo>
                      <a:lnTo>
                        <a:pt x="671" y="118"/>
                      </a:lnTo>
                      <a:lnTo>
                        <a:pt x="690" y="122"/>
                      </a:lnTo>
                      <a:lnTo>
                        <a:pt x="709" y="128"/>
                      </a:lnTo>
                      <a:lnTo>
                        <a:pt x="727" y="134"/>
                      </a:lnTo>
                      <a:lnTo>
                        <a:pt x="746" y="140"/>
                      </a:lnTo>
                      <a:lnTo>
                        <a:pt x="765" y="147"/>
                      </a:lnTo>
                      <a:lnTo>
                        <a:pt x="782" y="155"/>
                      </a:lnTo>
                      <a:lnTo>
                        <a:pt x="799" y="165"/>
                      </a:lnTo>
                      <a:lnTo>
                        <a:pt x="817" y="176"/>
                      </a:lnTo>
                      <a:lnTo>
                        <a:pt x="832" y="189"/>
                      </a:lnTo>
                      <a:lnTo>
                        <a:pt x="848" y="201"/>
                      </a:lnTo>
                      <a:lnTo>
                        <a:pt x="853" y="204"/>
                      </a:lnTo>
                      <a:lnTo>
                        <a:pt x="857" y="204"/>
                      </a:lnTo>
                      <a:lnTo>
                        <a:pt x="860" y="204"/>
                      </a:lnTo>
                      <a:lnTo>
                        <a:pt x="864" y="201"/>
                      </a:lnTo>
                      <a:lnTo>
                        <a:pt x="867" y="197"/>
                      </a:lnTo>
                      <a:lnTo>
                        <a:pt x="867" y="193"/>
                      </a:lnTo>
                      <a:lnTo>
                        <a:pt x="867" y="189"/>
                      </a:lnTo>
                      <a:lnTo>
                        <a:pt x="864" y="184"/>
                      </a:lnTo>
                      <a:lnTo>
                        <a:pt x="864" y="184"/>
                      </a:lnTo>
                      <a:close/>
                    </a:path>
                  </a:pathLst>
                </a:custGeom>
                <a:solidFill>
                  <a:srgbClr val="3366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586" name=""/>
            <p:cNvGrpSpPr/>
            <p:nvPr/>
          </p:nvGrpSpPr>
          <p:grpSpPr>
            <a:xfrm>
              <a:off x="757080" y="2563920"/>
              <a:ext cx="677880" cy="252360"/>
              <a:chOff x="757080" y="2563920"/>
              <a:chExt cx="677880" cy="252360"/>
            </a:xfrm>
          </p:grpSpPr>
          <p:sp>
            <p:nvSpPr>
              <p:cNvPr id="587" name=""/>
              <p:cNvSpPr/>
              <p:nvPr/>
            </p:nvSpPr>
            <p:spPr>
              <a:xfrm>
                <a:off x="757080" y="256392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823680" y="261972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149120" y="27601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828720" y="271296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30520" y="275040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272600" y="261360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3314880" y="2533680"/>
            <a:ext cx="2530440" cy="1495440"/>
            <a:chOff x="3314880" y="2533680"/>
            <a:chExt cx="2530440" cy="1495440"/>
          </a:xfrm>
        </p:grpSpPr>
        <p:sp>
          <p:nvSpPr>
            <p:cNvPr id="594" name=""/>
            <p:cNvSpPr/>
            <p:nvPr/>
          </p:nvSpPr>
          <p:spPr>
            <a:xfrm>
              <a:off x="5075280" y="3448080"/>
              <a:ext cx="770040" cy="581040"/>
            </a:xfrm>
            <a:custGeom>
              <a:avLst/>
              <a:gdLst/>
              <a:ahLst/>
              <a:rect l="l" t="t" r="r" b="b"/>
              <a:pathLst>
                <a:path w="485" h="366">
                  <a:moveTo>
                    <a:pt x="49" y="0"/>
                  </a:moveTo>
                  <a:cubicBezTo>
                    <a:pt x="24" y="76"/>
                    <a:pt x="0" y="153"/>
                    <a:pt x="61" y="180"/>
                  </a:cubicBezTo>
                  <a:cubicBezTo>
                    <a:pt x="122" y="207"/>
                    <a:pt x="345" y="131"/>
                    <a:pt x="415" y="162"/>
                  </a:cubicBezTo>
                  <a:cubicBezTo>
                    <a:pt x="485" y="193"/>
                    <a:pt x="470" y="332"/>
                    <a:pt x="481" y="36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3314880" y="2533680"/>
              <a:ext cx="1752480" cy="1076400"/>
              <a:chOff x="3314880" y="2533680"/>
              <a:chExt cx="1752480" cy="1076400"/>
            </a:xfrm>
          </p:grpSpPr>
          <p:sp>
            <p:nvSpPr>
              <p:cNvPr id="596" name=""/>
              <p:cNvSpPr/>
              <p:nvPr/>
            </p:nvSpPr>
            <p:spPr>
              <a:xfrm>
                <a:off x="3314880" y="253368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14880" y="2533680"/>
                <a:ext cx="1752480" cy="1076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399840" y="3163680"/>
                <a:ext cx="103320" cy="22320"/>
              </a:xfrm>
              <a:custGeom>
                <a:avLst/>
                <a:gdLst/>
                <a:ahLst/>
                <a:rect l="l" t="t" r="r" b="b"/>
                <a:pathLst>
                  <a:path w="255" h="60">
                    <a:moveTo>
                      <a:pt x="0" y="0"/>
                    </a:moveTo>
                    <a:lnTo>
                      <a:pt x="120" y="45"/>
                    </a:lnTo>
                    <a:lnTo>
                      <a:pt x="225" y="60"/>
                    </a:lnTo>
                    <a:lnTo>
                      <a:pt x="240" y="60"/>
                    </a:lnTo>
                    <a:lnTo>
                      <a:pt x="255" y="60"/>
                    </a:lnTo>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9" name=""/>
              <p:cNvSpPr/>
              <p:nvPr/>
            </p:nvSpPr>
            <p:spPr>
              <a:xfrm>
                <a:off x="3552120" y="3403800"/>
                <a:ext cx="42480" cy="11160"/>
              </a:xfrm>
              <a:custGeom>
                <a:avLst/>
                <a:gdLst/>
                <a:ahLst/>
                <a:rect l="l" t="t" r="r" b="b"/>
                <a:pathLst>
                  <a:path w="105" h="30">
                    <a:moveTo>
                      <a:pt x="0" y="30"/>
                    </a:moveTo>
                    <a:lnTo>
                      <a:pt x="60" y="15"/>
                    </a:lnTo>
                    <a:lnTo>
                      <a:pt x="105" y="0"/>
                    </a:lnTo>
                  </a:path>
                </a:pathLst>
              </a:custGeom>
              <a:solidFill>
                <a:srgbClr val="ffffcc"/>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3953880" y="3465000"/>
                <a:ext cx="30240" cy="44280"/>
              </a:xfrm>
              <a:custGeom>
                <a:avLst/>
                <a:gdLst/>
                <a:ahLst/>
                <a:rect l="l" t="t" r="r" b="b"/>
                <a:pathLst>
                  <a:path w="75" h="120">
                    <a:moveTo>
                      <a:pt x="0" y="0"/>
                    </a:moveTo>
                    <a:lnTo>
                      <a:pt x="30" y="60"/>
                    </a:lnTo>
                    <a:lnTo>
                      <a:pt x="75"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 name=""/>
              <p:cNvSpPr/>
              <p:nvPr/>
            </p:nvSpPr>
            <p:spPr>
              <a:xfrm>
                <a:off x="4471200" y="3398040"/>
                <a:ext cx="11880" cy="50040"/>
              </a:xfrm>
              <a:custGeom>
                <a:avLst/>
                <a:gdLst/>
                <a:ahLst/>
                <a:rect l="l" t="t" r="r" b="b"/>
                <a:pathLst>
                  <a:path w="30" h="135">
                    <a:moveTo>
                      <a:pt x="0" y="135"/>
                    </a:moveTo>
                    <a:lnTo>
                      <a:pt x="15" y="75"/>
                    </a:lnTo>
                    <a:lnTo>
                      <a:pt x="30" y="0"/>
                    </a:lnTo>
                  </a:path>
                </a:pathLst>
              </a:custGeom>
              <a:solidFill>
                <a:srgbClr val="ffffcc"/>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2" name=""/>
              <p:cNvSpPr/>
              <p:nvPr/>
            </p:nvSpPr>
            <p:spPr>
              <a:xfrm>
                <a:off x="4702320" y="3108240"/>
                <a:ext cx="127800" cy="1728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951800" y="2912760"/>
                <a:ext cx="60840" cy="66600"/>
              </a:xfrm>
              <a:custGeom>
                <a:avLst/>
                <a:gdLst/>
                <a:ahLst/>
                <a:rect l="l" t="t" r="r" b="b"/>
                <a:pathLst>
                  <a:path w="150" h="180">
                    <a:moveTo>
                      <a:pt x="0" y="180"/>
                    </a:moveTo>
                    <a:lnTo>
                      <a:pt x="75" y="105"/>
                    </a:lnTo>
                    <a:lnTo>
                      <a:pt x="150" y="0"/>
                    </a:lnTo>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4866480" y="2667240"/>
                <a:ext cx="6120" cy="33480"/>
              </a:xfrm>
              <a:custGeom>
                <a:avLst/>
                <a:gdLst/>
                <a:ahLst/>
                <a:rect l="l" t="t" r="r" b="b"/>
                <a:pathLst>
                  <a:path w="15" h="90">
                    <a:moveTo>
                      <a:pt x="15" y="90"/>
                    </a:moveTo>
                    <a:lnTo>
                      <a:pt x="15" y="90"/>
                    </a:lnTo>
                    <a:lnTo>
                      <a:pt x="15" y="75"/>
                    </a:lnTo>
                    <a:lnTo>
                      <a:pt x="15" y="45"/>
                    </a:lnTo>
                    <a:lnTo>
                      <a:pt x="0" y="0"/>
                    </a:lnTo>
                  </a:path>
                </a:pathLst>
              </a:custGeom>
              <a:solidFill>
                <a:srgbClr val="ffffcc"/>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5" name=""/>
              <p:cNvSpPr/>
              <p:nvPr/>
            </p:nvSpPr>
            <p:spPr>
              <a:xfrm>
                <a:off x="4495320" y="2589120"/>
                <a:ext cx="30240" cy="44280"/>
              </a:xfrm>
              <a:custGeom>
                <a:avLst/>
                <a:gdLst/>
                <a:ahLst/>
                <a:rect l="l" t="t" r="r" b="b"/>
                <a:pathLst>
                  <a:path w="75" h="120">
                    <a:moveTo>
                      <a:pt x="75" y="0"/>
                    </a:moveTo>
                    <a:lnTo>
                      <a:pt x="30" y="60"/>
                    </a:lnTo>
                    <a:lnTo>
                      <a:pt x="0" y="120"/>
                    </a:lnTo>
                  </a:path>
                </a:pathLst>
              </a:custGeom>
              <a:solidFill>
                <a:srgbClr val="ffffcc"/>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6" name=""/>
              <p:cNvSpPr/>
              <p:nvPr/>
            </p:nvSpPr>
            <p:spPr>
              <a:xfrm flipH="1">
                <a:off x="4209480" y="2617200"/>
                <a:ext cx="18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 name=""/>
              <p:cNvSpPr/>
              <p:nvPr/>
            </p:nvSpPr>
            <p:spPr>
              <a:xfrm flipH="1" flipV="1">
                <a:off x="3880800" y="2661480"/>
                <a:ext cx="54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8" name=""/>
              <p:cNvSpPr/>
              <p:nvPr/>
            </p:nvSpPr>
            <p:spPr>
              <a:xfrm>
                <a:off x="3472920" y="2890440"/>
                <a:ext cx="5760" cy="38880"/>
              </a:xfrm>
              <a:custGeom>
                <a:avLst/>
                <a:gdLst/>
                <a:ahLst/>
                <a:rect l="l" t="t" r="r" b="b"/>
                <a:pathLst>
                  <a:path w="15" h="105">
                    <a:moveTo>
                      <a:pt x="0" y="0"/>
                    </a:moveTo>
                    <a:lnTo>
                      <a:pt x="15" y="45"/>
                    </a:lnTo>
                    <a:lnTo>
                      <a:pt x="15" y="105"/>
                    </a:lnTo>
                  </a:path>
                </a:pathLst>
              </a:custGeom>
              <a:solidFill>
                <a:srgbClr val="ffff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609" name=""/>
            <p:cNvGrpSpPr/>
            <p:nvPr/>
          </p:nvGrpSpPr>
          <p:grpSpPr>
            <a:xfrm>
              <a:off x="3397320" y="3367080"/>
              <a:ext cx="677880" cy="252360"/>
              <a:chOff x="3397320" y="3367080"/>
              <a:chExt cx="677880" cy="252360"/>
            </a:xfrm>
          </p:grpSpPr>
          <p:sp>
            <p:nvSpPr>
              <p:cNvPr id="610" name=""/>
              <p:cNvSpPr/>
              <p:nvPr/>
            </p:nvSpPr>
            <p:spPr>
              <a:xfrm>
                <a:off x="3397320" y="3367080"/>
                <a:ext cx="67788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3463920" y="3422880"/>
                <a:ext cx="4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789360" y="3563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468960" y="3516120"/>
                <a:ext cx="1879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470760" y="3553560"/>
                <a:ext cx="186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912840" y="3416760"/>
                <a:ext cx="148320" cy="80280"/>
              </a:xfrm>
              <a:prstGeom prst="rect">
                <a:avLst/>
              </a:prstGeom>
              <a:solidFill>
                <a:srgbClr val="00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616" name=""/>
            <p:cNvSpPr/>
            <p:nvPr/>
          </p:nvSpPr>
          <p:spPr>
            <a:xfrm>
              <a:off x="3705120" y="2762280"/>
              <a:ext cx="1038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4743360" y="3228840"/>
              <a:ext cx="677880" cy="252720"/>
              <a:chOff x="4743360" y="3228840"/>
              <a:chExt cx="677880" cy="252720"/>
            </a:xfrm>
          </p:grpSpPr>
          <p:sp>
            <p:nvSpPr>
              <p:cNvPr id="618" name=""/>
              <p:cNvSpPr/>
              <p:nvPr/>
            </p:nvSpPr>
            <p:spPr>
              <a:xfrm>
                <a:off x="4743360" y="3228840"/>
                <a:ext cx="677880" cy="252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9" name=""/>
              <p:cNvGrpSpPr/>
              <p:nvPr/>
            </p:nvGrpSpPr>
            <p:grpSpPr>
              <a:xfrm>
                <a:off x="4809600" y="3278160"/>
                <a:ext cx="597600" cy="147600"/>
                <a:chOff x="4809600" y="3278160"/>
                <a:chExt cx="597600" cy="147600"/>
              </a:xfrm>
            </p:grpSpPr>
            <p:sp>
              <p:nvSpPr>
                <p:cNvPr id="620" name=""/>
                <p:cNvSpPr/>
                <p:nvPr/>
              </p:nvSpPr>
              <p:spPr>
                <a:xfrm flipH="1">
                  <a:off x="4809600" y="328464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135400" y="34257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15000" y="3378240"/>
                  <a:ext cx="1886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16440" y="3414600"/>
                  <a:ext cx="1872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259240" y="3278160"/>
                  <a:ext cx="147960" cy="81000"/>
                </a:xfrm>
                <a:prstGeom prst="rect">
                  <a:avLst/>
                </a:prstGeom>
                <a:solidFill>
                  <a:srgbClr val="00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sp>
        <p:nvSpPr>
          <p:cNvPr id="625" name=""/>
          <p:cNvSpPr/>
          <p:nvPr/>
        </p:nvSpPr>
        <p:spPr>
          <a:xfrm>
            <a:off x="4495680" y="3809880"/>
            <a:ext cx="4114800" cy="213372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572000" y="5638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a:t>
            </a:r>
            <a:endParaRPr b="0" lang="en-US" sz="1600" spc="-1" strike="noStrike">
              <a:solidFill>
                <a:srgbClr val="000000"/>
              </a:solidFill>
              <a:latin typeface="Times New Roman"/>
            </a:endParaRPr>
          </a:p>
        </p:txBody>
      </p:sp>
      <p:sp>
        <p:nvSpPr>
          <p:cNvPr id="6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e Internet – an example</a:t>
            </a:r>
            <a:endParaRPr b="1" lang="en-US" sz="3600" spc="-1" strike="noStrike">
              <a:solidFill>
                <a:srgbClr val="336699"/>
              </a:solidFill>
              <a:latin typeface="Times New Roman"/>
            </a:endParaRPr>
          </a:p>
        </p:txBody>
      </p:sp>
      <p:grpSp>
        <p:nvGrpSpPr>
          <p:cNvPr id="628" name=""/>
          <p:cNvGrpSpPr/>
          <p:nvPr/>
        </p:nvGrpSpPr>
        <p:grpSpPr>
          <a:xfrm>
            <a:off x="6781680" y="1219320"/>
            <a:ext cx="2057400" cy="1662120"/>
            <a:chOff x="6781680" y="1219320"/>
            <a:chExt cx="2057400" cy="1662120"/>
          </a:xfrm>
        </p:grpSpPr>
        <p:sp>
          <p:nvSpPr>
            <p:cNvPr id="629" name=""/>
            <p:cNvSpPr/>
            <p:nvPr/>
          </p:nvSpPr>
          <p:spPr>
            <a:xfrm>
              <a:off x="7858080" y="1663560"/>
              <a:ext cx="33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 name=""/>
            <p:cNvGrpSpPr/>
            <p:nvPr/>
          </p:nvGrpSpPr>
          <p:grpSpPr>
            <a:xfrm>
              <a:off x="7238880" y="1219320"/>
              <a:ext cx="662040" cy="763560"/>
              <a:chOff x="7238880" y="1219320"/>
              <a:chExt cx="662040" cy="763560"/>
            </a:xfrm>
          </p:grpSpPr>
          <p:sp>
            <p:nvSpPr>
              <p:cNvPr id="631" name=""/>
              <p:cNvSpPr/>
              <p:nvPr/>
            </p:nvSpPr>
            <p:spPr>
              <a:xfrm>
                <a:off x="7238880" y="1219320"/>
                <a:ext cx="662040" cy="76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38880" y="1219320"/>
                <a:ext cx="662040" cy="763560"/>
              </a:xfrm>
              <a:custGeom>
                <a:avLst/>
                <a:gdLst/>
                <a:ahLst/>
                <a:rect l="l" t="t" r="r" b="b"/>
                <a:pathLst>
                  <a:path w="2850" h="2850">
                    <a:moveTo>
                      <a:pt x="225" y="225"/>
                    </a:moveTo>
                    <a:lnTo>
                      <a:pt x="1200" y="225"/>
                    </a:lnTo>
                    <a:lnTo>
                      <a:pt x="1200" y="315"/>
                    </a:lnTo>
                    <a:lnTo>
                      <a:pt x="225" y="315"/>
                    </a:lnTo>
                    <a:lnTo>
                      <a:pt x="225" y="225"/>
                    </a:lnTo>
                    <a:close/>
                    <a:moveTo>
                      <a:pt x="0" y="570"/>
                    </a:moveTo>
                    <a:lnTo>
                      <a:pt x="1440" y="570"/>
                    </a:lnTo>
                    <a:lnTo>
                      <a:pt x="1440" y="1860"/>
                    </a:lnTo>
                    <a:lnTo>
                      <a:pt x="2850" y="1860"/>
                    </a:lnTo>
                    <a:lnTo>
                      <a:pt x="0" y="570"/>
                    </a:lnTo>
                    <a:close/>
                    <a:moveTo>
                      <a:pt x="1530" y="165"/>
                    </a:moveTo>
                    <a:lnTo>
                      <a:pt x="2700" y="165"/>
                    </a:lnTo>
                    <a:lnTo>
                      <a:pt x="2700" y="210"/>
                    </a:lnTo>
                    <a:lnTo>
                      <a:pt x="1530" y="210"/>
                    </a:lnTo>
                    <a:lnTo>
                      <a:pt x="1530" y="165"/>
                    </a:lnTo>
                    <a:close/>
                    <a:moveTo>
                      <a:pt x="1530" y="435"/>
                    </a:moveTo>
                    <a:lnTo>
                      <a:pt x="2700" y="435"/>
                    </a:lnTo>
                    <a:lnTo>
                      <a:pt x="2700" y="465"/>
                    </a:lnTo>
                    <a:lnTo>
                      <a:pt x="1530" y="465"/>
                    </a:lnTo>
                    <a:lnTo>
                      <a:pt x="1530" y="435"/>
                    </a:lnTo>
                    <a:close/>
                    <a:moveTo>
                      <a:pt x="1530" y="795"/>
                    </a:moveTo>
                    <a:lnTo>
                      <a:pt x="2700" y="795"/>
                    </a:lnTo>
                    <a:lnTo>
                      <a:pt x="2700" y="840"/>
                    </a:lnTo>
                    <a:lnTo>
                      <a:pt x="1530" y="840"/>
                    </a:lnTo>
                    <a:lnTo>
                      <a:pt x="1530" y="795"/>
                    </a:lnTo>
                    <a:close/>
                    <a:moveTo>
                      <a:pt x="1530" y="1065"/>
                    </a:moveTo>
                    <a:lnTo>
                      <a:pt x="2685" y="1065"/>
                    </a:lnTo>
                    <a:lnTo>
                      <a:pt x="2685" y="1110"/>
                    </a:lnTo>
                    <a:lnTo>
                      <a:pt x="1530" y="1110"/>
                    </a:lnTo>
                    <a:lnTo>
                      <a:pt x="1530" y="1065"/>
                    </a:lnTo>
                    <a:close/>
                    <a:moveTo>
                      <a:pt x="1530" y="555"/>
                    </a:moveTo>
                    <a:lnTo>
                      <a:pt x="1635" y="555"/>
                    </a:lnTo>
                    <a:lnTo>
                      <a:pt x="1635" y="630"/>
                    </a:lnTo>
                    <a:lnTo>
                      <a:pt x="1530" y="630"/>
                    </a:lnTo>
                    <a:lnTo>
                      <a:pt x="1530" y="555"/>
                    </a:lnTo>
                    <a:close/>
                    <a:moveTo>
                      <a:pt x="1905" y="555"/>
                    </a:moveTo>
                    <a:lnTo>
                      <a:pt x="1995" y="555"/>
                    </a:lnTo>
                    <a:lnTo>
                      <a:pt x="1995" y="630"/>
                    </a:lnTo>
                    <a:lnTo>
                      <a:pt x="1905" y="630"/>
                    </a:lnTo>
                    <a:lnTo>
                      <a:pt x="1905" y="555"/>
                    </a:lnTo>
                    <a:close/>
                    <a:moveTo>
                      <a:pt x="2235" y="555"/>
                    </a:moveTo>
                    <a:lnTo>
                      <a:pt x="2340" y="555"/>
                    </a:lnTo>
                    <a:lnTo>
                      <a:pt x="2340" y="630"/>
                    </a:lnTo>
                    <a:lnTo>
                      <a:pt x="2235" y="630"/>
                    </a:lnTo>
                    <a:lnTo>
                      <a:pt x="2235" y="555"/>
                    </a:lnTo>
                    <a:close/>
                    <a:moveTo>
                      <a:pt x="2610" y="555"/>
                    </a:moveTo>
                    <a:lnTo>
                      <a:pt x="2700" y="555"/>
                    </a:lnTo>
                    <a:lnTo>
                      <a:pt x="2700" y="630"/>
                    </a:lnTo>
                    <a:lnTo>
                      <a:pt x="2610" y="630"/>
                    </a:lnTo>
                    <a:lnTo>
                      <a:pt x="2610" y="555"/>
                    </a:lnTo>
                    <a:close/>
                    <a:moveTo>
                      <a:pt x="1530" y="1275"/>
                    </a:moveTo>
                    <a:lnTo>
                      <a:pt x="1635" y="1275"/>
                    </a:lnTo>
                    <a:lnTo>
                      <a:pt x="1635" y="1350"/>
                    </a:lnTo>
                    <a:lnTo>
                      <a:pt x="1530" y="1350"/>
                    </a:lnTo>
                    <a:lnTo>
                      <a:pt x="1530" y="1275"/>
                    </a:lnTo>
                    <a:close/>
                    <a:moveTo>
                      <a:pt x="1905" y="1275"/>
                    </a:moveTo>
                    <a:lnTo>
                      <a:pt x="1995" y="1275"/>
                    </a:lnTo>
                    <a:lnTo>
                      <a:pt x="1995" y="1350"/>
                    </a:lnTo>
                    <a:lnTo>
                      <a:pt x="1905" y="1350"/>
                    </a:lnTo>
                    <a:lnTo>
                      <a:pt x="1905" y="1275"/>
                    </a:lnTo>
                    <a:close/>
                    <a:moveTo>
                      <a:pt x="2235" y="1275"/>
                    </a:moveTo>
                    <a:lnTo>
                      <a:pt x="2340" y="1275"/>
                    </a:lnTo>
                    <a:lnTo>
                      <a:pt x="2340" y="1350"/>
                    </a:lnTo>
                    <a:lnTo>
                      <a:pt x="2235" y="1350"/>
                    </a:lnTo>
                    <a:lnTo>
                      <a:pt x="2235" y="1275"/>
                    </a:lnTo>
                    <a:close/>
                    <a:moveTo>
                      <a:pt x="2610" y="1275"/>
                    </a:moveTo>
                    <a:lnTo>
                      <a:pt x="2700" y="1275"/>
                    </a:lnTo>
                    <a:lnTo>
                      <a:pt x="2700" y="1350"/>
                    </a:lnTo>
                    <a:lnTo>
                      <a:pt x="2610" y="1350"/>
                    </a:lnTo>
                    <a:lnTo>
                      <a:pt x="2610" y="1275"/>
                    </a:lnTo>
                    <a:close/>
                    <a:moveTo>
                      <a:pt x="1440" y="1860"/>
                    </a:moveTo>
                    <a:lnTo>
                      <a:pt x="1440" y="2025"/>
                    </a:lnTo>
                    <a:lnTo>
                      <a:pt x="1440" y="2640"/>
                    </a:lnTo>
                    <a:lnTo>
                      <a:pt x="1440" y="2850"/>
                    </a:lnTo>
                    <a:lnTo>
                      <a:pt x="1440" y="1860"/>
                    </a:lnTo>
                    <a:close/>
                    <a:moveTo>
                      <a:pt x="1440" y="570"/>
                    </a:moveTo>
                    <a:lnTo>
                      <a:pt x="1440" y="465"/>
                    </a:lnTo>
                    <a:lnTo>
                      <a:pt x="1440" y="120"/>
                    </a:lnTo>
                    <a:lnTo>
                      <a:pt x="1440" y="0"/>
                    </a:lnTo>
                    <a:lnTo>
                      <a:pt x="1440" y="5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238880" y="1219320"/>
                <a:ext cx="6620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291080" y="1279440"/>
                <a:ext cx="226440" cy="24120"/>
              </a:xfrm>
              <a:prstGeom prst="rect">
                <a:avLst/>
              </a:prstGeom>
              <a:solidFill>
                <a:srgbClr val="c0c0c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7238880" y="1371960"/>
                <a:ext cx="662040" cy="345600"/>
              </a:xfrm>
              <a:custGeom>
                <a:avLst/>
                <a:gdLst/>
                <a:ahLst/>
                <a:rect l="l" t="t" r="r" b="b"/>
                <a:pathLst>
                  <a:path w="2850" h="1290">
                    <a:moveTo>
                      <a:pt x="0" y="0"/>
                    </a:moveTo>
                    <a:lnTo>
                      <a:pt x="1440" y="0"/>
                    </a:lnTo>
                    <a:lnTo>
                      <a:pt x="1440" y="1290"/>
                    </a:lnTo>
                    <a:lnTo>
                      <a:pt x="2850" y="12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594200" y="126324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7" name=""/>
              <p:cNvSpPr/>
              <p:nvPr/>
            </p:nvSpPr>
            <p:spPr>
              <a:xfrm>
                <a:off x="7594200" y="1335600"/>
                <a:ext cx="271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7594200" y="1432080"/>
                <a:ext cx="2718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9" name=""/>
              <p:cNvSpPr/>
              <p:nvPr/>
            </p:nvSpPr>
            <p:spPr>
              <a:xfrm>
                <a:off x="7594200" y="1504440"/>
                <a:ext cx="268200" cy="11880"/>
              </a:xfrm>
              <a:prstGeom prst="rect">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40" name=""/>
              <p:cNvSpPr/>
              <p:nvPr/>
            </p:nvSpPr>
            <p:spPr>
              <a:xfrm>
                <a:off x="7594200" y="136800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1" name=""/>
              <p:cNvSpPr/>
              <p:nvPr/>
            </p:nvSpPr>
            <p:spPr>
              <a:xfrm>
                <a:off x="76813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2" name=""/>
              <p:cNvSpPr/>
              <p:nvPr/>
            </p:nvSpPr>
            <p:spPr>
              <a:xfrm>
                <a:off x="7758000" y="136800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 name=""/>
              <p:cNvSpPr/>
              <p:nvPr/>
            </p:nvSpPr>
            <p:spPr>
              <a:xfrm>
                <a:off x="7845120" y="136800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4" name=""/>
              <p:cNvSpPr/>
              <p:nvPr/>
            </p:nvSpPr>
            <p:spPr>
              <a:xfrm>
                <a:off x="7594200" y="1560960"/>
                <a:ext cx="24120" cy="19800"/>
              </a:xfrm>
              <a:prstGeom prst="rect">
                <a:avLst/>
              </a:prstGeom>
              <a:solidFill>
                <a:srgbClr val="339966"/>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5" name=""/>
              <p:cNvSpPr/>
              <p:nvPr/>
            </p:nvSpPr>
            <p:spPr>
              <a:xfrm>
                <a:off x="76813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6" name=""/>
              <p:cNvSpPr/>
              <p:nvPr/>
            </p:nvSpPr>
            <p:spPr>
              <a:xfrm>
                <a:off x="7758000" y="1560960"/>
                <a:ext cx="24120" cy="19800"/>
              </a:xfrm>
              <a:prstGeom prst="rect">
                <a:avLst/>
              </a:prstGeom>
              <a:solidFill>
                <a:srgbClr val="ff99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7" name=""/>
              <p:cNvSpPr/>
              <p:nvPr/>
            </p:nvSpPr>
            <p:spPr>
              <a:xfrm>
                <a:off x="7845120" y="1560960"/>
                <a:ext cx="20880" cy="19800"/>
              </a:xfrm>
              <a:prstGeom prst="rect">
                <a:avLst/>
              </a:prstGeom>
              <a:solidFill>
                <a:srgbClr val="993300"/>
              </a:solidFill>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8" name=""/>
              <p:cNvSpPr/>
              <p:nvPr/>
            </p:nvSpPr>
            <p:spPr>
              <a:xfrm>
                <a:off x="7573320" y="1717560"/>
                <a:ext cx="360" cy="265320"/>
              </a:xfrm>
              <a:custGeom>
                <a:avLst/>
                <a:gdLst/>
                <a:ahLst/>
                <a:rect l="l" t="t" r="r" b="b"/>
                <a:pathLst>
                  <a:path w="0" h="990">
                    <a:moveTo>
                      <a:pt x="0" y="0"/>
                    </a:moveTo>
                    <a:lnTo>
                      <a:pt x="0" y="165"/>
                    </a:lnTo>
                    <a:lnTo>
                      <a:pt x="0" y="780"/>
                    </a:lnTo>
                    <a:lnTo>
                      <a:pt x="0" y="99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573320" y="1219320"/>
                <a:ext cx="360" cy="152640"/>
              </a:xfrm>
              <a:custGeom>
                <a:avLst/>
                <a:gdLst/>
                <a:ahLst/>
                <a:rect l="l" t="t" r="r" b="b"/>
                <a:pathLst>
                  <a:path w="0" h="570">
                    <a:moveTo>
                      <a:pt x="0" y="570"/>
                    </a:moveTo>
                    <a:lnTo>
                      <a:pt x="0" y="465"/>
                    </a:lnTo>
                    <a:lnTo>
                      <a:pt x="0" y="120"/>
                    </a:lnTo>
                    <a:lnTo>
                      <a:pt x="0" y="0"/>
                    </a:lnTo>
                    <a:lnTo>
                      <a:pt x="0" y="5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0" name=""/>
            <p:cNvSpPr/>
            <p:nvPr/>
          </p:nvSpPr>
          <p:spPr>
            <a:xfrm>
              <a:off x="8083440" y="1441440"/>
              <a:ext cx="395280" cy="5000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81680" y="205740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WWW Server</a:t>
              </a:r>
              <a:br>
                <a:rPr sz="1600"/>
              </a:br>
              <a:r>
                <a:rPr b="0" lang="en-US" sz="1600" spc="-1" strike="noStrike">
                  <a:solidFill>
                    <a:srgbClr val="0000ff"/>
                  </a:solidFill>
                  <a:latin typeface="Times New Roman"/>
                </a:rPr>
                <a:t>Name: </a:t>
              </a:r>
              <a:r>
                <a:rPr b="0" lang="en-US" sz="1600" spc="-1" strike="noStrike" u="sng">
                  <a:solidFill>
                    <a:srgbClr val="0033cc"/>
                  </a:solidFill>
                  <a:uFillTx/>
                  <a:latin typeface="Times New Roman"/>
                  <a:hlinkClick r:id="rId1"/>
                </a:rPr>
                <a:t>www.foo.com</a:t>
              </a:r>
              <a:br>
                <a:rPr sz="1600"/>
              </a:br>
              <a:r>
                <a:rPr b="0" lang="en-US" sz="1600" spc="-1" strike="noStrike">
                  <a:solidFill>
                    <a:srgbClr val="0000ff"/>
                  </a:solidFill>
                  <a:latin typeface="Times New Roman"/>
                </a:rPr>
                <a:t>Address:129.16.3.1</a:t>
              </a:r>
              <a:endParaRPr b="0" lang="en-US" sz="1600" spc="-1" strike="noStrike">
                <a:solidFill>
                  <a:srgbClr val="000000"/>
                </a:solidFill>
                <a:latin typeface="Times New Roman"/>
              </a:endParaRPr>
            </a:p>
          </p:txBody>
        </p:sp>
      </p:grpSp>
      <p:grpSp>
        <p:nvGrpSpPr>
          <p:cNvPr id="652" name=""/>
          <p:cNvGrpSpPr/>
          <p:nvPr/>
        </p:nvGrpSpPr>
        <p:grpSpPr>
          <a:xfrm>
            <a:off x="4648320" y="4952880"/>
            <a:ext cx="745920" cy="379440"/>
            <a:chOff x="4648320" y="4952880"/>
            <a:chExt cx="745920" cy="379440"/>
          </a:xfrm>
        </p:grpSpPr>
        <p:sp>
          <p:nvSpPr>
            <p:cNvPr id="653" name=""/>
            <p:cNvSpPr/>
            <p:nvPr/>
          </p:nvSpPr>
          <p:spPr>
            <a:xfrm>
              <a:off x="4648320" y="495288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081400" y="497844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55" name=""/>
          <p:cNvGrpSpPr/>
          <p:nvPr/>
        </p:nvGrpSpPr>
        <p:grpSpPr>
          <a:xfrm>
            <a:off x="7315200" y="5029200"/>
            <a:ext cx="745920" cy="379440"/>
            <a:chOff x="7315200" y="5029200"/>
            <a:chExt cx="745920" cy="379440"/>
          </a:xfrm>
        </p:grpSpPr>
        <p:sp>
          <p:nvSpPr>
            <p:cNvPr id="656" name=""/>
            <p:cNvSpPr/>
            <p:nvPr/>
          </p:nvSpPr>
          <p:spPr>
            <a:xfrm>
              <a:off x="7315200" y="50292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48280" y="50547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58" name=""/>
          <p:cNvGrpSpPr/>
          <p:nvPr/>
        </p:nvGrpSpPr>
        <p:grpSpPr>
          <a:xfrm>
            <a:off x="7238520" y="5486400"/>
            <a:ext cx="718920" cy="379440"/>
            <a:chOff x="7238520" y="5486400"/>
            <a:chExt cx="718920" cy="379440"/>
          </a:xfrm>
        </p:grpSpPr>
        <p:sp>
          <p:nvSpPr>
            <p:cNvPr id="659" name=""/>
            <p:cNvSpPr/>
            <p:nvPr/>
          </p:nvSpPr>
          <p:spPr>
            <a:xfrm flipH="1">
              <a:off x="7238160" y="54864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252200" y="54993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661" name=""/>
          <p:cNvGrpSpPr/>
          <p:nvPr/>
        </p:nvGrpSpPr>
        <p:grpSpPr>
          <a:xfrm>
            <a:off x="4647960" y="5334120"/>
            <a:ext cx="718920" cy="379440"/>
            <a:chOff x="4647960" y="5334120"/>
            <a:chExt cx="718920" cy="379440"/>
          </a:xfrm>
        </p:grpSpPr>
        <p:sp>
          <p:nvSpPr>
            <p:cNvPr id="662" name=""/>
            <p:cNvSpPr/>
            <p:nvPr/>
          </p:nvSpPr>
          <p:spPr>
            <a:xfrm flipH="1">
              <a:off x="4647600" y="53341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4661640" y="53470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664" name=""/>
          <p:cNvGrpSpPr/>
          <p:nvPr/>
        </p:nvGrpSpPr>
        <p:grpSpPr>
          <a:xfrm>
            <a:off x="1066680" y="4800600"/>
            <a:ext cx="745920" cy="379440"/>
            <a:chOff x="1066680" y="4800600"/>
            <a:chExt cx="745920" cy="379440"/>
          </a:xfrm>
        </p:grpSpPr>
        <p:sp>
          <p:nvSpPr>
            <p:cNvPr id="665" name=""/>
            <p:cNvSpPr/>
            <p:nvPr/>
          </p:nvSpPr>
          <p:spPr>
            <a:xfrm>
              <a:off x="1066680" y="48006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499760" y="4826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67" name=""/>
          <p:cNvGrpSpPr/>
          <p:nvPr/>
        </p:nvGrpSpPr>
        <p:grpSpPr>
          <a:xfrm>
            <a:off x="914040" y="6019920"/>
            <a:ext cx="718920" cy="379440"/>
            <a:chOff x="914040" y="6019920"/>
            <a:chExt cx="718920" cy="379440"/>
          </a:xfrm>
        </p:grpSpPr>
        <p:sp>
          <p:nvSpPr>
            <p:cNvPr id="668" name=""/>
            <p:cNvSpPr/>
            <p:nvPr/>
          </p:nvSpPr>
          <p:spPr>
            <a:xfrm flipH="1">
              <a:off x="913680" y="60199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927720" y="60328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670" name=""/>
          <p:cNvGrpSpPr/>
          <p:nvPr/>
        </p:nvGrpSpPr>
        <p:grpSpPr>
          <a:xfrm>
            <a:off x="1066680" y="4800600"/>
            <a:ext cx="745920" cy="379440"/>
            <a:chOff x="1066680" y="4800600"/>
            <a:chExt cx="745920" cy="379440"/>
          </a:xfrm>
        </p:grpSpPr>
        <p:sp>
          <p:nvSpPr>
            <p:cNvPr id="671" name=""/>
            <p:cNvSpPr/>
            <p:nvPr/>
          </p:nvSpPr>
          <p:spPr>
            <a:xfrm>
              <a:off x="1066680" y="48006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99760" y="4826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73" name=""/>
          <p:cNvGrpSpPr/>
          <p:nvPr/>
        </p:nvGrpSpPr>
        <p:grpSpPr>
          <a:xfrm>
            <a:off x="4648320" y="4952880"/>
            <a:ext cx="745920" cy="379440"/>
            <a:chOff x="4648320" y="4952880"/>
            <a:chExt cx="745920" cy="379440"/>
          </a:xfrm>
        </p:grpSpPr>
        <p:sp>
          <p:nvSpPr>
            <p:cNvPr id="674" name=""/>
            <p:cNvSpPr/>
            <p:nvPr/>
          </p:nvSpPr>
          <p:spPr>
            <a:xfrm>
              <a:off x="4648320" y="495288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081400" y="497844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76" name=""/>
          <p:cNvGrpSpPr/>
          <p:nvPr/>
        </p:nvGrpSpPr>
        <p:grpSpPr>
          <a:xfrm>
            <a:off x="5791320" y="3657600"/>
            <a:ext cx="745920" cy="379440"/>
            <a:chOff x="5791320" y="3657600"/>
            <a:chExt cx="745920" cy="379440"/>
          </a:xfrm>
        </p:grpSpPr>
        <p:sp>
          <p:nvSpPr>
            <p:cNvPr id="677" name=""/>
            <p:cNvSpPr/>
            <p:nvPr/>
          </p:nvSpPr>
          <p:spPr>
            <a:xfrm>
              <a:off x="5791320" y="36576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224400" y="3683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79" name=""/>
          <p:cNvGrpSpPr/>
          <p:nvPr/>
        </p:nvGrpSpPr>
        <p:grpSpPr>
          <a:xfrm>
            <a:off x="5029200" y="2895480"/>
            <a:ext cx="745920" cy="379440"/>
            <a:chOff x="5029200" y="2895480"/>
            <a:chExt cx="745920" cy="379440"/>
          </a:xfrm>
        </p:grpSpPr>
        <p:sp>
          <p:nvSpPr>
            <p:cNvPr id="680" name=""/>
            <p:cNvSpPr/>
            <p:nvPr/>
          </p:nvSpPr>
          <p:spPr>
            <a:xfrm>
              <a:off x="5029200" y="289548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462280" y="292104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82" name=""/>
          <p:cNvGrpSpPr/>
          <p:nvPr/>
        </p:nvGrpSpPr>
        <p:grpSpPr>
          <a:xfrm>
            <a:off x="3657600" y="3048120"/>
            <a:ext cx="745920" cy="379440"/>
            <a:chOff x="3657600" y="3048120"/>
            <a:chExt cx="745920" cy="379440"/>
          </a:xfrm>
        </p:grpSpPr>
        <p:sp>
          <p:nvSpPr>
            <p:cNvPr id="683" name=""/>
            <p:cNvSpPr/>
            <p:nvPr/>
          </p:nvSpPr>
          <p:spPr>
            <a:xfrm>
              <a:off x="3657600" y="304812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90680" y="30736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85" name=""/>
          <p:cNvGrpSpPr/>
          <p:nvPr/>
        </p:nvGrpSpPr>
        <p:grpSpPr>
          <a:xfrm>
            <a:off x="1905120" y="3200400"/>
            <a:ext cx="745920" cy="379440"/>
            <a:chOff x="1905120" y="3200400"/>
            <a:chExt cx="745920" cy="379440"/>
          </a:xfrm>
        </p:grpSpPr>
        <p:sp>
          <p:nvSpPr>
            <p:cNvPr id="686" name=""/>
            <p:cNvSpPr/>
            <p:nvPr/>
          </p:nvSpPr>
          <p:spPr>
            <a:xfrm>
              <a:off x="1905120" y="32004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338200" y="32259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88" name=""/>
          <p:cNvGrpSpPr/>
          <p:nvPr/>
        </p:nvGrpSpPr>
        <p:grpSpPr>
          <a:xfrm>
            <a:off x="990720" y="2286000"/>
            <a:ext cx="745920" cy="379440"/>
            <a:chOff x="990720" y="2286000"/>
            <a:chExt cx="745920" cy="379440"/>
          </a:xfrm>
        </p:grpSpPr>
        <p:sp>
          <p:nvSpPr>
            <p:cNvPr id="689" name=""/>
            <p:cNvSpPr/>
            <p:nvPr/>
          </p:nvSpPr>
          <p:spPr>
            <a:xfrm>
              <a:off x="990720" y="22860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423800" y="23115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91" name=""/>
          <p:cNvGrpSpPr/>
          <p:nvPr/>
        </p:nvGrpSpPr>
        <p:grpSpPr>
          <a:xfrm>
            <a:off x="1600200" y="1828800"/>
            <a:ext cx="745920" cy="379440"/>
            <a:chOff x="1600200" y="1828800"/>
            <a:chExt cx="745920" cy="379440"/>
          </a:xfrm>
        </p:grpSpPr>
        <p:sp>
          <p:nvSpPr>
            <p:cNvPr id="692" name=""/>
            <p:cNvSpPr/>
            <p:nvPr/>
          </p:nvSpPr>
          <p:spPr>
            <a:xfrm>
              <a:off x="1600200" y="18288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033280" y="18543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94" name=""/>
          <p:cNvGrpSpPr/>
          <p:nvPr/>
        </p:nvGrpSpPr>
        <p:grpSpPr>
          <a:xfrm>
            <a:off x="3886200" y="1371600"/>
            <a:ext cx="745920" cy="379440"/>
            <a:chOff x="3886200" y="1371600"/>
            <a:chExt cx="745920" cy="379440"/>
          </a:xfrm>
        </p:grpSpPr>
        <p:sp>
          <p:nvSpPr>
            <p:cNvPr id="695" name=""/>
            <p:cNvSpPr/>
            <p:nvPr/>
          </p:nvSpPr>
          <p:spPr>
            <a:xfrm>
              <a:off x="3886200" y="13716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319280" y="1397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697" name=""/>
          <p:cNvGrpSpPr/>
          <p:nvPr/>
        </p:nvGrpSpPr>
        <p:grpSpPr>
          <a:xfrm>
            <a:off x="5181480" y="1371600"/>
            <a:ext cx="745920" cy="379440"/>
            <a:chOff x="5181480" y="1371600"/>
            <a:chExt cx="745920" cy="379440"/>
          </a:xfrm>
        </p:grpSpPr>
        <p:sp>
          <p:nvSpPr>
            <p:cNvPr id="698" name=""/>
            <p:cNvSpPr/>
            <p:nvPr/>
          </p:nvSpPr>
          <p:spPr>
            <a:xfrm>
              <a:off x="5181480" y="13716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614560" y="1397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700" name=""/>
          <p:cNvGrpSpPr/>
          <p:nvPr/>
        </p:nvGrpSpPr>
        <p:grpSpPr>
          <a:xfrm>
            <a:off x="6477120" y="1447920"/>
            <a:ext cx="745920" cy="379440"/>
            <a:chOff x="6477120" y="1447920"/>
            <a:chExt cx="745920" cy="379440"/>
          </a:xfrm>
        </p:grpSpPr>
        <p:sp>
          <p:nvSpPr>
            <p:cNvPr id="701" name=""/>
            <p:cNvSpPr/>
            <p:nvPr/>
          </p:nvSpPr>
          <p:spPr>
            <a:xfrm>
              <a:off x="6477120" y="144792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910200" y="14734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grpSp>
        <p:nvGrpSpPr>
          <p:cNvPr id="703" name=""/>
          <p:cNvGrpSpPr/>
          <p:nvPr/>
        </p:nvGrpSpPr>
        <p:grpSpPr>
          <a:xfrm>
            <a:off x="7238880" y="1600200"/>
            <a:ext cx="745920" cy="379440"/>
            <a:chOff x="7238880" y="1600200"/>
            <a:chExt cx="745920" cy="379440"/>
          </a:xfrm>
        </p:grpSpPr>
        <p:sp>
          <p:nvSpPr>
            <p:cNvPr id="704" name=""/>
            <p:cNvSpPr/>
            <p:nvPr/>
          </p:nvSpPr>
          <p:spPr>
            <a:xfrm>
              <a:off x="7238880" y="1600200"/>
              <a:ext cx="718920" cy="379440"/>
            </a:xfrm>
            <a:prstGeom prst="rightArrow">
              <a:avLst>
                <a:gd name="adj1" fmla="val 50000"/>
                <a:gd name="adj2" fmla="val 473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671960" y="16257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
              </a:r>
              <a:endParaRPr b="0" lang="en-US" sz="1600" spc="-1" strike="noStrike">
                <a:solidFill>
                  <a:srgbClr val="000000"/>
                </a:solidFill>
                <a:latin typeface="Times New Roman"/>
              </a:endParaRPr>
            </a:p>
          </p:txBody>
        </p:sp>
      </p:grpSp>
      <p:sp>
        <p:nvSpPr>
          <p:cNvPr id="706" name=""/>
          <p:cNvSpPr/>
          <p:nvPr/>
        </p:nvSpPr>
        <p:spPr>
          <a:xfrm>
            <a:off x="6934320" y="4114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ww.foo.com?</a:t>
            </a:r>
            <a:endParaRPr b="0" lang="en-US" sz="1800" spc="-1" strike="noStrike">
              <a:solidFill>
                <a:srgbClr val="000000"/>
              </a:solidFill>
              <a:latin typeface="Times New Roman"/>
            </a:endParaRPr>
          </a:p>
        </p:txBody>
      </p:sp>
      <p:sp>
        <p:nvSpPr>
          <p:cNvPr id="707" name=""/>
          <p:cNvSpPr/>
          <p:nvPr/>
        </p:nvSpPr>
        <p:spPr>
          <a:xfrm>
            <a:off x="7010280" y="5867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9.16.3.1!</a:t>
            </a:r>
            <a:endParaRPr b="0" lang="en-US" sz="1800" spc="-1" strike="noStrike">
              <a:solidFill>
                <a:srgbClr val="000000"/>
              </a:solidFill>
              <a:latin typeface="Times New Roman"/>
            </a:endParaRPr>
          </a:p>
        </p:txBody>
      </p:sp>
      <p:grpSp>
        <p:nvGrpSpPr>
          <p:cNvPr id="708" name=""/>
          <p:cNvGrpSpPr/>
          <p:nvPr/>
        </p:nvGrpSpPr>
        <p:grpSpPr>
          <a:xfrm>
            <a:off x="6019560" y="1905120"/>
            <a:ext cx="718920" cy="379440"/>
            <a:chOff x="6019560" y="1905120"/>
            <a:chExt cx="718920" cy="379440"/>
          </a:xfrm>
        </p:grpSpPr>
        <p:sp>
          <p:nvSpPr>
            <p:cNvPr id="709" name=""/>
            <p:cNvSpPr/>
            <p:nvPr/>
          </p:nvSpPr>
          <p:spPr>
            <a:xfrm flipH="1">
              <a:off x="6019200" y="19051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6033240" y="19180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11" name=""/>
          <p:cNvGrpSpPr/>
          <p:nvPr/>
        </p:nvGrpSpPr>
        <p:grpSpPr>
          <a:xfrm>
            <a:off x="4800240" y="1828800"/>
            <a:ext cx="718920" cy="379440"/>
            <a:chOff x="4800240" y="1828800"/>
            <a:chExt cx="718920" cy="379440"/>
          </a:xfrm>
        </p:grpSpPr>
        <p:sp>
          <p:nvSpPr>
            <p:cNvPr id="712" name=""/>
            <p:cNvSpPr/>
            <p:nvPr/>
          </p:nvSpPr>
          <p:spPr>
            <a:xfrm flipH="1">
              <a:off x="4799880" y="18288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4813920" y="18417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14" name=""/>
          <p:cNvGrpSpPr/>
          <p:nvPr/>
        </p:nvGrpSpPr>
        <p:grpSpPr>
          <a:xfrm>
            <a:off x="3428640" y="1828800"/>
            <a:ext cx="718920" cy="379440"/>
            <a:chOff x="3428640" y="1828800"/>
            <a:chExt cx="718920" cy="379440"/>
          </a:xfrm>
        </p:grpSpPr>
        <p:sp>
          <p:nvSpPr>
            <p:cNvPr id="715" name=""/>
            <p:cNvSpPr/>
            <p:nvPr/>
          </p:nvSpPr>
          <p:spPr>
            <a:xfrm flipH="1">
              <a:off x="3428280" y="18288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442320" y="18417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17" name=""/>
          <p:cNvGrpSpPr/>
          <p:nvPr/>
        </p:nvGrpSpPr>
        <p:grpSpPr>
          <a:xfrm>
            <a:off x="837720" y="1905120"/>
            <a:ext cx="718920" cy="379440"/>
            <a:chOff x="837720" y="1905120"/>
            <a:chExt cx="718920" cy="379440"/>
          </a:xfrm>
        </p:grpSpPr>
        <p:sp>
          <p:nvSpPr>
            <p:cNvPr id="718" name=""/>
            <p:cNvSpPr/>
            <p:nvPr/>
          </p:nvSpPr>
          <p:spPr>
            <a:xfrm flipH="1">
              <a:off x="837360" y="19051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851400" y="19180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20" name=""/>
          <p:cNvGrpSpPr/>
          <p:nvPr/>
        </p:nvGrpSpPr>
        <p:grpSpPr>
          <a:xfrm>
            <a:off x="533160" y="2743200"/>
            <a:ext cx="718920" cy="379440"/>
            <a:chOff x="533160" y="2743200"/>
            <a:chExt cx="718920" cy="379440"/>
          </a:xfrm>
        </p:grpSpPr>
        <p:sp>
          <p:nvSpPr>
            <p:cNvPr id="721" name=""/>
            <p:cNvSpPr/>
            <p:nvPr/>
          </p:nvSpPr>
          <p:spPr>
            <a:xfrm flipH="1">
              <a:off x="532800" y="27432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546840" y="27561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23" name=""/>
          <p:cNvGrpSpPr/>
          <p:nvPr/>
        </p:nvGrpSpPr>
        <p:grpSpPr>
          <a:xfrm>
            <a:off x="1447560" y="3657600"/>
            <a:ext cx="718920" cy="379440"/>
            <a:chOff x="1447560" y="3657600"/>
            <a:chExt cx="718920" cy="379440"/>
          </a:xfrm>
        </p:grpSpPr>
        <p:sp>
          <p:nvSpPr>
            <p:cNvPr id="724" name=""/>
            <p:cNvSpPr/>
            <p:nvPr/>
          </p:nvSpPr>
          <p:spPr>
            <a:xfrm flipH="1">
              <a:off x="1447200" y="36576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461240" y="36705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26" name=""/>
          <p:cNvGrpSpPr/>
          <p:nvPr/>
        </p:nvGrpSpPr>
        <p:grpSpPr>
          <a:xfrm>
            <a:off x="3200040" y="3505320"/>
            <a:ext cx="718920" cy="379440"/>
            <a:chOff x="3200040" y="3505320"/>
            <a:chExt cx="718920" cy="379440"/>
          </a:xfrm>
        </p:grpSpPr>
        <p:sp>
          <p:nvSpPr>
            <p:cNvPr id="727" name=""/>
            <p:cNvSpPr/>
            <p:nvPr/>
          </p:nvSpPr>
          <p:spPr>
            <a:xfrm flipH="1">
              <a:off x="3199680" y="35053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3213720" y="35182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29" name=""/>
          <p:cNvGrpSpPr/>
          <p:nvPr/>
        </p:nvGrpSpPr>
        <p:grpSpPr>
          <a:xfrm>
            <a:off x="4495320" y="3429000"/>
            <a:ext cx="718920" cy="379440"/>
            <a:chOff x="4495320" y="3429000"/>
            <a:chExt cx="718920" cy="379440"/>
          </a:xfrm>
        </p:grpSpPr>
        <p:sp>
          <p:nvSpPr>
            <p:cNvPr id="730" name=""/>
            <p:cNvSpPr/>
            <p:nvPr/>
          </p:nvSpPr>
          <p:spPr>
            <a:xfrm flipH="1">
              <a:off x="4494960" y="34290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4509000" y="34419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32" name=""/>
          <p:cNvGrpSpPr/>
          <p:nvPr/>
        </p:nvGrpSpPr>
        <p:grpSpPr>
          <a:xfrm>
            <a:off x="5257440" y="4114800"/>
            <a:ext cx="718920" cy="379440"/>
            <a:chOff x="5257440" y="4114800"/>
            <a:chExt cx="718920" cy="379440"/>
          </a:xfrm>
        </p:grpSpPr>
        <p:sp>
          <p:nvSpPr>
            <p:cNvPr id="733" name=""/>
            <p:cNvSpPr/>
            <p:nvPr/>
          </p:nvSpPr>
          <p:spPr>
            <a:xfrm flipH="1">
              <a:off x="5257080" y="411480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5271120" y="412776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35" name=""/>
          <p:cNvGrpSpPr/>
          <p:nvPr/>
        </p:nvGrpSpPr>
        <p:grpSpPr>
          <a:xfrm>
            <a:off x="4647960" y="5334120"/>
            <a:ext cx="718920" cy="379440"/>
            <a:chOff x="4647960" y="5334120"/>
            <a:chExt cx="718920" cy="379440"/>
          </a:xfrm>
        </p:grpSpPr>
        <p:sp>
          <p:nvSpPr>
            <p:cNvPr id="736" name=""/>
            <p:cNvSpPr/>
            <p:nvPr/>
          </p:nvSpPr>
          <p:spPr>
            <a:xfrm flipH="1">
              <a:off x="4647600" y="53341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4661640" y="53470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grpSp>
        <p:nvGrpSpPr>
          <p:cNvPr id="738" name=""/>
          <p:cNvGrpSpPr/>
          <p:nvPr/>
        </p:nvGrpSpPr>
        <p:grpSpPr>
          <a:xfrm>
            <a:off x="914040" y="6019920"/>
            <a:ext cx="718920" cy="379440"/>
            <a:chOff x="914040" y="6019920"/>
            <a:chExt cx="718920" cy="379440"/>
          </a:xfrm>
        </p:grpSpPr>
        <p:sp>
          <p:nvSpPr>
            <p:cNvPr id="739" name=""/>
            <p:cNvSpPr/>
            <p:nvPr/>
          </p:nvSpPr>
          <p:spPr>
            <a:xfrm flipH="1">
              <a:off x="913680" y="6019920"/>
              <a:ext cx="718920" cy="379440"/>
            </a:xfrm>
            <a:prstGeom prst="rightArrow">
              <a:avLst>
                <a:gd name="adj1" fmla="val 50000"/>
                <a:gd name="adj2" fmla="val 47367"/>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927720" y="6032880"/>
              <a:ext cx="31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a:t>
              </a:r>
              <a:endParaRPr b="0" lang="en-US" sz="1600" spc="-1" strike="noStrike">
                <a:solidFill>
                  <a:srgbClr val="000000"/>
                </a:solidFill>
                <a:latin typeface="Times New Roman"/>
              </a:endParaRPr>
            </a:p>
          </p:txBody>
        </p:sp>
      </p:grpSp>
      <p:sp>
        <p:nvSpPr>
          <p:cNvPr id="741" name=""/>
          <p:cNvSpPr/>
          <p:nvPr/>
        </p:nvSpPr>
        <p:spPr>
          <a:xfrm>
            <a:off x="2376360" y="4824360"/>
            <a:ext cx="2328840" cy="838080"/>
          </a:xfrm>
          <a:custGeom>
            <a:avLst/>
            <a:gdLst/>
            <a:ahLst/>
            <a:rect l="l" t="t" r="r" b="b"/>
            <a:pathLst>
              <a:path w="1104" h="528">
                <a:moveTo>
                  <a:pt x="0" y="528"/>
                </a:moveTo>
                <a:cubicBezTo>
                  <a:pt x="48" y="524"/>
                  <a:pt x="96" y="520"/>
                  <a:pt x="192" y="480"/>
                </a:cubicBezTo>
                <a:cubicBezTo>
                  <a:pt x="288" y="440"/>
                  <a:pt x="472" y="360"/>
                  <a:pt x="576" y="288"/>
                </a:cubicBezTo>
                <a:cubicBezTo>
                  <a:pt x="680" y="216"/>
                  <a:pt x="728" y="96"/>
                  <a:pt x="816" y="48"/>
                </a:cubicBezTo>
                <a:cubicBezTo>
                  <a:pt x="904" y="0"/>
                  <a:pt x="1056" y="8"/>
                  <a:pt x="11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993600" y="422604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www.foo.com/foo.html</a:t>
            </a:r>
            <a:endParaRPr b="0" lang="en-US" sz="1800" spc="-1" strike="noStrike">
              <a:solidFill>
                <a:srgbClr val="000000"/>
              </a:solidFill>
              <a:latin typeface="Times New Roman"/>
            </a:endParaRPr>
          </a:p>
        </p:txBody>
      </p:sp>
      <p:sp>
        <p:nvSpPr>
          <p:cNvPr id="743" name=""/>
          <p:cNvSpPr/>
          <p:nvPr/>
        </p:nvSpPr>
        <p:spPr>
          <a:xfrm>
            <a:off x="1603440" y="4226040"/>
            <a:ext cx="1371600" cy="380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7</a:t>
            </a:r>
          </a:p>
        </p:txBody>
      </p:sp>
      <p:sp>
        <p:nvSpPr>
          <p:cNvPr id="4" name="PlaceHolder 3"/>
          <p:cNvSpPr>
            <a:spLocks noGrp="1"/>
          </p:cNvSpPr>
          <p:nvPr>
            <p:ph type="sldNum" idx="3"/>
          </p:nvPr>
        </p:nvSpPr>
        <p:spPr/>
        <p:txBody>
          <a:bodyPr/>
          <a:p>
            <a:fld id="{751FF2DF-73B2-4F55-B3BC-A2657B1D9CC1}" type="slidenum">
              <a:t>3</a:t>
            </a:fld>
          </a:p>
        </p:txBody>
      </p:sp>
      <p:sp>
        <p:nvSpPr>
          <p:cNvPr id="5" name="PlaceHolder 4"/>
          <p:cNvSpPr>
            <a:spLocks noGrp="1"/>
          </p:cNvSpPr>
          <p:nvPr>
            <p:ph type="dt" idx="1"/>
          </p:nvPr>
        </p:nvSpPr>
        <p:spPr/>
        <p:txBody>
          <a:bodyPr/>
          <a:p>
            <a:fld id="{E4516565-23A4-46D3-8372-F7E94F151D4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NS [1]</a:t>
            </a:r>
            <a:endParaRPr b="1" lang="en-US" sz="3600" spc="-1" strike="noStrike">
              <a:solidFill>
                <a:srgbClr val="336699"/>
              </a:solidFill>
              <a:latin typeface="Times New Roman"/>
            </a:endParaRPr>
          </a:p>
        </p:txBody>
      </p:sp>
      <p:sp>
        <p:nvSpPr>
          <p:cNvPr id="745"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Global, distributed name spac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Nodes form a tre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Hierarchical delegation</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Domai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ingle IP network, e.g.:</a:t>
            </a:r>
            <a:br>
              <a:rPr sz="2000"/>
            </a:br>
            <a:r>
              <a:rPr b="0" lang="en-GB" sz="2000" spc="-1" strike="noStrike">
                <a:solidFill>
                  <a:srgbClr val="0033cc"/>
                </a:solidFill>
                <a:latin typeface="Times New Roman"/>
              </a:rPr>
              <a:t>cs.ucl.ac.uk</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ultiple IP networks:</a:t>
            </a:r>
            <a:br>
              <a:rPr sz="2000"/>
            </a:br>
            <a:r>
              <a:rPr b="0" lang="en-GB" sz="2000" spc="-1" strike="noStrike">
                <a:solidFill>
                  <a:srgbClr val="0033cc"/>
                </a:solidFill>
                <a:latin typeface="Times New Roman"/>
              </a:rPr>
              <a:t>ibm.com</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DNS server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ervers for each domain</a:t>
            </a:r>
            <a:endParaRPr b="0" lang="en-US" sz="2000" spc="-1" strike="noStrike">
              <a:solidFill>
                <a:srgbClr val="0033cc"/>
              </a:solidFill>
              <a:latin typeface="Times New Roman"/>
            </a:endParaRPr>
          </a:p>
        </p:txBody>
      </p:sp>
      <p:grpSp>
        <p:nvGrpSpPr>
          <p:cNvPr id="746" name=""/>
          <p:cNvGrpSpPr/>
          <p:nvPr/>
        </p:nvGrpSpPr>
        <p:grpSpPr>
          <a:xfrm>
            <a:off x="6164640" y="2743200"/>
            <a:ext cx="958680" cy="586440"/>
            <a:chOff x="6164640" y="2743200"/>
            <a:chExt cx="958680" cy="586440"/>
          </a:xfrm>
        </p:grpSpPr>
        <p:sp>
          <p:nvSpPr>
            <p:cNvPr id="747" name=""/>
            <p:cNvSpPr/>
            <p:nvPr/>
          </p:nvSpPr>
          <p:spPr>
            <a:xfrm>
              <a:off x="6164640" y="30225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a:t>
              </a:r>
              <a:endParaRPr b="0" lang="en-US" sz="1400" spc="-1" strike="noStrike">
                <a:solidFill>
                  <a:srgbClr val="000000"/>
                </a:solidFill>
                <a:latin typeface="Times New Roman"/>
              </a:endParaRPr>
            </a:p>
          </p:txBody>
        </p:sp>
        <p:sp>
          <p:nvSpPr>
            <p:cNvPr id="748" name=""/>
            <p:cNvSpPr/>
            <p:nvPr/>
          </p:nvSpPr>
          <p:spPr>
            <a:xfrm>
              <a:off x="6773400" y="302256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a:t>
              </a:r>
              <a:endParaRPr b="0" lang="en-US" sz="1400" spc="-1" strike="noStrike">
                <a:solidFill>
                  <a:srgbClr val="000000"/>
                </a:solidFill>
                <a:latin typeface="Times New Roman"/>
              </a:endParaRPr>
            </a:p>
          </p:txBody>
        </p:sp>
        <p:sp>
          <p:nvSpPr>
            <p:cNvPr id="749" name=""/>
            <p:cNvSpPr/>
            <p:nvPr/>
          </p:nvSpPr>
          <p:spPr>
            <a:xfrm flipH="1">
              <a:off x="6326280" y="27432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30840" y="27432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4572000" y="1905120"/>
            <a:ext cx="4131360" cy="967320"/>
            <a:chOff x="4572000" y="1905120"/>
            <a:chExt cx="4131360" cy="967320"/>
          </a:xfrm>
        </p:grpSpPr>
        <p:sp>
          <p:nvSpPr>
            <p:cNvPr id="752" name=""/>
            <p:cNvSpPr/>
            <p:nvPr/>
          </p:nvSpPr>
          <p:spPr>
            <a:xfrm>
              <a:off x="6466320" y="2489040"/>
              <a:ext cx="36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k</a:t>
              </a:r>
              <a:endParaRPr b="0" lang="en-US" sz="1400" spc="-1" strike="noStrike">
                <a:solidFill>
                  <a:srgbClr val="000000"/>
                </a:solidFill>
                <a:latin typeface="Times New Roman"/>
              </a:endParaRPr>
            </a:p>
          </p:txBody>
        </p:sp>
        <p:sp>
          <p:nvSpPr>
            <p:cNvPr id="753" name=""/>
            <p:cNvSpPr/>
            <p:nvPr/>
          </p:nvSpPr>
          <p:spPr>
            <a:xfrm>
              <a:off x="4902840" y="2565360"/>
              <a:ext cx="43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u</a:t>
              </a:r>
              <a:endParaRPr b="0" lang="en-US" sz="1400" spc="-1" strike="noStrike">
                <a:solidFill>
                  <a:srgbClr val="000000"/>
                </a:solidFill>
                <a:latin typeface="Times New Roman"/>
              </a:endParaRPr>
            </a:p>
          </p:txBody>
        </p:sp>
        <p:sp>
          <p:nvSpPr>
            <p:cNvPr id="754" name=""/>
            <p:cNvSpPr/>
            <p:nvPr/>
          </p:nvSpPr>
          <p:spPr>
            <a:xfrm>
              <a:off x="5295240" y="256536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a:t>
              </a:r>
              <a:endParaRPr b="0" lang="en-US" sz="1400" spc="-1" strike="noStrike">
                <a:solidFill>
                  <a:srgbClr val="000000"/>
                </a:solidFill>
                <a:latin typeface="Times New Roman"/>
              </a:endParaRPr>
            </a:p>
          </p:txBody>
        </p:sp>
        <p:sp>
          <p:nvSpPr>
            <p:cNvPr id="755" name=""/>
            <p:cNvSpPr/>
            <p:nvPr/>
          </p:nvSpPr>
          <p:spPr>
            <a:xfrm>
              <a:off x="4572000" y="2565360"/>
              <a:ext cx="45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ov</a:t>
              </a:r>
              <a:endParaRPr b="0" lang="en-US" sz="1400" spc="-1" strike="noStrike">
                <a:solidFill>
                  <a:srgbClr val="000000"/>
                </a:solidFill>
                <a:latin typeface="Times New Roman"/>
              </a:endParaRPr>
            </a:p>
          </p:txBody>
        </p:sp>
        <p:sp>
          <p:nvSpPr>
            <p:cNvPr id="756" name=""/>
            <p:cNvSpPr/>
            <p:nvPr/>
          </p:nvSpPr>
          <p:spPr>
            <a:xfrm>
              <a:off x="7543080" y="248904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t>
              </a:r>
              <a:endParaRPr b="0" lang="en-US" sz="1400" spc="-1" strike="noStrike">
                <a:solidFill>
                  <a:srgbClr val="000000"/>
                </a:solidFill>
                <a:latin typeface="Times New Roman"/>
              </a:endParaRPr>
            </a:p>
          </p:txBody>
        </p:sp>
        <p:sp>
          <p:nvSpPr>
            <p:cNvPr id="757" name=""/>
            <p:cNvSpPr/>
            <p:nvPr/>
          </p:nvSpPr>
          <p:spPr>
            <a:xfrm>
              <a:off x="8362440" y="2489040"/>
              <a:ext cx="34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Times New Roman"/>
              </a:endParaRPr>
            </a:p>
          </p:txBody>
        </p:sp>
        <p:sp>
          <p:nvSpPr>
            <p:cNvPr id="758" name=""/>
            <p:cNvSpPr/>
            <p:nvPr/>
          </p:nvSpPr>
          <p:spPr>
            <a:xfrm flipH="1">
              <a:off x="4802040" y="1905120"/>
              <a:ext cx="182880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2920" y="1905120"/>
              <a:ext cx="14475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5563800" y="1905120"/>
              <a:ext cx="106668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630840" y="19051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630840" y="19051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630840" y="1905120"/>
              <a:ext cx="19051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869080" y="2666880"/>
              <a:ext cx="380880" cy="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935760" y="2666880"/>
              <a:ext cx="380880" cy="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26480" y="2666880"/>
              <a:ext cx="304560" cy="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7" name=""/>
          <p:cNvGrpSpPr/>
          <p:nvPr/>
        </p:nvGrpSpPr>
        <p:grpSpPr>
          <a:xfrm>
            <a:off x="6097680" y="3809880"/>
            <a:ext cx="589320" cy="1119960"/>
            <a:chOff x="6097680" y="3809880"/>
            <a:chExt cx="589320" cy="1119960"/>
          </a:xfrm>
        </p:grpSpPr>
        <p:sp>
          <p:nvSpPr>
            <p:cNvPr id="768" name=""/>
            <p:cNvSpPr/>
            <p:nvPr/>
          </p:nvSpPr>
          <p:spPr>
            <a:xfrm>
              <a:off x="6164280" y="4013280"/>
              <a:ext cx="33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769" name=""/>
            <p:cNvSpPr/>
            <p:nvPr/>
          </p:nvSpPr>
          <p:spPr>
            <a:xfrm>
              <a:off x="6097680" y="46227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rhu</a:t>
              </a:r>
              <a:endParaRPr b="0" lang="en-US" sz="1400" spc="-1" strike="noStrike">
                <a:solidFill>
                  <a:srgbClr val="000000"/>
                </a:solidFill>
                <a:latin typeface="Times New Roman"/>
              </a:endParaRPr>
            </a:p>
          </p:txBody>
        </p:sp>
        <p:sp>
          <p:nvSpPr>
            <p:cNvPr id="770" name=""/>
            <p:cNvSpPr/>
            <p:nvPr/>
          </p:nvSpPr>
          <p:spPr>
            <a:xfrm>
              <a:off x="6326280" y="4343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26280" y="3809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4954680" y="3276720"/>
            <a:ext cx="2917080" cy="535680"/>
            <a:chOff x="4954680" y="3276720"/>
            <a:chExt cx="2917080" cy="535680"/>
          </a:xfrm>
        </p:grpSpPr>
        <p:sp>
          <p:nvSpPr>
            <p:cNvPr id="773" name=""/>
            <p:cNvSpPr/>
            <p:nvPr/>
          </p:nvSpPr>
          <p:spPr>
            <a:xfrm>
              <a:off x="6159960" y="3479760"/>
              <a:ext cx="400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cl</a:t>
              </a:r>
              <a:endParaRPr b="0" lang="en-US" sz="1400" spc="-1" strike="noStrike">
                <a:solidFill>
                  <a:srgbClr val="000000"/>
                </a:solidFill>
                <a:latin typeface="Times New Roman"/>
              </a:endParaRPr>
            </a:p>
          </p:txBody>
        </p:sp>
        <p:sp>
          <p:nvSpPr>
            <p:cNvPr id="774" name=""/>
            <p:cNvSpPr/>
            <p:nvPr/>
          </p:nvSpPr>
          <p:spPr>
            <a:xfrm>
              <a:off x="6326280" y="3276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5335560" y="3276720"/>
              <a:ext cx="9907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954680" y="350532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rey</a:t>
              </a:r>
              <a:endParaRPr b="0" lang="en-US" sz="1400" spc="-1" strike="noStrike">
                <a:solidFill>
                  <a:srgbClr val="000000"/>
                </a:solidFill>
                <a:latin typeface="Times New Roman"/>
              </a:endParaRPr>
            </a:p>
          </p:txBody>
        </p:sp>
        <p:sp>
          <p:nvSpPr>
            <p:cNvPr id="777" name=""/>
            <p:cNvSpPr/>
            <p:nvPr/>
          </p:nvSpPr>
          <p:spPr>
            <a:xfrm>
              <a:off x="6326280" y="3276720"/>
              <a:ext cx="106668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935040" y="3505320"/>
              <a:ext cx="93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mbridge</a:t>
              </a:r>
              <a:endParaRPr b="0" lang="en-US" sz="1400" spc="-1" strike="noStrike">
                <a:solidFill>
                  <a:srgbClr val="000000"/>
                </a:solidFill>
                <a:latin typeface="Times New Roman"/>
              </a:endParaRPr>
            </a:p>
          </p:txBody>
        </p:sp>
        <p:sp>
          <p:nvSpPr>
            <p:cNvPr id="779" name=""/>
            <p:cNvSpPr/>
            <p:nvPr/>
          </p:nvSpPr>
          <p:spPr>
            <a:xfrm>
              <a:off x="6630840" y="3657600"/>
              <a:ext cx="304920" cy="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716440" y="3657600"/>
              <a:ext cx="304920" cy="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5088240" y="4800600"/>
            <a:ext cx="1473120" cy="927720"/>
            <a:chOff x="5088240" y="4800600"/>
            <a:chExt cx="1473120" cy="927720"/>
          </a:xfrm>
        </p:grpSpPr>
        <p:sp>
          <p:nvSpPr>
            <p:cNvPr id="782" name=""/>
            <p:cNvSpPr/>
            <p:nvPr/>
          </p:nvSpPr>
          <p:spPr>
            <a:xfrm>
              <a:off x="5088240" y="5421240"/>
              <a:ext cx="147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rhu.cs.ucl.ac.uk</a:t>
              </a:r>
              <a:endParaRPr b="0" lang="en-US" sz="1400" spc="-1" strike="noStrike">
                <a:solidFill>
                  <a:srgbClr val="000000"/>
                </a:solidFill>
                <a:latin typeface="Times New Roman"/>
              </a:endParaRPr>
            </a:p>
          </p:txBody>
        </p:sp>
        <p:sp>
          <p:nvSpPr>
            <p:cNvPr id="783" name=""/>
            <p:cNvSpPr/>
            <p:nvPr/>
          </p:nvSpPr>
          <p:spPr>
            <a:xfrm>
              <a:off x="5410080" y="4800600"/>
              <a:ext cx="762120" cy="685800"/>
            </a:xfrm>
            <a:custGeom>
              <a:avLst/>
              <a:gdLst/>
              <a:ahLst/>
              <a:rect l="l" t="t" r="r" b="b"/>
              <a:pathLst>
                <a:path w="432" h="336">
                  <a:moveTo>
                    <a:pt x="0" y="336"/>
                  </a:moveTo>
                  <a:cubicBezTo>
                    <a:pt x="12" y="268"/>
                    <a:pt x="24" y="200"/>
                    <a:pt x="96" y="144"/>
                  </a:cubicBezTo>
                  <a:cubicBezTo>
                    <a:pt x="168" y="88"/>
                    <a:pt x="300" y="44"/>
                    <a:pt x="432"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21375520-4EA5-466C-A84D-4E85AE73249C}" type="slidenum">
              <a:t>4</a:t>
            </a:fld>
          </a:p>
        </p:txBody>
      </p:sp>
      <p:sp>
        <p:nvSpPr>
          <p:cNvPr id="6" name="PlaceHolder 5"/>
          <p:cNvSpPr>
            <a:spLocks noGrp="1"/>
          </p:cNvSpPr>
          <p:nvPr>
            <p:ph type="dt" idx="1"/>
          </p:nvPr>
        </p:nvSpPr>
        <p:spPr/>
        <p:txBody>
          <a:bodyPr/>
          <a:p>
            <a:fld id="{ECB49081-16D8-4C69-9AEB-A865C1A3C9F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NS [2]</a:t>
            </a:r>
            <a:endParaRPr b="1" lang="en-US" sz="3600" spc="-1" strike="noStrike">
              <a:solidFill>
                <a:srgbClr val="336699"/>
              </a:solidFill>
              <a:latin typeface="Times New Roman"/>
            </a:endParaRPr>
          </a:p>
        </p:txBody>
      </p:sp>
      <p:sp>
        <p:nvSpPr>
          <p:cNvPr id="785" name="PlaceHolder 2"/>
          <p:cNvSpPr>
            <a:spLocks noGrp="1"/>
          </p:cNvSpPr>
          <p:nvPr>
            <p:ph/>
          </p:nvPr>
        </p:nvSpPr>
        <p:spPr>
          <a:xfrm>
            <a:off x="685440" y="1599840"/>
            <a:ext cx="3809880" cy="30430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Query to local server:</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terative mode</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cursive</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uthoritative answer:</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rom domain server</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n-authoritative answer:</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rom cache at local server</a:t>
            </a:r>
            <a:endParaRPr b="0" lang="en-US" sz="2000" spc="-1" strike="noStrike">
              <a:solidFill>
                <a:srgbClr val="0033cc"/>
              </a:solidFill>
              <a:latin typeface="Times New Roman"/>
            </a:endParaRPr>
          </a:p>
        </p:txBody>
      </p:sp>
      <p:sp>
        <p:nvSpPr>
          <p:cNvPr id="786" name="PlaceHolder 3"/>
          <p:cNvSpPr>
            <a:spLocks noGrp="1"/>
          </p:cNvSpPr>
          <p:nvPr>
            <p:ph/>
          </p:nvPr>
        </p:nvSpPr>
        <p:spPr>
          <a:xfrm>
            <a:off x="1142640" y="4343040"/>
            <a:ext cx="3809880" cy="160020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ource Record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TR</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X</a:t>
            </a:r>
            <a:endParaRPr b="0" lang="en-US" sz="2000" spc="-1" strike="noStrike">
              <a:solidFill>
                <a:srgbClr val="0033cc"/>
              </a:solidFill>
              <a:latin typeface="Times New Roman"/>
            </a:endParaRPr>
          </a:p>
        </p:txBody>
      </p:sp>
      <p:grpSp>
        <p:nvGrpSpPr>
          <p:cNvPr id="787" name=""/>
          <p:cNvGrpSpPr/>
          <p:nvPr/>
        </p:nvGrpSpPr>
        <p:grpSpPr>
          <a:xfrm>
            <a:off x="5334120" y="2057400"/>
            <a:ext cx="3276000" cy="3200400"/>
            <a:chOff x="5334120" y="2057400"/>
            <a:chExt cx="3276000" cy="3200400"/>
          </a:xfrm>
        </p:grpSpPr>
        <p:sp>
          <p:nvSpPr>
            <p:cNvPr id="788" name=""/>
            <p:cNvSpPr/>
            <p:nvPr/>
          </p:nvSpPr>
          <p:spPr>
            <a:xfrm>
              <a:off x="5334120" y="3352680"/>
              <a:ext cx="106668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server</a:t>
              </a:r>
              <a:endParaRPr b="0" lang="en-US" sz="1400" spc="-1" strike="noStrike">
                <a:solidFill>
                  <a:srgbClr val="000000"/>
                </a:solidFill>
                <a:latin typeface="Times New Roman"/>
              </a:endParaRPr>
            </a:p>
          </p:txBody>
        </p:sp>
        <p:sp>
          <p:nvSpPr>
            <p:cNvPr id="789" name=""/>
            <p:cNvSpPr/>
            <p:nvPr/>
          </p:nvSpPr>
          <p:spPr>
            <a:xfrm>
              <a:off x="7543800" y="2057400"/>
              <a:ext cx="10663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ser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a:t>
              </a:r>
              <a:endParaRPr b="0" lang="en-US" sz="1400" spc="-1" strike="noStrike">
                <a:solidFill>
                  <a:srgbClr val="000000"/>
                </a:solidFill>
                <a:latin typeface="Times New Roman"/>
              </a:endParaRPr>
            </a:p>
          </p:txBody>
        </p:sp>
        <p:sp>
          <p:nvSpPr>
            <p:cNvPr id="790" name=""/>
            <p:cNvSpPr/>
            <p:nvPr/>
          </p:nvSpPr>
          <p:spPr>
            <a:xfrm>
              <a:off x="7467480" y="4724280"/>
              <a:ext cx="10663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mote ser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bm.com)</a:t>
              </a:r>
              <a:endParaRPr b="0" lang="en-US" sz="1400" spc="-1" strike="noStrike">
                <a:solidFill>
                  <a:srgbClr val="000000"/>
                </a:solidFill>
                <a:latin typeface="Times New Roman"/>
              </a:endParaRPr>
            </a:p>
          </p:txBody>
        </p:sp>
      </p:grpSp>
      <p:grpSp>
        <p:nvGrpSpPr>
          <p:cNvPr id="791" name=""/>
          <p:cNvGrpSpPr/>
          <p:nvPr/>
        </p:nvGrpSpPr>
        <p:grpSpPr>
          <a:xfrm>
            <a:off x="4649040" y="2362320"/>
            <a:ext cx="1239840" cy="914400"/>
            <a:chOff x="4649040" y="2362320"/>
            <a:chExt cx="1239840" cy="914400"/>
          </a:xfrm>
        </p:grpSpPr>
        <p:sp>
          <p:nvSpPr>
            <p:cNvPr id="792" name=""/>
            <p:cNvSpPr/>
            <p:nvPr/>
          </p:nvSpPr>
          <p:spPr>
            <a:xfrm>
              <a:off x="4649040" y="23623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ibm.com</a:t>
              </a:r>
              <a:endParaRPr b="0" lang="en-US" sz="1400" spc="-1" strike="noStrike">
                <a:solidFill>
                  <a:srgbClr val="000000"/>
                </a:solidFill>
                <a:latin typeface="Times New Roman"/>
              </a:endParaRPr>
            </a:p>
          </p:txBody>
        </p:sp>
        <p:grpSp>
          <p:nvGrpSpPr>
            <p:cNvPr id="793" name=""/>
            <p:cNvGrpSpPr/>
            <p:nvPr/>
          </p:nvGrpSpPr>
          <p:grpSpPr>
            <a:xfrm>
              <a:off x="5258520" y="2667240"/>
              <a:ext cx="455760" cy="609480"/>
              <a:chOff x="5258520" y="2667240"/>
              <a:chExt cx="455760" cy="609480"/>
            </a:xfrm>
          </p:grpSpPr>
          <p:sp>
            <p:nvSpPr>
              <p:cNvPr id="794" name=""/>
              <p:cNvSpPr/>
              <p:nvPr/>
            </p:nvSpPr>
            <p:spPr>
              <a:xfrm>
                <a:off x="5562000" y="2667240"/>
                <a:ext cx="152280" cy="609480"/>
              </a:xfrm>
              <a:custGeom>
                <a:avLst/>
                <a:gdLst/>
                <a:ahLst/>
                <a:rect l="l" t="t" r="r" b="b"/>
                <a:pathLst>
                  <a:path w="96" h="384">
                    <a:moveTo>
                      <a:pt x="96" y="0"/>
                    </a:moveTo>
                    <a:cubicBezTo>
                      <a:pt x="48" y="40"/>
                      <a:pt x="0" y="80"/>
                      <a:pt x="0" y="144"/>
                    </a:cubicBezTo>
                    <a:cubicBezTo>
                      <a:pt x="0" y="208"/>
                      <a:pt x="48" y="296"/>
                      <a:pt x="96" y="384"/>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258520" y="2743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grpSp>
      <p:grpSp>
        <p:nvGrpSpPr>
          <p:cNvPr id="796" name=""/>
          <p:cNvGrpSpPr/>
          <p:nvPr/>
        </p:nvGrpSpPr>
        <p:grpSpPr>
          <a:xfrm>
            <a:off x="6477120" y="2362320"/>
            <a:ext cx="990360" cy="1066680"/>
            <a:chOff x="6477120" y="2362320"/>
            <a:chExt cx="990360" cy="1066680"/>
          </a:xfrm>
        </p:grpSpPr>
        <p:sp>
          <p:nvSpPr>
            <p:cNvPr id="797" name=""/>
            <p:cNvSpPr/>
            <p:nvPr/>
          </p:nvSpPr>
          <p:spPr>
            <a:xfrm>
              <a:off x="6477120" y="2362320"/>
              <a:ext cx="990360" cy="1066680"/>
            </a:xfrm>
            <a:custGeom>
              <a:avLst/>
              <a:gdLst/>
              <a:ahLst/>
              <a:rect l="l" t="t" r="r" b="b"/>
              <a:pathLst>
                <a:path w="624" h="672">
                  <a:moveTo>
                    <a:pt x="0" y="672"/>
                  </a:moveTo>
                  <a:cubicBezTo>
                    <a:pt x="116" y="488"/>
                    <a:pt x="232" y="304"/>
                    <a:pt x="336" y="192"/>
                  </a:cubicBezTo>
                  <a:cubicBezTo>
                    <a:pt x="440" y="80"/>
                    <a:pt x="532" y="40"/>
                    <a:pt x="624"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630120" y="2514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grpSp>
        <p:nvGrpSpPr>
          <p:cNvPr id="799" name=""/>
          <p:cNvGrpSpPr/>
          <p:nvPr/>
        </p:nvGrpSpPr>
        <p:grpSpPr>
          <a:xfrm>
            <a:off x="6552720" y="2666880"/>
            <a:ext cx="1066680" cy="914400"/>
            <a:chOff x="6552720" y="2666880"/>
            <a:chExt cx="1066680" cy="914400"/>
          </a:xfrm>
        </p:grpSpPr>
        <p:sp>
          <p:nvSpPr>
            <p:cNvPr id="800" name=""/>
            <p:cNvSpPr/>
            <p:nvPr/>
          </p:nvSpPr>
          <p:spPr>
            <a:xfrm flipH="1" flipV="1" rot="16200000">
              <a:off x="6628320" y="2590560"/>
              <a:ext cx="914400" cy="1066680"/>
            </a:xfrm>
            <a:custGeom>
              <a:avLst/>
              <a:gdLst/>
              <a:ahLst/>
              <a:rect l="l" t="t" r="r" b="b"/>
              <a:pathLst>
                <a:path w="576" h="672">
                  <a:moveTo>
                    <a:pt x="576" y="672"/>
                  </a:moveTo>
                  <a:cubicBezTo>
                    <a:pt x="504" y="512"/>
                    <a:pt x="432" y="352"/>
                    <a:pt x="336" y="240"/>
                  </a:cubicBezTo>
                  <a:cubicBezTo>
                    <a:pt x="240" y="128"/>
                    <a:pt x="120" y="64"/>
                    <a:pt x="0" y="0"/>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3996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802" name=""/>
          <p:cNvGrpSpPr/>
          <p:nvPr/>
        </p:nvGrpSpPr>
        <p:grpSpPr>
          <a:xfrm>
            <a:off x="6477120" y="3809880"/>
            <a:ext cx="914400" cy="1067040"/>
            <a:chOff x="6477120" y="3809880"/>
            <a:chExt cx="914400" cy="1067040"/>
          </a:xfrm>
        </p:grpSpPr>
        <p:sp>
          <p:nvSpPr>
            <p:cNvPr id="803" name=""/>
            <p:cNvSpPr/>
            <p:nvPr/>
          </p:nvSpPr>
          <p:spPr>
            <a:xfrm>
              <a:off x="6477120" y="3809880"/>
              <a:ext cx="914400" cy="1067040"/>
            </a:xfrm>
            <a:custGeom>
              <a:avLst/>
              <a:gdLst/>
              <a:ahLst/>
              <a:rect l="l" t="t" r="r" b="b"/>
              <a:pathLst>
                <a:path w="576" h="672">
                  <a:moveTo>
                    <a:pt x="576" y="672"/>
                  </a:moveTo>
                  <a:cubicBezTo>
                    <a:pt x="504" y="512"/>
                    <a:pt x="432" y="352"/>
                    <a:pt x="336" y="240"/>
                  </a:cubicBezTo>
                  <a:cubicBezTo>
                    <a:pt x="240" y="128"/>
                    <a:pt x="120" y="64"/>
                    <a:pt x="0" y="0"/>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935400" y="3886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grpSp>
        <p:nvGrpSpPr>
          <p:cNvPr id="805" name=""/>
          <p:cNvGrpSpPr/>
          <p:nvPr/>
        </p:nvGrpSpPr>
        <p:grpSpPr>
          <a:xfrm>
            <a:off x="6248520" y="3962520"/>
            <a:ext cx="1143000" cy="1066680"/>
            <a:chOff x="6248520" y="3962520"/>
            <a:chExt cx="1143000" cy="1066680"/>
          </a:xfrm>
        </p:grpSpPr>
        <p:sp>
          <p:nvSpPr>
            <p:cNvPr id="806" name=""/>
            <p:cNvSpPr/>
            <p:nvPr/>
          </p:nvSpPr>
          <p:spPr>
            <a:xfrm>
              <a:off x="6248520" y="3962520"/>
              <a:ext cx="1143000" cy="1066680"/>
            </a:xfrm>
            <a:custGeom>
              <a:avLst/>
              <a:gdLst/>
              <a:ahLst/>
              <a:rect l="l" t="t" r="r" b="b"/>
              <a:pathLst>
                <a:path w="720" h="672">
                  <a:moveTo>
                    <a:pt x="0" y="0"/>
                  </a:moveTo>
                  <a:cubicBezTo>
                    <a:pt x="108" y="184"/>
                    <a:pt x="216" y="368"/>
                    <a:pt x="336" y="480"/>
                  </a:cubicBezTo>
                  <a:cubicBezTo>
                    <a:pt x="456" y="592"/>
                    <a:pt x="588" y="632"/>
                    <a:pt x="720" y="672"/>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2240" y="4572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grpSp>
        <p:nvGrpSpPr>
          <p:cNvPr id="808" name=""/>
          <p:cNvGrpSpPr/>
          <p:nvPr/>
        </p:nvGrpSpPr>
        <p:grpSpPr>
          <a:xfrm>
            <a:off x="5638680" y="2057400"/>
            <a:ext cx="1206720" cy="1218960"/>
            <a:chOff x="5638680" y="2057400"/>
            <a:chExt cx="1206720" cy="1218960"/>
          </a:xfrm>
        </p:grpSpPr>
        <p:grpSp>
          <p:nvGrpSpPr>
            <p:cNvPr id="809" name=""/>
            <p:cNvGrpSpPr/>
            <p:nvPr/>
          </p:nvGrpSpPr>
          <p:grpSpPr>
            <a:xfrm>
              <a:off x="6019560" y="2362320"/>
              <a:ext cx="424080" cy="914040"/>
              <a:chOff x="6019560" y="2362320"/>
              <a:chExt cx="424080" cy="914040"/>
            </a:xfrm>
          </p:grpSpPr>
          <p:sp>
            <p:nvSpPr>
              <p:cNvPr id="810" name=""/>
              <p:cNvSpPr/>
              <p:nvPr/>
            </p:nvSpPr>
            <p:spPr>
              <a:xfrm flipH="1">
                <a:off x="6019200" y="2362320"/>
                <a:ext cx="152280" cy="914040"/>
              </a:xfrm>
              <a:custGeom>
                <a:avLst/>
                <a:gdLst/>
                <a:ahLst/>
                <a:rect l="l" t="t" r="r" b="b"/>
                <a:pathLst>
                  <a:path w="96" h="384">
                    <a:moveTo>
                      <a:pt x="96" y="0"/>
                    </a:moveTo>
                    <a:cubicBezTo>
                      <a:pt x="48" y="40"/>
                      <a:pt x="0" y="80"/>
                      <a:pt x="0" y="144"/>
                    </a:cubicBezTo>
                    <a:cubicBezTo>
                      <a:pt x="0" y="208"/>
                      <a:pt x="48" y="296"/>
                      <a:pt x="96" y="384"/>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17292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grpSp>
        <p:sp>
          <p:nvSpPr>
            <p:cNvPr id="812" name=""/>
            <p:cNvSpPr/>
            <p:nvPr/>
          </p:nvSpPr>
          <p:spPr>
            <a:xfrm>
              <a:off x="5638680" y="2057400"/>
              <a:ext cx="120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4.146.18.33</a:t>
              </a:r>
              <a:endParaRPr b="0" lang="en-US" sz="1400" spc="-1" strike="noStrike">
                <a:solidFill>
                  <a:srgbClr val="000000"/>
                </a:solidFill>
                <a:latin typeface="Times New Roman"/>
              </a:endParaRPr>
            </a:p>
          </p:txBody>
        </p:sp>
      </p:grpSp>
      <p:sp>
        <p:nvSpPr>
          <p:cNvPr id="5" name="PlaceHolder 4"/>
          <p:cNvSpPr>
            <a:spLocks noGrp="1"/>
          </p:cNvSpPr>
          <p:nvPr>
            <p:ph type="ftr" idx="2"/>
          </p:nvPr>
        </p:nvSpPr>
        <p:spPr/>
        <p:txBody>
          <a:bodyPr/>
          <a:p>
            <a:r>
              <a:t>Z20 PreReading 07</a:t>
            </a:r>
          </a:p>
        </p:txBody>
      </p:sp>
      <p:sp>
        <p:nvSpPr>
          <p:cNvPr id="6" name="PlaceHolder 5"/>
          <p:cNvSpPr>
            <a:spLocks noGrp="1"/>
          </p:cNvSpPr>
          <p:nvPr>
            <p:ph type="sldNum" idx="3"/>
          </p:nvPr>
        </p:nvSpPr>
        <p:spPr/>
        <p:txBody>
          <a:bodyPr/>
          <a:p>
            <a:fld id="{B9575488-D139-4F8E-A41C-D8B9D2FF7DEC}" type="slidenum">
              <a:t>5</a:t>
            </a:fld>
          </a:p>
        </p:txBody>
      </p:sp>
      <p:sp>
        <p:nvSpPr>
          <p:cNvPr id="7" name="PlaceHolder 6"/>
          <p:cNvSpPr>
            <a:spLocks noGrp="1"/>
          </p:cNvSpPr>
          <p:nvPr>
            <p:ph type="dt" idx="1"/>
          </p:nvPr>
        </p:nvSpPr>
        <p:spPr/>
        <p:txBody>
          <a:bodyPr/>
          <a:p>
            <a:fld id="{FD1869B6-2BC6-4DD7-9806-8BF05FBB0D5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 Networks – The Rules</a:t>
            </a:r>
            <a:endParaRPr b="1" lang="en-US" sz="3600" spc="-1" strike="noStrike">
              <a:solidFill>
                <a:srgbClr val="336699"/>
              </a:solidFill>
              <a:latin typeface="Times New Roman"/>
            </a:endParaRPr>
          </a:p>
        </p:txBody>
      </p:sp>
      <p:sp>
        <p:nvSpPr>
          <p:cNvPr id="814" name="PlaceHolder 2"/>
          <p:cNvSpPr>
            <a:spLocks noGrp="1"/>
          </p:cNvSpPr>
          <p:nvPr>
            <p:ph/>
          </p:nvPr>
        </p:nvSpPr>
        <p:spPr>
          <a:xfrm>
            <a:off x="685800" y="2209320"/>
            <a:ext cx="7772400" cy="1481400"/>
          </a:xfrm>
          <a:prstGeom prst="rect">
            <a:avLst/>
          </a:prstGeom>
          <a:noFill/>
          <a:ln w="0">
            <a:noFill/>
          </a:ln>
        </p:spPr>
        <p:txBody>
          <a:bodyPr lIns="90000" rIns="90000" tIns="46800" bIns="46800" anchor="t">
            <a:normAutofit fontScale="87000"/>
          </a:bodyPr>
          <a:p>
            <a:pPr marL="252720" indent="-2527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on same “IP Network” share same network prefix</a:t>
            </a:r>
            <a:endParaRPr b="0" lang="en-US" sz="2400" spc="-1" strike="noStrike">
              <a:solidFill>
                <a:srgbClr val="0033cc"/>
              </a:solidFill>
              <a:latin typeface="Times New Roman"/>
            </a:endParaRPr>
          </a:p>
          <a:p>
            <a:pPr marL="252720" indent="-2527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with same network prefix must be able to communicate directly</a:t>
            </a:r>
            <a:endParaRPr b="0" lang="en-US" sz="2400" spc="-1" strike="noStrike">
              <a:solidFill>
                <a:srgbClr val="0033cc"/>
              </a:solidFill>
              <a:latin typeface="Times New Roman"/>
            </a:endParaRPr>
          </a:p>
          <a:p>
            <a:pPr marL="252720" indent="-2527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with different network prefixes must communicate via a router</a:t>
            </a:r>
            <a:endParaRPr b="0" lang="en-US" sz="2400" spc="-1" strike="noStrike">
              <a:solidFill>
                <a:srgbClr val="0033cc"/>
              </a:solidFill>
              <a:latin typeface="Times New Roman"/>
            </a:endParaRPr>
          </a:p>
        </p:txBody>
      </p:sp>
      <p:graphicFrame>
        <p:nvGraphicFramePr>
          <p:cNvPr id="815" name=""/>
          <p:cNvGraphicFramePr/>
          <p:nvPr/>
        </p:nvGraphicFramePr>
        <p:xfrm>
          <a:off x="304920" y="4419720"/>
          <a:ext cx="8839080" cy="1965240"/>
        </p:xfrm>
        <a:graphic>
          <a:graphicData uri="http://schemas.openxmlformats.org/presentationml/2006/ole">
            <p:oleObj r:id="rId1" spid="">
              <p:embed/>
              <p:pic>
                <p:nvPicPr>
                  <p:cNvPr id="816" name="" descr=""/>
                  <p:cNvPicPr/>
                  <p:nvPr/>
                </p:nvPicPr>
                <p:blipFill>
                  <a:blip r:embed="rId2"/>
                  <a:stretch/>
                </p:blipFill>
                <p:spPr>
                  <a:xfrm>
                    <a:off x="304920" y="4419720"/>
                    <a:ext cx="8839080" cy="1965240"/>
                  </a:xfrm>
                  <a:prstGeom prst="rect">
                    <a:avLst/>
                  </a:prstGeom>
                  <a:ln w="0">
                    <a:noFill/>
                  </a:ln>
                </p:spPr>
              </p:pic>
            </p:oleObj>
          </a:graphicData>
        </a:graphic>
      </p:graphicFrame>
      <p:grpSp>
        <p:nvGrpSpPr>
          <p:cNvPr id="817" name=""/>
          <p:cNvGrpSpPr/>
          <p:nvPr/>
        </p:nvGrpSpPr>
        <p:grpSpPr>
          <a:xfrm>
            <a:off x="685800" y="1295280"/>
            <a:ext cx="6858000" cy="856080"/>
            <a:chOff x="685800" y="1295280"/>
            <a:chExt cx="6858000" cy="856080"/>
          </a:xfrm>
        </p:grpSpPr>
        <p:sp>
          <p:nvSpPr>
            <p:cNvPr id="818" name=""/>
            <p:cNvSpPr/>
            <p:nvPr/>
          </p:nvSpPr>
          <p:spPr>
            <a:xfrm>
              <a:off x="2666880" y="1295280"/>
              <a:ext cx="487692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5800" y="1295280"/>
              <a:ext cx="19051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a:t>
              </a:r>
              <a:endParaRPr b="0" lang="en-US" sz="2000" spc="-1" strike="noStrike">
                <a:solidFill>
                  <a:srgbClr val="000000"/>
                </a:solidFill>
                <a:latin typeface="Times New Roman"/>
              </a:endParaRPr>
            </a:p>
          </p:txBody>
        </p:sp>
        <p:sp>
          <p:nvSpPr>
            <p:cNvPr id="820" name=""/>
            <p:cNvSpPr/>
            <p:nvPr/>
          </p:nvSpPr>
          <p:spPr>
            <a:xfrm>
              <a:off x="2666880" y="1295280"/>
              <a:ext cx="3048120" cy="3812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410080" y="182880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200400" y="12952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Prefix</a:t>
              </a:r>
              <a:endParaRPr b="0" lang="en-US" sz="2000" spc="-1" strike="noStrike">
                <a:solidFill>
                  <a:srgbClr val="000000"/>
                </a:solidFill>
                <a:latin typeface="Times New Roman"/>
              </a:endParaRPr>
            </a:p>
          </p:txBody>
        </p:sp>
        <p:sp>
          <p:nvSpPr>
            <p:cNvPr id="823" name=""/>
            <p:cNvSpPr/>
            <p:nvPr/>
          </p:nvSpPr>
          <p:spPr>
            <a:xfrm>
              <a:off x="5791320" y="12952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Id</a:t>
              </a:r>
              <a:endParaRPr b="0" lang="en-US" sz="2000" spc="-1" strike="noStrike">
                <a:solidFill>
                  <a:srgbClr val="000000"/>
                </a:solidFill>
                <a:latin typeface="Times New Roman"/>
              </a:endParaRPr>
            </a:p>
          </p:txBody>
        </p:sp>
        <p:sp>
          <p:nvSpPr>
            <p:cNvPr id="824" name=""/>
            <p:cNvSpPr/>
            <p:nvPr/>
          </p:nvSpPr>
          <p:spPr>
            <a:xfrm>
              <a:off x="4797720" y="1752480"/>
              <a:ext cx="1860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ndary varies</a:t>
              </a:r>
              <a:endParaRPr b="0" lang="en-US" sz="2000" spc="-1" strike="noStrike">
                <a:solidFill>
                  <a:srgbClr val="000000"/>
                </a:solidFill>
                <a:latin typeface="Times New Roman"/>
              </a:endParaRPr>
            </a:p>
          </p:txBody>
        </p:sp>
      </p:grpSp>
      <p:grpSp>
        <p:nvGrpSpPr>
          <p:cNvPr id="825" name=""/>
          <p:cNvGrpSpPr/>
          <p:nvPr/>
        </p:nvGrpSpPr>
        <p:grpSpPr>
          <a:xfrm>
            <a:off x="304920" y="4343400"/>
            <a:ext cx="2514600" cy="1600200"/>
            <a:chOff x="304920" y="4343400"/>
            <a:chExt cx="2514600" cy="1600200"/>
          </a:xfrm>
        </p:grpSpPr>
        <p:grpSp>
          <p:nvGrpSpPr>
            <p:cNvPr id="826" name=""/>
            <p:cNvGrpSpPr/>
            <p:nvPr/>
          </p:nvGrpSpPr>
          <p:grpSpPr>
            <a:xfrm>
              <a:off x="457200" y="4419720"/>
              <a:ext cx="685800" cy="0"/>
              <a:chOff x="457200" y="4419720"/>
              <a:chExt cx="685800" cy="0"/>
            </a:xfrm>
          </p:grpSpPr>
          <p:sp>
            <p:nvSpPr>
              <p:cNvPr id="827" name=""/>
              <p:cNvSpPr/>
              <p:nvPr/>
            </p:nvSpPr>
            <p:spPr>
              <a:xfrm>
                <a:off x="4572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914400" y="44197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1676520" y="4343400"/>
              <a:ext cx="685800" cy="0"/>
              <a:chOff x="1676520" y="4343400"/>
              <a:chExt cx="685800" cy="0"/>
            </a:xfrm>
          </p:grpSpPr>
          <p:sp>
            <p:nvSpPr>
              <p:cNvPr id="830" name=""/>
              <p:cNvSpPr/>
              <p:nvPr/>
            </p:nvSpPr>
            <p:spPr>
              <a:xfrm>
                <a:off x="16765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33720" y="434340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133720" y="5486400"/>
              <a:ext cx="685800" cy="0"/>
              <a:chOff x="2133720" y="5486400"/>
              <a:chExt cx="685800" cy="0"/>
            </a:xfrm>
          </p:grpSpPr>
          <p:sp>
            <p:nvSpPr>
              <p:cNvPr id="833" name=""/>
              <p:cNvSpPr/>
              <p:nvPr/>
            </p:nvSpPr>
            <p:spPr>
              <a:xfrm>
                <a:off x="21337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590920" y="548640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04920" y="5943600"/>
              <a:ext cx="685800" cy="0"/>
              <a:chOff x="304920" y="5943600"/>
              <a:chExt cx="685800" cy="0"/>
            </a:xfrm>
          </p:grpSpPr>
          <p:sp>
            <p:nvSpPr>
              <p:cNvPr id="836" name=""/>
              <p:cNvSpPr/>
              <p:nvPr/>
            </p:nvSpPr>
            <p:spPr>
              <a:xfrm>
                <a:off x="3049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62120" y="5943600"/>
                <a:ext cx="228600" cy="0"/>
              </a:xfrm>
              <a:prstGeom prst="line">
                <a:avLst/>
              </a:prstGeom>
              <a:ln w="5724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8" name=""/>
          <p:cNvGrpSpPr/>
          <p:nvPr/>
        </p:nvGrpSpPr>
        <p:grpSpPr>
          <a:xfrm>
            <a:off x="3276720" y="4343400"/>
            <a:ext cx="2514600" cy="1600200"/>
            <a:chOff x="3276720" y="4343400"/>
            <a:chExt cx="2514600" cy="1600200"/>
          </a:xfrm>
        </p:grpSpPr>
        <p:grpSp>
          <p:nvGrpSpPr>
            <p:cNvPr id="839" name=""/>
            <p:cNvGrpSpPr/>
            <p:nvPr/>
          </p:nvGrpSpPr>
          <p:grpSpPr>
            <a:xfrm>
              <a:off x="3429000" y="4419720"/>
              <a:ext cx="685800" cy="0"/>
              <a:chOff x="3429000" y="4419720"/>
              <a:chExt cx="685800" cy="0"/>
            </a:xfrm>
          </p:grpSpPr>
          <p:sp>
            <p:nvSpPr>
              <p:cNvPr id="840" name=""/>
              <p:cNvSpPr/>
              <p:nvPr/>
            </p:nvSpPr>
            <p:spPr>
              <a:xfrm>
                <a:off x="34290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886200" y="44197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648320" y="4343400"/>
              <a:ext cx="685800" cy="0"/>
              <a:chOff x="4648320" y="4343400"/>
              <a:chExt cx="685800" cy="0"/>
            </a:xfrm>
          </p:grpSpPr>
          <p:sp>
            <p:nvSpPr>
              <p:cNvPr id="843" name=""/>
              <p:cNvSpPr/>
              <p:nvPr/>
            </p:nvSpPr>
            <p:spPr>
              <a:xfrm>
                <a:off x="46483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105520" y="434340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5105520" y="5486400"/>
              <a:ext cx="685800" cy="0"/>
              <a:chOff x="5105520" y="5486400"/>
              <a:chExt cx="685800" cy="0"/>
            </a:xfrm>
          </p:grpSpPr>
          <p:sp>
            <p:nvSpPr>
              <p:cNvPr id="846" name=""/>
              <p:cNvSpPr/>
              <p:nvPr/>
            </p:nvSpPr>
            <p:spPr>
              <a:xfrm>
                <a:off x="51055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562720" y="548640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3276720" y="5943600"/>
              <a:ext cx="685800" cy="0"/>
              <a:chOff x="3276720" y="5943600"/>
              <a:chExt cx="685800" cy="0"/>
            </a:xfrm>
          </p:grpSpPr>
          <p:sp>
            <p:nvSpPr>
              <p:cNvPr id="849" name=""/>
              <p:cNvSpPr/>
              <p:nvPr/>
            </p:nvSpPr>
            <p:spPr>
              <a:xfrm>
                <a:off x="32767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733920" y="5943600"/>
                <a:ext cx="228600" cy="0"/>
              </a:xfrm>
              <a:prstGeom prst="line">
                <a:avLst/>
              </a:prstGeom>
              <a:ln w="5724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1" name=""/>
          <p:cNvGrpSpPr/>
          <p:nvPr/>
        </p:nvGrpSpPr>
        <p:grpSpPr>
          <a:xfrm>
            <a:off x="6248520" y="4419720"/>
            <a:ext cx="2514600" cy="1600200"/>
            <a:chOff x="6248520" y="4419720"/>
            <a:chExt cx="2514600" cy="1600200"/>
          </a:xfrm>
        </p:grpSpPr>
        <p:grpSp>
          <p:nvGrpSpPr>
            <p:cNvPr id="852" name=""/>
            <p:cNvGrpSpPr/>
            <p:nvPr/>
          </p:nvGrpSpPr>
          <p:grpSpPr>
            <a:xfrm>
              <a:off x="6400800" y="4495680"/>
              <a:ext cx="685800" cy="0"/>
              <a:chOff x="6400800" y="4495680"/>
              <a:chExt cx="685800" cy="0"/>
            </a:xfrm>
          </p:grpSpPr>
          <p:sp>
            <p:nvSpPr>
              <p:cNvPr id="853" name=""/>
              <p:cNvSpPr/>
              <p:nvPr/>
            </p:nvSpPr>
            <p:spPr>
              <a:xfrm>
                <a:off x="6400800" y="449568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858000" y="449568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7620120" y="4419720"/>
              <a:ext cx="685800" cy="0"/>
              <a:chOff x="7620120" y="4419720"/>
              <a:chExt cx="685800" cy="0"/>
            </a:xfrm>
          </p:grpSpPr>
          <p:sp>
            <p:nvSpPr>
              <p:cNvPr id="856" name=""/>
              <p:cNvSpPr/>
              <p:nvPr/>
            </p:nvSpPr>
            <p:spPr>
              <a:xfrm>
                <a:off x="7620120" y="4419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077320" y="4419720"/>
                <a:ext cx="228600" cy="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8077320" y="5562720"/>
              <a:ext cx="685800" cy="0"/>
              <a:chOff x="8077320" y="5562720"/>
              <a:chExt cx="685800" cy="0"/>
            </a:xfrm>
          </p:grpSpPr>
          <p:sp>
            <p:nvSpPr>
              <p:cNvPr id="859" name=""/>
              <p:cNvSpPr/>
              <p:nvPr/>
            </p:nvSpPr>
            <p:spPr>
              <a:xfrm>
                <a:off x="8077320" y="5562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34520" y="5562720"/>
                <a:ext cx="228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6248520" y="6019920"/>
              <a:ext cx="685800" cy="0"/>
              <a:chOff x="6248520" y="6019920"/>
              <a:chExt cx="685800" cy="0"/>
            </a:xfrm>
          </p:grpSpPr>
          <p:sp>
            <p:nvSpPr>
              <p:cNvPr id="862" name=""/>
              <p:cNvSpPr/>
              <p:nvPr/>
            </p:nvSpPr>
            <p:spPr>
              <a:xfrm>
                <a:off x="6248520" y="60199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705720" y="6019920"/>
                <a:ext cx="228600" cy="0"/>
              </a:xfrm>
              <a:prstGeom prst="line">
                <a:avLst/>
              </a:prstGeom>
              <a:ln w="5724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4" name=""/>
          <p:cNvGrpSpPr/>
          <p:nvPr/>
        </p:nvGrpSpPr>
        <p:grpSpPr>
          <a:xfrm>
            <a:off x="6781680" y="5105520"/>
            <a:ext cx="1524240" cy="0"/>
            <a:chOff x="6781680" y="5105520"/>
            <a:chExt cx="1524240" cy="0"/>
          </a:xfrm>
        </p:grpSpPr>
        <p:grpSp>
          <p:nvGrpSpPr>
            <p:cNvPr id="865" name=""/>
            <p:cNvGrpSpPr/>
            <p:nvPr/>
          </p:nvGrpSpPr>
          <p:grpSpPr>
            <a:xfrm>
              <a:off x="7620120" y="5105520"/>
              <a:ext cx="685800" cy="0"/>
              <a:chOff x="7620120" y="5105520"/>
              <a:chExt cx="685800" cy="0"/>
            </a:xfrm>
          </p:grpSpPr>
          <p:sp>
            <p:nvSpPr>
              <p:cNvPr id="866" name=""/>
              <p:cNvSpPr/>
              <p:nvPr/>
            </p:nvSpPr>
            <p:spPr>
              <a:xfrm>
                <a:off x="7620120" y="51055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077320" y="5105520"/>
                <a:ext cx="2286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6781680" y="5105520"/>
              <a:ext cx="685800" cy="0"/>
              <a:chOff x="6781680" y="5105520"/>
              <a:chExt cx="685800" cy="0"/>
            </a:xfrm>
          </p:grpSpPr>
          <p:sp>
            <p:nvSpPr>
              <p:cNvPr id="869" name=""/>
              <p:cNvSpPr/>
              <p:nvPr/>
            </p:nvSpPr>
            <p:spPr>
              <a:xfrm>
                <a:off x="6781680" y="51055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238880" y="5105520"/>
                <a:ext cx="228600" cy="0"/>
              </a:xfrm>
              <a:prstGeom prst="line">
                <a:avLst/>
              </a:prstGeom>
              <a:ln w="5724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BA7D4450-B317-45C7-A3E6-1AB6DF7F99DC}" type="slidenum">
              <a:t>6</a:t>
            </a:fld>
          </a:p>
        </p:txBody>
      </p:sp>
      <p:sp>
        <p:nvSpPr>
          <p:cNvPr id="6" name="PlaceHolder 5"/>
          <p:cNvSpPr>
            <a:spLocks noGrp="1"/>
          </p:cNvSpPr>
          <p:nvPr>
            <p:ph type="dt" idx="1"/>
          </p:nvPr>
        </p:nvSpPr>
        <p:spPr/>
        <p:txBody>
          <a:bodyPr/>
          <a:p>
            <a:fld id="{248FE155-644D-442C-9734-81F243F8ACD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mple Forwarding Algorithm</a:t>
            </a:r>
            <a:endParaRPr b="1" lang="en-US" sz="3600" spc="-1" strike="noStrike">
              <a:solidFill>
                <a:srgbClr val="336699"/>
              </a:solidFill>
              <a:latin typeface="Times New Roman"/>
            </a:endParaRPr>
          </a:p>
        </p:txBody>
      </p:sp>
      <p:sp>
        <p:nvSpPr>
          <p:cNvPr id="872" name="PlaceHolder 2"/>
          <p:cNvSpPr>
            <a:spLocks noGrp="1"/>
          </p:cNvSpPr>
          <p:nvPr>
            <p:ph/>
          </p:nvPr>
        </p:nvSpPr>
        <p:spPr>
          <a:xfrm>
            <a:off x="685800" y="3581280"/>
            <a:ext cx="7772400" cy="2743200"/>
          </a:xfrm>
          <a:prstGeom prst="rect">
            <a:avLst/>
          </a:prstGeom>
          <a:noFill/>
          <a:ln w="0">
            <a:noFill/>
          </a:ln>
        </p:spPr>
        <p:txBody>
          <a:bodyPr anchor="t">
            <a:normAutofit/>
          </a:bodyPr>
          <a:p>
            <a:pPr marL="290520" indent="-290520">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or hosts with just one interface:</a:t>
            </a:r>
            <a:endParaRPr b="0" lang="en-US" sz="2000" spc="-1" strike="noStrike">
              <a:solidFill>
                <a:srgbClr val="0033cc"/>
              </a:solidFill>
              <a:latin typeface="Times New Roman"/>
            </a:endParaRPr>
          </a:p>
          <a:p>
            <a:pPr marL="290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If destination network id = local network id then</a:t>
            </a:r>
            <a:endParaRPr b="0" lang="en-US" sz="2000" spc="-1" strike="noStrike">
              <a:solidFill>
                <a:srgbClr val="0033cc"/>
              </a:solidFill>
              <a:latin typeface="Times New Roman"/>
            </a:endParaRPr>
          </a:p>
          <a:p>
            <a:pPr marL="290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end Direct</a:t>
            </a:r>
            <a:endParaRPr b="0" lang="en-US" sz="2000" spc="-1" strike="noStrike">
              <a:solidFill>
                <a:srgbClr val="0033cc"/>
              </a:solidFill>
              <a:latin typeface="Times New Roman"/>
            </a:endParaRPr>
          </a:p>
          <a:p>
            <a:pPr marL="290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Else</a:t>
            </a:r>
            <a:endParaRPr b="0" lang="en-US" sz="2000" spc="-1" strike="noStrike">
              <a:solidFill>
                <a:srgbClr val="0033cc"/>
              </a:solidFill>
              <a:latin typeface="Times New Roman"/>
            </a:endParaRPr>
          </a:p>
          <a:p>
            <a:pPr marL="290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end to “default” router.</a:t>
            </a:r>
            <a:endParaRPr b="0" lang="en-US" sz="2000" spc="-1" strike="noStrike">
              <a:solidFill>
                <a:srgbClr val="0033cc"/>
              </a:solidFill>
              <a:latin typeface="Times New Roman"/>
            </a:endParaRPr>
          </a:p>
        </p:txBody>
      </p:sp>
      <p:grpSp>
        <p:nvGrpSpPr>
          <p:cNvPr id="873" name=""/>
          <p:cNvGrpSpPr/>
          <p:nvPr/>
        </p:nvGrpSpPr>
        <p:grpSpPr>
          <a:xfrm>
            <a:off x="1676520" y="1523880"/>
            <a:ext cx="5790600" cy="1858680"/>
            <a:chOff x="1676520" y="1523880"/>
            <a:chExt cx="5790600" cy="1858680"/>
          </a:xfrm>
        </p:grpSpPr>
        <p:sp>
          <p:nvSpPr>
            <p:cNvPr id="874" name=""/>
            <p:cNvSpPr/>
            <p:nvPr/>
          </p:nvSpPr>
          <p:spPr>
            <a:xfrm>
              <a:off x="2717640" y="2080440"/>
              <a:ext cx="520200" cy="3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5" name=""/>
            <p:cNvGrpSpPr/>
            <p:nvPr/>
          </p:nvGrpSpPr>
          <p:grpSpPr>
            <a:xfrm>
              <a:off x="1676520" y="2136240"/>
              <a:ext cx="5790600" cy="1246320"/>
              <a:chOff x="1676520" y="2136240"/>
              <a:chExt cx="5790600" cy="1246320"/>
            </a:xfrm>
          </p:grpSpPr>
          <p:sp>
            <p:nvSpPr>
              <p:cNvPr id="876" name=""/>
              <p:cNvSpPr/>
              <p:nvPr/>
            </p:nvSpPr>
            <p:spPr>
              <a:xfrm>
                <a:off x="2305440" y="2683440"/>
                <a:ext cx="7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 name=""/>
              <p:cNvGrpSpPr/>
              <p:nvPr/>
            </p:nvGrpSpPr>
            <p:grpSpPr>
              <a:xfrm>
                <a:off x="5326920" y="2136240"/>
                <a:ext cx="2140200" cy="1246320"/>
                <a:chOff x="5326920" y="2136240"/>
                <a:chExt cx="2140200" cy="1246320"/>
              </a:xfrm>
            </p:grpSpPr>
            <p:sp>
              <p:nvSpPr>
                <p:cNvPr id="878" name="Cloud"/>
                <p:cNvSpPr/>
                <p:nvPr/>
              </p:nvSpPr>
              <p:spPr>
                <a:xfrm>
                  <a:off x="5326920" y="2136240"/>
                  <a:ext cx="2140200" cy="1246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582520" y="258120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network B</a:t>
                  </a:r>
                  <a:endParaRPr b="0" lang="en-US" sz="2400" spc="-1" strike="noStrike">
                    <a:solidFill>
                      <a:srgbClr val="000000"/>
                    </a:solidFill>
                    <a:latin typeface="Times New Roman"/>
                  </a:endParaRPr>
                </a:p>
              </p:txBody>
            </p:sp>
          </p:grpSp>
          <p:grpSp>
            <p:nvGrpSpPr>
              <p:cNvPr id="880" name=""/>
              <p:cNvGrpSpPr/>
              <p:nvPr/>
            </p:nvGrpSpPr>
            <p:grpSpPr>
              <a:xfrm>
                <a:off x="2809800" y="2136240"/>
                <a:ext cx="2139840" cy="1246320"/>
                <a:chOff x="2809800" y="2136240"/>
                <a:chExt cx="2139840" cy="1246320"/>
              </a:xfrm>
            </p:grpSpPr>
            <p:sp>
              <p:nvSpPr>
                <p:cNvPr id="881" name="Cloud"/>
                <p:cNvSpPr/>
                <p:nvPr/>
              </p:nvSpPr>
              <p:spPr>
                <a:xfrm>
                  <a:off x="2809800" y="2136240"/>
                  <a:ext cx="2139840" cy="1246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40920" y="2629800"/>
                  <a:ext cx="15570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network A</a:t>
                  </a:r>
                  <a:endParaRPr b="0" lang="en-US" sz="2000" spc="-1" strike="noStrike">
                    <a:solidFill>
                      <a:srgbClr val="000000"/>
                    </a:solidFill>
                    <a:latin typeface="Times New Roman"/>
                  </a:endParaRPr>
                </a:p>
              </p:txBody>
            </p:sp>
          </p:grpSp>
          <p:grpSp>
            <p:nvGrpSpPr>
              <p:cNvPr id="883" name=""/>
              <p:cNvGrpSpPr/>
              <p:nvPr/>
            </p:nvGrpSpPr>
            <p:grpSpPr>
              <a:xfrm>
                <a:off x="4824000" y="2683440"/>
                <a:ext cx="633960" cy="183960"/>
                <a:chOff x="4824000" y="2683440"/>
                <a:chExt cx="633960" cy="183960"/>
              </a:xfrm>
            </p:grpSpPr>
            <p:sp>
              <p:nvSpPr>
                <p:cNvPr id="884" name=""/>
                <p:cNvSpPr/>
                <p:nvPr/>
              </p:nvSpPr>
              <p:spPr>
                <a:xfrm>
                  <a:off x="4824000" y="2683440"/>
                  <a:ext cx="633960" cy="1839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886640" y="2724120"/>
                  <a:ext cx="3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90480" y="2826000"/>
                  <a:ext cx="17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905360" y="279216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894560" y="281952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305680" y="2719440"/>
                  <a:ext cx="138960" cy="59040"/>
                </a:xfrm>
                <a:prstGeom prst="rect">
                  <a:avLst/>
                </a:prstGeom>
                <a:solidFill>
                  <a:srgbClr val="ffffcc"/>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890" name="computr2"/>
              <p:cNvSpPr/>
              <p:nvPr/>
            </p:nvSpPr>
            <p:spPr>
              <a:xfrm>
                <a:off x="1676520" y="2464200"/>
                <a:ext cx="880920" cy="765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1" name="computr2"/>
            <p:cNvSpPr/>
            <p:nvPr/>
          </p:nvSpPr>
          <p:spPr>
            <a:xfrm>
              <a:off x="2066760" y="1523880"/>
              <a:ext cx="880920" cy="765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2" name=""/>
          <p:cNvSpPr/>
          <p:nvPr/>
        </p:nvSpPr>
        <p:spPr>
          <a:xfrm>
            <a:off x="2819520" y="236232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657600" y="2362320"/>
            <a:ext cx="4572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514600" y="297180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352680" y="2971800"/>
            <a:ext cx="457200" cy="0"/>
          </a:xfrm>
          <a:prstGeom prst="line">
            <a:avLst/>
          </a:prstGeom>
          <a:ln w="7632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038480" y="3048120"/>
            <a:ext cx="83844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876920" y="3048120"/>
            <a:ext cx="4572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029200" y="2514600"/>
            <a:ext cx="838080" cy="0"/>
          </a:xfrm>
          <a:prstGeom prst="line">
            <a:avLst/>
          </a:prstGeom>
          <a:ln w="7632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867280" y="251460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72257321-9809-44C3-A826-8E469F74F853}" type="slidenum">
              <a:t>7</a:t>
            </a:fld>
          </a:p>
        </p:txBody>
      </p:sp>
      <p:sp>
        <p:nvSpPr>
          <p:cNvPr id="6" name="PlaceHolder 5"/>
          <p:cNvSpPr>
            <a:spLocks noGrp="1"/>
          </p:cNvSpPr>
          <p:nvPr>
            <p:ph type="dt" idx="1"/>
          </p:nvPr>
        </p:nvSpPr>
        <p:spPr/>
        <p:txBody>
          <a:bodyPr/>
          <a:p>
            <a:fld id="{4F14B240-06BB-4866-ABAF-1EB1CE10931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do we “send” a datagram</a:t>
            </a:r>
            <a:endParaRPr b="1" lang="en-US" sz="3600" spc="-1" strike="noStrike">
              <a:solidFill>
                <a:srgbClr val="336699"/>
              </a:solidFill>
              <a:latin typeface="Times New Roman"/>
            </a:endParaRPr>
          </a:p>
        </p:txBody>
      </p:sp>
      <p:sp>
        <p:nvSpPr>
          <p:cNvPr id="90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533520" indent="-533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ach network technology has its own:</a:t>
            </a:r>
            <a:endParaRPr b="0" lang="en-US" sz="2800" spc="-1" strike="noStrike">
              <a:solidFill>
                <a:srgbClr val="0033cc"/>
              </a:solidFill>
              <a:latin typeface="Times New Roman"/>
            </a:endParaRPr>
          </a:p>
          <a:p>
            <a:pPr lvl="1" marL="938160" indent="-457200">
              <a:spcBef>
                <a:spcPts val="601"/>
              </a:spcBef>
              <a:buClr>
                <a:srgbClr val="00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ame format – e.g. IEEE 802.11 frames</a:t>
            </a:r>
            <a:endParaRPr b="0" lang="en-US" sz="2400" spc="-1" strike="noStrike">
              <a:solidFill>
                <a:srgbClr val="0033cc"/>
              </a:solidFill>
              <a:latin typeface="Times New Roman"/>
            </a:endParaRPr>
          </a:p>
          <a:p>
            <a:pPr lvl="1" marL="938160" indent="-457200">
              <a:spcBef>
                <a:spcPts val="601"/>
              </a:spcBef>
              <a:buClr>
                <a:srgbClr val="00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ddressing scheme – e.g. ATM address</a:t>
            </a:r>
            <a:endParaRPr b="0" lang="en-US" sz="2400" spc="-1" strike="noStrike">
              <a:solidFill>
                <a:srgbClr val="0033cc"/>
              </a:solidFill>
              <a:latin typeface="Times New Roman"/>
            </a:endParaRPr>
          </a:p>
          <a:p>
            <a:pPr marL="533520" indent="-533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e must:</a:t>
            </a:r>
            <a:endParaRPr b="0" lang="en-US" sz="2800" spc="-1" strike="noStrike">
              <a:solidFill>
                <a:srgbClr val="0033cc"/>
              </a:solidFill>
              <a:latin typeface="Times New Roman"/>
            </a:endParaRPr>
          </a:p>
          <a:p>
            <a:pPr lvl="1" marL="938160" indent="-457200">
              <a:spcBef>
                <a:spcPts val="601"/>
              </a:spcBef>
              <a:buClr>
                <a:srgbClr val="00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ut datagram in frame – “encapsulation”</a:t>
            </a:r>
            <a:endParaRPr b="0" lang="en-US" sz="2400" spc="-1" strike="noStrike">
              <a:solidFill>
                <a:srgbClr val="0033cc"/>
              </a:solidFill>
              <a:latin typeface="Times New Roman"/>
            </a:endParaRPr>
          </a:p>
          <a:p>
            <a:pPr lvl="1" marL="938160" indent="-457200">
              <a:spcBef>
                <a:spcPts val="601"/>
              </a:spcBef>
              <a:buClr>
                <a:srgbClr val="00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olve “next hop” IP address to “physical address”</a:t>
            </a:r>
            <a:endParaRPr b="0" lang="en-US" sz="2400" spc="-1" strike="noStrike">
              <a:solidFill>
                <a:srgbClr val="0033cc"/>
              </a:solidFill>
              <a:latin typeface="Times New Roman"/>
            </a:endParaRPr>
          </a:p>
          <a:p>
            <a:pPr lvl="1" marL="93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B. “next hop” </a:t>
            </a:r>
            <a:r>
              <a:rPr b="1" lang="en-US" sz="2400" spc="-1" strike="noStrike">
                <a:solidFill>
                  <a:srgbClr val="0033cc"/>
                </a:solidFill>
                <a:latin typeface="Times New Roman"/>
              </a:rPr>
              <a:t>not</a:t>
            </a:r>
            <a:r>
              <a:rPr b="0" lang="en-US" sz="2400" spc="-1" strike="noStrike">
                <a:solidFill>
                  <a:srgbClr val="0033cc"/>
                </a:solidFill>
                <a:latin typeface="Times New Roman"/>
              </a:rPr>
              <a:t> “final destination”</a:t>
            </a:r>
            <a:endParaRPr b="0" lang="en-US" sz="2400" spc="-1" strike="noStrike">
              <a:solidFill>
                <a:srgbClr val="0033cc"/>
              </a:solidFill>
              <a:latin typeface="Times New Roman"/>
            </a:endParaRPr>
          </a:p>
          <a:p>
            <a:pPr lvl="1" marL="938160" indent="-457200">
              <a:spcBef>
                <a:spcPts val="601"/>
              </a:spcBef>
              <a:buClr>
                <a:srgbClr val="0033cc"/>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e </a:t>
            </a:r>
            <a:r>
              <a:rPr b="1" lang="en-US" sz="2400" spc="-1" strike="noStrike">
                <a:solidFill>
                  <a:srgbClr val="0033cc"/>
                </a:solidFill>
                <a:latin typeface="Times New Roman"/>
              </a:rPr>
              <a:t>may</a:t>
            </a:r>
            <a:r>
              <a:rPr b="0" lang="en-US" sz="2400" spc="-1" strike="noStrike">
                <a:solidFill>
                  <a:srgbClr val="0033cc"/>
                </a:solidFill>
                <a:latin typeface="Times New Roman"/>
              </a:rPr>
              <a:t> need to open a connection</a:t>
            </a:r>
            <a:endParaRPr b="0" lang="en-US" sz="2400" spc="-1" strike="noStrike">
              <a:solidFill>
                <a:srgbClr val="0033cc"/>
              </a:solidFill>
              <a:latin typeface="Times New Roman"/>
            </a:endParaRPr>
          </a:p>
          <a:p>
            <a:pPr marL="533520" indent="-533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w we can send the fram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7C3C7555-8A82-4FEA-AD83-CDBA65340173}" type="slidenum">
              <a:t>8</a:t>
            </a:fld>
          </a:p>
        </p:txBody>
      </p:sp>
      <p:sp>
        <p:nvSpPr>
          <p:cNvPr id="6" name="PlaceHolder 5"/>
          <p:cNvSpPr>
            <a:spLocks noGrp="1"/>
          </p:cNvSpPr>
          <p:nvPr>
            <p:ph type="dt" idx="1"/>
          </p:nvPr>
        </p:nvSpPr>
        <p:spPr/>
        <p:txBody>
          <a:bodyPr/>
          <a:p>
            <a:fld id="{8C43D7E7-D0B9-476D-9392-0013C142D60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Pv4 Addresses [1]</a:t>
            </a:r>
            <a:endParaRPr b="1" lang="en-US" sz="3600" spc="-1" strike="noStrike">
              <a:solidFill>
                <a:srgbClr val="336699"/>
              </a:solidFill>
              <a:latin typeface="Times New Roman"/>
            </a:endParaRPr>
          </a:p>
        </p:txBody>
      </p:sp>
      <p:sp>
        <p:nvSpPr>
          <p:cNvPr id="903"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290520" indent="-29052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32 bits – e.g. </a:t>
            </a:r>
            <a:r>
              <a:rPr b="1" lang="en-US" sz="2000" spc="-1" strike="noStrike">
                <a:solidFill>
                  <a:srgbClr val="0033cc"/>
                </a:solidFill>
                <a:latin typeface="Courier New"/>
              </a:rPr>
              <a:t>11000000</a:t>
            </a:r>
            <a:r>
              <a:rPr b="1" lang="en-US" sz="2000" spc="-1" strike="noStrike">
                <a:solidFill>
                  <a:srgbClr val="0033cc"/>
                </a:solidFill>
                <a:latin typeface="Courier New"/>
              </a:rPr>
              <a:t>101010000</a:t>
            </a:r>
            <a:r>
              <a:rPr b="1" lang="en-US" sz="2000" spc="-1" strike="noStrike">
                <a:solidFill>
                  <a:srgbClr val="0033cc"/>
                </a:solidFill>
                <a:latin typeface="Courier New"/>
              </a:rPr>
              <a:t>0000000</a:t>
            </a:r>
            <a:r>
              <a:rPr b="1" lang="en-US" sz="2000" spc="-1" strike="noStrike">
                <a:solidFill>
                  <a:srgbClr val="0033cc"/>
                </a:solidFill>
                <a:latin typeface="Courier New"/>
              </a:rPr>
              <a:t>10000000</a:t>
            </a:r>
            <a:endParaRPr b="0" lang="en-US" sz="20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ritten as 4 decimal bytes – e.g. 192.168.0.128</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 interpret, we need length of network prefix</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xplicit 192.168.0.128/25</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sk 255.255.255.128</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llocated in blocks with common network prefix</a:t>
            </a:r>
            <a:endParaRPr b="0" lang="en-US" sz="28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1100000010101000000000001</a:t>
            </a:r>
            <a:r>
              <a:rPr b="1" lang="en-US" sz="2000" spc="-1" strike="noStrike">
                <a:solidFill>
                  <a:srgbClr val="0033cc"/>
                </a:solidFill>
                <a:latin typeface="Courier New"/>
              </a:rPr>
              <a:t>0000000</a:t>
            </a:r>
            <a:endParaRPr b="0" lang="en-US" sz="20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a:t>
            </a:r>
            <a:endParaRPr b="0" lang="en-US" sz="20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1100000010101000000000001</a:t>
            </a:r>
            <a:r>
              <a:rPr b="1" lang="en-US" sz="2000" spc="-1" strike="noStrike">
                <a:solidFill>
                  <a:srgbClr val="0033cc"/>
                </a:solidFill>
                <a:latin typeface="Courier New"/>
              </a:rPr>
              <a:t>1111111</a:t>
            </a:r>
            <a:endParaRPr b="0" lang="en-US" sz="20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ives an IP network with 128 host ids.</a:t>
            </a:r>
            <a:endParaRPr b="0" lang="en-US" sz="2400" spc="-1" strike="noStrike">
              <a:solidFill>
                <a:srgbClr val="0033cc"/>
              </a:solidFill>
              <a:latin typeface="Times New Roman"/>
            </a:endParaRPr>
          </a:p>
        </p:txBody>
      </p:sp>
      <p:sp>
        <p:nvSpPr>
          <p:cNvPr id="904" name=""/>
          <p:cNvSpPr/>
          <p:nvPr/>
        </p:nvSpPr>
        <p:spPr>
          <a:xfrm>
            <a:off x="5067360" y="4508640"/>
            <a:ext cx="0" cy="1218960"/>
          </a:xfrm>
          <a:prstGeom prst="line">
            <a:avLst/>
          </a:prstGeom>
          <a:ln w="2844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222960" y="4572000"/>
            <a:ext cx="127080" cy="965160"/>
          </a:xfrm>
          <a:custGeom>
            <a:avLst/>
            <a:gdLst>
              <a:gd name="textAreaLeft" fmla="*/ 0 w 127080"/>
              <a:gd name="textAreaRight" fmla="*/ 45720 w 127080"/>
              <a:gd name="textAreaTop" fmla="*/ 24840 h 965160"/>
              <a:gd name="textAreaBottom" fmla="*/ 940320 h 96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451560" y="4851360"/>
            <a:ext cx="201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168.0.128/2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7</a:t>
            </a:r>
          </a:p>
        </p:txBody>
      </p:sp>
      <p:sp>
        <p:nvSpPr>
          <p:cNvPr id="5" name="PlaceHolder 4"/>
          <p:cNvSpPr>
            <a:spLocks noGrp="1"/>
          </p:cNvSpPr>
          <p:nvPr>
            <p:ph type="sldNum" idx="3"/>
          </p:nvPr>
        </p:nvSpPr>
        <p:spPr/>
        <p:txBody>
          <a:bodyPr/>
          <a:p>
            <a:fld id="{E76FA60F-14F6-4E0C-9AAE-621EF1A62A5E}" type="slidenum">
              <a:t>9</a:t>
            </a:fld>
          </a:p>
        </p:txBody>
      </p:sp>
      <p:sp>
        <p:nvSpPr>
          <p:cNvPr id="6" name="PlaceHolder 5"/>
          <p:cNvSpPr>
            <a:spLocks noGrp="1"/>
          </p:cNvSpPr>
          <p:nvPr>
            <p:ph type="dt" idx="1"/>
          </p:nvPr>
        </p:nvSpPr>
        <p:spPr/>
        <p:txBody>
          <a:bodyPr/>
          <a:p>
            <a:fld id="{EBA1EB93-77DC-4BA3-987D-5A15140EB21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1T20:56:09Z</dcterms:created>
  <dc:creator>Graham Knight</dc:creator>
  <dc:description/>
  <dc:language>en-US</dc:language>
  <cp:lastModifiedBy>Graham Knight</cp:lastModifiedBy>
  <cp:lastPrinted>2000-02-04T16:55:00Z</cp:lastPrinted>
  <dcterms:modified xsi:type="dcterms:W3CDTF">2006-09-05T13:44:39Z</dcterms:modified>
  <cp:revision>58</cp:revision>
  <dc:subject/>
  <dc:title>Internetworking and the Internet</dc:title>
</cp:coreProperties>
</file>