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94840" y="4343040"/>
            <a:ext cx="6434280" cy="5403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304560" y="380880"/>
            <a:ext cx="518148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5486400" y="380880"/>
            <a:ext cx="137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80DF96-AFE6-468E-A9CB-F9689E7976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55680" y="380880"/>
            <a:ext cx="5079960" cy="3810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94840" y="4343040"/>
            <a:ext cx="6434280" cy="5403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area under this curve indicates the probability of an interval being in a certain range. In particul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T = 2 this gives 0.330 (3.s.f). So about one-third of intervals are less than 2 minu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T = 5 (the mean inter-arrival time) this gives 0.632. So 63% of inter-arrival times are less that the m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T=12 this gives 0.909 (3.s.f). So roughly 90% of intervals are less than 12 minutes. On the other hand 10% of intervals are more than 12 minu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4876920"/>
                <a:ext cx="32763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terval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  <m:e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355680" y="380880"/>
            <a:ext cx="5079960" cy="3810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294840" y="4343040"/>
            <a:ext cx="6434280" cy="5403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lternative way of looking at inter-arrive time distribution is to ask questions like “what is the probability that exactly 15 customers arrive during the next hour?”. It can be shown that if the inter-arrival times have a negative exponential distribution then these probabilities have a “Poisson distribution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55680" y="380880"/>
            <a:ext cx="5079960" cy="3810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94840" y="4343040"/>
            <a:ext cx="6434280" cy="5403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lide shows probabilities of exact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rivals at our sub-Post Office during intervals of 1, 5 and 10 minutes respective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shows, for example, than in any interval of 1 minute the most likely outcome is that no customers appear - this will be the case 82% of the time. If we wait 5 minutes then it is very likely that we will see either 0, 1 or 2 customers (37% + 37% + 18% = 92% of the time). Note that the zero probabilities shown in the table are not really zeros they are just so small that they disappear after rounding to 2 d.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9FF-CFEB-45B0-BD5A-D5689B6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EFA-9168-4184-85A9-5990902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C6F-778C-4F12-ACA0-0D852FD0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5F4-0AC2-4D4B-940C-83F3914A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87C-AEBE-4F2F-857D-69F8BBEB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EBA-ACC9-4A1C-A85F-15161D9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12C-91A8-48CF-9EE6-B48F7B83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571-FC96-47DE-A188-3D11B1AA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CC1-5995-43AD-8EC3-85F639D3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F1F-F7FF-4DAD-83C0-F1379DA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E8A-F065-4395-9374-D86851F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762-8BE4-49F9-9A18-A68907BC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1" marL="568440" indent="-192240">
              <a:spcBef>
                <a:spcPts val="700"/>
              </a:spcBef>
              <a:buClr>
                <a:srgbClr val="542a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2" marL="944640" indent="-185760">
              <a:spcBef>
                <a:spcPts val="700"/>
              </a:spcBef>
              <a:buClr>
                <a:srgbClr val="542a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3" marL="1333440" indent="-198360">
              <a:spcBef>
                <a:spcPts val="700"/>
              </a:spcBef>
              <a:buClr>
                <a:srgbClr val="542a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4" marL="1719360" indent="-195480">
              <a:spcBef>
                <a:spcPts val="700"/>
              </a:spcBef>
              <a:buClr>
                <a:srgbClr val="542a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5" marL="1719360" indent="-195480">
              <a:spcBef>
                <a:spcPts val="700"/>
              </a:spcBef>
              <a:buClr>
                <a:srgbClr val="542a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6" marL="1719360" indent="-195480">
              <a:spcBef>
                <a:spcPts val="700"/>
              </a:spcBef>
              <a:buClr>
                <a:srgbClr val="542a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2a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2450-6313-4232-9C0B-1FD50DF8DB19}" type="datetime">
              <a:rPr b="0" lang="en-US" sz="1400" spc="-1" strike="noStrike">
                <a:solidFill>
                  <a:srgbClr val="542a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1722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2a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a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2a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507D-238F-4F40-95FE-DFCA00C73E1A}" type="slidenum">
              <a:rPr b="0" lang="en-US" sz="1400" spc="-1" strike="noStrike">
                <a:solidFill>
                  <a:srgbClr val="542a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20705400">
            <a:off x="228600" y="152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ckground Material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.Knight@cs.ucl.ac.uk" TargetMode="External"/><Relationship Id="rId2" Type="http://schemas.openxmlformats.org/officeDocument/2006/relationships/hyperlink" Target="mailto:G.Knight@cs.ucl.ac.uk" TargetMode="External"/><Relationship Id="rId3" Type="http://schemas.openxmlformats.org/officeDocument/2006/relationships/hyperlink" Target="mailto:G.Knight@cs.ucl.ac.uk" TargetMode="External"/><Relationship Id="rId4" Type="http://schemas.openxmlformats.org/officeDocument/2006/relationships/hyperlink" Target="mailto:G.Knight@cs.ucl.ac.uk" TargetMode="External"/><Relationship Id="rId5" Type="http://schemas.openxmlformats.org/officeDocument/2006/relationships/hyperlink" Target="mailto:G.Knight@cs.ucl.ac.uk" TargetMode="External"/><Relationship Id="rId6" Type="http://schemas.openxmlformats.org/officeDocument/2006/relationships/hyperlink" Target="mailto:G.Knight@cs.ucl.ac.uk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Queuing Theory (Supporting Material)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2a00"/>
                </a:solidFill>
                <a:latin typeface="Times New Roman"/>
              </a:rPr>
              <a:t>Graham Knight (</a:t>
            </a:r>
            <a:r>
              <a:rPr b="0" lang="en-GB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G.Knight@</a:t>
            </a:r>
            <a:r>
              <a:rPr b="0" lang="en-GB" sz="2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GB" sz="2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ucl</a:t>
            </a:r>
            <a:r>
              <a:rPr b="0" lang="en-GB" sz="28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.ac.</a:t>
            </a:r>
            <a:r>
              <a:rPr b="0" lang="en-GB" sz="28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uk</a:t>
            </a:r>
            <a:r>
              <a:rPr b="0" lang="en-GB" sz="2800" spc="-1" strike="noStrike">
                <a:solidFill>
                  <a:srgbClr val="542a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Negative Exponential Distribution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spcAft>
                <a:spcPts val="799"/>
              </a:spcAft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The area under curve indicates the probability of an interval being in a certain range.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247760"/>
          <a:ext cx="601992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47760"/>
                    <a:ext cx="601992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880" y="2209680"/>
                <a:ext cx="9842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800-AF7A-4F29-92B2-B4DEB7575D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0E9AC-7DB2-4C6B-9BEA-921C24A93D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hark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858000" cy="241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We can ask “what is the P(exactly 15 customers arrive during the next hour)?”. 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Inter-arrival times “Negative Exponential” </a:t>
            </a:r>
            <a:r>
              <a:rPr b="0" lang="en-US" sz="2800" spc="-1" strike="noStrike">
                <a:solidFill>
                  <a:srgbClr val="542a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P(n arrivals in time t) has “Poisson distribution”. 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marL="185760" indent="-185760">
              <a:lnSpc>
                <a:spcPct val="180000"/>
              </a:lnSpc>
              <a:spcBef>
                <a:spcPts val="700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a00"/>
                </a:solidFill>
                <a:latin typeface="Times New Roman"/>
              </a:rPr>
              <a:t>P(n arrivals in time t):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The Poisson Distribution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495680" y="3429000"/>
                <a:ext cx="2667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180000"/>
              </a:lnSpc>
              <a:spcBef>
                <a:spcPts val="700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2a00"/>
                </a:solidFill>
                <a:latin typeface="Times New Roman"/>
              </a:rPr>
              <a:t>Poisson process is “memoryless”.</a:t>
            </a:r>
            <a:endParaRPr b="0" lang="en-US" sz="2800" spc="-1" strike="noStrike">
              <a:solidFill>
                <a:srgbClr val="542a00"/>
              </a:solidFill>
              <a:latin typeface="Times New Roman"/>
            </a:endParaRPr>
          </a:p>
          <a:p>
            <a:pPr lvl="1" marL="766800" indent="-285840">
              <a:lnSpc>
                <a:spcPct val="100000"/>
              </a:lnSpc>
              <a:spcBef>
                <a:spcPts val="601"/>
              </a:spcBef>
              <a:buClr>
                <a:srgbClr val="542a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2a00"/>
                </a:solidFill>
                <a:latin typeface="Times New Roman"/>
              </a:rPr>
              <a:t>No buses in the last hour does not make it more likely a bus will come in the next hour!  </a:t>
            </a:r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AD6-6780-4D53-88E5-7349E9D38F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F113F-6868-46C4-B883-4DE7C573A9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Poisson Probabilities - </a:t>
            </a:r>
            <a:r>
              <a:rPr b="1" lang="en-US" sz="36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=0.2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1800" indent="-181800">
              <a:lnSpc>
                <a:spcPct val="90000"/>
              </a:lnSpc>
              <a:spcBef>
                <a:spcPts val="601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2a00"/>
                </a:solidFill>
                <a:latin typeface="Times New Roman"/>
              </a:rPr>
              <a:t>In one minute: 0 customers 82% of the time</a:t>
            </a:r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  <a:p>
            <a:pPr marL="181800" indent="-181800">
              <a:lnSpc>
                <a:spcPct val="90000"/>
              </a:lnSpc>
              <a:spcBef>
                <a:spcPts val="601"/>
              </a:spcBef>
              <a:buClr>
                <a:srgbClr val="542a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2a00"/>
                </a:solidFill>
                <a:latin typeface="Times New Roman"/>
              </a:rPr>
              <a:t>In five minutes: &lt; 3 customers 37%+37%+18%=92% of the time</a:t>
            </a:r>
            <a:endParaRPr b="0" lang="en-US" sz="2400" spc="-1" strike="noStrike">
              <a:solidFill>
                <a:srgbClr val="542a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828800" y="914400"/>
          <a:ext cx="46022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46022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699-5D3F-477B-84C9-D15AAFD9EE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643F4-5A4C-4568-BD69-0CEC302A72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5:26:22Z</dcterms:created>
  <dc:creator>Graham Knight</dc:creator>
  <dc:description/>
  <dc:language>en-US</dc:language>
  <cp:lastModifiedBy>Graham Knight</cp:lastModifiedBy>
  <cp:lastPrinted>1998-12-19T19:50:33Z</cp:lastPrinted>
  <dcterms:modified xsi:type="dcterms:W3CDTF">2008-09-01T13:56:52Z</dcterms:modified>
  <cp:revision>528</cp:revision>
  <dc:subject/>
  <dc:title>Spectral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ucl.ac.uk/staff/S.Bhatti/</vt:lpwstr>
  </property>
  <property fmtid="{D5CDD505-2E9C-101B-9397-08002B2CF9AE}" pid="9" name="LinkColor">
    <vt:r8>16711782</vt:r8>
  </property>
  <property fmtid="{D5CDD505-2E9C-101B-9397-08002B2CF9AE}" pid="10" name="MailAddress">
    <vt:lpwstr>S.Bhatti@cs.ucl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saleem\teaching\bt7\html\bt7-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