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385-50AD-45F6-AB5F-9328116E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12F-4BB7-492E-B8E5-BFADFCF1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A1D-06A1-486E-BCB2-9859C8AC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7E0-E4CF-4CC2-963F-05990CC3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A36-876A-4C8D-AF24-0A733FE9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E07-BA3C-4DBF-BCDD-15890A4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002-8A2F-4382-98E5-8DA4428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3DE-585D-4ACC-B150-89BD2C8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A13-62BE-441D-BA1B-E9031113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6D0-6CD7-407D-89C8-AA3AF05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BBE-0692-47E5-ADAE-A56343D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ACA-5121-49B9-8FDA-1099CBD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2" marL="94464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3" marL="1333440" indent="-19836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4" marL="1719360" indent="-19548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5" marL="1719360" indent="-19548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6" marL="1719360" indent="-19548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8DD6-0AA3-4566-B45A-2C808B2CC347}" type="datetime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1722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B1B-1C0B-4803-9444-CBC1E64F1CB7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ON@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The End (Almost)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Still to do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A couple of zero-weighted coursework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is term’s courseworks will be re-enabled for revision purpos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READ BOOKS!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You need to build understanding not remember facts!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Keep using the discussion boards – recommend good sources to each oth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re will be revision class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GOOD LUCK!!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1 - Spectral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2A4-50B7-4A37-B0EB-EDC97FC38C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479A5-9296-413E-9EE1-C6A673AA5D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Exam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.5 hours. 3 questions from 5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LEAS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imes New Roman"/>
                <a:hlinkClick r:id="rId1"/>
              </a:rPr>
              <a:t>DON’T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 RELY ON THE FOLLOWING!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Z01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7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xam period 3 Mar – 19 Ma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7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imetable published in Feb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035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7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xam period 24 Apr – 23 M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7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imetable published “before end of term 2”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7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Last year’s exam was 18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M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286000"/>
            <a:ext cx="67816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1 - Spectral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580-A1F1-4899-B513-CD05406FCF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95F60-9D43-4BB2-B08C-D2A4077897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9:34:42Z</dcterms:created>
  <dc:creator>Graham Knight</dc:creator>
  <dc:description/>
  <dc:language>en-US</dc:language>
  <cp:lastModifiedBy>Graham Knight</cp:lastModifiedBy>
  <cp:lastPrinted>1998-12-19T19:50:33Z</cp:lastPrinted>
  <dcterms:modified xsi:type="dcterms:W3CDTF">2007-12-10T21:48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ucl.ac.uk/staff/S.Bhatti/</vt:lpwstr>
  </property>
  <property fmtid="{D5CDD505-2E9C-101B-9397-08002B2CF9AE}" pid="9" name="LinkColor">
    <vt:r8>16711782</vt:r8>
  </property>
  <property fmtid="{D5CDD505-2E9C-101B-9397-08002B2CF9AE}" pid="10" name="MailAddress">
    <vt:lpwstr>S.Bhatti@cs.ucl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saleem\teaching\bt7\html\bt7-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